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image6.png" ContentType="image/png"/>
  <Override PartName="/ppt/media/image29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5.png" ContentType="image/png"/>
  <Override PartName="/ppt/media/image12.gif" ContentType="image/gi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6AFEF-8327-40D0-B5A8-1F6B6846D6F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C461C-C37C-4330-9036-712E65BEF0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8E822-5031-464F-9D13-720645CD2F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144D9-9334-4345-AB3C-73E30F4E1F9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153B1-2E3B-4D46-A6DC-AA38DE2C10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3E62A-2C15-4ACE-92E1-27DE0D37FA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B31D1-FAFE-498F-90E9-0C54EDA3F07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0A927-4F0D-4C97-89F1-ED0B4C4806F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794B5-917A-4938-8FA4-D2332641C6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77BFE-9161-4D7C-8A06-4CCFE5737D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25F-CD00-445D-AFA4-DA749788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C71-D2A0-42FA-8F76-AFC666A3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F89-27A3-4C45-AA3E-F332C649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9694-3535-4207-A566-ED99DCD2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7A8-0947-4C51-AE6F-0A01E98D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49F-7F6F-429A-914D-7A512246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38A-1446-423B-9C9F-B327F045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9E9-6F7B-45F0-88EA-9C32554B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1AB-6F28-41C0-A55E-C566086C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3E2-8D99-479A-B646-2BADE465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095-1D52-4806-8710-474D400E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DA6-CE97-4BC0-B930-1119A61E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D08B8-CCF0-4C3E-9FAA-ECDBB162908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003400"/>
            <a:ext cx="5657760" cy="436896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962520" y="171288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71680" y="4016520"/>
            <a:ext cx="5667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孔雀蛾”，昆虫，蛾类的一种，由一种长得极为漂亮的毛毛虫变成，形状略似蝴蝶，常在夜间活动。“晚会”指晚上举行的以文娱节目为主的集会。法国昆虫学家法布尔亲眼看到了大孔雀蛾举行的“晚会”。那是怎样的场景呢？为什么把大孔雀蛾的到来称为一次晚会呢？让我们带着这些有趣的问题，一同走进课文，了解事情的真相吧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0" name="组合 8"/>
          <p:cNvGrpSpPr/>
          <p:nvPr/>
        </p:nvGrpSpPr>
        <p:grpSpPr>
          <a:xfrm>
            <a:off x="1227240" y="3975120"/>
            <a:ext cx="2840040" cy="1571760"/>
            <a:chOff x="1227240" y="3975120"/>
            <a:chExt cx="2840040" cy="1571760"/>
          </a:xfrm>
        </p:grpSpPr>
        <p:pic>
          <p:nvPicPr>
            <p:cNvPr id="161" name="图示 4" descr=""/>
            <p:cNvPicPr/>
            <p:nvPr/>
          </p:nvPicPr>
          <p:blipFill>
            <a:blip r:embed="rId1"/>
            <a:stretch/>
          </p:blipFill>
          <p:spPr>
            <a:xfrm>
              <a:off x="12272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矩形 2"/>
            <p:cNvSpPr/>
            <p:nvPr/>
          </p:nvSpPr>
          <p:spPr>
            <a:xfrm>
              <a:off x="12754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撇、竖弯钩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矩形 3"/>
          <p:cNvSpPr/>
          <p:nvPr/>
        </p:nvSpPr>
        <p:spPr>
          <a:xfrm>
            <a:off x="1839960" y="1868400"/>
            <a:ext cx="189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à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9"/>
          <p:cNvSpPr/>
          <p:nvPr/>
        </p:nvSpPr>
        <p:spPr>
          <a:xfrm>
            <a:off x="6213600" y="3075120"/>
            <a:ext cx="218880" cy="701640"/>
          </a:xfrm>
          <a:custGeom>
            <a:avLst/>
            <a:gdLst/>
            <a:ahLst/>
            <a:rect l="l" t="t" r="r" b="b"/>
            <a:pathLst>
              <a:path w="276" h="883">
                <a:moveTo>
                  <a:pt x="36" y="106"/>
                </a:moveTo>
                <a:lnTo>
                  <a:pt x="27" y="90"/>
                </a:lnTo>
                <a:lnTo>
                  <a:pt x="19" y="77"/>
                </a:lnTo>
                <a:lnTo>
                  <a:pt x="13" y="63"/>
                </a:lnTo>
                <a:lnTo>
                  <a:pt x="7" y="52"/>
                </a:lnTo>
                <a:lnTo>
                  <a:pt x="4" y="40"/>
                </a:lnTo>
                <a:lnTo>
                  <a:pt x="2" y="31"/>
                </a:lnTo>
                <a:lnTo>
                  <a:pt x="0" y="19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7" y="4"/>
                </a:lnTo>
                <a:lnTo>
                  <a:pt x="13" y="2"/>
                </a:lnTo>
                <a:lnTo>
                  <a:pt x="21" y="0"/>
                </a:lnTo>
                <a:lnTo>
                  <a:pt x="30" y="0"/>
                </a:lnTo>
                <a:lnTo>
                  <a:pt x="42" y="0"/>
                </a:lnTo>
                <a:lnTo>
                  <a:pt x="55" y="0"/>
                </a:lnTo>
                <a:lnTo>
                  <a:pt x="71" y="0"/>
                </a:lnTo>
                <a:lnTo>
                  <a:pt x="88" y="0"/>
                </a:lnTo>
                <a:lnTo>
                  <a:pt x="98" y="0"/>
                </a:lnTo>
                <a:lnTo>
                  <a:pt x="107" y="0"/>
                </a:lnTo>
                <a:lnTo>
                  <a:pt x="117" y="2"/>
                </a:lnTo>
                <a:lnTo>
                  <a:pt x="128" y="2"/>
                </a:lnTo>
                <a:lnTo>
                  <a:pt x="138" y="2"/>
                </a:lnTo>
                <a:lnTo>
                  <a:pt x="151" y="4"/>
                </a:lnTo>
                <a:lnTo>
                  <a:pt x="163" y="4"/>
                </a:lnTo>
                <a:lnTo>
                  <a:pt x="174" y="6"/>
                </a:lnTo>
                <a:lnTo>
                  <a:pt x="188" y="6"/>
                </a:lnTo>
                <a:lnTo>
                  <a:pt x="201" y="8"/>
                </a:lnTo>
                <a:lnTo>
                  <a:pt x="217" y="8"/>
                </a:lnTo>
                <a:lnTo>
                  <a:pt x="232" y="10"/>
                </a:lnTo>
                <a:lnTo>
                  <a:pt x="236" y="63"/>
                </a:lnTo>
                <a:lnTo>
                  <a:pt x="240" y="115"/>
                </a:lnTo>
                <a:lnTo>
                  <a:pt x="243" y="167"/>
                </a:lnTo>
                <a:lnTo>
                  <a:pt x="247" y="215"/>
                </a:lnTo>
                <a:lnTo>
                  <a:pt x="251" y="263"/>
                </a:lnTo>
                <a:lnTo>
                  <a:pt x="255" y="307"/>
                </a:lnTo>
                <a:lnTo>
                  <a:pt x="257" y="351"/>
                </a:lnTo>
                <a:lnTo>
                  <a:pt x="261" y="394"/>
                </a:lnTo>
                <a:lnTo>
                  <a:pt x="263" y="434"/>
                </a:lnTo>
                <a:lnTo>
                  <a:pt x="265" y="470"/>
                </a:lnTo>
                <a:lnTo>
                  <a:pt x="267" y="509"/>
                </a:lnTo>
                <a:lnTo>
                  <a:pt x="268" y="543"/>
                </a:lnTo>
                <a:lnTo>
                  <a:pt x="270" y="576"/>
                </a:lnTo>
                <a:lnTo>
                  <a:pt x="272" y="607"/>
                </a:lnTo>
                <a:lnTo>
                  <a:pt x="274" y="637"/>
                </a:lnTo>
                <a:lnTo>
                  <a:pt x="274" y="664"/>
                </a:lnTo>
                <a:lnTo>
                  <a:pt x="276" y="691"/>
                </a:lnTo>
                <a:lnTo>
                  <a:pt x="276" y="716"/>
                </a:lnTo>
                <a:lnTo>
                  <a:pt x="276" y="739"/>
                </a:lnTo>
                <a:lnTo>
                  <a:pt x="276" y="760"/>
                </a:lnTo>
                <a:lnTo>
                  <a:pt x="276" y="779"/>
                </a:lnTo>
                <a:lnTo>
                  <a:pt x="276" y="797"/>
                </a:lnTo>
                <a:lnTo>
                  <a:pt x="274" y="814"/>
                </a:lnTo>
                <a:lnTo>
                  <a:pt x="274" y="827"/>
                </a:lnTo>
                <a:lnTo>
                  <a:pt x="272" y="841"/>
                </a:lnTo>
                <a:lnTo>
                  <a:pt x="270" y="850"/>
                </a:lnTo>
                <a:lnTo>
                  <a:pt x="268" y="860"/>
                </a:lnTo>
                <a:lnTo>
                  <a:pt x="267" y="868"/>
                </a:lnTo>
                <a:lnTo>
                  <a:pt x="265" y="873"/>
                </a:lnTo>
                <a:lnTo>
                  <a:pt x="261" y="877"/>
                </a:lnTo>
                <a:lnTo>
                  <a:pt x="259" y="881"/>
                </a:lnTo>
                <a:lnTo>
                  <a:pt x="255" y="881"/>
                </a:lnTo>
                <a:lnTo>
                  <a:pt x="247" y="883"/>
                </a:lnTo>
                <a:lnTo>
                  <a:pt x="242" y="883"/>
                </a:lnTo>
                <a:lnTo>
                  <a:pt x="234" y="879"/>
                </a:lnTo>
                <a:lnTo>
                  <a:pt x="228" y="875"/>
                </a:lnTo>
                <a:lnTo>
                  <a:pt x="222" y="870"/>
                </a:lnTo>
                <a:lnTo>
                  <a:pt x="215" y="862"/>
                </a:lnTo>
                <a:lnTo>
                  <a:pt x="209" y="852"/>
                </a:lnTo>
                <a:lnTo>
                  <a:pt x="203" y="841"/>
                </a:lnTo>
                <a:lnTo>
                  <a:pt x="197" y="825"/>
                </a:lnTo>
                <a:lnTo>
                  <a:pt x="192" y="810"/>
                </a:lnTo>
                <a:lnTo>
                  <a:pt x="188" y="793"/>
                </a:lnTo>
                <a:lnTo>
                  <a:pt x="184" y="774"/>
                </a:lnTo>
                <a:lnTo>
                  <a:pt x="178" y="752"/>
                </a:lnTo>
                <a:lnTo>
                  <a:pt x="176" y="729"/>
                </a:lnTo>
                <a:lnTo>
                  <a:pt x="172" y="705"/>
                </a:lnTo>
                <a:lnTo>
                  <a:pt x="171" y="678"/>
                </a:lnTo>
                <a:lnTo>
                  <a:pt x="161" y="626"/>
                </a:lnTo>
                <a:lnTo>
                  <a:pt x="151" y="578"/>
                </a:lnTo>
                <a:lnTo>
                  <a:pt x="144" y="530"/>
                </a:lnTo>
                <a:lnTo>
                  <a:pt x="134" y="482"/>
                </a:lnTo>
                <a:lnTo>
                  <a:pt x="126" y="438"/>
                </a:lnTo>
                <a:lnTo>
                  <a:pt x="121" y="394"/>
                </a:lnTo>
                <a:lnTo>
                  <a:pt x="115" y="351"/>
                </a:lnTo>
                <a:lnTo>
                  <a:pt x="109" y="309"/>
                </a:lnTo>
                <a:lnTo>
                  <a:pt x="105" y="292"/>
                </a:lnTo>
                <a:lnTo>
                  <a:pt x="100" y="275"/>
                </a:lnTo>
                <a:lnTo>
                  <a:pt x="96" y="259"/>
                </a:lnTo>
                <a:lnTo>
                  <a:pt x="90" y="244"/>
                </a:lnTo>
                <a:lnTo>
                  <a:pt x="86" y="229"/>
                </a:lnTo>
                <a:lnTo>
                  <a:pt x="80" y="213"/>
                </a:lnTo>
                <a:lnTo>
                  <a:pt x="76" y="200"/>
                </a:lnTo>
                <a:lnTo>
                  <a:pt x="73" y="186"/>
                </a:lnTo>
                <a:lnTo>
                  <a:pt x="67" y="175"/>
                </a:lnTo>
                <a:lnTo>
                  <a:pt x="63" y="163"/>
                </a:lnTo>
                <a:lnTo>
                  <a:pt x="57" y="152"/>
                </a:lnTo>
                <a:lnTo>
                  <a:pt x="53" y="140"/>
                </a:lnTo>
                <a:lnTo>
                  <a:pt x="50" y="131"/>
                </a:lnTo>
                <a:lnTo>
                  <a:pt x="44" y="121"/>
                </a:lnTo>
                <a:lnTo>
                  <a:pt x="40" y="113"/>
                </a:lnTo>
                <a:lnTo>
                  <a:pt x="36" y="106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30"/>
          <p:cNvSpPr/>
          <p:nvPr/>
        </p:nvSpPr>
        <p:spPr>
          <a:xfrm>
            <a:off x="6291360" y="2887560"/>
            <a:ext cx="901440" cy="703440"/>
          </a:xfrm>
          <a:custGeom>
            <a:avLst/>
            <a:gdLst/>
            <a:ahLst/>
            <a:rect l="l" t="t" r="r" b="b"/>
            <a:pathLst>
              <a:path w="1136" h="887">
                <a:moveTo>
                  <a:pt x="781" y="42"/>
                </a:moveTo>
                <a:lnTo>
                  <a:pt x="787" y="33"/>
                </a:lnTo>
                <a:lnTo>
                  <a:pt x="792" y="23"/>
                </a:lnTo>
                <a:lnTo>
                  <a:pt x="798" y="17"/>
                </a:lnTo>
                <a:lnTo>
                  <a:pt x="806" y="12"/>
                </a:lnTo>
                <a:lnTo>
                  <a:pt x="815" y="6"/>
                </a:lnTo>
                <a:lnTo>
                  <a:pt x="823" y="2"/>
                </a:lnTo>
                <a:lnTo>
                  <a:pt x="833" y="0"/>
                </a:lnTo>
                <a:lnTo>
                  <a:pt x="842" y="0"/>
                </a:lnTo>
                <a:lnTo>
                  <a:pt x="846" y="0"/>
                </a:lnTo>
                <a:lnTo>
                  <a:pt x="852" y="2"/>
                </a:lnTo>
                <a:lnTo>
                  <a:pt x="858" y="4"/>
                </a:lnTo>
                <a:lnTo>
                  <a:pt x="865" y="6"/>
                </a:lnTo>
                <a:lnTo>
                  <a:pt x="873" y="8"/>
                </a:lnTo>
                <a:lnTo>
                  <a:pt x="881" y="12"/>
                </a:lnTo>
                <a:lnTo>
                  <a:pt x="888" y="15"/>
                </a:lnTo>
                <a:lnTo>
                  <a:pt x="898" y="21"/>
                </a:lnTo>
                <a:lnTo>
                  <a:pt x="908" y="25"/>
                </a:lnTo>
                <a:lnTo>
                  <a:pt x="919" y="33"/>
                </a:lnTo>
                <a:lnTo>
                  <a:pt x="931" y="38"/>
                </a:lnTo>
                <a:lnTo>
                  <a:pt x="944" y="46"/>
                </a:lnTo>
                <a:lnTo>
                  <a:pt x="956" y="54"/>
                </a:lnTo>
                <a:lnTo>
                  <a:pt x="971" y="63"/>
                </a:lnTo>
                <a:lnTo>
                  <a:pt x="984" y="73"/>
                </a:lnTo>
                <a:lnTo>
                  <a:pt x="1002" y="83"/>
                </a:lnTo>
                <a:lnTo>
                  <a:pt x="1015" y="96"/>
                </a:lnTo>
                <a:lnTo>
                  <a:pt x="1031" y="107"/>
                </a:lnTo>
                <a:lnTo>
                  <a:pt x="1044" y="117"/>
                </a:lnTo>
                <a:lnTo>
                  <a:pt x="1055" y="129"/>
                </a:lnTo>
                <a:lnTo>
                  <a:pt x="1067" y="138"/>
                </a:lnTo>
                <a:lnTo>
                  <a:pt x="1077" y="148"/>
                </a:lnTo>
                <a:lnTo>
                  <a:pt x="1086" y="155"/>
                </a:lnTo>
                <a:lnTo>
                  <a:pt x="1096" y="163"/>
                </a:lnTo>
                <a:lnTo>
                  <a:pt x="1103" y="171"/>
                </a:lnTo>
                <a:lnTo>
                  <a:pt x="1109" y="179"/>
                </a:lnTo>
                <a:lnTo>
                  <a:pt x="1115" y="184"/>
                </a:lnTo>
                <a:lnTo>
                  <a:pt x="1121" y="190"/>
                </a:lnTo>
                <a:lnTo>
                  <a:pt x="1125" y="194"/>
                </a:lnTo>
                <a:lnTo>
                  <a:pt x="1128" y="198"/>
                </a:lnTo>
                <a:lnTo>
                  <a:pt x="1132" y="202"/>
                </a:lnTo>
                <a:lnTo>
                  <a:pt x="1136" y="205"/>
                </a:lnTo>
                <a:lnTo>
                  <a:pt x="1134" y="209"/>
                </a:lnTo>
                <a:lnTo>
                  <a:pt x="1134" y="215"/>
                </a:lnTo>
                <a:lnTo>
                  <a:pt x="1132" y="221"/>
                </a:lnTo>
                <a:lnTo>
                  <a:pt x="1130" y="225"/>
                </a:lnTo>
                <a:lnTo>
                  <a:pt x="1128" y="230"/>
                </a:lnTo>
                <a:lnTo>
                  <a:pt x="1125" y="236"/>
                </a:lnTo>
                <a:lnTo>
                  <a:pt x="1119" y="246"/>
                </a:lnTo>
                <a:lnTo>
                  <a:pt x="1109" y="255"/>
                </a:lnTo>
                <a:lnTo>
                  <a:pt x="1100" y="267"/>
                </a:lnTo>
                <a:lnTo>
                  <a:pt x="1086" y="276"/>
                </a:lnTo>
                <a:lnTo>
                  <a:pt x="1075" y="286"/>
                </a:lnTo>
                <a:lnTo>
                  <a:pt x="1071" y="290"/>
                </a:lnTo>
                <a:lnTo>
                  <a:pt x="1067" y="296"/>
                </a:lnTo>
                <a:lnTo>
                  <a:pt x="1063" y="301"/>
                </a:lnTo>
                <a:lnTo>
                  <a:pt x="1057" y="309"/>
                </a:lnTo>
                <a:lnTo>
                  <a:pt x="1054" y="317"/>
                </a:lnTo>
                <a:lnTo>
                  <a:pt x="1048" y="324"/>
                </a:lnTo>
                <a:lnTo>
                  <a:pt x="1044" y="334"/>
                </a:lnTo>
                <a:lnTo>
                  <a:pt x="1038" y="345"/>
                </a:lnTo>
                <a:lnTo>
                  <a:pt x="1032" y="357"/>
                </a:lnTo>
                <a:lnTo>
                  <a:pt x="1025" y="369"/>
                </a:lnTo>
                <a:lnTo>
                  <a:pt x="1019" y="382"/>
                </a:lnTo>
                <a:lnTo>
                  <a:pt x="1013" y="397"/>
                </a:lnTo>
                <a:lnTo>
                  <a:pt x="1006" y="413"/>
                </a:lnTo>
                <a:lnTo>
                  <a:pt x="998" y="428"/>
                </a:lnTo>
                <a:lnTo>
                  <a:pt x="992" y="445"/>
                </a:lnTo>
                <a:lnTo>
                  <a:pt x="984" y="463"/>
                </a:lnTo>
                <a:lnTo>
                  <a:pt x="975" y="482"/>
                </a:lnTo>
                <a:lnTo>
                  <a:pt x="967" y="503"/>
                </a:lnTo>
                <a:lnTo>
                  <a:pt x="959" y="524"/>
                </a:lnTo>
                <a:lnTo>
                  <a:pt x="950" y="545"/>
                </a:lnTo>
                <a:lnTo>
                  <a:pt x="942" y="568"/>
                </a:lnTo>
                <a:lnTo>
                  <a:pt x="933" y="591"/>
                </a:lnTo>
                <a:lnTo>
                  <a:pt x="923" y="616"/>
                </a:lnTo>
                <a:lnTo>
                  <a:pt x="913" y="643"/>
                </a:lnTo>
                <a:lnTo>
                  <a:pt x="904" y="670"/>
                </a:lnTo>
                <a:lnTo>
                  <a:pt x="894" y="697"/>
                </a:lnTo>
                <a:lnTo>
                  <a:pt x="885" y="726"/>
                </a:lnTo>
                <a:lnTo>
                  <a:pt x="873" y="756"/>
                </a:lnTo>
                <a:lnTo>
                  <a:pt x="863" y="787"/>
                </a:lnTo>
                <a:lnTo>
                  <a:pt x="852" y="820"/>
                </a:lnTo>
                <a:lnTo>
                  <a:pt x="840" y="852"/>
                </a:lnTo>
                <a:lnTo>
                  <a:pt x="831" y="887"/>
                </a:lnTo>
                <a:lnTo>
                  <a:pt x="762" y="887"/>
                </a:lnTo>
                <a:lnTo>
                  <a:pt x="696" y="887"/>
                </a:lnTo>
                <a:lnTo>
                  <a:pt x="700" y="854"/>
                </a:lnTo>
                <a:lnTo>
                  <a:pt x="706" y="823"/>
                </a:lnTo>
                <a:lnTo>
                  <a:pt x="712" y="795"/>
                </a:lnTo>
                <a:lnTo>
                  <a:pt x="718" y="766"/>
                </a:lnTo>
                <a:lnTo>
                  <a:pt x="721" y="737"/>
                </a:lnTo>
                <a:lnTo>
                  <a:pt x="727" y="712"/>
                </a:lnTo>
                <a:lnTo>
                  <a:pt x="731" y="685"/>
                </a:lnTo>
                <a:lnTo>
                  <a:pt x="735" y="660"/>
                </a:lnTo>
                <a:lnTo>
                  <a:pt x="741" y="637"/>
                </a:lnTo>
                <a:lnTo>
                  <a:pt x="744" y="614"/>
                </a:lnTo>
                <a:lnTo>
                  <a:pt x="748" y="591"/>
                </a:lnTo>
                <a:lnTo>
                  <a:pt x="752" y="570"/>
                </a:lnTo>
                <a:lnTo>
                  <a:pt x="756" y="549"/>
                </a:lnTo>
                <a:lnTo>
                  <a:pt x="760" y="530"/>
                </a:lnTo>
                <a:lnTo>
                  <a:pt x="764" y="512"/>
                </a:lnTo>
                <a:lnTo>
                  <a:pt x="766" y="493"/>
                </a:lnTo>
                <a:lnTo>
                  <a:pt x="769" y="478"/>
                </a:lnTo>
                <a:lnTo>
                  <a:pt x="771" y="461"/>
                </a:lnTo>
                <a:lnTo>
                  <a:pt x="775" y="445"/>
                </a:lnTo>
                <a:lnTo>
                  <a:pt x="777" y="432"/>
                </a:lnTo>
                <a:lnTo>
                  <a:pt x="779" y="418"/>
                </a:lnTo>
                <a:lnTo>
                  <a:pt x="783" y="407"/>
                </a:lnTo>
                <a:lnTo>
                  <a:pt x="785" y="395"/>
                </a:lnTo>
                <a:lnTo>
                  <a:pt x="785" y="384"/>
                </a:lnTo>
                <a:lnTo>
                  <a:pt x="787" y="374"/>
                </a:lnTo>
                <a:lnTo>
                  <a:pt x="789" y="365"/>
                </a:lnTo>
                <a:lnTo>
                  <a:pt x="791" y="357"/>
                </a:lnTo>
                <a:lnTo>
                  <a:pt x="791" y="349"/>
                </a:lnTo>
                <a:lnTo>
                  <a:pt x="792" y="342"/>
                </a:lnTo>
                <a:lnTo>
                  <a:pt x="792" y="336"/>
                </a:lnTo>
                <a:lnTo>
                  <a:pt x="792" y="332"/>
                </a:lnTo>
                <a:lnTo>
                  <a:pt x="792" y="328"/>
                </a:lnTo>
                <a:lnTo>
                  <a:pt x="792" y="313"/>
                </a:lnTo>
                <a:lnTo>
                  <a:pt x="791" y="299"/>
                </a:lnTo>
                <a:lnTo>
                  <a:pt x="789" y="286"/>
                </a:lnTo>
                <a:lnTo>
                  <a:pt x="785" y="276"/>
                </a:lnTo>
                <a:lnTo>
                  <a:pt x="781" y="267"/>
                </a:lnTo>
                <a:lnTo>
                  <a:pt x="777" y="259"/>
                </a:lnTo>
                <a:lnTo>
                  <a:pt x="773" y="251"/>
                </a:lnTo>
                <a:lnTo>
                  <a:pt x="769" y="246"/>
                </a:lnTo>
                <a:lnTo>
                  <a:pt x="750" y="236"/>
                </a:lnTo>
                <a:lnTo>
                  <a:pt x="741" y="230"/>
                </a:lnTo>
                <a:lnTo>
                  <a:pt x="731" y="226"/>
                </a:lnTo>
                <a:lnTo>
                  <a:pt x="720" y="223"/>
                </a:lnTo>
                <a:lnTo>
                  <a:pt x="708" y="221"/>
                </a:lnTo>
                <a:lnTo>
                  <a:pt x="696" y="219"/>
                </a:lnTo>
                <a:lnTo>
                  <a:pt x="683" y="219"/>
                </a:lnTo>
                <a:lnTo>
                  <a:pt x="675" y="221"/>
                </a:lnTo>
                <a:lnTo>
                  <a:pt x="668" y="223"/>
                </a:lnTo>
                <a:lnTo>
                  <a:pt x="658" y="226"/>
                </a:lnTo>
                <a:lnTo>
                  <a:pt x="648" y="228"/>
                </a:lnTo>
                <a:lnTo>
                  <a:pt x="637" y="232"/>
                </a:lnTo>
                <a:lnTo>
                  <a:pt x="625" y="234"/>
                </a:lnTo>
                <a:lnTo>
                  <a:pt x="612" y="238"/>
                </a:lnTo>
                <a:lnTo>
                  <a:pt x="599" y="242"/>
                </a:lnTo>
                <a:lnTo>
                  <a:pt x="583" y="246"/>
                </a:lnTo>
                <a:lnTo>
                  <a:pt x="568" y="250"/>
                </a:lnTo>
                <a:lnTo>
                  <a:pt x="551" y="255"/>
                </a:lnTo>
                <a:lnTo>
                  <a:pt x="533" y="259"/>
                </a:lnTo>
                <a:lnTo>
                  <a:pt x="514" y="265"/>
                </a:lnTo>
                <a:lnTo>
                  <a:pt x="495" y="273"/>
                </a:lnTo>
                <a:lnTo>
                  <a:pt x="474" y="278"/>
                </a:lnTo>
                <a:lnTo>
                  <a:pt x="451" y="286"/>
                </a:lnTo>
                <a:lnTo>
                  <a:pt x="426" y="294"/>
                </a:lnTo>
                <a:lnTo>
                  <a:pt x="399" y="301"/>
                </a:lnTo>
                <a:lnTo>
                  <a:pt x="374" y="307"/>
                </a:lnTo>
                <a:lnTo>
                  <a:pt x="347" y="313"/>
                </a:lnTo>
                <a:lnTo>
                  <a:pt x="320" y="319"/>
                </a:lnTo>
                <a:lnTo>
                  <a:pt x="293" y="322"/>
                </a:lnTo>
                <a:lnTo>
                  <a:pt x="238" y="330"/>
                </a:lnTo>
                <a:lnTo>
                  <a:pt x="182" y="338"/>
                </a:lnTo>
                <a:lnTo>
                  <a:pt x="151" y="342"/>
                </a:lnTo>
                <a:lnTo>
                  <a:pt x="122" y="344"/>
                </a:lnTo>
                <a:lnTo>
                  <a:pt x="92" y="347"/>
                </a:lnTo>
                <a:lnTo>
                  <a:pt x="61" y="349"/>
                </a:lnTo>
                <a:lnTo>
                  <a:pt x="30" y="351"/>
                </a:lnTo>
                <a:lnTo>
                  <a:pt x="0" y="355"/>
                </a:lnTo>
                <a:lnTo>
                  <a:pt x="0" y="299"/>
                </a:lnTo>
                <a:lnTo>
                  <a:pt x="0" y="246"/>
                </a:lnTo>
                <a:lnTo>
                  <a:pt x="19" y="246"/>
                </a:lnTo>
                <a:lnTo>
                  <a:pt x="42" y="244"/>
                </a:lnTo>
                <a:lnTo>
                  <a:pt x="65" y="244"/>
                </a:lnTo>
                <a:lnTo>
                  <a:pt x="88" y="240"/>
                </a:lnTo>
                <a:lnTo>
                  <a:pt x="113" y="238"/>
                </a:lnTo>
                <a:lnTo>
                  <a:pt x="140" y="234"/>
                </a:lnTo>
                <a:lnTo>
                  <a:pt x="167" y="230"/>
                </a:lnTo>
                <a:lnTo>
                  <a:pt x="193" y="226"/>
                </a:lnTo>
                <a:lnTo>
                  <a:pt x="224" y="221"/>
                </a:lnTo>
                <a:lnTo>
                  <a:pt x="255" y="215"/>
                </a:lnTo>
                <a:lnTo>
                  <a:pt x="286" y="207"/>
                </a:lnTo>
                <a:lnTo>
                  <a:pt x="318" y="200"/>
                </a:lnTo>
                <a:lnTo>
                  <a:pt x="353" y="192"/>
                </a:lnTo>
                <a:lnTo>
                  <a:pt x="387" y="184"/>
                </a:lnTo>
                <a:lnTo>
                  <a:pt x="426" y="175"/>
                </a:lnTo>
                <a:lnTo>
                  <a:pt x="464" y="165"/>
                </a:lnTo>
                <a:lnTo>
                  <a:pt x="481" y="159"/>
                </a:lnTo>
                <a:lnTo>
                  <a:pt x="499" y="154"/>
                </a:lnTo>
                <a:lnTo>
                  <a:pt x="516" y="150"/>
                </a:lnTo>
                <a:lnTo>
                  <a:pt x="533" y="144"/>
                </a:lnTo>
                <a:lnTo>
                  <a:pt x="549" y="140"/>
                </a:lnTo>
                <a:lnTo>
                  <a:pt x="564" y="134"/>
                </a:lnTo>
                <a:lnTo>
                  <a:pt x="579" y="131"/>
                </a:lnTo>
                <a:lnTo>
                  <a:pt x="593" y="125"/>
                </a:lnTo>
                <a:lnTo>
                  <a:pt x="608" y="121"/>
                </a:lnTo>
                <a:lnTo>
                  <a:pt x="622" y="117"/>
                </a:lnTo>
                <a:lnTo>
                  <a:pt x="633" y="113"/>
                </a:lnTo>
                <a:lnTo>
                  <a:pt x="647" y="107"/>
                </a:lnTo>
                <a:lnTo>
                  <a:pt x="658" y="104"/>
                </a:lnTo>
                <a:lnTo>
                  <a:pt x="670" y="100"/>
                </a:lnTo>
                <a:lnTo>
                  <a:pt x="681" y="96"/>
                </a:lnTo>
                <a:lnTo>
                  <a:pt x="691" y="92"/>
                </a:lnTo>
                <a:lnTo>
                  <a:pt x="700" y="88"/>
                </a:lnTo>
                <a:lnTo>
                  <a:pt x="710" y="84"/>
                </a:lnTo>
                <a:lnTo>
                  <a:pt x="718" y="81"/>
                </a:lnTo>
                <a:lnTo>
                  <a:pt x="727" y="77"/>
                </a:lnTo>
                <a:lnTo>
                  <a:pt x="735" y="75"/>
                </a:lnTo>
                <a:lnTo>
                  <a:pt x="741" y="71"/>
                </a:lnTo>
                <a:lnTo>
                  <a:pt x="748" y="67"/>
                </a:lnTo>
                <a:lnTo>
                  <a:pt x="754" y="65"/>
                </a:lnTo>
                <a:lnTo>
                  <a:pt x="760" y="61"/>
                </a:lnTo>
                <a:lnTo>
                  <a:pt x="764" y="58"/>
                </a:lnTo>
                <a:lnTo>
                  <a:pt x="767" y="56"/>
                </a:lnTo>
                <a:lnTo>
                  <a:pt x="771" y="52"/>
                </a:lnTo>
                <a:lnTo>
                  <a:pt x="775" y="50"/>
                </a:lnTo>
                <a:lnTo>
                  <a:pt x="777" y="46"/>
                </a:lnTo>
                <a:lnTo>
                  <a:pt x="779" y="44"/>
                </a:lnTo>
                <a:lnTo>
                  <a:pt x="781" y="4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31"/>
          <p:cNvSpPr/>
          <p:nvPr/>
        </p:nvSpPr>
        <p:spPr>
          <a:xfrm>
            <a:off x="6397560" y="3524400"/>
            <a:ext cx="649440" cy="217440"/>
          </a:xfrm>
          <a:custGeom>
            <a:avLst/>
            <a:gdLst/>
            <a:ahLst/>
            <a:rect l="l" t="t" r="r" b="b"/>
            <a:pathLst>
              <a:path w="818" h="275">
                <a:moveTo>
                  <a:pt x="781" y="112"/>
                </a:moveTo>
                <a:lnTo>
                  <a:pt x="777" y="112"/>
                </a:lnTo>
                <a:lnTo>
                  <a:pt x="774" y="114"/>
                </a:lnTo>
                <a:lnTo>
                  <a:pt x="768" y="115"/>
                </a:lnTo>
                <a:lnTo>
                  <a:pt x="760" y="117"/>
                </a:lnTo>
                <a:lnTo>
                  <a:pt x="753" y="119"/>
                </a:lnTo>
                <a:lnTo>
                  <a:pt x="743" y="123"/>
                </a:lnTo>
                <a:lnTo>
                  <a:pt x="731" y="125"/>
                </a:lnTo>
                <a:lnTo>
                  <a:pt x="720" y="129"/>
                </a:lnTo>
                <a:lnTo>
                  <a:pt x="705" y="131"/>
                </a:lnTo>
                <a:lnTo>
                  <a:pt x="689" y="135"/>
                </a:lnTo>
                <a:lnTo>
                  <a:pt x="674" y="139"/>
                </a:lnTo>
                <a:lnTo>
                  <a:pt x="655" y="142"/>
                </a:lnTo>
                <a:lnTo>
                  <a:pt x="635" y="146"/>
                </a:lnTo>
                <a:lnTo>
                  <a:pt x="614" y="152"/>
                </a:lnTo>
                <a:lnTo>
                  <a:pt x="593" y="156"/>
                </a:lnTo>
                <a:lnTo>
                  <a:pt x="568" y="162"/>
                </a:lnTo>
                <a:lnTo>
                  <a:pt x="543" y="165"/>
                </a:lnTo>
                <a:lnTo>
                  <a:pt x="516" y="171"/>
                </a:lnTo>
                <a:lnTo>
                  <a:pt x="490" y="177"/>
                </a:lnTo>
                <a:lnTo>
                  <a:pt x="461" y="183"/>
                </a:lnTo>
                <a:lnTo>
                  <a:pt x="430" y="188"/>
                </a:lnTo>
                <a:lnTo>
                  <a:pt x="397" y="196"/>
                </a:lnTo>
                <a:lnTo>
                  <a:pt x="365" y="202"/>
                </a:lnTo>
                <a:lnTo>
                  <a:pt x="328" y="210"/>
                </a:lnTo>
                <a:lnTo>
                  <a:pt x="294" y="217"/>
                </a:lnTo>
                <a:lnTo>
                  <a:pt x="255" y="225"/>
                </a:lnTo>
                <a:lnTo>
                  <a:pt x="217" y="233"/>
                </a:lnTo>
                <a:lnTo>
                  <a:pt x="175" y="240"/>
                </a:lnTo>
                <a:lnTo>
                  <a:pt x="134" y="248"/>
                </a:lnTo>
                <a:lnTo>
                  <a:pt x="90" y="256"/>
                </a:lnTo>
                <a:lnTo>
                  <a:pt x="46" y="265"/>
                </a:lnTo>
                <a:lnTo>
                  <a:pt x="0" y="275"/>
                </a:lnTo>
                <a:lnTo>
                  <a:pt x="0" y="219"/>
                </a:lnTo>
                <a:lnTo>
                  <a:pt x="0" y="165"/>
                </a:lnTo>
                <a:lnTo>
                  <a:pt x="46" y="154"/>
                </a:lnTo>
                <a:lnTo>
                  <a:pt x="90" y="142"/>
                </a:lnTo>
                <a:lnTo>
                  <a:pt x="132" y="133"/>
                </a:lnTo>
                <a:lnTo>
                  <a:pt x="175" y="121"/>
                </a:lnTo>
                <a:lnTo>
                  <a:pt x="215" y="112"/>
                </a:lnTo>
                <a:lnTo>
                  <a:pt x="255" y="102"/>
                </a:lnTo>
                <a:lnTo>
                  <a:pt x="292" y="94"/>
                </a:lnTo>
                <a:lnTo>
                  <a:pt x="328" y="85"/>
                </a:lnTo>
                <a:lnTo>
                  <a:pt x="363" y="77"/>
                </a:lnTo>
                <a:lnTo>
                  <a:pt x="397" y="69"/>
                </a:lnTo>
                <a:lnTo>
                  <a:pt x="430" y="62"/>
                </a:lnTo>
                <a:lnTo>
                  <a:pt x="461" y="56"/>
                </a:lnTo>
                <a:lnTo>
                  <a:pt x="490" y="48"/>
                </a:lnTo>
                <a:lnTo>
                  <a:pt x="516" y="43"/>
                </a:lnTo>
                <a:lnTo>
                  <a:pt x="543" y="37"/>
                </a:lnTo>
                <a:lnTo>
                  <a:pt x="568" y="31"/>
                </a:lnTo>
                <a:lnTo>
                  <a:pt x="591" y="27"/>
                </a:lnTo>
                <a:lnTo>
                  <a:pt x="614" y="21"/>
                </a:lnTo>
                <a:lnTo>
                  <a:pt x="635" y="18"/>
                </a:lnTo>
                <a:lnTo>
                  <a:pt x="655" y="14"/>
                </a:lnTo>
                <a:lnTo>
                  <a:pt x="672" y="12"/>
                </a:lnTo>
                <a:lnTo>
                  <a:pt x="689" y="8"/>
                </a:lnTo>
                <a:lnTo>
                  <a:pt x="705" y="6"/>
                </a:lnTo>
                <a:lnTo>
                  <a:pt x="718" y="4"/>
                </a:lnTo>
                <a:lnTo>
                  <a:pt x="731" y="2"/>
                </a:lnTo>
                <a:lnTo>
                  <a:pt x="743" y="2"/>
                </a:lnTo>
                <a:lnTo>
                  <a:pt x="753" y="0"/>
                </a:lnTo>
                <a:lnTo>
                  <a:pt x="760" y="0"/>
                </a:lnTo>
                <a:lnTo>
                  <a:pt x="768" y="0"/>
                </a:lnTo>
                <a:lnTo>
                  <a:pt x="774" y="0"/>
                </a:lnTo>
                <a:lnTo>
                  <a:pt x="777" y="0"/>
                </a:lnTo>
                <a:lnTo>
                  <a:pt x="781" y="2"/>
                </a:lnTo>
                <a:lnTo>
                  <a:pt x="789" y="8"/>
                </a:lnTo>
                <a:lnTo>
                  <a:pt x="797" y="14"/>
                </a:lnTo>
                <a:lnTo>
                  <a:pt x="804" y="21"/>
                </a:lnTo>
                <a:lnTo>
                  <a:pt x="808" y="29"/>
                </a:lnTo>
                <a:lnTo>
                  <a:pt x="812" y="37"/>
                </a:lnTo>
                <a:lnTo>
                  <a:pt x="816" y="44"/>
                </a:lnTo>
                <a:lnTo>
                  <a:pt x="818" y="50"/>
                </a:lnTo>
                <a:lnTo>
                  <a:pt x="818" y="56"/>
                </a:lnTo>
                <a:lnTo>
                  <a:pt x="818" y="62"/>
                </a:lnTo>
                <a:lnTo>
                  <a:pt x="816" y="67"/>
                </a:lnTo>
                <a:lnTo>
                  <a:pt x="812" y="75"/>
                </a:lnTo>
                <a:lnTo>
                  <a:pt x="808" y="83"/>
                </a:lnTo>
                <a:lnTo>
                  <a:pt x="804" y="91"/>
                </a:lnTo>
                <a:lnTo>
                  <a:pt x="797" y="98"/>
                </a:lnTo>
                <a:lnTo>
                  <a:pt x="789" y="106"/>
                </a:lnTo>
                <a:lnTo>
                  <a:pt x="781" y="112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32"/>
          <p:cNvSpPr/>
          <p:nvPr/>
        </p:nvSpPr>
        <p:spPr>
          <a:xfrm>
            <a:off x="5784840" y="3710160"/>
            <a:ext cx="836640" cy="1179360"/>
          </a:xfrm>
          <a:custGeom>
            <a:avLst/>
            <a:gdLst/>
            <a:ahLst/>
            <a:rect l="l" t="t" r="r" b="b"/>
            <a:pathLst>
              <a:path w="1054" h="1486">
                <a:moveTo>
                  <a:pt x="2" y="1484"/>
                </a:moveTo>
                <a:lnTo>
                  <a:pt x="0" y="1480"/>
                </a:lnTo>
                <a:lnTo>
                  <a:pt x="0" y="1477"/>
                </a:lnTo>
                <a:lnTo>
                  <a:pt x="2" y="1471"/>
                </a:lnTo>
                <a:lnTo>
                  <a:pt x="6" y="1463"/>
                </a:lnTo>
                <a:lnTo>
                  <a:pt x="12" y="1455"/>
                </a:lnTo>
                <a:lnTo>
                  <a:pt x="19" y="1446"/>
                </a:lnTo>
                <a:lnTo>
                  <a:pt x="27" y="1436"/>
                </a:lnTo>
                <a:lnTo>
                  <a:pt x="39" y="1425"/>
                </a:lnTo>
                <a:lnTo>
                  <a:pt x="50" y="1411"/>
                </a:lnTo>
                <a:lnTo>
                  <a:pt x="66" y="1398"/>
                </a:lnTo>
                <a:lnTo>
                  <a:pt x="81" y="1382"/>
                </a:lnTo>
                <a:lnTo>
                  <a:pt x="98" y="1367"/>
                </a:lnTo>
                <a:lnTo>
                  <a:pt x="117" y="1350"/>
                </a:lnTo>
                <a:lnTo>
                  <a:pt x="138" y="1333"/>
                </a:lnTo>
                <a:lnTo>
                  <a:pt x="160" y="1313"/>
                </a:lnTo>
                <a:lnTo>
                  <a:pt x="185" y="1294"/>
                </a:lnTo>
                <a:lnTo>
                  <a:pt x="208" y="1275"/>
                </a:lnTo>
                <a:lnTo>
                  <a:pt x="231" y="1256"/>
                </a:lnTo>
                <a:lnTo>
                  <a:pt x="254" y="1235"/>
                </a:lnTo>
                <a:lnTo>
                  <a:pt x="275" y="1214"/>
                </a:lnTo>
                <a:lnTo>
                  <a:pt x="298" y="1192"/>
                </a:lnTo>
                <a:lnTo>
                  <a:pt x="321" y="1169"/>
                </a:lnTo>
                <a:lnTo>
                  <a:pt x="344" y="1144"/>
                </a:lnTo>
                <a:lnTo>
                  <a:pt x="367" y="1121"/>
                </a:lnTo>
                <a:lnTo>
                  <a:pt x="388" y="1096"/>
                </a:lnTo>
                <a:lnTo>
                  <a:pt x="411" y="1070"/>
                </a:lnTo>
                <a:lnTo>
                  <a:pt x="432" y="1043"/>
                </a:lnTo>
                <a:lnTo>
                  <a:pt x="455" y="1016"/>
                </a:lnTo>
                <a:lnTo>
                  <a:pt x="476" y="987"/>
                </a:lnTo>
                <a:lnTo>
                  <a:pt x="497" y="958"/>
                </a:lnTo>
                <a:lnTo>
                  <a:pt x="519" y="928"/>
                </a:lnTo>
                <a:lnTo>
                  <a:pt x="540" y="899"/>
                </a:lnTo>
                <a:lnTo>
                  <a:pt x="559" y="870"/>
                </a:lnTo>
                <a:lnTo>
                  <a:pt x="578" y="841"/>
                </a:lnTo>
                <a:lnTo>
                  <a:pt x="597" y="812"/>
                </a:lnTo>
                <a:lnTo>
                  <a:pt x="616" y="784"/>
                </a:lnTo>
                <a:lnTo>
                  <a:pt x="634" y="753"/>
                </a:lnTo>
                <a:lnTo>
                  <a:pt x="651" y="724"/>
                </a:lnTo>
                <a:lnTo>
                  <a:pt x="668" y="695"/>
                </a:lnTo>
                <a:lnTo>
                  <a:pt x="686" y="665"/>
                </a:lnTo>
                <a:lnTo>
                  <a:pt x="701" y="634"/>
                </a:lnTo>
                <a:lnTo>
                  <a:pt x="716" y="605"/>
                </a:lnTo>
                <a:lnTo>
                  <a:pt x="732" y="574"/>
                </a:lnTo>
                <a:lnTo>
                  <a:pt x="745" y="544"/>
                </a:lnTo>
                <a:lnTo>
                  <a:pt x="759" y="513"/>
                </a:lnTo>
                <a:lnTo>
                  <a:pt x="772" y="482"/>
                </a:lnTo>
                <a:lnTo>
                  <a:pt x="783" y="452"/>
                </a:lnTo>
                <a:lnTo>
                  <a:pt x="795" y="423"/>
                </a:lnTo>
                <a:lnTo>
                  <a:pt x="807" y="394"/>
                </a:lnTo>
                <a:lnTo>
                  <a:pt x="816" y="367"/>
                </a:lnTo>
                <a:lnTo>
                  <a:pt x="824" y="342"/>
                </a:lnTo>
                <a:lnTo>
                  <a:pt x="831" y="317"/>
                </a:lnTo>
                <a:lnTo>
                  <a:pt x="839" y="294"/>
                </a:lnTo>
                <a:lnTo>
                  <a:pt x="845" y="271"/>
                </a:lnTo>
                <a:lnTo>
                  <a:pt x="849" y="250"/>
                </a:lnTo>
                <a:lnTo>
                  <a:pt x="853" y="229"/>
                </a:lnTo>
                <a:lnTo>
                  <a:pt x="856" y="210"/>
                </a:lnTo>
                <a:lnTo>
                  <a:pt x="858" y="192"/>
                </a:lnTo>
                <a:lnTo>
                  <a:pt x="860" y="175"/>
                </a:lnTo>
                <a:lnTo>
                  <a:pt x="860" y="160"/>
                </a:lnTo>
                <a:lnTo>
                  <a:pt x="860" y="144"/>
                </a:lnTo>
                <a:lnTo>
                  <a:pt x="860" y="131"/>
                </a:lnTo>
                <a:lnTo>
                  <a:pt x="858" y="119"/>
                </a:lnTo>
                <a:lnTo>
                  <a:pt x="856" y="108"/>
                </a:lnTo>
                <a:lnTo>
                  <a:pt x="853" y="100"/>
                </a:lnTo>
                <a:lnTo>
                  <a:pt x="849" y="93"/>
                </a:lnTo>
                <a:lnTo>
                  <a:pt x="845" y="85"/>
                </a:lnTo>
                <a:lnTo>
                  <a:pt x="843" y="77"/>
                </a:lnTo>
                <a:lnTo>
                  <a:pt x="841" y="70"/>
                </a:lnTo>
                <a:lnTo>
                  <a:pt x="839" y="64"/>
                </a:lnTo>
                <a:lnTo>
                  <a:pt x="837" y="50"/>
                </a:lnTo>
                <a:lnTo>
                  <a:pt x="837" y="39"/>
                </a:lnTo>
                <a:lnTo>
                  <a:pt x="837" y="27"/>
                </a:lnTo>
                <a:lnTo>
                  <a:pt x="839" y="24"/>
                </a:lnTo>
                <a:lnTo>
                  <a:pt x="841" y="20"/>
                </a:lnTo>
                <a:lnTo>
                  <a:pt x="841" y="16"/>
                </a:lnTo>
                <a:lnTo>
                  <a:pt x="845" y="14"/>
                </a:lnTo>
                <a:lnTo>
                  <a:pt x="849" y="8"/>
                </a:lnTo>
                <a:lnTo>
                  <a:pt x="855" y="4"/>
                </a:lnTo>
                <a:lnTo>
                  <a:pt x="862" y="2"/>
                </a:lnTo>
                <a:lnTo>
                  <a:pt x="868" y="0"/>
                </a:lnTo>
                <a:lnTo>
                  <a:pt x="876" y="0"/>
                </a:lnTo>
                <a:lnTo>
                  <a:pt x="881" y="0"/>
                </a:lnTo>
                <a:lnTo>
                  <a:pt x="887" y="0"/>
                </a:lnTo>
                <a:lnTo>
                  <a:pt x="893" y="0"/>
                </a:lnTo>
                <a:lnTo>
                  <a:pt x="899" y="4"/>
                </a:lnTo>
                <a:lnTo>
                  <a:pt x="904" y="10"/>
                </a:lnTo>
                <a:lnTo>
                  <a:pt x="912" y="16"/>
                </a:lnTo>
                <a:lnTo>
                  <a:pt x="922" y="24"/>
                </a:lnTo>
                <a:lnTo>
                  <a:pt x="931" y="31"/>
                </a:lnTo>
                <a:lnTo>
                  <a:pt x="935" y="37"/>
                </a:lnTo>
                <a:lnTo>
                  <a:pt x="941" y="41"/>
                </a:lnTo>
                <a:lnTo>
                  <a:pt x="947" y="47"/>
                </a:lnTo>
                <a:lnTo>
                  <a:pt x="954" y="54"/>
                </a:lnTo>
                <a:lnTo>
                  <a:pt x="960" y="60"/>
                </a:lnTo>
                <a:lnTo>
                  <a:pt x="968" y="68"/>
                </a:lnTo>
                <a:lnTo>
                  <a:pt x="979" y="83"/>
                </a:lnTo>
                <a:lnTo>
                  <a:pt x="993" y="96"/>
                </a:lnTo>
                <a:lnTo>
                  <a:pt x="1006" y="110"/>
                </a:lnTo>
                <a:lnTo>
                  <a:pt x="1018" y="121"/>
                </a:lnTo>
                <a:lnTo>
                  <a:pt x="1029" y="135"/>
                </a:lnTo>
                <a:lnTo>
                  <a:pt x="1039" y="148"/>
                </a:lnTo>
                <a:lnTo>
                  <a:pt x="1043" y="154"/>
                </a:lnTo>
                <a:lnTo>
                  <a:pt x="1047" y="162"/>
                </a:lnTo>
                <a:lnTo>
                  <a:pt x="1050" y="169"/>
                </a:lnTo>
                <a:lnTo>
                  <a:pt x="1052" y="177"/>
                </a:lnTo>
                <a:lnTo>
                  <a:pt x="1054" y="185"/>
                </a:lnTo>
                <a:lnTo>
                  <a:pt x="1054" y="194"/>
                </a:lnTo>
                <a:lnTo>
                  <a:pt x="1054" y="206"/>
                </a:lnTo>
                <a:lnTo>
                  <a:pt x="1052" y="219"/>
                </a:lnTo>
                <a:lnTo>
                  <a:pt x="1048" y="235"/>
                </a:lnTo>
                <a:lnTo>
                  <a:pt x="1045" y="250"/>
                </a:lnTo>
                <a:lnTo>
                  <a:pt x="1039" y="269"/>
                </a:lnTo>
                <a:lnTo>
                  <a:pt x="1033" y="288"/>
                </a:lnTo>
                <a:lnTo>
                  <a:pt x="1025" y="310"/>
                </a:lnTo>
                <a:lnTo>
                  <a:pt x="1018" y="333"/>
                </a:lnTo>
                <a:lnTo>
                  <a:pt x="1008" y="357"/>
                </a:lnTo>
                <a:lnTo>
                  <a:pt x="997" y="382"/>
                </a:lnTo>
                <a:lnTo>
                  <a:pt x="985" y="411"/>
                </a:lnTo>
                <a:lnTo>
                  <a:pt x="972" y="440"/>
                </a:lnTo>
                <a:lnTo>
                  <a:pt x="956" y="471"/>
                </a:lnTo>
                <a:lnTo>
                  <a:pt x="943" y="503"/>
                </a:lnTo>
                <a:lnTo>
                  <a:pt x="910" y="571"/>
                </a:lnTo>
                <a:lnTo>
                  <a:pt x="876" y="636"/>
                </a:lnTo>
                <a:lnTo>
                  <a:pt x="839" y="701"/>
                </a:lnTo>
                <a:lnTo>
                  <a:pt x="803" y="764"/>
                </a:lnTo>
                <a:lnTo>
                  <a:pt x="764" y="828"/>
                </a:lnTo>
                <a:lnTo>
                  <a:pt x="724" y="889"/>
                </a:lnTo>
                <a:lnTo>
                  <a:pt x="703" y="920"/>
                </a:lnTo>
                <a:lnTo>
                  <a:pt x="682" y="949"/>
                </a:lnTo>
                <a:lnTo>
                  <a:pt x="659" y="979"/>
                </a:lnTo>
                <a:lnTo>
                  <a:pt x="638" y="1008"/>
                </a:lnTo>
                <a:lnTo>
                  <a:pt x="611" y="1035"/>
                </a:lnTo>
                <a:lnTo>
                  <a:pt x="586" y="1062"/>
                </a:lnTo>
                <a:lnTo>
                  <a:pt x="561" y="1089"/>
                </a:lnTo>
                <a:lnTo>
                  <a:pt x="536" y="1114"/>
                </a:lnTo>
                <a:lnTo>
                  <a:pt x="511" y="1141"/>
                </a:lnTo>
                <a:lnTo>
                  <a:pt x="486" y="1164"/>
                </a:lnTo>
                <a:lnTo>
                  <a:pt x="461" y="1189"/>
                </a:lnTo>
                <a:lnTo>
                  <a:pt x="436" y="1212"/>
                </a:lnTo>
                <a:lnTo>
                  <a:pt x="409" y="1235"/>
                </a:lnTo>
                <a:lnTo>
                  <a:pt x="384" y="1256"/>
                </a:lnTo>
                <a:lnTo>
                  <a:pt x="359" y="1277"/>
                </a:lnTo>
                <a:lnTo>
                  <a:pt x="334" y="1298"/>
                </a:lnTo>
                <a:lnTo>
                  <a:pt x="309" y="1317"/>
                </a:lnTo>
                <a:lnTo>
                  <a:pt x="284" y="1338"/>
                </a:lnTo>
                <a:lnTo>
                  <a:pt x="259" y="1356"/>
                </a:lnTo>
                <a:lnTo>
                  <a:pt x="234" y="1375"/>
                </a:lnTo>
                <a:lnTo>
                  <a:pt x="208" y="1392"/>
                </a:lnTo>
                <a:lnTo>
                  <a:pt x="183" y="1407"/>
                </a:lnTo>
                <a:lnTo>
                  <a:pt x="160" y="1421"/>
                </a:lnTo>
                <a:lnTo>
                  <a:pt x="137" y="1434"/>
                </a:lnTo>
                <a:lnTo>
                  <a:pt x="117" y="1446"/>
                </a:lnTo>
                <a:lnTo>
                  <a:pt x="98" y="1455"/>
                </a:lnTo>
                <a:lnTo>
                  <a:pt x="83" y="1463"/>
                </a:lnTo>
                <a:lnTo>
                  <a:pt x="67" y="1471"/>
                </a:lnTo>
                <a:lnTo>
                  <a:pt x="54" y="1477"/>
                </a:lnTo>
                <a:lnTo>
                  <a:pt x="41" y="1480"/>
                </a:lnTo>
                <a:lnTo>
                  <a:pt x="31" y="1484"/>
                </a:lnTo>
                <a:lnTo>
                  <a:pt x="21" y="1486"/>
                </a:lnTo>
                <a:lnTo>
                  <a:pt x="14" y="1486"/>
                </a:lnTo>
                <a:lnTo>
                  <a:pt x="8" y="1486"/>
                </a:lnTo>
                <a:lnTo>
                  <a:pt x="4" y="1486"/>
                </a:lnTo>
                <a:lnTo>
                  <a:pt x="2" y="148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33"/>
          <p:cNvSpPr/>
          <p:nvPr/>
        </p:nvSpPr>
        <p:spPr>
          <a:xfrm>
            <a:off x="6756480" y="3624120"/>
            <a:ext cx="941400" cy="1274760"/>
          </a:xfrm>
          <a:custGeom>
            <a:avLst/>
            <a:gdLst/>
            <a:ahLst/>
            <a:rect l="l" t="t" r="r" b="b"/>
            <a:pathLst>
              <a:path w="1187" h="1607">
                <a:moveTo>
                  <a:pt x="954" y="1048"/>
                </a:moveTo>
                <a:lnTo>
                  <a:pt x="954" y="1031"/>
                </a:lnTo>
                <a:lnTo>
                  <a:pt x="956" y="1014"/>
                </a:lnTo>
                <a:lnTo>
                  <a:pt x="958" y="996"/>
                </a:lnTo>
                <a:lnTo>
                  <a:pt x="958" y="981"/>
                </a:lnTo>
                <a:lnTo>
                  <a:pt x="960" y="966"/>
                </a:lnTo>
                <a:lnTo>
                  <a:pt x="962" y="950"/>
                </a:lnTo>
                <a:lnTo>
                  <a:pt x="964" y="937"/>
                </a:lnTo>
                <a:lnTo>
                  <a:pt x="966" y="923"/>
                </a:lnTo>
                <a:lnTo>
                  <a:pt x="966" y="910"/>
                </a:lnTo>
                <a:lnTo>
                  <a:pt x="968" y="896"/>
                </a:lnTo>
                <a:lnTo>
                  <a:pt x="970" y="885"/>
                </a:lnTo>
                <a:lnTo>
                  <a:pt x="972" y="873"/>
                </a:lnTo>
                <a:lnTo>
                  <a:pt x="973" y="862"/>
                </a:lnTo>
                <a:lnTo>
                  <a:pt x="975" y="852"/>
                </a:lnTo>
                <a:lnTo>
                  <a:pt x="977" y="843"/>
                </a:lnTo>
                <a:lnTo>
                  <a:pt x="979" y="833"/>
                </a:lnTo>
                <a:lnTo>
                  <a:pt x="981" y="825"/>
                </a:lnTo>
                <a:lnTo>
                  <a:pt x="983" y="816"/>
                </a:lnTo>
                <a:lnTo>
                  <a:pt x="987" y="810"/>
                </a:lnTo>
                <a:lnTo>
                  <a:pt x="989" y="802"/>
                </a:lnTo>
                <a:lnTo>
                  <a:pt x="991" y="797"/>
                </a:lnTo>
                <a:lnTo>
                  <a:pt x="993" y="791"/>
                </a:lnTo>
                <a:lnTo>
                  <a:pt x="995" y="785"/>
                </a:lnTo>
                <a:lnTo>
                  <a:pt x="996" y="779"/>
                </a:lnTo>
                <a:lnTo>
                  <a:pt x="998" y="776"/>
                </a:lnTo>
                <a:lnTo>
                  <a:pt x="1000" y="772"/>
                </a:lnTo>
                <a:lnTo>
                  <a:pt x="1004" y="770"/>
                </a:lnTo>
                <a:lnTo>
                  <a:pt x="1006" y="766"/>
                </a:lnTo>
                <a:lnTo>
                  <a:pt x="1008" y="764"/>
                </a:lnTo>
                <a:lnTo>
                  <a:pt x="1010" y="764"/>
                </a:lnTo>
                <a:lnTo>
                  <a:pt x="1012" y="762"/>
                </a:lnTo>
                <a:lnTo>
                  <a:pt x="1016" y="762"/>
                </a:lnTo>
                <a:lnTo>
                  <a:pt x="1018" y="764"/>
                </a:lnTo>
                <a:lnTo>
                  <a:pt x="1020" y="766"/>
                </a:lnTo>
                <a:lnTo>
                  <a:pt x="1023" y="770"/>
                </a:lnTo>
                <a:lnTo>
                  <a:pt x="1025" y="777"/>
                </a:lnTo>
                <a:lnTo>
                  <a:pt x="1029" y="785"/>
                </a:lnTo>
                <a:lnTo>
                  <a:pt x="1033" y="797"/>
                </a:lnTo>
                <a:lnTo>
                  <a:pt x="1035" y="808"/>
                </a:lnTo>
                <a:lnTo>
                  <a:pt x="1039" y="822"/>
                </a:lnTo>
                <a:lnTo>
                  <a:pt x="1043" y="837"/>
                </a:lnTo>
                <a:lnTo>
                  <a:pt x="1046" y="854"/>
                </a:lnTo>
                <a:lnTo>
                  <a:pt x="1050" y="873"/>
                </a:lnTo>
                <a:lnTo>
                  <a:pt x="1052" y="895"/>
                </a:lnTo>
                <a:lnTo>
                  <a:pt x="1056" y="916"/>
                </a:lnTo>
                <a:lnTo>
                  <a:pt x="1058" y="941"/>
                </a:lnTo>
                <a:lnTo>
                  <a:pt x="1062" y="966"/>
                </a:lnTo>
                <a:lnTo>
                  <a:pt x="1064" y="994"/>
                </a:lnTo>
                <a:lnTo>
                  <a:pt x="1066" y="1021"/>
                </a:lnTo>
                <a:lnTo>
                  <a:pt x="1069" y="1048"/>
                </a:lnTo>
                <a:lnTo>
                  <a:pt x="1073" y="1073"/>
                </a:lnTo>
                <a:lnTo>
                  <a:pt x="1077" y="1098"/>
                </a:lnTo>
                <a:lnTo>
                  <a:pt x="1081" y="1121"/>
                </a:lnTo>
                <a:lnTo>
                  <a:pt x="1087" y="1142"/>
                </a:lnTo>
                <a:lnTo>
                  <a:pt x="1092" y="1163"/>
                </a:lnTo>
                <a:lnTo>
                  <a:pt x="1098" y="1184"/>
                </a:lnTo>
                <a:lnTo>
                  <a:pt x="1106" y="1202"/>
                </a:lnTo>
                <a:lnTo>
                  <a:pt x="1112" y="1219"/>
                </a:lnTo>
                <a:lnTo>
                  <a:pt x="1119" y="1236"/>
                </a:lnTo>
                <a:lnTo>
                  <a:pt x="1127" y="1250"/>
                </a:lnTo>
                <a:lnTo>
                  <a:pt x="1135" y="1263"/>
                </a:lnTo>
                <a:lnTo>
                  <a:pt x="1144" y="1275"/>
                </a:lnTo>
                <a:lnTo>
                  <a:pt x="1152" y="1284"/>
                </a:lnTo>
                <a:lnTo>
                  <a:pt x="1162" y="1294"/>
                </a:lnTo>
                <a:lnTo>
                  <a:pt x="1167" y="1303"/>
                </a:lnTo>
                <a:lnTo>
                  <a:pt x="1173" y="1313"/>
                </a:lnTo>
                <a:lnTo>
                  <a:pt x="1177" y="1323"/>
                </a:lnTo>
                <a:lnTo>
                  <a:pt x="1181" y="1332"/>
                </a:lnTo>
                <a:lnTo>
                  <a:pt x="1185" y="1340"/>
                </a:lnTo>
                <a:lnTo>
                  <a:pt x="1187" y="1349"/>
                </a:lnTo>
                <a:lnTo>
                  <a:pt x="1187" y="1357"/>
                </a:lnTo>
                <a:lnTo>
                  <a:pt x="1187" y="1367"/>
                </a:lnTo>
                <a:lnTo>
                  <a:pt x="1187" y="1374"/>
                </a:lnTo>
                <a:lnTo>
                  <a:pt x="1185" y="1382"/>
                </a:lnTo>
                <a:lnTo>
                  <a:pt x="1181" y="1390"/>
                </a:lnTo>
                <a:lnTo>
                  <a:pt x="1177" y="1397"/>
                </a:lnTo>
                <a:lnTo>
                  <a:pt x="1171" y="1405"/>
                </a:lnTo>
                <a:lnTo>
                  <a:pt x="1165" y="1413"/>
                </a:lnTo>
                <a:lnTo>
                  <a:pt x="1158" y="1420"/>
                </a:lnTo>
                <a:lnTo>
                  <a:pt x="1150" y="1430"/>
                </a:lnTo>
                <a:lnTo>
                  <a:pt x="1140" y="1438"/>
                </a:lnTo>
                <a:lnTo>
                  <a:pt x="1129" y="1445"/>
                </a:lnTo>
                <a:lnTo>
                  <a:pt x="1119" y="1453"/>
                </a:lnTo>
                <a:lnTo>
                  <a:pt x="1108" y="1459"/>
                </a:lnTo>
                <a:lnTo>
                  <a:pt x="1096" y="1467"/>
                </a:lnTo>
                <a:lnTo>
                  <a:pt x="1083" y="1474"/>
                </a:lnTo>
                <a:lnTo>
                  <a:pt x="1071" y="1482"/>
                </a:lnTo>
                <a:lnTo>
                  <a:pt x="1058" y="1490"/>
                </a:lnTo>
                <a:lnTo>
                  <a:pt x="1043" y="1497"/>
                </a:lnTo>
                <a:lnTo>
                  <a:pt x="1029" y="1505"/>
                </a:lnTo>
                <a:lnTo>
                  <a:pt x="1014" y="1513"/>
                </a:lnTo>
                <a:lnTo>
                  <a:pt x="998" y="1520"/>
                </a:lnTo>
                <a:lnTo>
                  <a:pt x="981" y="1528"/>
                </a:lnTo>
                <a:lnTo>
                  <a:pt x="964" y="1536"/>
                </a:lnTo>
                <a:lnTo>
                  <a:pt x="947" y="1543"/>
                </a:lnTo>
                <a:lnTo>
                  <a:pt x="929" y="1553"/>
                </a:lnTo>
                <a:lnTo>
                  <a:pt x="910" y="1559"/>
                </a:lnTo>
                <a:lnTo>
                  <a:pt x="891" y="1566"/>
                </a:lnTo>
                <a:lnTo>
                  <a:pt x="872" y="1572"/>
                </a:lnTo>
                <a:lnTo>
                  <a:pt x="851" y="1578"/>
                </a:lnTo>
                <a:lnTo>
                  <a:pt x="829" y="1584"/>
                </a:lnTo>
                <a:lnTo>
                  <a:pt x="808" y="1587"/>
                </a:lnTo>
                <a:lnTo>
                  <a:pt x="785" y="1591"/>
                </a:lnTo>
                <a:lnTo>
                  <a:pt x="762" y="1595"/>
                </a:lnTo>
                <a:lnTo>
                  <a:pt x="739" y="1597"/>
                </a:lnTo>
                <a:lnTo>
                  <a:pt x="714" y="1599"/>
                </a:lnTo>
                <a:lnTo>
                  <a:pt x="689" y="1601"/>
                </a:lnTo>
                <a:lnTo>
                  <a:pt x="662" y="1603"/>
                </a:lnTo>
                <a:lnTo>
                  <a:pt x="636" y="1605"/>
                </a:lnTo>
                <a:lnTo>
                  <a:pt x="609" y="1605"/>
                </a:lnTo>
                <a:lnTo>
                  <a:pt x="580" y="1605"/>
                </a:lnTo>
                <a:lnTo>
                  <a:pt x="551" y="1607"/>
                </a:lnTo>
                <a:lnTo>
                  <a:pt x="520" y="1605"/>
                </a:lnTo>
                <a:lnTo>
                  <a:pt x="492" y="1605"/>
                </a:lnTo>
                <a:lnTo>
                  <a:pt x="465" y="1603"/>
                </a:lnTo>
                <a:lnTo>
                  <a:pt x="438" y="1601"/>
                </a:lnTo>
                <a:lnTo>
                  <a:pt x="413" y="1599"/>
                </a:lnTo>
                <a:lnTo>
                  <a:pt x="388" y="1595"/>
                </a:lnTo>
                <a:lnTo>
                  <a:pt x="365" y="1591"/>
                </a:lnTo>
                <a:lnTo>
                  <a:pt x="342" y="1587"/>
                </a:lnTo>
                <a:lnTo>
                  <a:pt x="321" y="1584"/>
                </a:lnTo>
                <a:lnTo>
                  <a:pt x="302" y="1578"/>
                </a:lnTo>
                <a:lnTo>
                  <a:pt x="282" y="1572"/>
                </a:lnTo>
                <a:lnTo>
                  <a:pt x="265" y="1566"/>
                </a:lnTo>
                <a:lnTo>
                  <a:pt x="248" y="1559"/>
                </a:lnTo>
                <a:lnTo>
                  <a:pt x="232" y="1553"/>
                </a:lnTo>
                <a:lnTo>
                  <a:pt x="219" y="1545"/>
                </a:lnTo>
                <a:lnTo>
                  <a:pt x="207" y="1538"/>
                </a:lnTo>
                <a:lnTo>
                  <a:pt x="196" y="1530"/>
                </a:lnTo>
                <a:lnTo>
                  <a:pt x="184" y="1520"/>
                </a:lnTo>
                <a:lnTo>
                  <a:pt x="175" y="1511"/>
                </a:lnTo>
                <a:lnTo>
                  <a:pt x="163" y="1501"/>
                </a:lnTo>
                <a:lnTo>
                  <a:pt x="154" y="1491"/>
                </a:lnTo>
                <a:lnTo>
                  <a:pt x="144" y="1480"/>
                </a:lnTo>
                <a:lnTo>
                  <a:pt x="135" y="1468"/>
                </a:lnTo>
                <a:lnTo>
                  <a:pt x="125" y="1457"/>
                </a:lnTo>
                <a:lnTo>
                  <a:pt x="115" y="1443"/>
                </a:lnTo>
                <a:lnTo>
                  <a:pt x="108" y="1430"/>
                </a:lnTo>
                <a:lnTo>
                  <a:pt x="100" y="1415"/>
                </a:lnTo>
                <a:lnTo>
                  <a:pt x="90" y="1399"/>
                </a:lnTo>
                <a:lnTo>
                  <a:pt x="83" y="1384"/>
                </a:lnTo>
                <a:lnTo>
                  <a:pt x="75" y="1369"/>
                </a:lnTo>
                <a:lnTo>
                  <a:pt x="69" y="1351"/>
                </a:lnTo>
                <a:lnTo>
                  <a:pt x="62" y="1334"/>
                </a:lnTo>
                <a:lnTo>
                  <a:pt x="58" y="1324"/>
                </a:lnTo>
                <a:lnTo>
                  <a:pt x="56" y="1315"/>
                </a:lnTo>
                <a:lnTo>
                  <a:pt x="52" y="1305"/>
                </a:lnTo>
                <a:lnTo>
                  <a:pt x="48" y="1294"/>
                </a:lnTo>
                <a:lnTo>
                  <a:pt x="46" y="1282"/>
                </a:lnTo>
                <a:lnTo>
                  <a:pt x="44" y="1271"/>
                </a:lnTo>
                <a:lnTo>
                  <a:pt x="40" y="1257"/>
                </a:lnTo>
                <a:lnTo>
                  <a:pt x="39" y="1244"/>
                </a:lnTo>
                <a:lnTo>
                  <a:pt x="37" y="1230"/>
                </a:lnTo>
                <a:lnTo>
                  <a:pt x="35" y="1215"/>
                </a:lnTo>
                <a:lnTo>
                  <a:pt x="33" y="1200"/>
                </a:lnTo>
                <a:lnTo>
                  <a:pt x="31" y="1184"/>
                </a:lnTo>
                <a:lnTo>
                  <a:pt x="29" y="1169"/>
                </a:lnTo>
                <a:lnTo>
                  <a:pt x="27" y="1152"/>
                </a:lnTo>
                <a:lnTo>
                  <a:pt x="27" y="1134"/>
                </a:lnTo>
                <a:lnTo>
                  <a:pt x="25" y="1115"/>
                </a:lnTo>
                <a:lnTo>
                  <a:pt x="23" y="1098"/>
                </a:lnTo>
                <a:lnTo>
                  <a:pt x="23" y="1077"/>
                </a:lnTo>
                <a:lnTo>
                  <a:pt x="21" y="1058"/>
                </a:lnTo>
                <a:lnTo>
                  <a:pt x="21" y="1037"/>
                </a:lnTo>
                <a:lnTo>
                  <a:pt x="21" y="1015"/>
                </a:lnTo>
                <a:lnTo>
                  <a:pt x="21" y="992"/>
                </a:lnTo>
                <a:lnTo>
                  <a:pt x="19" y="971"/>
                </a:lnTo>
                <a:lnTo>
                  <a:pt x="19" y="946"/>
                </a:lnTo>
                <a:lnTo>
                  <a:pt x="19" y="923"/>
                </a:lnTo>
                <a:lnTo>
                  <a:pt x="19" y="898"/>
                </a:lnTo>
                <a:lnTo>
                  <a:pt x="21" y="871"/>
                </a:lnTo>
                <a:lnTo>
                  <a:pt x="21" y="847"/>
                </a:lnTo>
                <a:lnTo>
                  <a:pt x="21" y="820"/>
                </a:lnTo>
                <a:lnTo>
                  <a:pt x="23" y="791"/>
                </a:lnTo>
                <a:lnTo>
                  <a:pt x="23" y="764"/>
                </a:lnTo>
                <a:lnTo>
                  <a:pt x="25" y="735"/>
                </a:lnTo>
                <a:lnTo>
                  <a:pt x="27" y="680"/>
                </a:lnTo>
                <a:lnTo>
                  <a:pt x="27" y="624"/>
                </a:lnTo>
                <a:lnTo>
                  <a:pt x="29" y="572"/>
                </a:lnTo>
                <a:lnTo>
                  <a:pt x="29" y="520"/>
                </a:lnTo>
                <a:lnTo>
                  <a:pt x="29" y="470"/>
                </a:lnTo>
                <a:lnTo>
                  <a:pt x="29" y="420"/>
                </a:lnTo>
                <a:lnTo>
                  <a:pt x="27" y="372"/>
                </a:lnTo>
                <a:lnTo>
                  <a:pt x="25" y="326"/>
                </a:lnTo>
                <a:lnTo>
                  <a:pt x="23" y="280"/>
                </a:lnTo>
                <a:lnTo>
                  <a:pt x="21" y="236"/>
                </a:lnTo>
                <a:lnTo>
                  <a:pt x="19" y="194"/>
                </a:lnTo>
                <a:lnTo>
                  <a:pt x="15" y="152"/>
                </a:lnTo>
                <a:lnTo>
                  <a:pt x="12" y="111"/>
                </a:lnTo>
                <a:lnTo>
                  <a:pt x="8" y="73"/>
                </a:lnTo>
                <a:lnTo>
                  <a:pt x="4" y="37"/>
                </a:lnTo>
                <a:lnTo>
                  <a:pt x="0" y="0"/>
                </a:lnTo>
                <a:lnTo>
                  <a:pt x="27" y="17"/>
                </a:lnTo>
                <a:lnTo>
                  <a:pt x="52" y="35"/>
                </a:lnTo>
                <a:lnTo>
                  <a:pt x="75" y="50"/>
                </a:lnTo>
                <a:lnTo>
                  <a:pt x="96" y="65"/>
                </a:lnTo>
                <a:lnTo>
                  <a:pt x="115" y="81"/>
                </a:lnTo>
                <a:lnTo>
                  <a:pt x="135" y="96"/>
                </a:lnTo>
                <a:lnTo>
                  <a:pt x="150" y="109"/>
                </a:lnTo>
                <a:lnTo>
                  <a:pt x="165" y="123"/>
                </a:lnTo>
                <a:lnTo>
                  <a:pt x="177" y="134"/>
                </a:lnTo>
                <a:lnTo>
                  <a:pt x="188" y="146"/>
                </a:lnTo>
                <a:lnTo>
                  <a:pt x="198" y="157"/>
                </a:lnTo>
                <a:lnTo>
                  <a:pt x="206" y="167"/>
                </a:lnTo>
                <a:lnTo>
                  <a:pt x="211" y="179"/>
                </a:lnTo>
                <a:lnTo>
                  <a:pt x="217" y="186"/>
                </a:lnTo>
                <a:lnTo>
                  <a:pt x="219" y="196"/>
                </a:lnTo>
                <a:lnTo>
                  <a:pt x="221" y="204"/>
                </a:lnTo>
                <a:lnTo>
                  <a:pt x="219" y="219"/>
                </a:lnTo>
                <a:lnTo>
                  <a:pt x="217" y="236"/>
                </a:lnTo>
                <a:lnTo>
                  <a:pt x="215" y="255"/>
                </a:lnTo>
                <a:lnTo>
                  <a:pt x="213" y="276"/>
                </a:lnTo>
                <a:lnTo>
                  <a:pt x="211" y="288"/>
                </a:lnTo>
                <a:lnTo>
                  <a:pt x="209" y="300"/>
                </a:lnTo>
                <a:lnTo>
                  <a:pt x="207" y="311"/>
                </a:lnTo>
                <a:lnTo>
                  <a:pt x="206" y="324"/>
                </a:lnTo>
                <a:lnTo>
                  <a:pt x="202" y="338"/>
                </a:lnTo>
                <a:lnTo>
                  <a:pt x="200" y="351"/>
                </a:lnTo>
                <a:lnTo>
                  <a:pt x="198" y="365"/>
                </a:lnTo>
                <a:lnTo>
                  <a:pt x="196" y="380"/>
                </a:lnTo>
                <a:lnTo>
                  <a:pt x="192" y="395"/>
                </a:lnTo>
                <a:lnTo>
                  <a:pt x="188" y="415"/>
                </a:lnTo>
                <a:lnTo>
                  <a:pt x="184" y="434"/>
                </a:lnTo>
                <a:lnTo>
                  <a:pt x="181" y="455"/>
                </a:lnTo>
                <a:lnTo>
                  <a:pt x="177" y="478"/>
                </a:lnTo>
                <a:lnTo>
                  <a:pt x="173" y="501"/>
                </a:lnTo>
                <a:lnTo>
                  <a:pt x="169" y="528"/>
                </a:lnTo>
                <a:lnTo>
                  <a:pt x="167" y="555"/>
                </a:lnTo>
                <a:lnTo>
                  <a:pt x="163" y="584"/>
                </a:lnTo>
                <a:lnTo>
                  <a:pt x="161" y="614"/>
                </a:lnTo>
                <a:lnTo>
                  <a:pt x="159" y="645"/>
                </a:lnTo>
                <a:lnTo>
                  <a:pt x="156" y="680"/>
                </a:lnTo>
                <a:lnTo>
                  <a:pt x="154" y="714"/>
                </a:lnTo>
                <a:lnTo>
                  <a:pt x="152" y="752"/>
                </a:lnTo>
                <a:lnTo>
                  <a:pt x="150" y="791"/>
                </a:lnTo>
                <a:lnTo>
                  <a:pt x="148" y="831"/>
                </a:lnTo>
                <a:lnTo>
                  <a:pt x="146" y="850"/>
                </a:lnTo>
                <a:lnTo>
                  <a:pt x="146" y="870"/>
                </a:lnTo>
                <a:lnTo>
                  <a:pt x="144" y="908"/>
                </a:lnTo>
                <a:lnTo>
                  <a:pt x="144" y="944"/>
                </a:lnTo>
                <a:lnTo>
                  <a:pt x="144" y="979"/>
                </a:lnTo>
                <a:lnTo>
                  <a:pt x="146" y="1012"/>
                </a:lnTo>
                <a:lnTo>
                  <a:pt x="148" y="1042"/>
                </a:lnTo>
                <a:lnTo>
                  <a:pt x="150" y="1071"/>
                </a:lnTo>
                <a:lnTo>
                  <a:pt x="154" y="1098"/>
                </a:lnTo>
                <a:lnTo>
                  <a:pt x="158" y="1123"/>
                </a:lnTo>
                <a:lnTo>
                  <a:pt x="161" y="1146"/>
                </a:lnTo>
                <a:lnTo>
                  <a:pt x="165" y="1167"/>
                </a:lnTo>
                <a:lnTo>
                  <a:pt x="171" y="1188"/>
                </a:lnTo>
                <a:lnTo>
                  <a:pt x="177" y="1207"/>
                </a:lnTo>
                <a:lnTo>
                  <a:pt x="182" y="1223"/>
                </a:lnTo>
                <a:lnTo>
                  <a:pt x="190" y="1238"/>
                </a:lnTo>
                <a:lnTo>
                  <a:pt x="196" y="1253"/>
                </a:lnTo>
                <a:lnTo>
                  <a:pt x="204" y="1265"/>
                </a:lnTo>
                <a:lnTo>
                  <a:pt x="211" y="1276"/>
                </a:lnTo>
                <a:lnTo>
                  <a:pt x="219" y="1290"/>
                </a:lnTo>
                <a:lnTo>
                  <a:pt x="229" y="1301"/>
                </a:lnTo>
                <a:lnTo>
                  <a:pt x="238" y="1311"/>
                </a:lnTo>
                <a:lnTo>
                  <a:pt x="248" y="1323"/>
                </a:lnTo>
                <a:lnTo>
                  <a:pt x="259" y="1332"/>
                </a:lnTo>
                <a:lnTo>
                  <a:pt x="273" y="1340"/>
                </a:lnTo>
                <a:lnTo>
                  <a:pt x="284" y="1349"/>
                </a:lnTo>
                <a:lnTo>
                  <a:pt x="300" y="1357"/>
                </a:lnTo>
                <a:lnTo>
                  <a:pt x="313" y="1365"/>
                </a:lnTo>
                <a:lnTo>
                  <a:pt x="330" y="1371"/>
                </a:lnTo>
                <a:lnTo>
                  <a:pt x="346" y="1376"/>
                </a:lnTo>
                <a:lnTo>
                  <a:pt x="365" y="1380"/>
                </a:lnTo>
                <a:lnTo>
                  <a:pt x="384" y="1384"/>
                </a:lnTo>
                <a:lnTo>
                  <a:pt x="403" y="1388"/>
                </a:lnTo>
                <a:lnTo>
                  <a:pt x="446" y="1392"/>
                </a:lnTo>
                <a:lnTo>
                  <a:pt x="465" y="1394"/>
                </a:lnTo>
                <a:lnTo>
                  <a:pt x="486" y="1395"/>
                </a:lnTo>
                <a:lnTo>
                  <a:pt x="507" y="1395"/>
                </a:lnTo>
                <a:lnTo>
                  <a:pt x="528" y="1397"/>
                </a:lnTo>
                <a:lnTo>
                  <a:pt x="549" y="1395"/>
                </a:lnTo>
                <a:lnTo>
                  <a:pt x="570" y="1395"/>
                </a:lnTo>
                <a:lnTo>
                  <a:pt x="591" y="1394"/>
                </a:lnTo>
                <a:lnTo>
                  <a:pt x="613" y="1392"/>
                </a:lnTo>
                <a:lnTo>
                  <a:pt x="636" y="1388"/>
                </a:lnTo>
                <a:lnTo>
                  <a:pt x="657" y="1384"/>
                </a:lnTo>
                <a:lnTo>
                  <a:pt x="678" y="1380"/>
                </a:lnTo>
                <a:lnTo>
                  <a:pt x="701" y="1374"/>
                </a:lnTo>
                <a:lnTo>
                  <a:pt x="724" y="1369"/>
                </a:lnTo>
                <a:lnTo>
                  <a:pt x="747" y="1361"/>
                </a:lnTo>
                <a:lnTo>
                  <a:pt x="768" y="1355"/>
                </a:lnTo>
                <a:lnTo>
                  <a:pt x="789" y="1348"/>
                </a:lnTo>
                <a:lnTo>
                  <a:pt x="810" y="1336"/>
                </a:lnTo>
                <a:lnTo>
                  <a:pt x="828" y="1324"/>
                </a:lnTo>
                <a:lnTo>
                  <a:pt x="845" y="1311"/>
                </a:lnTo>
                <a:lnTo>
                  <a:pt x="862" y="1296"/>
                </a:lnTo>
                <a:lnTo>
                  <a:pt x="877" y="1278"/>
                </a:lnTo>
                <a:lnTo>
                  <a:pt x="891" y="1261"/>
                </a:lnTo>
                <a:lnTo>
                  <a:pt x="904" y="1240"/>
                </a:lnTo>
                <a:lnTo>
                  <a:pt x="914" y="1217"/>
                </a:lnTo>
                <a:lnTo>
                  <a:pt x="925" y="1194"/>
                </a:lnTo>
                <a:lnTo>
                  <a:pt x="933" y="1167"/>
                </a:lnTo>
                <a:lnTo>
                  <a:pt x="941" y="1140"/>
                </a:lnTo>
                <a:lnTo>
                  <a:pt x="947" y="1111"/>
                </a:lnTo>
                <a:lnTo>
                  <a:pt x="950" y="1081"/>
                </a:lnTo>
                <a:lnTo>
                  <a:pt x="954" y="1048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34"/>
          <p:cNvSpPr/>
          <p:nvPr/>
        </p:nvSpPr>
        <p:spPr>
          <a:xfrm>
            <a:off x="5640480" y="3143160"/>
            <a:ext cx="368280" cy="330120"/>
          </a:xfrm>
          <a:custGeom>
            <a:avLst/>
            <a:gdLst/>
            <a:ahLst/>
            <a:rect l="l" t="t" r="r" b="b"/>
            <a:pathLst>
              <a:path w="464" h="415">
                <a:moveTo>
                  <a:pt x="0" y="33"/>
                </a:moveTo>
                <a:lnTo>
                  <a:pt x="2" y="27"/>
                </a:lnTo>
                <a:lnTo>
                  <a:pt x="6" y="23"/>
                </a:lnTo>
                <a:lnTo>
                  <a:pt x="9" y="18"/>
                </a:lnTo>
                <a:lnTo>
                  <a:pt x="15" y="14"/>
                </a:lnTo>
                <a:lnTo>
                  <a:pt x="21" y="12"/>
                </a:lnTo>
                <a:lnTo>
                  <a:pt x="29" y="8"/>
                </a:lnTo>
                <a:lnTo>
                  <a:pt x="36" y="6"/>
                </a:lnTo>
                <a:lnTo>
                  <a:pt x="46" y="4"/>
                </a:lnTo>
                <a:lnTo>
                  <a:pt x="56" y="2"/>
                </a:lnTo>
                <a:lnTo>
                  <a:pt x="65" y="0"/>
                </a:lnTo>
                <a:lnTo>
                  <a:pt x="77" y="0"/>
                </a:lnTo>
                <a:lnTo>
                  <a:pt x="88" y="0"/>
                </a:lnTo>
                <a:lnTo>
                  <a:pt x="102" y="0"/>
                </a:lnTo>
                <a:lnTo>
                  <a:pt x="117" y="2"/>
                </a:lnTo>
                <a:lnTo>
                  <a:pt x="130" y="2"/>
                </a:lnTo>
                <a:lnTo>
                  <a:pt x="148" y="6"/>
                </a:lnTo>
                <a:lnTo>
                  <a:pt x="163" y="8"/>
                </a:lnTo>
                <a:lnTo>
                  <a:pt x="178" y="12"/>
                </a:lnTo>
                <a:lnTo>
                  <a:pt x="194" y="16"/>
                </a:lnTo>
                <a:lnTo>
                  <a:pt x="209" y="22"/>
                </a:lnTo>
                <a:lnTo>
                  <a:pt x="223" y="25"/>
                </a:lnTo>
                <a:lnTo>
                  <a:pt x="238" y="31"/>
                </a:lnTo>
                <a:lnTo>
                  <a:pt x="251" y="37"/>
                </a:lnTo>
                <a:lnTo>
                  <a:pt x="267" y="45"/>
                </a:lnTo>
                <a:lnTo>
                  <a:pt x="294" y="60"/>
                </a:lnTo>
                <a:lnTo>
                  <a:pt x="319" y="75"/>
                </a:lnTo>
                <a:lnTo>
                  <a:pt x="343" y="95"/>
                </a:lnTo>
                <a:lnTo>
                  <a:pt x="367" y="114"/>
                </a:lnTo>
                <a:lnTo>
                  <a:pt x="378" y="127"/>
                </a:lnTo>
                <a:lnTo>
                  <a:pt x="388" y="139"/>
                </a:lnTo>
                <a:lnTo>
                  <a:pt x="397" y="150"/>
                </a:lnTo>
                <a:lnTo>
                  <a:pt x="407" y="160"/>
                </a:lnTo>
                <a:lnTo>
                  <a:pt x="416" y="169"/>
                </a:lnTo>
                <a:lnTo>
                  <a:pt x="424" y="179"/>
                </a:lnTo>
                <a:lnTo>
                  <a:pt x="432" y="189"/>
                </a:lnTo>
                <a:lnTo>
                  <a:pt x="438" y="196"/>
                </a:lnTo>
                <a:lnTo>
                  <a:pt x="443" y="204"/>
                </a:lnTo>
                <a:lnTo>
                  <a:pt x="449" y="210"/>
                </a:lnTo>
                <a:lnTo>
                  <a:pt x="455" y="215"/>
                </a:lnTo>
                <a:lnTo>
                  <a:pt x="457" y="221"/>
                </a:lnTo>
                <a:lnTo>
                  <a:pt x="461" y="227"/>
                </a:lnTo>
                <a:lnTo>
                  <a:pt x="463" y="231"/>
                </a:lnTo>
                <a:lnTo>
                  <a:pt x="464" y="235"/>
                </a:lnTo>
                <a:lnTo>
                  <a:pt x="464" y="237"/>
                </a:lnTo>
                <a:lnTo>
                  <a:pt x="464" y="248"/>
                </a:lnTo>
                <a:lnTo>
                  <a:pt x="464" y="260"/>
                </a:lnTo>
                <a:lnTo>
                  <a:pt x="464" y="273"/>
                </a:lnTo>
                <a:lnTo>
                  <a:pt x="463" y="286"/>
                </a:lnTo>
                <a:lnTo>
                  <a:pt x="461" y="300"/>
                </a:lnTo>
                <a:lnTo>
                  <a:pt x="459" y="315"/>
                </a:lnTo>
                <a:lnTo>
                  <a:pt x="457" y="331"/>
                </a:lnTo>
                <a:lnTo>
                  <a:pt x="453" y="346"/>
                </a:lnTo>
                <a:lnTo>
                  <a:pt x="447" y="361"/>
                </a:lnTo>
                <a:lnTo>
                  <a:pt x="441" y="373"/>
                </a:lnTo>
                <a:lnTo>
                  <a:pt x="434" y="384"/>
                </a:lnTo>
                <a:lnTo>
                  <a:pt x="424" y="396"/>
                </a:lnTo>
                <a:lnTo>
                  <a:pt x="420" y="400"/>
                </a:lnTo>
                <a:lnTo>
                  <a:pt x="415" y="404"/>
                </a:lnTo>
                <a:lnTo>
                  <a:pt x="409" y="407"/>
                </a:lnTo>
                <a:lnTo>
                  <a:pt x="403" y="409"/>
                </a:lnTo>
                <a:lnTo>
                  <a:pt x="397" y="411"/>
                </a:lnTo>
                <a:lnTo>
                  <a:pt x="391" y="413"/>
                </a:lnTo>
                <a:lnTo>
                  <a:pt x="386" y="413"/>
                </a:lnTo>
                <a:lnTo>
                  <a:pt x="378" y="415"/>
                </a:lnTo>
                <a:lnTo>
                  <a:pt x="370" y="413"/>
                </a:lnTo>
                <a:lnTo>
                  <a:pt x="363" y="411"/>
                </a:lnTo>
                <a:lnTo>
                  <a:pt x="355" y="409"/>
                </a:lnTo>
                <a:lnTo>
                  <a:pt x="345" y="404"/>
                </a:lnTo>
                <a:lnTo>
                  <a:pt x="336" y="398"/>
                </a:lnTo>
                <a:lnTo>
                  <a:pt x="324" y="390"/>
                </a:lnTo>
                <a:lnTo>
                  <a:pt x="313" y="382"/>
                </a:lnTo>
                <a:lnTo>
                  <a:pt x="301" y="371"/>
                </a:lnTo>
                <a:lnTo>
                  <a:pt x="288" y="359"/>
                </a:lnTo>
                <a:lnTo>
                  <a:pt x="274" y="348"/>
                </a:lnTo>
                <a:lnTo>
                  <a:pt x="259" y="333"/>
                </a:lnTo>
                <a:lnTo>
                  <a:pt x="244" y="317"/>
                </a:lnTo>
                <a:lnTo>
                  <a:pt x="226" y="300"/>
                </a:lnTo>
                <a:lnTo>
                  <a:pt x="209" y="281"/>
                </a:lnTo>
                <a:lnTo>
                  <a:pt x="190" y="260"/>
                </a:lnTo>
                <a:lnTo>
                  <a:pt x="171" y="237"/>
                </a:lnTo>
                <a:lnTo>
                  <a:pt x="152" y="214"/>
                </a:lnTo>
                <a:lnTo>
                  <a:pt x="132" y="192"/>
                </a:lnTo>
                <a:lnTo>
                  <a:pt x="115" y="173"/>
                </a:lnTo>
                <a:lnTo>
                  <a:pt x="98" y="154"/>
                </a:lnTo>
                <a:lnTo>
                  <a:pt x="82" y="137"/>
                </a:lnTo>
                <a:lnTo>
                  <a:pt x="69" y="121"/>
                </a:lnTo>
                <a:lnTo>
                  <a:pt x="56" y="106"/>
                </a:lnTo>
                <a:lnTo>
                  <a:pt x="44" y="93"/>
                </a:lnTo>
                <a:lnTo>
                  <a:pt x="34" y="81"/>
                </a:lnTo>
                <a:lnTo>
                  <a:pt x="25" y="70"/>
                </a:lnTo>
                <a:lnTo>
                  <a:pt x="17" y="60"/>
                </a:lnTo>
                <a:lnTo>
                  <a:pt x="11" y="52"/>
                </a:lnTo>
                <a:lnTo>
                  <a:pt x="6" y="45"/>
                </a:lnTo>
                <a:lnTo>
                  <a:pt x="4" y="39"/>
                </a:lnTo>
                <a:lnTo>
                  <a:pt x="0" y="35"/>
                </a:lnTo>
                <a:lnTo>
                  <a:pt x="0" y="3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35"/>
          <p:cNvSpPr/>
          <p:nvPr/>
        </p:nvSpPr>
        <p:spPr>
          <a:xfrm>
            <a:off x="5533920" y="3656160"/>
            <a:ext cx="542880" cy="995040"/>
          </a:xfrm>
          <a:custGeom>
            <a:avLst/>
            <a:gdLst/>
            <a:ahLst/>
            <a:rect l="l" t="t" r="r" b="b"/>
            <a:pathLst>
              <a:path w="686" h="1256">
                <a:moveTo>
                  <a:pt x="208" y="1254"/>
                </a:moveTo>
                <a:lnTo>
                  <a:pt x="200" y="1256"/>
                </a:lnTo>
                <a:lnTo>
                  <a:pt x="194" y="1256"/>
                </a:lnTo>
                <a:lnTo>
                  <a:pt x="187" y="1256"/>
                </a:lnTo>
                <a:lnTo>
                  <a:pt x="181" y="1254"/>
                </a:lnTo>
                <a:lnTo>
                  <a:pt x="173" y="1250"/>
                </a:lnTo>
                <a:lnTo>
                  <a:pt x="166" y="1246"/>
                </a:lnTo>
                <a:lnTo>
                  <a:pt x="158" y="1240"/>
                </a:lnTo>
                <a:lnTo>
                  <a:pt x="152" y="1233"/>
                </a:lnTo>
                <a:lnTo>
                  <a:pt x="144" y="1225"/>
                </a:lnTo>
                <a:lnTo>
                  <a:pt x="137" y="1215"/>
                </a:lnTo>
                <a:lnTo>
                  <a:pt x="127" y="1204"/>
                </a:lnTo>
                <a:lnTo>
                  <a:pt x="120" y="1192"/>
                </a:lnTo>
                <a:lnTo>
                  <a:pt x="112" y="1179"/>
                </a:lnTo>
                <a:lnTo>
                  <a:pt x="104" y="1164"/>
                </a:lnTo>
                <a:lnTo>
                  <a:pt x="95" y="1148"/>
                </a:lnTo>
                <a:lnTo>
                  <a:pt x="87" y="1131"/>
                </a:lnTo>
                <a:lnTo>
                  <a:pt x="75" y="1116"/>
                </a:lnTo>
                <a:lnTo>
                  <a:pt x="66" y="1100"/>
                </a:lnTo>
                <a:lnTo>
                  <a:pt x="56" y="1087"/>
                </a:lnTo>
                <a:lnTo>
                  <a:pt x="47" y="1073"/>
                </a:lnTo>
                <a:lnTo>
                  <a:pt x="39" y="1062"/>
                </a:lnTo>
                <a:lnTo>
                  <a:pt x="33" y="1048"/>
                </a:lnTo>
                <a:lnTo>
                  <a:pt x="25" y="1037"/>
                </a:lnTo>
                <a:lnTo>
                  <a:pt x="20" y="1025"/>
                </a:lnTo>
                <a:lnTo>
                  <a:pt x="16" y="1016"/>
                </a:lnTo>
                <a:lnTo>
                  <a:pt x="12" y="1006"/>
                </a:lnTo>
                <a:lnTo>
                  <a:pt x="8" y="997"/>
                </a:lnTo>
                <a:lnTo>
                  <a:pt x="6" y="987"/>
                </a:lnTo>
                <a:lnTo>
                  <a:pt x="2" y="977"/>
                </a:lnTo>
                <a:lnTo>
                  <a:pt x="2" y="970"/>
                </a:lnTo>
                <a:lnTo>
                  <a:pt x="0" y="962"/>
                </a:lnTo>
                <a:lnTo>
                  <a:pt x="0" y="954"/>
                </a:lnTo>
                <a:lnTo>
                  <a:pt x="0" y="947"/>
                </a:lnTo>
                <a:lnTo>
                  <a:pt x="2" y="939"/>
                </a:lnTo>
                <a:lnTo>
                  <a:pt x="2" y="933"/>
                </a:lnTo>
                <a:lnTo>
                  <a:pt x="4" y="927"/>
                </a:lnTo>
                <a:lnTo>
                  <a:pt x="6" y="922"/>
                </a:lnTo>
                <a:lnTo>
                  <a:pt x="10" y="918"/>
                </a:lnTo>
                <a:lnTo>
                  <a:pt x="14" y="914"/>
                </a:lnTo>
                <a:lnTo>
                  <a:pt x="18" y="910"/>
                </a:lnTo>
                <a:lnTo>
                  <a:pt x="22" y="908"/>
                </a:lnTo>
                <a:lnTo>
                  <a:pt x="25" y="904"/>
                </a:lnTo>
                <a:lnTo>
                  <a:pt x="37" y="901"/>
                </a:lnTo>
                <a:lnTo>
                  <a:pt x="48" y="899"/>
                </a:lnTo>
                <a:lnTo>
                  <a:pt x="62" y="899"/>
                </a:lnTo>
                <a:lnTo>
                  <a:pt x="75" y="899"/>
                </a:lnTo>
                <a:lnTo>
                  <a:pt x="87" y="897"/>
                </a:lnTo>
                <a:lnTo>
                  <a:pt x="98" y="893"/>
                </a:lnTo>
                <a:lnTo>
                  <a:pt x="108" y="891"/>
                </a:lnTo>
                <a:lnTo>
                  <a:pt x="120" y="887"/>
                </a:lnTo>
                <a:lnTo>
                  <a:pt x="129" y="881"/>
                </a:lnTo>
                <a:lnTo>
                  <a:pt x="146" y="872"/>
                </a:lnTo>
                <a:lnTo>
                  <a:pt x="148" y="870"/>
                </a:lnTo>
                <a:lnTo>
                  <a:pt x="150" y="868"/>
                </a:lnTo>
                <a:lnTo>
                  <a:pt x="152" y="864"/>
                </a:lnTo>
                <a:lnTo>
                  <a:pt x="156" y="860"/>
                </a:lnTo>
                <a:lnTo>
                  <a:pt x="158" y="855"/>
                </a:lnTo>
                <a:lnTo>
                  <a:pt x="162" y="849"/>
                </a:lnTo>
                <a:lnTo>
                  <a:pt x="167" y="841"/>
                </a:lnTo>
                <a:lnTo>
                  <a:pt x="171" y="833"/>
                </a:lnTo>
                <a:lnTo>
                  <a:pt x="177" y="826"/>
                </a:lnTo>
                <a:lnTo>
                  <a:pt x="183" y="816"/>
                </a:lnTo>
                <a:lnTo>
                  <a:pt x="189" y="807"/>
                </a:lnTo>
                <a:lnTo>
                  <a:pt x="196" y="795"/>
                </a:lnTo>
                <a:lnTo>
                  <a:pt x="204" y="784"/>
                </a:lnTo>
                <a:lnTo>
                  <a:pt x="212" y="770"/>
                </a:lnTo>
                <a:lnTo>
                  <a:pt x="219" y="757"/>
                </a:lnTo>
                <a:lnTo>
                  <a:pt x="227" y="743"/>
                </a:lnTo>
                <a:lnTo>
                  <a:pt x="237" y="728"/>
                </a:lnTo>
                <a:lnTo>
                  <a:pt x="246" y="712"/>
                </a:lnTo>
                <a:lnTo>
                  <a:pt x="256" y="695"/>
                </a:lnTo>
                <a:lnTo>
                  <a:pt x="265" y="678"/>
                </a:lnTo>
                <a:lnTo>
                  <a:pt x="275" y="659"/>
                </a:lnTo>
                <a:lnTo>
                  <a:pt x="287" y="640"/>
                </a:lnTo>
                <a:lnTo>
                  <a:pt x="298" y="620"/>
                </a:lnTo>
                <a:lnTo>
                  <a:pt x="310" y="599"/>
                </a:lnTo>
                <a:lnTo>
                  <a:pt x="321" y="578"/>
                </a:lnTo>
                <a:lnTo>
                  <a:pt x="335" y="557"/>
                </a:lnTo>
                <a:lnTo>
                  <a:pt x="346" y="534"/>
                </a:lnTo>
                <a:lnTo>
                  <a:pt x="359" y="511"/>
                </a:lnTo>
                <a:lnTo>
                  <a:pt x="373" y="486"/>
                </a:lnTo>
                <a:lnTo>
                  <a:pt x="386" y="461"/>
                </a:lnTo>
                <a:lnTo>
                  <a:pt x="402" y="434"/>
                </a:lnTo>
                <a:lnTo>
                  <a:pt x="415" y="409"/>
                </a:lnTo>
                <a:lnTo>
                  <a:pt x="431" y="382"/>
                </a:lnTo>
                <a:lnTo>
                  <a:pt x="444" y="355"/>
                </a:lnTo>
                <a:lnTo>
                  <a:pt x="457" y="332"/>
                </a:lnTo>
                <a:lnTo>
                  <a:pt x="471" y="307"/>
                </a:lnTo>
                <a:lnTo>
                  <a:pt x="484" y="284"/>
                </a:lnTo>
                <a:lnTo>
                  <a:pt x="496" y="263"/>
                </a:lnTo>
                <a:lnTo>
                  <a:pt x="507" y="242"/>
                </a:lnTo>
                <a:lnTo>
                  <a:pt x="521" y="221"/>
                </a:lnTo>
                <a:lnTo>
                  <a:pt x="530" y="202"/>
                </a:lnTo>
                <a:lnTo>
                  <a:pt x="542" y="183"/>
                </a:lnTo>
                <a:lnTo>
                  <a:pt x="553" y="165"/>
                </a:lnTo>
                <a:lnTo>
                  <a:pt x="563" y="150"/>
                </a:lnTo>
                <a:lnTo>
                  <a:pt x="573" y="133"/>
                </a:lnTo>
                <a:lnTo>
                  <a:pt x="582" y="119"/>
                </a:lnTo>
                <a:lnTo>
                  <a:pt x="590" y="104"/>
                </a:lnTo>
                <a:lnTo>
                  <a:pt x="599" y="91"/>
                </a:lnTo>
                <a:lnTo>
                  <a:pt x="607" y="79"/>
                </a:lnTo>
                <a:lnTo>
                  <a:pt x="615" y="68"/>
                </a:lnTo>
                <a:lnTo>
                  <a:pt x="622" y="58"/>
                </a:lnTo>
                <a:lnTo>
                  <a:pt x="630" y="48"/>
                </a:lnTo>
                <a:lnTo>
                  <a:pt x="636" y="39"/>
                </a:lnTo>
                <a:lnTo>
                  <a:pt x="644" y="31"/>
                </a:lnTo>
                <a:lnTo>
                  <a:pt x="649" y="23"/>
                </a:lnTo>
                <a:lnTo>
                  <a:pt x="655" y="18"/>
                </a:lnTo>
                <a:lnTo>
                  <a:pt x="659" y="12"/>
                </a:lnTo>
                <a:lnTo>
                  <a:pt x="665" y="8"/>
                </a:lnTo>
                <a:lnTo>
                  <a:pt x="669" y="4"/>
                </a:lnTo>
                <a:lnTo>
                  <a:pt x="672" y="2"/>
                </a:lnTo>
                <a:lnTo>
                  <a:pt x="676" y="0"/>
                </a:lnTo>
                <a:lnTo>
                  <a:pt x="680" y="0"/>
                </a:lnTo>
                <a:lnTo>
                  <a:pt x="682" y="0"/>
                </a:lnTo>
                <a:lnTo>
                  <a:pt x="686" y="0"/>
                </a:lnTo>
                <a:lnTo>
                  <a:pt x="686" y="2"/>
                </a:lnTo>
                <a:lnTo>
                  <a:pt x="686" y="4"/>
                </a:lnTo>
                <a:lnTo>
                  <a:pt x="686" y="10"/>
                </a:lnTo>
                <a:lnTo>
                  <a:pt x="686" y="14"/>
                </a:lnTo>
                <a:lnTo>
                  <a:pt x="684" y="21"/>
                </a:lnTo>
                <a:lnTo>
                  <a:pt x="684" y="27"/>
                </a:lnTo>
                <a:lnTo>
                  <a:pt x="682" y="37"/>
                </a:lnTo>
                <a:lnTo>
                  <a:pt x="680" y="46"/>
                </a:lnTo>
                <a:lnTo>
                  <a:pt x="676" y="58"/>
                </a:lnTo>
                <a:lnTo>
                  <a:pt x="674" y="69"/>
                </a:lnTo>
                <a:lnTo>
                  <a:pt x="670" y="83"/>
                </a:lnTo>
                <a:lnTo>
                  <a:pt x="667" y="96"/>
                </a:lnTo>
                <a:lnTo>
                  <a:pt x="661" y="112"/>
                </a:lnTo>
                <a:lnTo>
                  <a:pt x="657" y="129"/>
                </a:lnTo>
                <a:lnTo>
                  <a:pt x="651" y="146"/>
                </a:lnTo>
                <a:lnTo>
                  <a:pt x="646" y="165"/>
                </a:lnTo>
                <a:lnTo>
                  <a:pt x="640" y="185"/>
                </a:lnTo>
                <a:lnTo>
                  <a:pt x="632" y="206"/>
                </a:lnTo>
                <a:lnTo>
                  <a:pt x="624" y="229"/>
                </a:lnTo>
                <a:lnTo>
                  <a:pt x="617" y="252"/>
                </a:lnTo>
                <a:lnTo>
                  <a:pt x="609" y="277"/>
                </a:lnTo>
                <a:lnTo>
                  <a:pt x="601" y="302"/>
                </a:lnTo>
                <a:lnTo>
                  <a:pt x="592" y="331"/>
                </a:lnTo>
                <a:lnTo>
                  <a:pt x="582" y="357"/>
                </a:lnTo>
                <a:lnTo>
                  <a:pt x="573" y="388"/>
                </a:lnTo>
                <a:lnTo>
                  <a:pt x="561" y="417"/>
                </a:lnTo>
                <a:lnTo>
                  <a:pt x="551" y="450"/>
                </a:lnTo>
                <a:lnTo>
                  <a:pt x="540" y="482"/>
                </a:lnTo>
                <a:lnTo>
                  <a:pt x="528" y="517"/>
                </a:lnTo>
                <a:lnTo>
                  <a:pt x="515" y="551"/>
                </a:lnTo>
                <a:lnTo>
                  <a:pt x="502" y="588"/>
                </a:lnTo>
                <a:lnTo>
                  <a:pt x="490" y="626"/>
                </a:lnTo>
                <a:lnTo>
                  <a:pt x="475" y="665"/>
                </a:lnTo>
                <a:lnTo>
                  <a:pt x="461" y="701"/>
                </a:lnTo>
                <a:lnTo>
                  <a:pt x="448" y="736"/>
                </a:lnTo>
                <a:lnTo>
                  <a:pt x="434" y="770"/>
                </a:lnTo>
                <a:lnTo>
                  <a:pt x="421" y="803"/>
                </a:lnTo>
                <a:lnTo>
                  <a:pt x="407" y="835"/>
                </a:lnTo>
                <a:lnTo>
                  <a:pt x="396" y="866"/>
                </a:lnTo>
                <a:lnTo>
                  <a:pt x="384" y="895"/>
                </a:lnTo>
                <a:lnTo>
                  <a:pt x="373" y="924"/>
                </a:lnTo>
                <a:lnTo>
                  <a:pt x="361" y="950"/>
                </a:lnTo>
                <a:lnTo>
                  <a:pt x="352" y="975"/>
                </a:lnTo>
                <a:lnTo>
                  <a:pt x="340" y="1000"/>
                </a:lnTo>
                <a:lnTo>
                  <a:pt x="331" y="1025"/>
                </a:lnTo>
                <a:lnTo>
                  <a:pt x="321" y="1046"/>
                </a:lnTo>
                <a:lnTo>
                  <a:pt x="311" y="1068"/>
                </a:lnTo>
                <a:lnTo>
                  <a:pt x="304" y="1089"/>
                </a:lnTo>
                <a:lnTo>
                  <a:pt x="294" y="1108"/>
                </a:lnTo>
                <a:lnTo>
                  <a:pt x="287" y="1125"/>
                </a:lnTo>
                <a:lnTo>
                  <a:pt x="279" y="1141"/>
                </a:lnTo>
                <a:lnTo>
                  <a:pt x="271" y="1156"/>
                </a:lnTo>
                <a:lnTo>
                  <a:pt x="265" y="1171"/>
                </a:lnTo>
                <a:lnTo>
                  <a:pt x="258" y="1185"/>
                </a:lnTo>
                <a:lnTo>
                  <a:pt x="252" y="1196"/>
                </a:lnTo>
                <a:lnTo>
                  <a:pt x="244" y="1208"/>
                </a:lnTo>
                <a:lnTo>
                  <a:pt x="239" y="1217"/>
                </a:lnTo>
                <a:lnTo>
                  <a:pt x="235" y="1225"/>
                </a:lnTo>
                <a:lnTo>
                  <a:pt x="229" y="1233"/>
                </a:lnTo>
                <a:lnTo>
                  <a:pt x="223" y="1238"/>
                </a:lnTo>
                <a:lnTo>
                  <a:pt x="219" y="1244"/>
                </a:lnTo>
                <a:lnTo>
                  <a:pt x="215" y="1248"/>
                </a:lnTo>
                <a:lnTo>
                  <a:pt x="212" y="1252"/>
                </a:lnTo>
                <a:lnTo>
                  <a:pt x="208" y="1254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3" name="组合 8"/>
          <p:cNvGrpSpPr/>
          <p:nvPr/>
        </p:nvGrpSpPr>
        <p:grpSpPr>
          <a:xfrm>
            <a:off x="1262160" y="3975120"/>
            <a:ext cx="2647800" cy="1571760"/>
            <a:chOff x="1262160" y="3975120"/>
            <a:chExt cx="2647800" cy="1571760"/>
          </a:xfrm>
        </p:grpSpPr>
        <p:pic>
          <p:nvPicPr>
            <p:cNvPr id="174" name="图示 4" descr=""/>
            <p:cNvPicPr/>
            <p:nvPr/>
          </p:nvPicPr>
          <p:blipFill>
            <a:blip r:embed="rId1"/>
            <a:stretch/>
          </p:blipFill>
          <p:spPr>
            <a:xfrm>
              <a:off x="1262160" y="3975120"/>
              <a:ext cx="264780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矩形 2"/>
            <p:cNvSpPr/>
            <p:nvPr/>
          </p:nvSpPr>
          <p:spPr>
            <a:xfrm>
              <a:off x="1307160" y="4587840"/>
              <a:ext cx="258048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穴”宽而盖下；两“口”略扁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矩形 3"/>
          <p:cNvSpPr/>
          <p:nvPr/>
        </p:nvSpPr>
        <p:spPr>
          <a:xfrm>
            <a:off x="1982880" y="1868400"/>
            <a:ext cx="142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àn</a:t>
            </a: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74"/>
          <p:cNvSpPr/>
          <p:nvPr/>
        </p:nvSpPr>
        <p:spPr>
          <a:xfrm>
            <a:off x="6453360" y="2730600"/>
            <a:ext cx="323640" cy="244440"/>
          </a:xfrm>
          <a:custGeom>
            <a:avLst/>
            <a:gdLst/>
            <a:ahLst/>
            <a:rect l="l" t="t" r="r" b="b"/>
            <a:pathLst>
              <a:path w="409" h="309">
                <a:moveTo>
                  <a:pt x="0" y="55"/>
                </a:moveTo>
                <a:lnTo>
                  <a:pt x="2" y="51"/>
                </a:lnTo>
                <a:lnTo>
                  <a:pt x="2" y="46"/>
                </a:lnTo>
                <a:lnTo>
                  <a:pt x="6" y="40"/>
                </a:lnTo>
                <a:lnTo>
                  <a:pt x="8" y="34"/>
                </a:lnTo>
                <a:lnTo>
                  <a:pt x="12" y="27"/>
                </a:lnTo>
                <a:lnTo>
                  <a:pt x="15" y="21"/>
                </a:lnTo>
                <a:lnTo>
                  <a:pt x="19" y="15"/>
                </a:lnTo>
                <a:lnTo>
                  <a:pt x="25" y="11"/>
                </a:lnTo>
                <a:lnTo>
                  <a:pt x="27" y="7"/>
                </a:lnTo>
                <a:lnTo>
                  <a:pt x="31" y="7"/>
                </a:lnTo>
                <a:lnTo>
                  <a:pt x="33" y="5"/>
                </a:lnTo>
                <a:lnTo>
                  <a:pt x="38" y="4"/>
                </a:lnTo>
                <a:lnTo>
                  <a:pt x="42" y="2"/>
                </a:lnTo>
                <a:lnTo>
                  <a:pt x="48" y="2"/>
                </a:lnTo>
                <a:lnTo>
                  <a:pt x="54" y="2"/>
                </a:lnTo>
                <a:lnTo>
                  <a:pt x="60" y="0"/>
                </a:lnTo>
                <a:lnTo>
                  <a:pt x="67" y="0"/>
                </a:lnTo>
                <a:lnTo>
                  <a:pt x="75" y="0"/>
                </a:lnTo>
                <a:lnTo>
                  <a:pt x="83" y="0"/>
                </a:lnTo>
                <a:lnTo>
                  <a:pt x="92" y="0"/>
                </a:lnTo>
                <a:lnTo>
                  <a:pt x="100" y="0"/>
                </a:lnTo>
                <a:lnTo>
                  <a:pt x="109" y="0"/>
                </a:lnTo>
                <a:lnTo>
                  <a:pt x="121" y="0"/>
                </a:lnTo>
                <a:lnTo>
                  <a:pt x="131" y="0"/>
                </a:lnTo>
                <a:lnTo>
                  <a:pt x="154" y="0"/>
                </a:lnTo>
                <a:lnTo>
                  <a:pt x="177" y="2"/>
                </a:lnTo>
                <a:lnTo>
                  <a:pt x="198" y="4"/>
                </a:lnTo>
                <a:lnTo>
                  <a:pt x="221" y="9"/>
                </a:lnTo>
                <a:lnTo>
                  <a:pt x="244" y="15"/>
                </a:lnTo>
                <a:lnTo>
                  <a:pt x="253" y="19"/>
                </a:lnTo>
                <a:lnTo>
                  <a:pt x="265" y="23"/>
                </a:lnTo>
                <a:lnTo>
                  <a:pt x="277" y="28"/>
                </a:lnTo>
                <a:lnTo>
                  <a:pt x="288" y="32"/>
                </a:lnTo>
                <a:lnTo>
                  <a:pt x="300" y="38"/>
                </a:lnTo>
                <a:lnTo>
                  <a:pt x="309" y="46"/>
                </a:lnTo>
                <a:lnTo>
                  <a:pt x="326" y="57"/>
                </a:lnTo>
                <a:lnTo>
                  <a:pt x="344" y="71"/>
                </a:lnTo>
                <a:lnTo>
                  <a:pt x="357" y="84"/>
                </a:lnTo>
                <a:lnTo>
                  <a:pt x="371" y="96"/>
                </a:lnTo>
                <a:lnTo>
                  <a:pt x="382" y="109"/>
                </a:lnTo>
                <a:lnTo>
                  <a:pt x="388" y="115"/>
                </a:lnTo>
                <a:lnTo>
                  <a:pt x="392" y="123"/>
                </a:lnTo>
                <a:lnTo>
                  <a:pt x="396" y="128"/>
                </a:lnTo>
                <a:lnTo>
                  <a:pt x="399" y="136"/>
                </a:lnTo>
                <a:lnTo>
                  <a:pt x="401" y="142"/>
                </a:lnTo>
                <a:lnTo>
                  <a:pt x="405" y="147"/>
                </a:lnTo>
                <a:lnTo>
                  <a:pt x="407" y="157"/>
                </a:lnTo>
                <a:lnTo>
                  <a:pt x="409" y="165"/>
                </a:lnTo>
                <a:lnTo>
                  <a:pt x="409" y="172"/>
                </a:lnTo>
                <a:lnTo>
                  <a:pt x="409" y="180"/>
                </a:lnTo>
                <a:lnTo>
                  <a:pt x="409" y="195"/>
                </a:lnTo>
                <a:lnTo>
                  <a:pt x="407" y="209"/>
                </a:lnTo>
                <a:lnTo>
                  <a:pt x="405" y="224"/>
                </a:lnTo>
                <a:lnTo>
                  <a:pt x="401" y="236"/>
                </a:lnTo>
                <a:lnTo>
                  <a:pt x="397" y="249"/>
                </a:lnTo>
                <a:lnTo>
                  <a:pt x="394" y="263"/>
                </a:lnTo>
                <a:lnTo>
                  <a:pt x="388" y="268"/>
                </a:lnTo>
                <a:lnTo>
                  <a:pt x="384" y="274"/>
                </a:lnTo>
                <a:lnTo>
                  <a:pt x="380" y="280"/>
                </a:lnTo>
                <a:lnTo>
                  <a:pt x="376" y="284"/>
                </a:lnTo>
                <a:lnTo>
                  <a:pt x="371" y="291"/>
                </a:lnTo>
                <a:lnTo>
                  <a:pt x="365" y="299"/>
                </a:lnTo>
                <a:lnTo>
                  <a:pt x="359" y="303"/>
                </a:lnTo>
                <a:lnTo>
                  <a:pt x="355" y="307"/>
                </a:lnTo>
                <a:lnTo>
                  <a:pt x="349" y="309"/>
                </a:lnTo>
                <a:lnTo>
                  <a:pt x="346" y="309"/>
                </a:lnTo>
                <a:lnTo>
                  <a:pt x="344" y="309"/>
                </a:lnTo>
                <a:lnTo>
                  <a:pt x="340" y="307"/>
                </a:lnTo>
                <a:lnTo>
                  <a:pt x="334" y="307"/>
                </a:lnTo>
                <a:lnTo>
                  <a:pt x="330" y="305"/>
                </a:lnTo>
                <a:lnTo>
                  <a:pt x="325" y="301"/>
                </a:lnTo>
                <a:lnTo>
                  <a:pt x="317" y="299"/>
                </a:lnTo>
                <a:lnTo>
                  <a:pt x="311" y="295"/>
                </a:lnTo>
                <a:lnTo>
                  <a:pt x="301" y="291"/>
                </a:lnTo>
                <a:lnTo>
                  <a:pt x="294" y="288"/>
                </a:lnTo>
                <a:lnTo>
                  <a:pt x="284" y="282"/>
                </a:lnTo>
                <a:lnTo>
                  <a:pt x="275" y="276"/>
                </a:lnTo>
                <a:lnTo>
                  <a:pt x="263" y="270"/>
                </a:lnTo>
                <a:lnTo>
                  <a:pt x="252" y="263"/>
                </a:lnTo>
                <a:lnTo>
                  <a:pt x="240" y="257"/>
                </a:lnTo>
                <a:lnTo>
                  <a:pt x="229" y="247"/>
                </a:lnTo>
                <a:lnTo>
                  <a:pt x="215" y="240"/>
                </a:lnTo>
                <a:lnTo>
                  <a:pt x="202" y="234"/>
                </a:lnTo>
                <a:lnTo>
                  <a:pt x="188" y="226"/>
                </a:lnTo>
                <a:lnTo>
                  <a:pt x="177" y="218"/>
                </a:lnTo>
                <a:lnTo>
                  <a:pt x="165" y="213"/>
                </a:lnTo>
                <a:lnTo>
                  <a:pt x="144" y="197"/>
                </a:lnTo>
                <a:lnTo>
                  <a:pt x="125" y="182"/>
                </a:lnTo>
                <a:lnTo>
                  <a:pt x="106" y="167"/>
                </a:lnTo>
                <a:lnTo>
                  <a:pt x="88" y="153"/>
                </a:lnTo>
                <a:lnTo>
                  <a:pt x="73" y="138"/>
                </a:lnTo>
                <a:lnTo>
                  <a:pt x="60" y="124"/>
                </a:lnTo>
                <a:lnTo>
                  <a:pt x="48" y="113"/>
                </a:lnTo>
                <a:lnTo>
                  <a:pt x="37" y="101"/>
                </a:lnTo>
                <a:lnTo>
                  <a:pt x="25" y="92"/>
                </a:lnTo>
                <a:lnTo>
                  <a:pt x="17" y="82"/>
                </a:lnTo>
                <a:lnTo>
                  <a:pt x="10" y="75"/>
                </a:lnTo>
                <a:lnTo>
                  <a:pt x="8" y="71"/>
                </a:lnTo>
                <a:lnTo>
                  <a:pt x="6" y="67"/>
                </a:lnTo>
                <a:lnTo>
                  <a:pt x="4" y="63"/>
                </a:lnTo>
                <a:lnTo>
                  <a:pt x="2" y="61"/>
                </a:lnTo>
                <a:lnTo>
                  <a:pt x="2" y="59"/>
                </a:lnTo>
                <a:lnTo>
                  <a:pt x="0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75"/>
          <p:cNvSpPr/>
          <p:nvPr/>
        </p:nvSpPr>
        <p:spPr>
          <a:xfrm>
            <a:off x="5718240" y="2994120"/>
            <a:ext cx="253800" cy="509400"/>
          </a:xfrm>
          <a:custGeom>
            <a:avLst/>
            <a:gdLst/>
            <a:ahLst/>
            <a:rect l="l" t="t" r="r" b="b"/>
            <a:pathLst>
              <a:path w="320" h="643">
                <a:moveTo>
                  <a:pt x="190" y="551"/>
                </a:moveTo>
                <a:lnTo>
                  <a:pt x="182" y="560"/>
                </a:lnTo>
                <a:lnTo>
                  <a:pt x="176" y="570"/>
                </a:lnTo>
                <a:lnTo>
                  <a:pt x="169" y="579"/>
                </a:lnTo>
                <a:lnTo>
                  <a:pt x="163" y="589"/>
                </a:lnTo>
                <a:lnTo>
                  <a:pt x="157" y="597"/>
                </a:lnTo>
                <a:lnTo>
                  <a:pt x="149" y="604"/>
                </a:lnTo>
                <a:lnTo>
                  <a:pt x="144" y="612"/>
                </a:lnTo>
                <a:lnTo>
                  <a:pt x="138" y="618"/>
                </a:lnTo>
                <a:lnTo>
                  <a:pt x="134" y="623"/>
                </a:lnTo>
                <a:lnTo>
                  <a:pt x="128" y="627"/>
                </a:lnTo>
                <a:lnTo>
                  <a:pt x="123" y="631"/>
                </a:lnTo>
                <a:lnTo>
                  <a:pt x="119" y="635"/>
                </a:lnTo>
                <a:lnTo>
                  <a:pt x="115" y="639"/>
                </a:lnTo>
                <a:lnTo>
                  <a:pt x="111" y="641"/>
                </a:lnTo>
                <a:lnTo>
                  <a:pt x="109" y="641"/>
                </a:lnTo>
                <a:lnTo>
                  <a:pt x="105" y="643"/>
                </a:lnTo>
                <a:lnTo>
                  <a:pt x="102" y="641"/>
                </a:lnTo>
                <a:lnTo>
                  <a:pt x="98" y="641"/>
                </a:lnTo>
                <a:lnTo>
                  <a:pt x="92" y="639"/>
                </a:lnTo>
                <a:lnTo>
                  <a:pt x="88" y="637"/>
                </a:lnTo>
                <a:lnTo>
                  <a:pt x="84" y="635"/>
                </a:lnTo>
                <a:lnTo>
                  <a:pt x="78" y="631"/>
                </a:lnTo>
                <a:lnTo>
                  <a:pt x="75" y="629"/>
                </a:lnTo>
                <a:lnTo>
                  <a:pt x="71" y="625"/>
                </a:lnTo>
                <a:lnTo>
                  <a:pt x="65" y="620"/>
                </a:lnTo>
                <a:lnTo>
                  <a:pt x="61" y="616"/>
                </a:lnTo>
                <a:lnTo>
                  <a:pt x="57" y="610"/>
                </a:lnTo>
                <a:lnTo>
                  <a:pt x="52" y="602"/>
                </a:lnTo>
                <a:lnTo>
                  <a:pt x="48" y="597"/>
                </a:lnTo>
                <a:lnTo>
                  <a:pt x="44" y="589"/>
                </a:lnTo>
                <a:lnTo>
                  <a:pt x="38" y="581"/>
                </a:lnTo>
                <a:lnTo>
                  <a:pt x="34" y="574"/>
                </a:lnTo>
                <a:lnTo>
                  <a:pt x="27" y="556"/>
                </a:lnTo>
                <a:lnTo>
                  <a:pt x="19" y="541"/>
                </a:lnTo>
                <a:lnTo>
                  <a:pt x="13" y="526"/>
                </a:lnTo>
                <a:lnTo>
                  <a:pt x="7" y="512"/>
                </a:lnTo>
                <a:lnTo>
                  <a:pt x="4" y="497"/>
                </a:lnTo>
                <a:lnTo>
                  <a:pt x="2" y="483"/>
                </a:lnTo>
                <a:lnTo>
                  <a:pt x="0" y="472"/>
                </a:lnTo>
                <a:lnTo>
                  <a:pt x="0" y="458"/>
                </a:lnTo>
                <a:lnTo>
                  <a:pt x="0" y="455"/>
                </a:lnTo>
                <a:lnTo>
                  <a:pt x="0" y="449"/>
                </a:lnTo>
                <a:lnTo>
                  <a:pt x="2" y="445"/>
                </a:lnTo>
                <a:lnTo>
                  <a:pt x="4" y="439"/>
                </a:lnTo>
                <a:lnTo>
                  <a:pt x="6" y="433"/>
                </a:lnTo>
                <a:lnTo>
                  <a:pt x="9" y="428"/>
                </a:lnTo>
                <a:lnTo>
                  <a:pt x="13" y="420"/>
                </a:lnTo>
                <a:lnTo>
                  <a:pt x="17" y="414"/>
                </a:lnTo>
                <a:lnTo>
                  <a:pt x="21" y="407"/>
                </a:lnTo>
                <a:lnTo>
                  <a:pt x="27" y="399"/>
                </a:lnTo>
                <a:lnTo>
                  <a:pt x="32" y="391"/>
                </a:lnTo>
                <a:lnTo>
                  <a:pt x="40" y="384"/>
                </a:lnTo>
                <a:lnTo>
                  <a:pt x="46" y="374"/>
                </a:lnTo>
                <a:lnTo>
                  <a:pt x="54" y="364"/>
                </a:lnTo>
                <a:lnTo>
                  <a:pt x="61" y="355"/>
                </a:lnTo>
                <a:lnTo>
                  <a:pt x="71" y="343"/>
                </a:lnTo>
                <a:lnTo>
                  <a:pt x="78" y="332"/>
                </a:lnTo>
                <a:lnTo>
                  <a:pt x="88" y="318"/>
                </a:lnTo>
                <a:lnTo>
                  <a:pt x="98" y="305"/>
                </a:lnTo>
                <a:lnTo>
                  <a:pt x="107" y="290"/>
                </a:lnTo>
                <a:lnTo>
                  <a:pt x="119" y="272"/>
                </a:lnTo>
                <a:lnTo>
                  <a:pt x="130" y="255"/>
                </a:lnTo>
                <a:lnTo>
                  <a:pt x="140" y="236"/>
                </a:lnTo>
                <a:lnTo>
                  <a:pt x="151" y="215"/>
                </a:lnTo>
                <a:lnTo>
                  <a:pt x="165" y="192"/>
                </a:lnTo>
                <a:lnTo>
                  <a:pt x="176" y="169"/>
                </a:lnTo>
                <a:lnTo>
                  <a:pt x="190" y="144"/>
                </a:lnTo>
                <a:lnTo>
                  <a:pt x="203" y="119"/>
                </a:lnTo>
                <a:lnTo>
                  <a:pt x="217" y="90"/>
                </a:lnTo>
                <a:lnTo>
                  <a:pt x="230" y="61"/>
                </a:lnTo>
                <a:lnTo>
                  <a:pt x="245" y="30"/>
                </a:lnTo>
                <a:lnTo>
                  <a:pt x="261" y="0"/>
                </a:lnTo>
                <a:lnTo>
                  <a:pt x="272" y="21"/>
                </a:lnTo>
                <a:lnTo>
                  <a:pt x="284" y="42"/>
                </a:lnTo>
                <a:lnTo>
                  <a:pt x="295" y="65"/>
                </a:lnTo>
                <a:lnTo>
                  <a:pt x="303" y="86"/>
                </a:lnTo>
                <a:lnTo>
                  <a:pt x="311" y="107"/>
                </a:lnTo>
                <a:lnTo>
                  <a:pt x="313" y="119"/>
                </a:lnTo>
                <a:lnTo>
                  <a:pt x="315" y="128"/>
                </a:lnTo>
                <a:lnTo>
                  <a:pt x="317" y="140"/>
                </a:lnTo>
                <a:lnTo>
                  <a:pt x="318" y="149"/>
                </a:lnTo>
                <a:lnTo>
                  <a:pt x="318" y="161"/>
                </a:lnTo>
                <a:lnTo>
                  <a:pt x="320" y="172"/>
                </a:lnTo>
                <a:lnTo>
                  <a:pt x="318" y="194"/>
                </a:lnTo>
                <a:lnTo>
                  <a:pt x="318" y="217"/>
                </a:lnTo>
                <a:lnTo>
                  <a:pt x="315" y="240"/>
                </a:lnTo>
                <a:lnTo>
                  <a:pt x="313" y="263"/>
                </a:lnTo>
                <a:lnTo>
                  <a:pt x="309" y="288"/>
                </a:lnTo>
                <a:lnTo>
                  <a:pt x="305" y="311"/>
                </a:lnTo>
                <a:lnTo>
                  <a:pt x="301" y="334"/>
                </a:lnTo>
                <a:lnTo>
                  <a:pt x="295" y="355"/>
                </a:lnTo>
                <a:lnTo>
                  <a:pt x="286" y="380"/>
                </a:lnTo>
                <a:lnTo>
                  <a:pt x="276" y="407"/>
                </a:lnTo>
                <a:lnTo>
                  <a:pt x="265" y="432"/>
                </a:lnTo>
                <a:lnTo>
                  <a:pt x="251" y="456"/>
                </a:lnTo>
                <a:lnTo>
                  <a:pt x="238" y="481"/>
                </a:lnTo>
                <a:lnTo>
                  <a:pt x="222" y="504"/>
                </a:lnTo>
                <a:lnTo>
                  <a:pt x="207" y="528"/>
                </a:lnTo>
                <a:lnTo>
                  <a:pt x="190" y="5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76"/>
          <p:cNvSpPr/>
          <p:nvPr/>
        </p:nvSpPr>
        <p:spPr>
          <a:xfrm>
            <a:off x="5924520" y="2938320"/>
            <a:ext cx="1689120" cy="358920"/>
          </a:xfrm>
          <a:custGeom>
            <a:avLst/>
            <a:gdLst/>
            <a:ahLst/>
            <a:rect l="l" t="t" r="r" b="b"/>
            <a:pathLst>
              <a:path w="2127" h="451">
                <a:moveTo>
                  <a:pt x="1770" y="389"/>
                </a:moveTo>
                <a:lnTo>
                  <a:pt x="1754" y="399"/>
                </a:lnTo>
                <a:lnTo>
                  <a:pt x="1741" y="406"/>
                </a:lnTo>
                <a:lnTo>
                  <a:pt x="1728" y="412"/>
                </a:lnTo>
                <a:lnTo>
                  <a:pt x="1714" y="420"/>
                </a:lnTo>
                <a:lnTo>
                  <a:pt x="1703" y="426"/>
                </a:lnTo>
                <a:lnTo>
                  <a:pt x="1691" y="431"/>
                </a:lnTo>
                <a:lnTo>
                  <a:pt x="1682" y="435"/>
                </a:lnTo>
                <a:lnTo>
                  <a:pt x="1672" y="439"/>
                </a:lnTo>
                <a:lnTo>
                  <a:pt x="1664" y="443"/>
                </a:lnTo>
                <a:lnTo>
                  <a:pt x="1657" y="447"/>
                </a:lnTo>
                <a:lnTo>
                  <a:pt x="1649" y="449"/>
                </a:lnTo>
                <a:lnTo>
                  <a:pt x="1643" y="449"/>
                </a:lnTo>
                <a:lnTo>
                  <a:pt x="1637" y="451"/>
                </a:lnTo>
                <a:lnTo>
                  <a:pt x="1634" y="451"/>
                </a:lnTo>
                <a:lnTo>
                  <a:pt x="1630" y="449"/>
                </a:lnTo>
                <a:lnTo>
                  <a:pt x="1628" y="447"/>
                </a:lnTo>
                <a:lnTo>
                  <a:pt x="1626" y="445"/>
                </a:lnTo>
                <a:lnTo>
                  <a:pt x="1624" y="441"/>
                </a:lnTo>
                <a:lnTo>
                  <a:pt x="1624" y="437"/>
                </a:lnTo>
                <a:lnTo>
                  <a:pt x="1626" y="431"/>
                </a:lnTo>
                <a:lnTo>
                  <a:pt x="1626" y="426"/>
                </a:lnTo>
                <a:lnTo>
                  <a:pt x="1630" y="420"/>
                </a:lnTo>
                <a:lnTo>
                  <a:pt x="1632" y="412"/>
                </a:lnTo>
                <a:lnTo>
                  <a:pt x="1637" y="405"/>
                </a:lnTo>
                <a:lnTo>
                  <a:pt x="1641" y="395"/>
                </a:lnTo>
                <a:lnTo>
                  <a:pt x="1647" y="385"/>
                </a:lnTo>
                <a:lnTo>
                  <a:pt x="1655" y="374"/>
                </a:lnTo>
                <a:lnTo>
                  <a:pt x="1660" y="364"/>
                </a:lnTo>
                <a:lnTo>
                  <a:pt x="1670" y="351"/>
                </a:lnTo>
                <a:lnTo>
                  <a:pt x="1678" y="337"/>
                </a:lnTo>
                <a:lnTo>
                  <a:pt x="1687" y="324"/>
                </a:lnTo>
                <a:lnTo>
                  <a:pt x="1699" y="309"/>
                </a:lnTo>
                <a:lnTo>
                  <a:pt x="1706" y="295"/>
                </a:lnTo>
                <a:lnTo>
                  <a:pt x="1714" y="280"/>
                </a:lnTo>
                <a:lnTo>
                  <a:pt x="1722" y="268"/>
                </a:lnTo>
                <a:lnTo>
                  <a:pt x="1728" y="255"/>
                </a:lnTo>
                <a:lnTo>
                  <a:pt x="1731" y="243"/>
                </a:lnTo>
                <a:lnTo>
                  <a:pt x="1735" y="232"/>
                </a:lnTo>
                <a:lnTo>
                  <a:pt x="1739" y="222"/>
                </a:lnTo>
                <a:lnTo>
                  <a:pt x="1741" y="213"/>
                </a:lnTo>
                <a:lnTo>
                  <a:pt x="1743" y="205"/>
                </a:lnTo>
                <a:lnTo>
                  <a:pt x="1743" y="195"/>
                </a:lnTo>
                <a:lnTo>
                  <a:pt x="1743" y="190"/>
                </a:lnTo>
                <a:lnTo>
                  <a:pt x="1741" y="182"/>
                </a:lnTo>
                <a:lnTo>
                  <a:pt x="1737" y="176"/>
                </a:lnTo>
                <a:lnTo>
                  <a:pt x="1733" y="170"/>
                </a:lnTo>
                <a:lnTo>
                  <a:pt x="1728" y="165"/>
                </a:lnTo>
                <a:lnTo>
                  <a:pt x="1722" y="161"/>
                </a:lnTo>
                <a:lnTo>
                  <a:pt x="1695" y="151"/>
                </a:lnTo>
                <a:lnTo>
                  <a:pt x="1682" y="147"/>
                </a:lnTo>
                <a:lnTo>
                  <a:pt x="1668" y="144"/>
                </a:lnTo>
                <a:lnTo>
                  <a:pt x="1655" y="142"/>
                </a:lnTo>
                <a:lnTo>
                  <a:pt x="1641" y="140"/>
                </a:lnTo>
                <a:lnTo>
                  <a:pt x="1630" y="138"/>
                </a:lnTo>
                <a:lnTo>
                  <a:pt x="1616" y="138"/>
                </a:lnTo>
                <a:lnTo>
                  <a:pt x="1609" y="138"/>
                </a:lnTo>
                <a:lnTo>
                  <a:pt x="1601" y="138"/>
                </a:lnTo>
                <a:lnTo>
                  <a:pt x="1593" y="138"/>
                </a:lnTo>
                <a:lnTo>
                  <a:pt x="1584" y="138"/>
                </a:lnTo>
                <a:lnTo>
                  <a:pt x="1576" y="138"/>
                </a:lnTo>
                <a:lnTo>
                  <a:pt x="1566" y="138"/>
                </a:lnTo>
                <a:lnTo>
                  <a:pt x="1545" y="138"/>
                </a:lnTo>
                <a:lnTo>
                  <a:pt x="1524" y="140"/>
                </a:lnTo>
                <a:lnTo>
                  <a:pt x="1499" y="142"/>
                </a:lnTo>
                <a:lnTo>
                  <a:pt x="1476" y="145"/>
                </a:lnTo>
                <a:lnTo>
                  <a:pt x="1449" y="149"/>
                </a:lnTo>
                <a:lnTo>
                  <a:pt x="1440" y="149"/>
                </a:lnTo>
                <a:lnTo>
                  <a:pt x="1428" y="151"/>
                </a:lnTo>
                <a:lnTo>
                  <a:pt x="1415" y="153"/>
                </a:lnTo>
                <a:lnTo>
                  <a:pt x="1399" y="155"/>
                </a:lnTo>
                <a:lnTo>
                  <a:pt x="1382" y="157"/>
                </a:lnTo>
                <a:lnTo>
                  <a:pt x="1361" y="161"/>
                </a:lnTo>
                <a:lnTo>
                  <a:pt x="1338" y="163"/>
                </a:lnTo>
                <a:lnTo>
                  <a:pt x="1313" y="167"/>
                </a:lnTo>
                <a:lnTo>
                  <a:pt x="1286" y="169"/>
                </a:lnTo>
                <a:lnTo>
                  <a:pt x="1255" y="172"/>
                </a:lnTo>
                <a:lnTo>
                  <a:pt x="1223" y="176"/>
                </a:lnTo>
                <a:lnTo>
                  <a:pt x="1188" y="180"/>
                </a:lnTo>
                <a:lnTo>
                  <a:pt x="1152" y="186"/>
                </a:lnTo>
                <a:lnTo>
                  <a:pt x="1113" y="190"/>
                </a:lnTo>
                <a:lnTo>
                  <a:pt x="1071" y="193"/>
                </a:lnTo>
                <a:lnTo>
                  <a:pt x="1027" y="199"/>
                </a:lnTo>
                <a:lnTo>
                  <a:pt x="981" y="205"/>
                </a:lnTo>
                <a:lnTo>
                  <a:pt x="933" y="211"/>
                </a:lnTo>
                <a:lnTo>
                  <a:pt x="881" y="216"/>
                </a:lnTo>
                <a:lnTo>
                  <a:pt x="827" y="222"/>
                </a:lnTo>
                <a:lnTo>
                  <a:pt x="772" y="230"/>
                </a:lnTo>
                <a:lnTo>
                  <a:pt x="714" y="236"/>
                </a:lnTo>
                <a:lnTo>
                  <a:pt x="653" y="243"/>
                </a:lnTo>
                <a:lnTo>
                  <a:pt x="589" y="251"/>
                </a:lnTo>
                <a:lnTo>
                  <a:pt x="524" y="259"/>
                </a:lnTo>
                <a:lnTo>
                  <a:pt x="457" y="266"/>
                </a:lnTo>
                <a:lnTo>
                  <a:pt x="388" y="274"/>
                </a:lnTo>
                <a:lnTo>
                  <a:pt x="315" y="284"/>
                </a:lnTo>
                <a:lnTo>
                  <a:pt x="240" y="293"/>
                </a:lnTo>
                <a:lnTo>
                  <a:pt x="161" y="301"/>
                </a:lnTo>
                <a:lnTo>
                  <a:pt x="82" y="311"/>
                </a:lnTo>
                <a:lnTo>
                  <a:pt x="0" y="320"/>
                </a:lnTo>
                <a:lnTo>
                  <a:pt x="11" y="263"/>
                </a:lnTo>
                <a:lnTo>
                  <a:pt x="23" y="207"/>
                </a:lnTo>
                <a:lnTo>
                  <a:pt x="54" y="203"/>
                </a:lnTo>
                <a:lnTo>
                  <a:pt x="82" y="199"/>
                </a:lnTo>
                <a:lnTo>
                  <a:pt x="111" y="197"/>
                </a:lnTo>
                <a:lnTo>
                  <a:pt x="140" y="193"/>
                </a:lnTo>
                <a:lnTo>
                  <a:pt x="167" y="190"/>
                </a:lnTo>
                <a:lnTo>
                  <a:pt x="196" y="188"/>
                </a:lnTo>
                <a:lnTo>
                  <a:pt x="223" y="184"/>
                </a:lnTo>
                <a:lnTo>
                  <a:pt x="247" y="182"/>
                </a:lnTo>
                <a:lnTo>
                  <a:pt x="274" y="180"/>
                </a:lnTo>
                <a:lnTo>
                  <a:pt x="299" y="176"/>
                </a:lnTo>
                <a:lnTo>
                  <a:pt x="324" y="174"/>
                </a:lnTo>
                <a:lnTo>
                  <a:pt x="349" y="170"/>
                </a:lnTo>
                <a:lnTo>
                  <a:pt x="372" y="169"/>
                </a:lnTo>
                <a:lnTo>
                  <a:pt x="397" y="167"/>
                </a:lnTo>
                <a:lnTo>
                  <a:pt x="420" y="165"/>
                </a:lnTo>
                <a:lnTo>
                  <a:pt x="441" y="161"/>
                </a:lnTo>
                <a:lnTo>
                  <a:pt x="464" y="159"/>
                </a:lnTo>
                <a:lnTo>
                  <a:pt x="486" y="157"/>
                </a:lnTo>
                <a:lnTo>
                  <a:pt x="507" y="155"/>
                </a:lnTo>
                <a:lnTo>
                  <a:pt x="528" y="151"/>
                </a:lnTo>
                <a:lnTo>
                  <a:pt x="547" y="149"/>
                </a:lnTo>
                <a:lnTo>
                  <a:pt x="566" y="147"/>
                </a:lnTo>
                <a:lnTo>
                  <a:pt x="585" y="145"/>
                </a:lnTo>
                <a:lnTo>
                  <a:pt x="605" y="144"/>
                </a:lnTo>
                <a:lnTo>
                  <a:pt x="622" y="142"/>
                </a:lnTo>
                <a:lnTo>
                  <a:pt x="641" y="140"/>
                </a:lnTo>
                <a:lnTo>
                  <a:pt x="658" y="136"/>
                </a:lnTo>
                <a:lnTo>
                  <a:pt x="674" y="134"/>
                </a:lnTo>
                <a:lnTo>
                  <a:pt x="691" y="132"/>
                </a:lnTo>
                <a:lnTo>
                  <a:pt x="706" y="130"/>
                </a:lnTo>
                <a:lnTo>
                  <a:pt x="722" y="128"/>
                </a:lnTo>
                <a:lnTo>
                  <a:pt x="737" y="126"/>
                </a:lnTo>
                <a:lnTo>
                  <a:pt x="764" y="124"/>
                </a:lnTo>
                <a:lnTo>
                  <a:pt x="793" y="121"/>
                </a:lnTo>
                <a:lnTo>
                  <a:pt x="821" y="119"/>
                </a:lnTo>
                <a:lnTo>
                  <a:pt x="852" y="115"/>
                </a:lnTo>
                <a:lnTo>
                  <a:pt x="885" y="113"/>
                </a:lnTo>
                <a:lnTo>
                  <a:pt x="917" y="109"/>
                </a:lnTo>
                <a:lnTo>
                  <a:pt x="952" y="105"/>
                </a:lnTo>
                <a:lnTo>
                  <a:pt x="987" y="101"/>
                </a:lnTo>
                <a:lnTo>
                  <a:pt x="1023" y="97"/>
                </a:lnTo>
                <a:lnTo>
                  <a:pt x="1061" y="94"/>
                </a:lnTo>
                <a:lnTo>
                  <a:pt x="1102" y="90"/>
                </a:lnTo>
                <a:lnTo>
                  <a:pt x="1142" y="86"/>
                </a:lnTo>
                <a:lnTo>
                  <a:pt x="1184" y="82"/>
                </a:lnTo>
                <a:lnTo>
                  <a:pt x="1227" y="76"/>
                </a:lnTo>
                <a:lnTo>
                  <a:pt x="1273" y="73"/>
                </a:lnTo>
                <a:lnTo>
                  <a:pt x="1319" y="69"/>
                </a:lnTo>
                <a:lnTo>
                  <a:pt x="1340" y="67"/>
                </a:lnTo>
                <a:lnTo>
                  <a:pt x="1361" y="65"/>
                </a:lnTo>
                <a:lnTo>
                  <a:pt x="1382" y="61"/>
                </a:lnTo>
                <a:lnTo>
                  <a:pt x="1403" y="59"/>
                </a:lnTo>
                <a:lnTo>
                  <a:pt x="1422" y="57"/>
                </a:lnTo>
                <a:lnTo>
                  <a:pt x="1442" y="55"/>
                </a:lnTo>
                <a:lnTo>
                  <a:pt x="1461" y="53"/>
                </a:lnTo>
                <a:lnTo>
                  <a:pt x="1478" y="51"/>
                </a:lnTo>
                <a:lnTo>
                  <a:pt x="1495" y="50"/>
                </a:lnTo>
                <a:lnTo>
                  <a:pt x="1513" y="48"/>
                </a:lnTo>
                <a:lnTo>
                  <a:pt x="1530" y="46"/>
                </a:lnTo>
                <a:lnTo>
                  <a:pt x="1545" y="44"/>
                </a:lnTo>
                <a:lnTo>
                  <a:pt x="1561" y="42"/>
                </a:lnTo>
                <a:lnTo>
                  <a:pt x="1574" y="40"/>
                </a:lnTo>
                <a:lnTo>
                  <a:pt x="1589" y="38"/>
                </a:lnTo>
                <a:lnTo>
                  <a:pt x="1603" y="36"/>
                </a:lnTo>
                <a:lnTo>
                  <a:pt x="1614" y="34"/>
                </a:lnTo>
                <a:lnTo>
                  <a:pt x="1628" y="32"/>
                </a:lnTo>
                <a:lnTo>
                  <a:pt x="1639" y="30"/>
                </a:lnTo>
                <a:lnTo>
                  <a:pt x="1649" y="28"/>
                </a:lnTo>
                <a:lnTo>
                  <a:pt x="1660" y="26"/>
                </a:lnTo>
                <a:lnTo>
                  <a:pt x="1670" y="25"/>
                </a:lnTo>
                <a:lnTo>
                  <a:pt x="1680" y="23"/>
                </a:lnTo>
                <a:lnTo>
                  <a:pt x="1687" y="21"/>
                </a:lnTo>
                <a:lnTo>
                  <a:pt x="1695" y="21"/>
                </a:lnTo>
                <a:lnTo>
                  <a:pt x="1703" y="19"/>
                </a:lnTo>
                <a:lnTo>
                  <a:pt x="1710" y="17"/>
                </a:lnTo>
                <a:lnTo>
                  <a:pt x="1716" y="15"/>
                </a:lnTo>
                <a:lnTo>
                  <a:pt x="1722" y="15"/>
                </a:lnTo>
                <a:lnTo>
                  <a:pt x="1726" y="13"/>
                </a:lnTo>
                <a:lnTo>
                  <a:pt x="1730" y="11"/>
                </a:lnTo>
                <a:lnTo>
                  <a:pt x="1733" y="11"/>
                </a:lnTo>
                <a:lnTo>
                  <a:pt x="1747" y="7"/>
                </a:lnTo>
                <a:lnTo>
                  <a:pt x="1758" y="3"/>
                </a:lnTo>
                <a:lnTo>
                  <a:pt x="1770" y="2"/>
                </a:lnTo>
                <a:lnTo>
                  <a:pt x="1779" y="2"/>
                </a:lnTo>
                <a:lnTo>
                  <a:pt x="1791" y="0"/>
                </a:lnTo>
                <a:lnTo>
                  <a:pt x="1799" y="0"/>
                </a:lnTo>
                <a:lnTo>
                  <a:pt x="1818" y="0"/>
                </a:lnTo>
                <a:lnTo>
                  <a:pt x="1820" y="2"/>
                </a:lnTo>
                <a:lnTo>
                  <a:pt x="1824" y="5"/>
                </a:lnTo>
                <a:lnTo>
                  <a:pt x="1829" y="9"/>
                </a:lnTo>
                <a:lnTo>
                  <a:pt x="1835" y="13"/>
                </a:lnTo>
                <a:lnTo>
                  <a:pt x="1843" y="17"/>
                </a:lnTo>
                <a:lnTo>
                  <a:pt x="1850" y="23"/>
                </a:lnTo>
                <a:lnTo>
                  <a:pt x="1860" y="30"/>
                </a:lnTo>
                <a:lnTo>
                  <a:pt x="1870" y="36"/>
                </a:lnTo>
                <a:lnTo>
                  <a:pt x="1881" y="44"/>
                </a:lnTo>
                <a:lnTo>
                  <a:pt x="1893" y="53"/>
                </a:lnTo>
                <a:lnTo>
                  <a:pt x="1906" y="63"/>
                </a:lnTo>
                <a:lnTo>
                  <a:pt x="1920" y="73"/>
                </a:lnTo>
                <a:lnTo>
                  <a:pt x="1935" y="84"/>
                </a:lnTo>
                <a:lnTo>
                  <a:pt x="1950" y="97"/>
                </a:lnTo>
                <a:lnTo>
                  <a:pt x="1966" y="111"/>
                </a:lnTo>
                <a:lnTo>
                  <a:pt x="1983" y="126"/>
                </a:lnTo>
                <a:lnTo>
                  <a:pt x="2000" y="140"/>
                </a:lnTo>
                <a:lnTo>
                  <a:pt x="2017" y="155"/>
                </a:lnTo>
                <a:lnTo>
                  <a:pt x="2033" y="169"/>
                </a:lnTo>
                <a:lnTo>
                  <a:pt x="2046" y="180"/>
                </a:lnTo>
                <a:lnTo>
                  <a:pt x="2058" y="192"/>
                </a:lnTo>
                <a:lnTo>
                  <a:pt x="2071" y="203"/>
                </a:lnTo>
                <a:lnTo>
                  <a:pt x="2081" y="213"/>
                </a:lnTo>
                <a:lnTo>
                  <a:pt x="2090" y="222"/>
                </a:lnTo>
                <a:lnTo>
                  <a:pt x="2098" y="232"/>
                </a:lnTo>
                <a:lnTo>
                  <a:pt x="2106" y="240"/>
                </a:lnTo>
                <a:lnTo>
                  <a:pt x="2112" y="247"/>
                </a:lnTo>
                <a:lnTo>
                  <a:pt x="2117" y="253"/>
                </a:lnTo>
                <a:lnTo>
                  <a:pt x="2121" y="259"/>
                </a:lnTo>
                <a:lnTo>
                  <a:pt x="2125" y="264"/>
                </a:lnTo>
                <a:lnTo>
                  <a:pt x="2125" y="270"/>
                </a:lnTo>
                <a:lnTo>
                  <a:pt x="2127" y="274"/>
                </a:lnTo>
                <a:lnTo>
                  <a:pt x="2127" y="280"/>
                </a:lnTo>
                <a:lnTo>
                  <a:pt x="2125" y="284"/>
                </a:lnTo>
                <a:lnTo>
                  <a:pt x="2123" y="288"/>
                </a:lnTo>
                <a:lnTo>
                  <a:pt x="2119" y="289"/>
                </a:lnTo>
                <a:lnTo>
                  <a:pt x="2115" y="293"/>
                </a:lnTo>
                <a:lnTo>
                  <a:pt x="2112" y="295"/>
                </a:lnTo>
                <a:lnTo>
                  <a:pt x="2106" y="299"/>
                </a:lnTo>
                <a:lnTo>
                  <a:pt x="2100" y="301"/>
                </a:lnTo>
                <a:lnTo>
                  <a:pt x="2092" y="303"/>
                </a:lnTo>
                <a:lnTo>
                  <a:pt x="2085" y="305"/>
                </a:lnTo>
                <a:lnTo>
                  <a:pt x="2075" y="307"/>
                </a:lnTo>
                <a:lnTo>
                  <a:pt x="2065" y="307"/>
                </a:lnTo>
                <a:lnTo>
                  <a:pt x="2056" y="309"/>
                </a:lnTo>
                <a:lnTo>
                  <a:pt x="2044" y="309"/>
                </a:lnTo>
                <a:lnTo>
                  <a:pt x="2033" y="309"/>
                </a:lnTo>
                <a:lnTo>
                  <a:pt x="2019" y="309"/>
                </a:lnTo>
                <a:lnTo>
                  <a:pt x="2004" y="311"/>
                </a:lnTo>
                <a:lnTo>
                  <a:pt x="1989" y="311"/>
                </a:lnTo>
                <a:lnTo>
                  <a:pt x="1973" y="312"/>
                </a:lnTo>
                <a:lnTo>
                  <a:pt x="1956" y="314"/>
                </a:lnTo>
                <a:lnTo>
                  <a:pt x="1941" y="316"/>
                </a:lnTo>
                <a:lnTo>
                  <a:pt x="1925" y="320"/>
                </a:lnTo>
                <a:lnTo>
                  <a:pt x="1910" y="324"/>
                </a:lnTo>
                <a:lnTo>
                  <a:pt x="1895" y="328"/>
                </a:lnTo>
                <a:lnTo>
                  <a:pt x="1879" y="334"/>
                </a:lnTo>
                <a:lnTo>
                  <a:pt x="1864" y="339"/>
                </a:lnTo>
                <a:lnTo>
                  <a:pt x="1847" y="345"/>
                </a:lnTo>
                <a:lnTo>
                  <a:pt x="1831" y="353"/>
                </a:lnTo>
                <a:lnTo>
                  <a:pt x="1816" y="360"/>
                </a:lnTo>
                <a:lnTo>
                  <a:pt x="1801" y="370"/>
                </a:lnTo>
                <a:lnTo>
                  <a:pt x="1785" y="380"/>
                </a:lnTo>
                <a:lnTo>
                  <a:pt x="1770" y="38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77"/>
          <p:cNvSpPr/>
          <p:nvPr/>
        </p:nvSpPr>
        <p:spPr>
          <a:xfrm>
            <a:off x="5943600" y="3184560"/>
            <a:ext cx="500040" cy="379440"/>
          </a:xfrm>
          <a:custGeom>
            <a:avLst/>
            <a:gdLst/>
            <a:ahLst/>
            <a:rect l="l" t="t" r="r" b="b"/>
            <a:pathLst>
              <a:path w="630" h="478">
                <a:moveTo>
                  <a:pt x="547" y="230"/>
                </a:moveTo>
                <a:lnTo>
                  <a:pt x="537" y="236"/>
                </a:lnTo>
                <a:lnTo>
                  <a:pt x="528" y="243"/>
                </a:lnTo>
                <a:lnTo>
                  <a:pt x="518" y="249"/>
                </a:lnTo>
                <a:lnTo>
                  <a:pt x="507" y="257"/>
                </a:lnTo>
                <a:lnTo>
                  <a:pt x="495" y="263"/>
                </a:lnTo>
                <a:lnTo>
                  <a:pt x="482" y="270"/>
                </a:lnTo>
                <a:lnTo>
                  <a:pt x="470" y="276"/>
                </a:lnTo>
                <a:lnTo>
                  <a:pt x="457" y="284"/>
                </a:lnTo>
                <a:lnTo>
                  <a:pt x="441" y="291"/>
                </a:lnTo>
                <a:lnTo>
                  <a:pt x="426" y="299"/>
                </a:lnTo>
                <a:lnTo>
                  <a:pt x="411" y="309"/>
                </a:lnTo>
                <a:lnTo>
                  <a:pt x="395" y="316"/>
                </a:lnTo>
                <a:lnTo>
                  <a:pt x="378" y="326"/>
                </a:lnTo>
                <a:lnTo>
                  <a:pt x="359" y="335"/>
                </a:lnTo>
                <a:lnTo>
                  <a:pt x="340" y="345"/>
                </a:lnTo>
                <a:lnTo>
                  <a:pt x="320" y="357"/>
                </a:lnTo>
                <a:lnTo>
                  <a:pt x="301" y="366"/>
                </a:lnTo>
                <a:lnTo>
                  <a:pt x="282" y="376"/>
                </a:lnTo>
                <a:lnTo>
                  <a:pt x="265" y="385"/>
                </a:lnTo>
                <a:lnTo>
                  <a:pt x="248" y="395"/>
                </a:lnTo>
                <a:lnTo>
                  <a:pt x="230" y="403"/>
                </a:lnTo>
                <a:lnTo>
                  <a:pt x="215" y="410"/>
                </a:lnTo>
                <a:lnTo>
                  <a:pt x="200" y="418"/>
                </a:lnTo>
                <a:lnTo>
                  <a:pt x="184" y="426"/>
                </a:lnTo>
                <a:lnTo>
                  <a:pt x="171" y="431"/>
                </a:lnTo>
                <a:lnTo>
                  <a:pt x="157" y="437"/>
                </a:lnTo>
                <a:lnTo>
                  <a:pt x="144" y="441"/>
                </a:lnTo>
                <a:lnTo>
                  <a:pt x="130" y="447"/>
                </a:lnTo>
                <a:lnTo>
                  <a:pt x="119" y="451"/>
                </a:lnTo>
                <a:lnTo>
                  <a:pt x="105" y="454"/>
                </a:lnTo>
                <a:lnTo>
                  <a:pt x="94" y="456"/>
                </a:lnTo>
                <a:lnTo>
                  <a:pt x="82" y="458"/>
                </a:lnTo>
                <a:lnTo>
                  <a:pt x="73" y="464"/>
                </a:lnTo>
                <a:lnTo>
                  <a:pt x="63" y="466"/>
                </a:lnTo>
                <a:lnTo>
                  <a:pt x="54" y="470"/>
                </a:lnTo>
                <a:lnTo>
                  <a:pt x="46" y="472"/>
                </a:lnTo>
                <a:lnTo>
                  <a:pt x="38" y="474"/>
                </a:lnTo>
                <a:lnTo>
                  <a:pt x="31" y="476"/>
                </a:lnTo>
                <a:lnTo>
                  <a:pt x="25" y="478"/>
                </a:lnTo>
                <a:lnTo>
                  <a:pt x="19" y="478"/>
                </a:lnTo>
                <a:lnTo>
                  <a:pt x="15" y="478"/>
                </a:lnTo>
                <a:lnTo>
                  <a:pt x="11" y="478"/>
                </a:lnTo>
                <a:lnTo>
                  <a:pt x="8" y="478"/>
                </a:lnTo>
                <a:lnTo>
                  <a:pt x="6" y="478"/>
                </a:lnTo>
                <a:lnTo>
                  <a:pt x="2" y="476"/>
                </a:lnTo>
                <a:lnTo>
                  <a:pt x="2" y="474"/>
                </a:lnTo>
                <a:lnTo>
                  <a:pt x="0" y="472"/>
                </a:lnTo>
                <a:lnTo>
                  <a:pt x="0" y="470"/>
                </a:lnTo>
                <a:lnTo>
                  <a:pt x="0" y="468"/>
                </a:lnTo>
                <a:lnTo>
                  <a:pt x="2" y="466"/>
                </a:lnTo>
                <a:lnTo>
                  <a:pt x="6" y="462"/>
                </a:lnTo>
                <a:lnTo>
                  <a:pt x="9" y="458"/>
                </a:lnTo>
                <a:lnTo>
                  <a:pt x="15" y="453"/>
                </a:lnTo>
                <a:lnTo>
                  <a:pt x="21" y="447"/>
                </a:lnTo>
                <a:lnTo>
                  <a:pt x="29" y="441"/>
                </a:lnTo>
                <a:lnTo>
                  <a:pt x="38" y="435"/>
                </a:lnTo>
                <a:lnTo>
                  <a:pt x="48" y="428"/>
                </a:lnTo>
                <a:lnTo>
                  <a:pt x="59" y="420"/>
                </a:lnTo>
                <a:lnTo>
                  <a:pt x="71" y="410"/>
                </a:lnTo>
                <a:lnTo>
                  <a:pt x="86" y="401"/>
                </a:lnTo>
                <a:lnTo>
                  <a:pt x="102" y="391"/>
                </a:lnTo>
                <a:lnTo>
                  <a:pt x="117" y="380"/>
                </a:lnTo>
                <a:lnTo>
                  <a:pt x="134" y="368"/>
                </a:lnTo>
                <a:lnTo>
                  <a:pt x="155" y="357"/>
                </a:lnTo>
                <a:lnTo>
                  <a:pt x="173" y="343"/>
                </a:lnTo>
                <a:lnTo>
                  <a:pt x="188" y="330"/>
                </a:lnTo>
                <a:lnTo>
                  <a:pt x="205" y="318"/>
                </a:lnTo>
                <a:lnTo>
                  <a:pt x="221" y="307"/>
                </a:lnTo>
                <a:lnTo>
                  <a:pt x="251" y="282"/>
                </a:lnTo>
                <a:lnTo>
                  <a:pt x="280" y="259"/>
                </a:lnTo>
                <a:lnTo>
                  <a:pt x="307" y="238"/>
                </a:lnTo>
                <a:lnTo>
                  <a:pt x="334" y="216"/>
                </a:lnTo>
                <a:lnTo>
                  <a:pt x="357" y="193"/>
                </a:lnTo>
                <a:lnTo>
                  <a:pt x="380" y="172"/>
                </a:lnTo>
                <a:lnTo>
                  <a:pt x="390" y="163"/>
                </a:lnTo>
                <a:lnTo>
                  <a:pt x="397" y="151"/>
                </a:lnTo>
                <a:lnTo>
                  <a:pt x="405" y="142"/>
                </a:lnTo>
                <a:lnTo>
                  <a:pt x="411" y="134"/>
                </a:lnTo>
                <a:lnTo>
                  <a:pt x="416" y="124"/>
                </a:lnTo>
                <a:lnTo>
                  <a:pt x="422" y="117"/>
                </a:lnTo>
                <a:lnTo>
                  <a:pt x="428" y="109"/>
                </a:lnTo>
                <a:lnTo>
                  <a:pt x="432" y="101"/>
                </a:lnTo>
                <a:lnTo>
                  <a:pt x="436" y="94"/>
                </a:lnTo>
                <a:lnTo>
                  <a:pt x="438" y="86"/>
                </a:lnTo>
                <a:lnTo>
                  <a:pt x="441" y="78"/>
                </a:lnTo>
                <a:lnTo>
                  <a:pt x="441" y="73"/>
                </a:lnTo>
                <a:lnTo>
                  <a:pt x="443" y="65"/>
                </a:lnTo>
                <a:lnTo>
                  <a:pt x="443" y="59"/>
                </a:lnTo>
                <a:lnTo>
                  <a:pt x="441" y="53"/>
                </a:lnTo>
                <a:lnTo>
                  <a:pt x="439" y="46"/>
                </a:lnTo>
                <a:lnTo>
                  <a:pt x="438" y="40"/>
                </a:lnTo>
                <a:lnTo>
                  <a:pt x="436" y="34"/>
                </a:lnTo>
                <a:lnTo>
                  <a:pt x="434" y="28"/>
                </a:lnTo>
                <a:lnTo>
                  <a:pt x="434" y="25"/>
                </a:lnTo>
                <a:lnTo>
                  <a:pt x="434" y="21"/>
                </a:lnTo>
                <a:lnTo>
                  <a:pt x="432" y="17"/>
                </a:lnTo>
                <a:lnTo>
                  <a:pt x="434" y="13"/>
                </a:lnTo>
                <a:lnTo>
                  <a:pt x="434" y="11"/>
                </a:lnTo>
                <a:lnTo>
                  <a:pt x="436" y="7"/>
                </a:lnTo>
                <a:lnTo>
                  <a:pt x="438" y="5"/>
                </a:lnTo>
                <a:lnTo>
                  <a:pt x="439" y="3"/>
                </a:lnTo>
                <a:lnTo>
                  <a:pt x="443" y="3"/>
                </a:lnTo>
                <a:lnTo>
                  <a:pt x="447" y="2"/>
                </a:lnTo>
                <a:lnTo>
                  <a:pt x="451" y="2"/>
                </a:lnTo>
                <a:lnTo>
                  <a:pt x="457" y="0"/>
                </a:lnTo>
                <a:lnTo>
                  <a:pt x="464" y="0"/>
                </a:lnTo>
                <a:lnTo>
                  <a:pt x="476" y="2"/>
                </a:lnTo>
                <a:lnTo>
                  <a:pt x="489" y="3"/>
                </a:lnTo>
                <a:lnTo>
                  <a:pt x="503" y="5"/>
                </a:lnTo>
                <a:lnTo>
                  <a:pt x="516" y="11"/>
                </a:lnTo>
                <a:lnTo>
                  <a:pt x="530" y="17"/>
                </a:lnTo>
                <a:lnTo>
                  <a:pt x="537" y="21"/>
                </a:lnTo>
                <a:lnTo>
                  <a:pt x="543" y="25"/>
                </a:lnTo>
                <a:lnTo>
                  <a:pt x="551" y="28"/>
                </a:lnTo>
                <a:lnTo>
                  <a:pt x="557" y="34"/>
                </a:lnTo>
                <a:lnTo>
                  <a:pt x="564" y="40"/>
                </a:lnTo>
                <a:lnTo>
                  <a:pt x="570" y="46"/>
                </a:lnTo>
                <a:lnTo>
                  <a:pt x="583" y="59"/>
                </a:lnTo>
                <a:lnTo>
                  <a:pt x="595" y="71"/>
                </a:lnTo>
                <a:lnTo>
                  <a:pt x="605" y="80"/>
                </a:lnTo>
                <a:lnTo>
                  <a:pt x="614" y="92"/>
                </a:lnTo>
                <a:lnTo>
                  <a:pt x="620" y="99"/>
                </a:lnTo>
                <a:lnTo>
                  <a:pt x="624" y="105"/>
                </a:lnTo>
                <a:lnTo>
                  <a:pt x="626" y="109"/>
                </a:lnTo>
                <a:lnTo>
                  <a:pt x="628" y="113"/>
                </a:lnTo>
                <a:lnTo>
                  <a:pt x="630" y="119"/>
                </a:lnTo>
                <a:lnTo>
                  <a:pt x="630" y="122"/>
                </a:lnTo>
                <a:lnTo>
                  <a:pt x="630" y="126"/>
                </a:lnTo>
                <a:lnTo>
                  <a:pt x="630" y="132"/>
                </a:lnTo>
                <a:lnTo>
                  <a:pt x="630" y="140"/>
                </a:lnTo>
                <a:lnTo>
                  <a:pt x="628" y="145"/>
                </a:lnTo>
                <a:lnTo>
                  <a:pt x="626" y="153"/>
                </a:lnTo>
                <a:lnTo>
                  <a:pt x="622" y="159"/>
                </a:lnTo>
                <a:lnTo>
                  <a:pt x="620" y="165"/>
                </a:lnTo>
                <a:lnTo>
                  <a:pt x="614" y="172"/>
                </a:lnTo>
                <a:lnTo>
                  <a:pt x="610" y="178"/>
                </a:lnTo>
                <a:lnTo>
                  <a:pt x="605" y="184"/>
                </a:lnTo>
                <a:lnTo>
                  <a:pt x="599" y="192"/>
                </a:lnTo>
                <a:lnTo>
                  <a:pt x="593" y="197"/>
                </a:lnTo>
                <a:lnTo>
                  <a:pt x="585" y="203"/>
                </a:lnTo>
                <a:lnTo>
                  <a:pt x="576" y="211"/>
                </a:lnTo>
                <a:lnTo>
                  <a:pt x="568" y="216"/>
                </a:lnTo>
                <a:lnTo>
                  <a:pt x="557" y="222"/>
                </a:lnTo>
                <a:lnTo>
                  <a:pt x="547" y="23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78"/>
          <p:cNvSpPr/>
          <p:nvPr/>
        </p:nvSpPr>
        <p:spPr>
          <a:xfrm>
            <a:off x="6765840" y="3157560"/>
            <a:ext cx="335160" cy="255600"/>
          </a:xfrm>
          <a:custGeom>
            <a:avLst/>
            <a:gdLst/>
            <a:ahLst/>
            <a:rect l="l" t="t" r="r" b="b"/>
            <a:pathLst>
              <a:path w="422" h="323">
                <a:moveTo>
                  <a:pt x="247" y="81"/>
                </a:moveTo>
                <a:lnTo>
                  <a:pt x="264" y="88"/>
                </a:lnTo>
                <a:lnTo>
                  <a:pt x="280" y="94"/>
                </a:lnTo>
                <a:lnTo>
                  <a:pt x="295" y="102"/>
                </a:lnTo>
                <a:lnTo>
                  <a:pt x="311" y="108"/>
                </a:lnTo>
                <a:lnTo>
                  <a:pt x="324" y="115"/>
                </a:lnTo>
                <a:lnTo>
                  <a:pt x="337" y="121"/>
                </a:lnTo>
                <a:lnTo>
                  <a:pt x="349" y="129"/>
                </a:lnTo>
                <a:lnTo>
                  <a:pt x="360" y="136"/>
                </a:lnTo>
                <a:lnTo>
                  <a:pt x="370" y="144"/>
                </a:lnTo>
                <a:lnTo>
                  <a:pt x="380" y="152"/>
                </a:lnTo>
                <a:lnTo>
                  <a:pt x="387" y="159"/>
                </a:lnTo>
                <a:lnTo>
                  <a:pt x="395" y="169"/>
                </a:lnTo>
                <a:lnTo>
                  <a:pt x="401" y="177"/>
                </a:lnTo>
                <a:lnTo>
                  <a:pt x="407" y="186"/>
                </a:lnTo>
                <a:lnTo>
                  <a:pt x="410" y="198"/>
                </a:lnTo>
                <a:lnTo>
                  <a:pt x="412" y="207"/>
                </a:lnTo>
                <a:lnTo>
                  <a:pt x="414" y="217"/>
                </a:lnTo>
                <a:lnTo>
                  <a:pt x="416" y="227"/>
                </a:lnTo>
                <a:lnTo>
                  <a:pt x="418" y="236"/>
                </a:lnTo>
                <a:lnTo>
                  <a:pt x="420" y="244"/>
                </a:lnTo>
                <a:lnTo>
                  <a:pt x="420" y="251"/>
                </a:lnTo>
                <a:lnTo>
                  <a:pt x="422" y="259"/>
                </a:lnTo>
                <a:lnTo>
                  <a:pt x="422" y="265"/>
                </a:lnTo>
                <a:lnTo>
                  <a:pt x="422" y="271"/>
                </a:lnTo>
                <a:lnTo>
                  <a:pt x="422" y="276"/>
                </a:lnTo>
                <a:lnTo>
                  <a:pt x="422" y="280"/>
                </a:lnTo>
                <a:lnTo>
                  <a:pt x="420" y="288"/>
                </a:lnTo>
                <a:lnTo>
                  <a:pt x="416" y="294"/>
                </a:lnTo>
                <a:lnTo>
                  <a:pt x="412" y="299"/>
                </a:lnTo>
                <a:lnTo>
                  <a:pt x="408" y="303"/>
                </a:lnTo>
                <a:lnTo>
                  <a:pt x="403" y="307"/>
                </a:lnTo>
                <a:lnTo>
                  <a:pt x="399" y="311"/>
                </a:lnTo>
                <a:lnTo>
                  <a:pt x="391" y="315"/>
                </a:lnTo>
                <a:lnTo>
                  <a:pt x="385" y="319"/>
                </a:lnTo>
                <a:lnTo>
                  <a:pt x="376" y="321"/>
                </a:lnTo>
                <a:lnTo>
                  <a:pt x="372" y="321"/>
                </a:lnTo>
                <a:lnTo>
                  <a:pt x="366" y="323"/>
                </a:lnTo>
                <a:lnTo>
                  <a:pt x="360" y="323"/>
                </a:lnTo>
                <a:lnTo>
                  <a:pt x="353" y="323"/>
                </a:lnTo>
                <a:lnTo>
                  <a:pt x="347" y="323"/>
                </a:lnTo>
                <a:lnTo>
                  <a:pt x="339" y="321"/>
                </a:lnTo>
                <a:lnTo>
                  <a:pt x="330" y="319"/>
                </a:lnTo>
                <a:lnTo>
                  <a:pt x="322" y="315"/>
                </a:lnTo>
                <a:lnTo>
                  <a:pt x="312" y="311"/>
                </a:lnTo>
                <a:lnTo>
                  <a:pt x="303" y="307"/>
                </a:lnTo>
                <a:lnTo>
                  <a:pt x="291" y="301"/>
                </a:lnTo>
                <a:lnTo>
                  <a:pt x="280" y="296"/>
                </a:lnTo>
                <a:lnTo>
                  <a:pt x="268" y="288"/>
                </a:lnTo>
                <a:lnTo>
                  <a:pt x="255" y="278"/>
                </a:lnTo>
                <a:lnTo>
                  <a:pt x="241" y="271"/>
                </a:lnTo>
                <a:lnTo>
                  <a:pt x="228" y="259"/>
                </a:lnTo>
                <a:lnTo>
                  <a:pt x="213" y="248"/>
                </a:lnTo>
                <a:lnTo>
                  <a:pt x="197" y="236"/>
                </a:lnTo>
                <a:lnTo>
                  <a:pt x="180" y="223"/>
                </a:lnTo>
                <a:lnTo>
                  <a:pt x="163" y="207"/>
                </a:lnTo>
                <a:lnTo>
                  <a:pt x="145" y="192"/>
                </a:lnTo>
                <a:lnTo>
                  <a:pt x="130" y="179"/>
                </a:lnTo>
                <a:lnTo>
                  <a:pt x="115" y="165"/>
                </a:lnTo>
                <a:lnTo>
                  <a:pt x="101" y="154"/>
                </a:lnTo>
                <a:lnTo>
                  <a:pt x="88" y="140"/>
                </a:lnTo>
                <a:lnTo>
                  <a:pt x="76" y="131"/>
                </a:lnTo>
                <a:lnTo>
                  <a:pt x="65" y="119"/>
                </a:lnTo>
                <a:lnTo>
                  <a:pt x="55" y="109"/>
                </a:lnTo>
                <a:lnTo>
                  <a:pt x="46" y="100"/>
                </a:lnTo>
                <a:lnTo>
                  <a:pt x="38" y="92"/>
                </a:lnTo>
                <a:lnTo>
                  <a:pt x="30" y="83"/>
                </a:lnTo>
                <a:lnTo>
                  <a:pt x="24" y="75"/>
                </a:lnTo>
                <a:lnTo>
                  <a:pt x="19" y="67"/>
                </a:lnTo>
                <a:lnTo>
                  <a:pt x="15" y="60"/>
                </a:lnTo>
                <a:lnTo>
                  <a:pt x="11" y="54"/>
                </a:lnTo>
                <a:lnTo>
                  <a:pt x="9" y="46"/>
                </a:lnTo>
                <a:lnTo>
                  <a:pt x="5" y="38"/>
                </a:lnTo>
                <a:lnTo>
                  <a:pt x="1" y="31"/>
                </a:lnTo>
                <a:lnTo>
                  <a:pt x="0" y="25"/>
                </a:lnTo>
                <a:lnTo>
                  <a:pt x="0" y="19"/>
                </a:lnTo>
                <a:lnTo>
                  <a:pt x="0" y="14"/>
                </a:lnTo>
                <a:lnTo>
                  <a:pt x="1" y="10"/>
                </a:lnTo>
                <a:lnTo>
                  <a:pt x="5" y="6"/>
                </a:lnTo>
                <a:lnTo>
                  <a:pt x="9" y="0"/>
                </a:lnTo>
                <a:lnTo>
                  <a:pt x="13" y="0"/>
                </a:lnTo>
                <a:lnTo>
                  <a:pt x="19" y="0"/>
                </a:lnTo>
                <a:lnTo>
                  <a:pt x="23" y="2"/>
                </a:lnTo>
                <a:lnTo>
                  <a:pt x="30" y="2"/>
                </a:lnTo>
                <a:lnTo>
                  <a:pt x="36" y="4"/>
                </a:lnTo>
                <a:lnTo>
                  <a:pt x="46" y="6"/>
                </a:lnTo>
                <a:lnTo>
                  <a:pt x="51" y="8"/>
                </a:lnTo>
                <a:lnTo>
                  <a:pt x="55" y="8"/>
                </a:lnTo>
                <a:lnTo>
                  <a:pt x="61" y="10"/>
                </a:lnTo>
                <a:lnTo>
                  <a:pt x="69" y="12"/>
                </a:lnTo>
                <a:lnTo>
                  <a:pt x="74" y="15"/>
                </a:lnTo>
                <a:lnTo>
                  <a:pt x="82" y="17"/>
                </a:lnTo>
                <a:lnTo>
                  <a:pt x="92" y="19"/>
                </a:lnTo>
                <a:lnTo>
                  <a:pt x="99" y="23"/>
                </a:lnTo>
                <a:lnTo>
                  <a:pt x="109" y="27"/>
                </a:lnTo>
                <a:lnTo>
                  <a:pt x="119" y="31"/>
                </a:lnTo>
                <a:lnTo>
                  <a:pt x="128" y="35"/>
                </a:lnTo>
                <a:lnTo>
                  <a:pt x="140" y="38"/>
                </a:lnTo>
                <a:lnTo>
                  <a:pt x="151" y="42"/>
                </a:lnTo>
                <a:lnTo>
                  <a:pt x="163" y="48"/>
                </a:lnTo>
                <a:lnTo>
                  <a:pt x="176" y="52"/>
                </a:lnTo>
                <a:lnTo>
                  <a:pt x="188" y="58"/>
                </a:lnTo>
                <a:lnTo>
                  <a:pt x="203" y="63"/>
                </a:lnTo>
                <a:lnTo>
                  <a:pt x="216" y="69"/>
                </a:lnTo>
                <a:lnTo>
                  <a:pt x="232" y="75"/>
                </a:lnTo>
                <a:lnTo>
                  <a:pt x="247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79"/>
          <p:cNvSpPr/>
          <p:nvPr/>
        </p:nvSpPr>
        <p:spPr>
          <a:xfrm>
            <a:off x="6037200" y="3621240"/>
            <a:ext cx="217440" cy="347400"/>
          </a:xfrm>
          <a:custGeom>
            <a:avLst/>
            <a:gdLst/>
            <a:ahLst/>
            <a:rect l="l" t="t" r="r" b="b"/>
            <a:pathLst>
              <a:path w="273" h="438">
                <a:moveTo>
                  <a:pt x="0" y="47"/>
                </a:moveTo>
                <a:lnTo>
                  <a:pt x="2" y="41"/>
                </a:lnTo>
                <a:lnTo>
                  <a:pt x="6" y="35"/>
                </a:lnTo>
                <a:lnTo>
                  <a:pt x="8" y="29"/>
                </a:lnTo>
                <a:lnTo>
                  <a:pt x="11" y="25"/>
                </a:lnTo>
                <a:lnTo>
                  <a:pt x="19" y="18"/>
                </a:lnTo>
                <a:lnTo>
                  <a:pt x="29" y="10"/>
                </a:lnTo>
                <a:lnTo>
                  <a:pt x="38" y="6"/>
                </a:lnTo>
                <a:lnTo>
                  <a:pt x="44" y="4"/>
                </a:lnTo>
                <a:lnTo>
                  <a:pt x="52" y="2"/>
                </a:lnTo>
                <a:lnTo>
                  <a:pt x="59" y="2"/>
                </a:lnTo>
                <a:lnTo>
                  <a:pt x="67" y="2"/>
                </a:lnTo>
                <a:lnTo>
                  <a:pt x="75" y="0"/>
                </a:lnTo>
                <a:lnTo>
                  <a:pt x="82" y="0"/>
                </a:lnTo>
                <a:lnTo>
                  <a:pt x="96" y="2"/>
                </a:lnTo>
                <a:lnTo>
                  <a:pt x="109" y="2"/>
                </a:lnTo>
                <a:lnTo>
                  <a:pt x="123" y="4"/>
                </a:lnTo>
                <a:lnTo>
                  <a:pt x="134" y="8"/>
                </a:lnTo>
                <a:lnTo>
                  <a:pt x="148" y="12"/>
                </a:lnTo>
                <a:lnTo>
                  <a:pt x="159" y="16"/>
                </a:lnTo>
                <a:lnTo>
                  <a:pt x="169" y="20"/>
                </a:lnTo>
                <a:lnTo>
                  <a:pt x="178" y="23"/>
                </a:lnTo>
                <a:lnTo>
                  <a:pt x="178" y="25"/>
                </a:lnTo>
                <a:lnTo>
                  <a:pt x="180" y="29"/>
                </a:lnTo>
                <a:lnTo>
                  <a:pt x="182" y="33"/>
                </a:lnTo>
                <a:lnTo>
                  <a:pt x="184" y="37"/>
                </a:lnTo>
                <a:lnTo>
                  <a:pt x="186" y="43"/>
                </a:lnTo>
                <a:lnTo>
                  <a:pt x="188" y="48"/>
                </a:lnTo>
                <a:lnTo>
                  <a:pt x="190" y="56"/>
                </a:lnTo>
                <a:lnTo>
                  <a:pt x="192" y="62"/>
                </a:lnTo>
                <a:lnTo>
                  <a:pt x="194" y="70"/>
                </a:lnTo>
                <a:lnTo>
                  <a:pt x="196" y="79"/>
                </a:lnTo>
                <a:lnTo>
                  <a:pt x="198" y="89"/>
                </a:lnTo>
                <a:lnTo>
                  <a:pt x="201" y="98"/>
                </a:lnTo>
                <a:lnTo>
                  <a:pt x="203" y="108"/>
                </a:lnTo>
                <a:lnTo>
                  <a:pt x="207" y="119"/>
                </a:lnTo>
                <a:lnTo>
                  <a:pt x="209" y="131"/>
                </a:lnTo>
                <a:lnTo>
                  <a:pt x="213" y="144"/>
                </a:lnTo>
                <a:lnTo>
                  <a:pt x="215" y="158"/>
                </a:lnTo>
                <a:lnTo>
                  <a:pt x="219" y="171"/>
                </a:lnTo>
                <a:lnTo>
                  <a:pt x="223" y="187"/>
                </a:lnTo>
                <a:lnTo>
                  <a:pt x="226" y="202"/>
                </a:lnTo>
                <a:lnTo>
                  <a:pt x="228" y="217"/>
                </a:lnTo>
                <a:lnTo>
                  <a:pt x="232" y="235"/>
                </a:lnTo>
                <a:lnTo>
                  <a:pt x="236" y="252"/>
                </a:lnTo>
                <a:lnTo>
                  <a:pt x="240" y="269"/>
                </a:lnTo>
                <a:lnTo>
                  <a:pt x="244" y="288"/>
                </a:lnTo>
                <a:lnTo>
                  <a:pt x="248" y="308"/>
                </a:lnTo>
                <a:lnTo>
                  <a:pt x="251" y="327"/>
                </a:lnTo>
                <a:lnTo>
                  <a:pt x="257" y="348"/>
                </a:lnTo>
                <a:lnTo>
                  <a:pt x="261" y="369"/>
                </a:lnTo>
                <a:lnTo>
                  <a:pt x="265" y="390"/>
                </a:lnTo>
                <a:lnTo>
                  <a:pt x="269" y="413"/>
                </a:lnTo>
                <a:lnTo>
                  <a:pt x="273" y="436"/>
                </a:lnTo>
                <a:lnTo>
                  <a:pt x="263" y="438"/>
                </a:lnTo>
                <a:lnTo>
                  <a:pt x="251" y="438"/>
                </a:lnTo>
                <a:lnTo>
                  <a:pt x="242" y="438"/>
                </a:lnTo>
                <a:lnTo>
                  <a:pt x="230" y="434"/>
                </a:lnTo>
                <a:lnTo>
                  <a:pt x="221" y="430"/>
                </a:lnTo>
                <a:lnTo>
                  <a:pt x="211" y="427"/>
                </a:lnTo>
                <a:lnTo>
                  <a:pt x="201" y="419"/>
                </a:lnTo>
                <a:lnTo>
                  <a:pt x="192" y="411"/>
                </a:lnTo>
                <a:lnTo>
                  <a:pt x="184" y="402"/>
                </a:lnTo>
                <a:lnTo>
                  <a:pt x="175" y="392"/>
                </a:lnTo>
                <a:lnTo>
                  <a:pt x="167" y="379"/>
                </a:lnTo>
                <a:lnTo>
                  <a:pt x="159" y="365"/>
                </a:lnTo>
                <a:lnTo>
                  <a:pt x="152" y="352"/>
                </a:lnTo>
                <a:lnTo>
                  <a:pt x="144" y="334"/>
                </a:lnTo>
                <a:lnTo>
                  <a:pt x="138" y="317"/>
                </a:lnTo>
                <a:lnTo>
                  <a:pt x="130" y="300"/>
                </a:lnTo>
                <a:lnTo>
                  <a:pt x="125" y="281"/>
                </a:lnTo>
                <a:lnTo>
                  <a:pt x="117" y="263"/>
                </a:lnTo>
                <a:lnTo>
                  <a:pt x="111" y="246"/>
                </a:lnTo>
                <a:lnTo>
                  <a:pt x="105" y="231"/>
                </a:lnTo>
                <a:lnTo>
                  <a:pt x="100" y="215"/>
                </a:lnTo>
                <a:lnTo>
                  <a:pt x="96" y="202"/>
                </a:lnTo>
                <a:lnTo>
                  <a:pt x="90" y="189"/>
                </a:lnTo>
                <a:lnTo>
                  <a:pt x="84" y="177"/>
                </a:lnTo>
                <a:lnTo>
                  <a:pt x="81" y="165"/>
                </a:lnTo>
                <a:lnTo>
                  <a:pt x="75" y="156"/>
                </a:lnTo>
                <a:lnTo>
                  <a:pt x="71" y="148"/>
                </a:lnTo>
                <a:lnTo>
                  <a:pt x="65" y="139"/>
                </a:lnTo>
                <a:lnTo>
                  <a:pt x="61" y="133"/>
                </a:lnTo>
                <a:lnTo>
                  <a:pt x="56" y="125"/>
                </a:lnTo>
                <a:lnTo>
                  <a:pt x="52" y="119"/>
                </a:lnTo>
                <a:lnTo>
                  <a:pt x="48" y="116"/>
                </a:lnTo>
                <a:lnTo>
                  <a:pt x="40" y="114"/>
                </a:lnTo>
                <a:lnTo>
                  <a:pt x="34" y="110"/>
                </a:lnTo>
                <a:lnTo>
                  <a:pt x="31" y="108"/>
                </a:lnTo>
                <a:lnTo>
                  <a:pt x="25" y="104"/>
                </a:lnTo>
                <a:lnTo>
                  <a:pt x="21" y="102"/>
                </a:lnTo>
                <a:lnTo>
                  <a:pt x="17" y="98"/>
                </a:lnTo>
                <a:lnTo>
                  <a:pt x="10" y="89"/>
                </a:lnTo>
                <a:lnTo>
                  <a:pt x="6" y="81"/>
                </a:lnTo>
                <a:lnTo>
                  <a:pt x="2" y="70"/>
                </a:lnTo>
                <a:lnTo>
                  <a:pt x="0" y="60"/>
                </a:lnTo>
                <a:lnTo>
                  <a:pt x="0" y="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80"/>
          <p:cNvSpPr/>
          <p:nvPr/>
        </p:nvSpPr>
        <p:spPr>
          <a:xfrm>
            <a:off x="6149880" y="3521160"/>
            <a:ext cx="1125720" cy="301680"/>
          </a:xfrm>
          <a:custGeom>
            <a:avLst/>
            <a:gdLst/>
            <a:ahLst/>
            <a:rect l="l" t="t" r="r" b="b"/>
            <a:pathLst>
              <a:path w="1417" h="380">
                <a:moveTo>
                  <a:pt x="1236" y="288"/>
                </a:moveTo>
                <a:lnTo>
                  <a:pt x="1229" y="297"/>
                </a:lnTo>
                <a:lnTo>
                  <a:pt x="1221" y="309"/>
                </a:lnTo>
                <a:lnTo>
                  <a:pt x="1213" y="316"/>
                </a:lnTo>
                <a:lnTo>
                  <a:pt x="1204" y="326"/>
                </a:lnTo>
                <a:lnTo>
                  <a:pt x="1194" y="334"/>
                </a:lnTo>
                <a:lnTo>
                  <a:pt x="1183" y="341"/>
                </a:lnTo>
                <a:lnTo>
                  <a:pt x="1171" y="349"/>
                </a:lnTo>
                <a:lnTo>
                  <a:pt x="1159" y="355"/>
                </a:lnTo>
                <a:lnTo>
                  <a:pt x="1146" y="361"/>
                </a:lnTo>
                <a:lnTo>
                  <a:pt x="1135" y="364"/>
                </a:lnTo>
                <a:lnTo>
                  <a:pt x="1119" y="370"/>
                </a:lnTo>
                <a:lnTo>
                  <a:pt x="1106" y="372"/>
                </a:lnTo>
                <a:lnTo>
                  <a:pt x="1092" y="376"/>
                </a:lnTo>
                <a:lnTo>
                  <a:pt x="1077" y="378"/>
                </a:lnTo>
                <a:lnTo>
                  <a:pt x="1062" y="378"/>
                </a:lnTo>
                <a:lnTo>
                  <a:pt x="1046" y="380"/>
                </a:lnTo>
                <a:lnTo>
                  <a:pt x="1058" y="353"/>
                </a:lnTo>
                <a:lnTo>
                  <a:pt x="1067" y="326"/>
                </a:lnTo>
                <a:lnTo>
                  <a:pt x="1077" y="303"/>
                </a:lnTo>
                <a:lnTo>
                  <a:pt x="1085" y="282"/>
                </a:lnTo>
                <a:lnTo>
                  <a:pt x="1094" y="263"/>
                </a:lnTo>
                <a:lnTo>
                  <a:pt x="1102" y="244"/>
                </a:lnTo>
                <a:lnTo>
                  <a:pt x="1108" y="228"/>
                </a:lnTo>
                <a:lnTo>
                  <a:pt x="1113" y="213"/>
                </a:lnTo>
                <a:lnTo>
                  <a:pt x="1119" y="199"/>
                </a:lnTo>
                <a:lnTo>
                  <a:pt x="1123" y="188"/>
                </a:lnTo>
                <a:lnTo>
                  <a:pt x="1127" y="178"/>
                </a:lnTo>
                <a:lnTo>
                  <a:pt x="1129" y="169"/>
                </a:lnTo>
                <a:lnTo>
                  <a:pt x="1131" y="163"/>
                </a:lnTo>
                <a:lnTo>
                  <a:pt x="1131" y="157"/>
                </a:lnTo>
                <a:lnTo>
                  <a:pt x="1131" y="153"/>
                </a:lnTo>
                <a:lnTo>
                  <a:pt x="1129" y="149"/>
                </a:lnTo>
                <a:lnTo>
                  <a:pt x="1127" y="148"/>
                </a:lnTo>
                <a:lnTo>
                  <a:pt x="1123" y="146"/>
                </a:lnTo>
                <a:lnTo>
                  <a:pt x="1119" y="144"/>
                </a:lnTo>
                <a:lnTo>
                  <a:pt x="1113" y="144"/>
                </a:lnTo>
                <a:lnTo>
                  <a:pt x="1108" y="142"/>
                </a:lnTo>
                <a:lnTo>
                  <a:pt x="1102" y="142"/>
                </a:lnTo>
                <a:lnTo>
                  <a:pt x="1096" y="140"/>
                </a:lnTo>
                <a:lnTo>
                  <a:pt x="1088" y="140"/>
                </a:lnTo>
                <a:lnTo>
                  <a:pt x="1079" y="140"/>
                </a:lnTo>
                <a:lnTo>
                  <a:pt x="1071" y="138"/>
                </a:lnTo>
                <a:lnTo>
                  <a:pt x="1062" y="138"/>
                </a:lnTo>
                <a:lnTo>
                  <a:pt x="1052" y="138"/>
                </a:lnTo>
                <a:lnTo>
                  <a:pt x="1033" y="138"/>
                </a:lnTo>
                <a:lnTo>
                  <a:pt x="1010" y="138"/>
                </a:lnTo>
                <a:lnTo>
                  <a:pt x="998" y="138"/>
                </a:lnTo>
                <a:lnTo>
                  <a:pt x="987" y="138"/>
                </a:lnTo>
                <a:lnTo>
                  <a:pt x="973" y="140"/>
                </a:lnTo>
                <a:lnTo>
                  <a:pt x="960" y="140"/>
                </a:lnTo>
                <a:lnTo>
                  <a:pt x="944" y="142"/>
                </a:lnTo>
                <a:lnTo>
                  <a:pt x="929" y="142"/>
                </a:lnTo>
                <a:lnTo>
                  <a:pt x="914" y="144"/>
                </a:lnTo>
                <a:lnTo>
                  <a:pt x="896" y="146"/>
                </a:lnTo>
                <a:lnTo>
                  <a:pt x="879" y="148"/>
                </a:lnTo>
                <a:lnTo>
                  <a:pt x="860" y="149"/>
                </a:lnTo>
                <a:lnTo>
                  <a:pt x="841" y="151"/>
                </a:lnTo>
                <a:lnTo>
                  <a:pt x="822" y="153"/>
                </a:lnTo>
                <a:lnTo>
                  <a:pt x="802" y="155"/>
                </a:lnTo>
                <a:lnTo>
                  <a:pt x="781" y="157"/>
                </a:lnTo>
                <a:lnTo>
                  <a:pt x="758" y="159"/>
                </a:lnTo>
                <a:lnTo>
                  <a:pt x="737" y="161"/>
                </a:lnTo>
                <a:lnTo>
                  <a:pt x="726" y="163"/>
                </a:lnTo>
                <a:lnTo>
                  <a:pt x="714" y="163"/>
                </a:lnTo>
                <a:lnTo>
                  <a:pt x="701" y="165"/>
                </a:lnTo>
                <a:lnTo>
                  <a:pt x="687" y="167"/>
                </a:lnTo>
                <a:lnTo>
                  <a:pt x="674" y="169"/>
                </a:lnTo>
                <a:lnTo>
                  <a:pt x="658" y="171"/>
                </a:lnTo>
                <a:lnTo>
                  <a:pt x="643" y="173"/>
                </a:lnTo>
                <a:lnTo>
                  <a:pt x="626" y="174"/>
                </a:lnTo>
                <a:lnTo>
                  <a:pt x="609" y="176"/>
                </a:lnTo>
                <a:lnTo>
                  <a:pt x="591" y="178"/>
                </a:lnTo>
                <a:lnTo>
                  <a:pt x="572" y="180"/>
                </a:lnTo>
                <a:lnTo>
                  <a:pt x="555" y="184"/>
                </a:lnTo>
                <a:lnTo>
                  <a:pt x="534" y="186"/>
                </a:lnTo>
                <a:lnTo>
                  <a:pt x="514" y="188"/>
                </a:lnTo>
                <a:lnTo>
                  <a:pt x="493" y="192"/>
                </a:lnTo>
                <a:lnTo>
                  <a:pt x="472" y="194"/>
                </a:lnTo>
                <a:lnTo>
                  <a:pt x="449" y="197"/>
                </a:lnTo>
                <a:lnTo>
                  <a:pt x="426" y="199"/>
                </a:lnTo>
                <a:lnTo>
                  <a:pt x="403" y="203"/>
                </a:lnTo>
                <a:lnTo>
                  <a:pt x="378" y="207"/>
                </a:lnTo>
                <a:lnTo>
                  <a:pt x="353" y="209"/>
                </a:lnTo>
                <a:lnTo>
                  <a:pt x="328" y="213"/>
                </a:lnTo>
                <a:lnTo>
                  <a:pt x="301" y="217"/>
                </a:lnTo>
                <a:lnTo>
                  <a:pt x="274" y="220"/>
                </a:lnTo>
                <a:lnTo>
                  <a:pt x="248" y="224"/>
                </a:lnTo>
                <a:lnTo>
                  <a:pt x="219" y="228"/>
                </a:lnTo>
                <a:lnTo>
                  <a:pt x="190" y="232"/>
                </a:lnTo>
                <a:lnTo>
                  <a:pt x="161" y="236"/>
                </a:lnTo>
                <a:lnTo>
                  <a:pt x="131" y="240"/>
                </a:lnTo>
                <a:lnTo>
                  <a:pt x="100" y="244"/>
                </a:lnTo>
                <a:lnTo>
                  <a:pt x="69" y="249"/>
                </a:lnTo>
                <a:lnTo>
                  <a:pt x="36" y="253"/>
                </a:lnTo>
                <a:lnTo>
                  <a:pt x="19" y="207"/>
                </a:lnTo>
                <a:lnTo>
                  <a:pt x="0" y="161"/>
                </a:lnTo>
                <a:lnTo>
                  <a:pt x="54" y="155"/>
                </a:lnTo>
                <a:lnTo>
                  <a:pt x="106" y="148"/>
                </a:lnTo>
                <a:lnTo>
                  <a:pt x="155" y="142"/>
                </a:lnTo>
                <a:lnTo>
                  <a:pt x="205" y="136"/>
                </a:lnTo>
                <a:lnTo>
                  <a:pt x="253" y="128"/>
                </a:lnTo>
                <a:lnTo>
                  <a:pt x="301" y="123"/>
                </a:lnTo>
                <a:lnTo>
                  <a:pt x="347" y="117"/>
                </a:lnTo>
                <a:lnTo>
                  <a:pt x="394" y="111"/>
                </a:lnTo>
                <a:lnTo>
                  <a:pt x="436" y="105"/>
                </a:lnTo>
                <a:lnTo>
                  <a:pt x="480" y="100"/>
                </a:lnTo>
                <a:lnTo>
                  <a:pt x="522" y="94"/>
                </a:lnTo>
                <a:lnTo>
                  <a:pt x="562" y="88"/>
                </a:lnTo>
                <a:lnTo>
                  <a:pt x="601" y="84"/>
                </a:lnTo>
                <a:lnTo>
                  <a:pt x="639" y="78"/>
                </a:lnTo>
                <a:lnTo>
                  <a:pt x="678" y="75"/>
                </a:lnTo>
                <a:lnTo>
                  <a:pt x="714" y="69"/>
                </a:lnTo>
                <a:lnTo>
                  <a:pt x="749" y="67"/>
                </a:lnTo>
                <a:lnTo>
                  <a:pt x="781" y="65"/>
                </a:lnTo>
                <a:lnTo>
                  <a:pt x="812" y="61"/>
                </a:lnTo>
                <a:lnTo>
                  <a:pt x="843" y="59"/>
                </a:lnTo>
                <a:lnTo>
                  <a:pt x="870" y="55"/>
                </a:lnTo>
                <a:lnTo>
                  <a:pt x="896" y="54"/>
                </a:lnTo>
                <a:lnTo>
                  <a:pt x="921" y="50"/>
                </a:lnTo>
                <a:lnTo>
                  <a:pt x="944" y="46"/>
                </a:lnTo>
                <a:lnTo>
                  <a:pt x="964" y="44"/>
                </a:lnTo>
                <a:lnTo>
                  <a:pt x="983" y="40"/>
                </a:lnTo>
                <a:lnTo>
                  <a:pt x="1000" y="36"/>
                </a:lnTo>
                <a:lnTo>
                  <a:pt x="1016" y="34"/>
                </a:lnTo>
                <a:lnTo>
                  <a:pt x="1029" y="30"/>
                </a:lnTo>
                <a:lnTo>
                  <a:pt x="1035" y="30"/>
                </a:lnTo>
                <a:lnTo>
                  <a:pt x="1040" y="29"/>
                </a:lnTo>
                <a:lnTo>
                  <a:pt x="1046" y="27"/>
                </a:lnTo>
                <a:lnTo>
                  <a:pt x="1050" y="27"/>
                </a:lnTo>
                <a:lnTo>
                  <a:pt x="1054" y="25"/>
                </a:lnTo>
                <a:lnTo>
                  <a:pt x="1058" y="23"/>
                </a:lnTo>
                <a:lnTo>
                  <a:pt x="1071" y="19"/>
                </a:lnTo>
                <a:lnTo>
                  <a:pt x="1083" y="17"/>
                </a:lnTo>
                <a:lnTo>
                  <a:pt x="1092" y="15"/>
                </a:lnTo>
                <a:lnTo>
                  <a:pt x="1102" y="11"/>
                </a:lnTo>
                <a:lnTo>
                  <a:pt x="1111" y="9"/>
                </a:lnTo>
                <a:lnTo>
                  <a:pt x="1117" y="7"/>
                </a:lnTo>
                <a:lnTo>
                  <a:pt x="1125" y="4"/>
                </a:lnTo>
                <a:lnTo>
                  <a:pt x="1129" y="0"/>
                </a:lnTo>
                <a:lnTo>
                  <a:pt x="1133" y="0"/>
                </a:lnTo>
                <a:lnTo>
                  <a:pt x="1135" y="2"/>
                </a:lnTo>
                <a:lnTo>
                  <a:pt x="1140" y="2"/>
                </a:lnTo>
                <a:lnTo>
                  <a:pt x="1144" y="4"/>
                </a:lnTo>
                <a:lnTo>
                  <a:pt x="1152" y="4"/>
                </a:lnTo>
                <a:lnTo>
                  <a:pt x="1158" y="6"/>
                </a:lnTo>
                <a:lnTo>
                  <a:pt x="1165" y="7"/>
                </a:lnTo>
                <a:lnTo>
                  <a:pt x="1175" y="11"/>
                </a:lnTo>
                <a:lnTo>
                  <a:pt x="1183" y="13"/>
                </a:lnTo>
                <a:lnTo>
                  <a:pt x="1194" y="17"/>
                </a:lnTo>
                <a:lnTo>
                  <a:pt x="1204" y="21"/>
                </a:lnTo>
                <a:lnTo>
                  <a:pt x="1217" y="25"/>
                </a:lnTo>
                <a:lnTo>
                  <a:pt x="1229" y="29"/>
                </a:lnTo>
                <a:lnTo>
                  <a:pt x="1242" y="34"/>
                </a:lnTo>
                <a:lnTo>
                  <a:pt x="1257" y="40"/>
                </a:lnTo>
                <a:lnTo>
                  <a:pt x="1273" y="46"/>
                </a:lnTo>
                <a:lnTo>
                  <a:pt x="1288" y="54"/>
                </a:lnTo>
                <a:lnTo>
                  <a:pt x="1302" y="59"/>
                </a:lnTo>
                <a:lnTo>
                  <a:pt x="1315" y="67"/>
                </a:lnTo>
                <a:lnTo>
                  <a:pt x="1328" y="73"/>
                </a:lnTo>
                <a:lnTo>
                  <a:pt x="1340" y="78"/>
                </a:lnTo>
                <a:lnTo>
                  <a:pt x="1350" y="84"/>
                </a:lnTo>
                <a:lnTo>
                  <a:pt x="1361" y="90"/>
                </a:lnTo>
                <a:lnTo>
                  <a:pt x="1371" y="96"/>
                </a:lnTo>
                <a:lnTo>
                  <a:pt x="1378" y="101"/>
                </a:lnTo>
                <a:lnTo>
                  <a:pt x="1386" y="105"/>
                </a:lnTo>
                <a:lnTo>
                  <a:pt x="1394" y="111"/>
                </a:lnTo>
                <a:lnTo>
                  <a:pt x="1399" y="115"/>
                </a:lnTo>
                <a:lnTo>
                  <a:pt x="1403" y="119"/>
                </a:lnTo>
                <a:lnTo>
                  <a:pt x="1409" y="121"/>
                </a:lnTo>
                <a:lnTo>
                  <a:pt x="1413" y="125"/>
                </a:lnTo>
                <a:lnTo>
                  <a:pt x="1415" y="126"/>
                </a:lnTo>
                <a:lnTo>
                  <a:pt x="1417" y="130"/>
                </a:lnTo>
                <a:lnTo>
                  <a:pt x="1417" y="134"/>
                </a:lnTo>
                <a:lnTo>
                  <a:pt x="1417" y="138"/>
                </a:lnTo>
                <a:lnTo>
                  <a:pt x="1417" y="142"/>
                </a:lnTo>
                <a:lnTo>
                  <a:pt x="1417" y="146"/>
                </a:lnTo>
                <a:lnTo>
                  <a:pt x="1415" y="148"/>
                </a:lnTo>
                <a:lnTo>
                  <a:pt x="1411" y="151"/>
                </a:lnTo>
                <a:lnTo>
                  <a:pt x="1409" y="153"/>
                </a:lnTo>
                <a:lnTo>
                  <a:pt x="1405" y="157"/>
                </a:lnTo>
                <a:lnTo>
                  <a:pt x="1401" y="159"/>
                </a:lnTo>
                <a:lnTo>
                  <a:pt x="1396" y="161"/>
                </a:lnTo>
                <a:lnTo>
                  <a:pt x="1392" y="165"/>
                </a:lnTo>
                <a:lnTo>
                  <a:pt x="1380" y="169"/>
                </a:lnTo>
                <a:lnTo>
                  <a:pt x="1367" y="173"/>
                </a:lnTo>
                <a:lnTo>
                  <a:pt x="1359" y="174"/>
                </a:lnTo>
                <a:lnTo>
                  <a:pt x="1350" y="178"/>
                </a:lnTo>
                <a:lnTo>
                  <a:pt x="1340" y="182"/>
                </a:lnTo>
                <a:lnTo>
                  <a:pt x="1332" y="188"/>
                </a:lnTo>
                <a:lnTo>
                  <a:pt x="1323" y="194"/>
                </a:lnTo>
                <a:lnTo>
                  <a:pt x="1315" y="199"/>
                </a:lnTo>
                <a:lnTo>
                  <a:pt x="1305" y="205"/>
                </a:lnTo>
                <a:lnTo>
                  <a:pt x="1298" y="213"/>
                </a:lnTo>
                <a:lnTo>
                  <a:pt x="1288" y="220"/>
                </a:lnTo>
                <a:lnTo>
                  <a:pt x="1280" y="228"/>
                </a:lnTo>
                <a:lnTo>
                  <a:pt x="1265" y="247"/>
                </a:lnTo>
                <a:lnTo>
                  <a:pt x="1250" y="267"/>
                </a:lnTo>
                <a:lnTo>
                  <a:pt x="1236" y="2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81"/>
          <p:cNvSpPr/>
          <p:nvPr/>
        </p:nvSpPr>
        <p:spPr>
          <a:xfrm>
            <a:off x="6197760" y="3759120"/>
            <a:ext cx="952200" cy="181080"/>
          </a:xfrm>
          <a:custGeom>
            <a:avLst/>
            <a:gdLst/>
            <a:ahLst/>
            <a:rect l="l" t="t" r="r" b="b"/>
            <a:pathLst>
              <a:path w="1200" h="229">
                <a:moveTo>
                  <a:pt x="0" y="150"/>
                </a:moveTo>
                <a:lnTo>
                  <a:pt x="72" y="142"/>
                </a:lnTo>
                <a:lnTo>
                  <a:pt x="144" y="135"/>
                </a:lnTo>
                <a:lnTo>
                  <a:pt x="288" y="119"/>
                </a:lnTo>
                <a:lnTo>
                  <a:pt x="434" y="102"/>
                </a:lnTo>
                <a:lnTo>
                  <a:pt x="580" y="83"/>
                </a:lnTo>
                <a:lnTo>
                  <a:pt x="728" y="64"/>
                </a:lnTo>
                <a:lnTo>
                  <a:pt x="876" y="42"/>
                </a:lnTo>
                <a:lnTo>
                  <a:pt x="1026" y="21"/>
                </a:lnTo>
                <a:lnTo>
                  <a:pt x="1177" y="0"/>
                </a:lnTo>
                <a:lnTo>
                  <a:pt x="1189" y="52"/>
                </a:lnTo>
                <a:lnTo>
                  <a:pt x="1200" y="104"/>
                </a:lnTo>
                <a:lnTo>
                  <a:pt x="1141" y="110"/>
                </a:lnTo>
                <a:lnTo>
                  <a:pt x="1077" y="117"/>
                </a:lnTo>
                <a:lnTo>
                  <a:pt x="1014" y="123"/>
                </a:lnTo>
                <a:lnTo>
                  <a:pt x="949" y="131"/>
                </a:lnTo>
                <a:lnTo>
                  <a:pt x="882" y="138"/>
                </a:lnTo>
                <a:lnTo>
                  <a:pt x="814" y="146"/>
                </a:lnTo>
                <a:lnTo>
                  <a:pt x="743" y="154"/>
                </a:lnTo>
                <a:lnTo>
                  <a:pt x="672" y="161"/>
                </a:lnTo>
                <a:lnTo>
                  <a:pt x="599" y="169"/>
                </a:lnTo>
                <a:lnTo>
                  <a:pt x="525" y="179"/>
                </a:lnTo>
                <a:lnTo>
                  <a:pt x="448" y="186"/>
                </a:lnTo>
                <a:lnTo>
                  <a:pt x="369" y="194"/>
                </a:lnTo>
                <a:lnTo>
                  <a:pt x="288" y="204"/>
                </a:lnTo>
                <a:lnTo>
                  <a:pt x="206" y="211"/>
                </a:lnTo>
                <a:lnTo>
                  <a:pt x="123" y="221"/>
                </a:lnTo>
                <a:lnTo>
                  <a:pt x="79" y="225"/>
                </a:lnTo>
                <a:lnTo>
                  <a:pt x="37" y="229"/>
                </a:lnTo>
                <a:lnTo>
                  <a:pt x="20" y="188"/>
                </a:lnTo>
                <a:lnTo>
                  <a:pt x="0" y="1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82"/>
          <p:cNvSpPr/>
          <p:nvPr/>
        </p:nvSpPr>
        <p:spPr>
          <a:xfrm>
            <a:off x="5943600" y="4095720"/>
            <a:ext cx="219240" cy="455760"/>
          </a:xfrm>
          <a:custGeom>
            <a:avLst/>
            <a:gdLst/>
            <a:ahLst/>
            <a:rect l="l" t="t" r="r" b="b"/>
            <a:pathLst>
              <a:path w="276" h="574">
                <a:moveTo>
                  <a:pt x="226" y="46"/>
                </a:moveTo>
                <a:lnTo>
                  <a:pt x="228" y="77"/>
                </a:lnTo>
                <a:lnTo>
                  <a:pt x="232" y="106"/>
                </a:lnTo>
                <a:lnTo>
                  <a:pt x="236" y="135"/>
                </a:lnTo>
                <a:lnTo>
                  <a:pt x="238" y="163"/>
                </a:lnTo>
                <a:lnTo>
                  <a:pt x="242" y="190"/>
                </a:lnTo>
                <a:lnTo>
                  <a:pt x="244" y="215"/>
                </a:lnTo>
                <a:lnTo>
                  <a:pt x="248" y="240"/>
                </a:lnTo>
                <a:lnTo>
                  <a:pt x="249" y="263"/>
                </a:lnTo>
                <a:lnTo>
                  <a:pt x="251" y="286"/>
                </a:lnTo>
                <a:lnTo>
                  <a:pt x="255" y="307"/>
                </a:lnTo>
                <a:lnTo>
                  <a:pt x="257" y="329"/>
                </a:lnTo>
                <a:lnTo>
                  <a:pt x="259" y="350"/>
                </a:lnTo>
                <a:lnTo>
                  <a:pt x="261" y="369"/>
                </a:lnTo>
                <a:lnTo>
                  <a:pt x="263" y="386"/>
                </a:lnTo>
                <a:lnTo>
                  <a:pt x="265" y="403"/>
                </a:lnTo>
                <a:lnTo>
                  <a:pt x="267" y="419"/>
                </a:lnTo>
                <a:lnTo>
                  <a:pt x="269" y="434"/>
                </a:lnTo>
                <a:lnTo>
                  <a:pt x="271" y="448"/>
                </a:lnTo>
                <a:lnTo>
                  <a:pt x="272" y="461"/>
                </a:lnTo>
                <a:lnTo>
                  <a:pt x="272" y="474"/>
                </a:lnTo>
                <a:lnTo>
                  <a:pt x="274" y="486"/>
                </a:lnTo>
                <a:lnTo>
                  <a:pt x="274" y="496"/>
                </a:lnTo>
                <a:lnTo>
                  <a:pt x="274" y="505"/>
                </a:lnTo>
                <a:lnTo>
                  <a:pt x="276" y="515"/>
                </a:lnTo>
                <a:lnTo>
                  <a:pt x="276" y="522"/>
                </a:lnTo>
                <a:lnTo>
                  <a:pt x="276" y="528"/>
                </a:lnTo>
                <a:lnTo>
                  <a:pt x="276" y="534"/>
                </a:lnTo>
                <a:lnTo>
                  <a:pt x="276" y="540"/>
                </a:lnTo>
                <a:lnTo>
                  <a:pt x="276" y="543"/>
                </a:lnTo>
                <a:lnTo>
                  <a:pt x="274" y="547"/>
                </a:lnTo>
                <a:lnTo>
                  <a:pt x="274" y="549"/>
                </a:lnTo>
                <a:lnTo>
                  <a:pt x="272" y="551"/>
                </a:lnTo>
                <a:lnTo>
                  <a:pt x="269" y="555"/>
                </a:lnTo>
                <a:lnTo>
                  <a:pt x="263" y="559"/>
                </a:lnTo>
                <a:lnTo>
                  <a:pt x="257" y="563"/>
                </a:lnTo>
                <a:lnTo>
                  <a:pt x="249" y="567"/>
                </a:lnTo>
                <a:lnTo>
                  <a:pt x="244" y="570"/>
                </a:lnTo>
                <a:lnTo>
                  <a:pt x="236" y="572"/>
                </a:lnTo>
                <a:lnTo>
                  <a:pt x="230" y="574"/>
                </a:lnTo>
                <a:lnTo>
                  <a:pt x="226" y="574"/>
                </a:lnTo>
                <a:lnTo>
                  <a:pt x="224" y="572"/>
                </a:lnTo>
                <a:lnTo>
                  <a:pt x="221" y="570"/>
                </a:lnTo>
                <a:lnTo>
                  <a:pt x="219" y="567"/>
                </a:lnTo>
                <a:lnTo>
                  <a:pt x="215" y="561"/>
                </a:lnTo>
                <a:lnTo>
                  <a:pt x="211" y="553"/>
                </a:lnTo>
                <a:lnTo>
                  <a:pt x="207" y="543"/>
                </a:lnTo>
                <a:lnTo>
                  <a:pt x="203" y="534"/>
                </a:lnTo>
                <a:lnTo>
                  <a:pt x="200" y="520"/>
                </a:lnTo>
                <a:lnTo>
                  <a:pt x="194" y="507"/>
                </a:lnTo>
                <a:lnTo>
                  <a:pt x="190" y="490"/>
                </a:lnTo>
                <a:lnTo>
                  <a:pt x="184" y="472"/>
                </a:lnTo>
                <a:lnTo>
                  <a:pt x="178" y="453"/>
                </a:lnTo>
                <a:lnTo>
                  <a:pt x="173" y="432"/>
                </a:lnTo>
                <a:lnTo>
                  <a:pt x="167" y="407"/>
                </a:lnTo>
                <a:lnTo>
                  <a:pt x="161" y="382"/>
                </a:lnTo>
                <a:lnTo>
                  <a:pt x="155" y="355"/>
                </a:lnTo>
                <a:lnTo>
                  <a:pt x="148" y="330"/>
                </a:lnTo>
                <a:lnTo>
                  <a:pt x="142" y="307"/>
                </a:lnTo>
                <a:lnTo>
                  <a:pt x="134" y="284"/>
                </a:lnTo>
                <a:lnTo>
                  <a:pt x="129" y="263"/>
                </a:lnTo>
                <a:lnTo>
                  <a:pt x="121" y="244"/>
                </a:lnTo>
                <a:lnTo>
                  <a:pt x="115" y="225"/>
                </a:lnTo>
                <a:lnTo>
                  <a:pt x="107" y="208"/>
                </a:lnTo>
                <a:lnTo>
                  <a:pt x="102" y="190"/>
                </a:lnTo>
                <a:lnTo>
                  <a:pt x="94" y="177"/>
                </a:lnTo>
                <a:lnTo>
                  <a:pt x="88" y="162"/>
                </a:lnTo>
                <a:lnTo>
                  <a:pt x="81" y="150"/>
                </a:lnTo>
                <a:lnTo>
                  <a:pt x="75" y="139"/>
                </a:lnTo>
                <a:lnTo>
                  <a:pt x="67" y="127"/>
                </a:lnTo>
                <a:lnTo>
                  <a:pt x="61" y="119"/>
                </a:lnTo>
                <a:lnTo>
                  <a:pt x="54" y="110"/>
                </a:lnTo>
                <a:lnTo>
                  <a:pt x="48" y="104"/>
                </a:lnTo>
                <a:lnTo>
                  <a:pt x="42" y="100"/>
                </a:lnTo>
                <a:lnTo>
                  <a:pt x="36" y="94"/>
                </a:lnTo>
                <a:lnTo>
                  <a:pt x="31" y="91"/>
                </a:lnTo>
                <a:lnTo>
                  <a:pt x="25" y="87"/>
                </a:lnTo>
                <a:lnTo>
                  <a:pt x="21" y="81"/>
                </a:lnTo>
                <a:lnTo>
                  <a:pt x="17" y="77"/>
                </a:lnTo>
                <a:lnTo>
                  <a:pt x="11" y="69"/>
                </a:lnTo>
                <a:lnTo>
                  <a:pt x="6" y="60"/>
                </a:lnTo>
                <a:lnTo>
                  <a:pt x="2" y="52"/>
                </a:lnTo>
                <a:lnTo>
                  <a:pt x="0" y="43"/>
                </a:lnTo>
                <a:lnTo>
                  <a:pt x="0" y="35"/>
                </a:lnTo>
                <a:lnTo>
                  <a:pt x="0" y="31"/>
                </a:lnTo>
                <a:lnTo>
                  <a:pt x="2" y="27"/>
                </a:lnTo>
                <a:lnTo>
                  <a:pt x="2" y="23"/>
                </a:lnTo>
                <a:lnTo>
                  <a:pt x="4" y="20"/>
                </a:lnTo>
                <a:lnTo>
                  <a:pt x="8" y="16"/>
                </a:lnTo>
                <a:lnTo>
                  <a:pt x="9" y="14"/>
                </a:lnTo>
                <a:lnTo>
                  <a:pt x="13" y="12"/>
                </a:lnTo>
                <a:lnTo>
                  <a:pt x="17" y="8"/>
                </a:lnTo>
                <a:lnTo>
                  <a:pt x="23" y="6"/>
                </a:lnTo>
                <a:lnTo>
                  <a:pt x="29" y="4"/>
                </a:lnTo>
                <a:lnTo>
                  <a:pt x="34" y="4"/>
                </a:lnTo>
                <a:lnTo>
                  <a:pt x="40" y="2"/>
                </a:lnTo>
                <a:lnTo>
                  <a:pt x="48" y="2"/>
                </a:lnTo>
                <a:lnTo>
                  <a:pt x="56" y="0"/>
                </a:lnTo>
                <a:lnTo>
                  <a:pt x="63" y="0"/>
                </a:lnTo>
                <a:lnTo>
                  <a:pt x="71" y="0"/>
                </a:lnTo>
                <a:lnTo>
                  <a:pt x="79" y="2"/>
                </a:lnTo>
                <a:lnTo>
                  <a:pt x="86" y="4"/>
                </a:lnTo>
                <a:lnTo>
                  <a:pt x="94" y="6"/>
                </a:lnTo>
                <a:lnTo>
                  <a:pt x="102" y="10"/>
                </a:lnTo>
                <a:lnTo>
                  <a:pt x="121" y="14"/>
                </a:lnTo>
                <a:lnTo>
                  <a:pt x="140" y="20"/>
                </a:lnTo>
                <a:lnTo>
                  <a:pt x="161" y="25"/>
                </a:lnTo>
                <a:lnTo>
                  <a:pt x="182" y="31"/>
                </a:lnTo>
                <a:lnTo>
                  <a:pt x="203" y="39"/>
                </a:lnTo>
                <a:lnTo>
                  <a:pt x="226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83"/>
          <p:cNvSpPr/>
          <p:nvPr/>
        </p:nvSpPr>
        <p:spPr>
          <a:xfrm>
            <a:off x="6094440" y="3976560"/>
            <a:ext cx="1311120" cy="346320"/>
          </a:xfrm>
          <a:custGeom>
            <a:avLst/>
            <a:gdLst/>
            <a:ahLst/>
            <a:rect l="l" t="t" r="r" b="b"/>
            <a:pathLst>
              <a:path w="1653" h="435">
                <a:moveTo>
                  <a:pt x="1284" y="23"/>
                </a:moveTo>
                <a:lnTo>
                  <a:pt x="1296" y="19"/>
                </a:lnTo>
                <a:lnTo>
                  <a:pt x="1307" y="15"/>
                </a:lnTo>
                <a:lnTo>
                  <a:pt x="1319" y="11"/>
                </a:lnTo>
                <a:lnTo>
                  <a:pt x="1330" y="7"/>
                </a:lnTo>
                <a:lnTo>
                  <a:pt x="1340" y="3"/>
                </a:lnTo>
                <a:lnTo>
                  <a:pt x="1350" y="2"/>
                </a:lnTo>
                <a:lnTo>
                  <a:pt x="1357" y="2"/>
                </a:lnTo>
                <a:lnTo>
                  <a:pt x="1367" y="0"/>
                </a:lnTo>
                <a:lnTo>
                  <a:pt x="1373" y="2"/>
                </a:lnTo>
                <a:lnTo>
                  <a:pt x="1376" y="5"/>
                </a:lnTo>
                <a:lnTo>
                  <a:pt x="1384" y="7"/>
                </a:lnTo>
                <a:lnTo>
                  <a:pt x="1392" y="11"/>
                </a:lnTo>
                <a:lnTo>
                  <a:pt x="1399" y="15"/>
                </a:lnTo>
                <a:lnTo>
                  <a:pt x="1407" y="19"/>
                </a:lnTo>
                <a:lnTo>
                  <a:pt x="1417" y="23"/>
                </a:lnTo>
                <a:lnTo>
                  <a:pt x="1428" y="27"/>
                </a:lnTo>
                <a:lnTo>
                  <a:pt x="1438" y="32"/>
                </a:lnTo>
                <a:lnTo>
                  <a:pt x="1451" y="38"/>
                </a:lnTo>
                <a:lnTo>
                  <a:pt x="1463" y="44"/>
                </a:lnTo>
                <a:lnTo>
                  <a:pt x="1476" y="50"/>
                </a:lnTo>
                <a:lnTo>
                  <a:pt x="1490" y="57"/>
                </a:lnTo>
                <a:lnTo>
                  <a:pt x="1503" y="65"/>
                </a:lnTo>
                <a:lnTo>
                  <a:pt x="1518" y="73"/>
                </a:lnTo>
                <a:lnTo>
                  <a:pt x="1534" y="80"/>
                </a:lnTo>
                <a:lnTo>
                  <a:pt x="1547" y="90"/>
                </a:lnTo>
                <a:lnTo>
                  <a:pt x="1563" y="98"/>
                </a:lnTo>
                <a:lnTo>
                  <a:pt x="1574" y="105"/>
                </a:lnTo>
                <a:lnTo>
                  <a:pt x="1588" y="113"/>
                </a:lnTo>
                <a:lnTo>
                  <a:pt x="1597" y="121"/>
                </a:lnTo>
                <a:lnTo>
                  <a:pt x="1607" y="128"/>
                </a:lnTo>
                <a:lnTo>
                  <a:pt x="1616" y="134"/>
                </a:lnTo>
                <a:lnTo>
                  <a:pt x="1624" y="142"/>
                </a:lnTo>
                <a:lnTo>
                  <a:pt x="1630" y="147"/>
                </a:lnTo>
                <a:lnTo>
                  <a:pt x="1636" y="153"/>
                </a:lnTo>
                <a:lnTo>
                  <a:pt x="1641" y="159"/>
                </a:lnTo>
                <a:lnTo>
                  <a:pt x="1645" y="165"/>
                </a:lnTo>
                <a:lnTo>
                  <a:pt x="1649" y="170"/>
                </a:lnTo>
                <a:lnTo>
                  <a:pt x="1651" y="174"/>
                </a:lnTo>
                <a:lnTo>
                  <a:pt x="1651" y="180"/>
                </a:lnTo>
                <a:lnTo>
                  <a:pt x="1653" y="184"/>
                </a:lnTo>
                <a:lnTo>
                  <a:pt x="1651" y="188"/>
                </a:lnTo>
                <a:lnTo>
                  <a:pt x="1651" y="192"/>
                </a:lnTo>
                <a:lnTo>
                  <a:pt x="1649" y="195"/>
                </a:lnTo>
                <a:lnTo>
                  <a:pt x="1647" y="199"/>
                </a:lnTo>
                <a:lnTo>
                  <a:pt x="1645" y="201"/>
                </a:lnTo>
                <a:lnTo>
                  <a:pt x="1641" y="205"/>
                </a:lnTo>
                <a:lnTo>
                  <a:pt x="1637" y="207"/>
                </a:lnTo>
                <a:lnTo>
                  <a:pt x="1632" y="209"/>
                </a:lnTo>
                <a:lnTo>
                  <a:pt x="1628" y="211"/>
                </a:lnTo>
                <a:lnTo>
                  <a:pt x="1622" y="213"/>
                </a:lnTo>
                <a:lnTo>
                  <a:pt x="1614" y="215"/>
                </a:lnTo>
                <a:lnTo>
                  <a:pt x="1607" y="217"/>
                </a:lnTo>
                <a:lnTo>
                  <a:pt x="1599" y="217"/>
                </a:lnTo>
                <a:lnTo>
                  <a:pt x="1589" y="218"/>
                </a:lnTo>
                <a:lnTo>
                  <a:pt x="1580" y="218"/>
                </a:lnTo>
                <a:lnTo>
                  <a:pt x="1568" y="218"/>
                </a:lnTo>
                <a:lnTo>
                  <a:pt x="1559" y="220"/>
                </a:lnTo>
                <a:lnTo>
                  <a:pt x="1547" y="224"/>
                </a:lnTo>
                <a:lnTo>
                  <a:pt x="1536" y="228"/>
                </a:lnTo>
                <a:lnTo>
                  <a:pt x="1526" y="232"/>
                </a:lnTo>
                <a:lnTo>
                  <a:pt x="1517" y="236"/>
                </a:lnTo>
                <a:lnTo>
                  <a:pt x="1507" y="241"/>
                </a:lnTo>
                <a:lnTo>
                  <a:pt x="1497" y="247"/>
                </a:lnTo>
                <a:lnTo>
                  <a:pt x="1488" y="255"/>
                </a:lnTo>
                <a:lnTo>
                  <a:pt x="1480" y="261"/>
                </a:lnTo>
                <a:lnTo>
                  <a:pt x="1470" y="270"/>
                </a:lnTo>
                <a:lnTo>
                  <a:pt x="1463" y="278"/>
                </a:lnTo>
                <a:lnTo>
                  <a:pt x="1455" y="288"/>
                </a:lnTo>
                <a:lnTo>
                  <a:pt x="1447" y="297"/>
                </a:lnTo>
                <a:lnTo>
                  <a:pt x="1440" y="309"/>
                </a:lnTo>
                <a:lnTo>
                  <a:pt x="1432" y="320"/>
                </a:lnTo>
                <a:lnTo>
                  <a:pt x="1426" y="334"/>
                </a:lnTo>
                <a:lnTo>
                  <a:pt x="1419" y="345"/>
                </a:lnTo>
                <a:lnTo>
                  <a:pt x="1411" y="357"/>
                </a:lnTo>
                <a:lnTo>
                  <a:pt x="1401" y="368"/>
                </a:lnTo>
                <a:lnTo>
                  <a:pt x="1392" y="378"/>
                </a:lnTo>
                <a:lnTo>
                  <a:pt x="1380" y="387"/>
                </a:lnTo>
                <a:lnTo>
                  <a:pt x="1367" y="395"/>
                </a:lnTo>
                <a:lnTo>
                  <a:pt x="1353" y="403"/>
                </a:lnTo>
                <a:lnTo>
                  <a:pt x="1340" y="410"/>
                </a:lnTo>
                <a:lnTo>
                  <a:pt x="1325" y="416"/>
                </a:lnTo>
                <a:lnTo>
                  <a:pt x="1309" y="422"/>
                </a:lnTo>
                <a:lnTo>
                  <a:pt x="1294" y="426"/>
                </a:lnTo>
                <a:lnTo>
                  <a:pt x="1277" y="430"/>
                </a:lnTo>
                <a:lnTo>
                  <a:pt x="1257" y="433"/>
                </a:lnTo>
                <a:lnTo>
                  <a:pt x="1240" y="435"/>
                </a:lnTo>
                <a:lnTo>
                  <a:pt x="1221" y="435"/>
                </a:lnTo>
                <a:lnTo>
                  <a:pt x="1200" y="435"/>
                </a:lnTo>
                <a:lnTo>
                  <a:pt x="1206" y="420"/>
                </a:lnTo>
                <a:lnTo>
                  <a:pt x="1211" y="403"/>
                </a:lnTo>
                <a:lnTo>
                  <a:pt x="1217" y="387"/>
                </a:lnTo>
                <a:lnTo>
                  <a:pt x="1221" y="372"/>
                </a:lnTo>
                <a:lnTo>
                  <a:pt x="1227" y="357"/>
                </a:lnTo>
                <a:lnTo>
                  <a:pt x="1230" y="343"/>
                </a:lnTo>
                <a:lnTo>
                  <a:pt x="1234" y="328"/>
                </a:lnTo>
                <a:lnTo>
                  <a:pt x="1240" y="314"/>
                </a:lnTo>
                <a:lnTo>
                  <a:pt x="1244" y="303"/>
                </a:lnTo>
                <a:lnTo>
                  <a:pt x="1248" y="289"/>
                </a:lnTo>
                <a:lnTo>
                  <a:pt x="1252" y="278"/>
                </a:lnTo>
                <a:lnTo>
                  <a:pt x="1255" y="268"/>
                </a:lnTo>
                <a:lnTo>
                  <a:pt x="1259" y="257"/>
                </a:lnTo>
                <a:lnTo>
                  <a:pt x="1263" y="247"/>
                </a:lnTo>
                <a:lnTo>
                  <a:pt x="1265" y="238"/>
                </a:lnTo>
                <a:lnTo>
                  <a:pt x="1269" y="228"/>
                </a:lnTo>
                <a:lnTo>
                  <a:pt x="1271" y="220"/>
                </a:lnTo>
                <a:lnTo>
                  <a:pt x="1273" y="211"/>
                </a:lnTo>
                <a:lnTo>
                  <a:pt x="1277" y="203"/>
                </a:lnTo>
                <a:lnTo>
                  <a:pt x="1278" y="197"/>
                </a:lnTo>
                <a:lnTo>
                  <a:pt x="1280" y="190"/>
                </a:lnTo>
                <a:lnTo>
                  <a:pt x="1280" y="184"/>
                </a:lnTo>
                <a:lnTo>
                  <a:pt x="1282" y="178"/>
                </a:lnTo>
                <a:lnTo>
                  <a:pt x="1284" y="172"/>
                </a:lnTo>
                <a:lnTo>
                  <a:pt x="1284" y="169"/>
                </a:lnTo>
                <a:lnTo>
                  <a:pt x="1286" y="165"/>
                </a:lnTo>
                <a:lnTo>
                  <a:pt x="1286" y="161"/>
                </a:lnTo>
                <a:lnTo>
                  <a:pt x="1286" y="157"/>
                </a:lnTo>
                <a:lnTo>
                  <a:pt x="1284" y="153"/>
                </a:lnTo>
                <a:lnTo>
                  <a:pt x="1284" y="149"/>
                </a:lnTo>
                <a:lnTo>
                  <a:pt x="1278" y="145"/>
                </a:lnTo>
                <a:lnTo>
                  <a:pt x="1273" y="142"/>
                </a:lnTo>
                <a:lnTo>
                  <a:pt x="1269" y="142"/>
                </a:lnTo>
                <a:lnTo>
                  <a:pt x="1263" y="140"/>
                </a:lnTo>
                <a:lnTo>
                  <a:pt x="1259" y="140"/>
                </a:lnTo>
                <a:lnTo>
                  <a:pt x="1254" y="140"/>
                </a:lnTo>
                <a:lnTo>
                  <a:pt x="1248" y="140"/>
                </a:lnTo>
                <a:lnTo>
                  <a:pt x="1242" y="138"/>
                </a:lnTo>
                <a:lnTo>
                  <a:pt x="1234" y="138"/>
                </a:lnTo>
                <a:lnTo>
                  <a:pt x="1227" y="138"/>
                </a:lnTo>
                <a:lnTo>
                  <a:pt x="1219" y="138"/>
                </a:lnTo>
                <a:lnTo>
                  <a:pt x="1209" y="138"/>
                </a:lnTo>
                <a:lnTo>
                  <a:pt x="1200" y="138"/>
                </a:lnTo>
                <a:lnTo>
                  <a:pt x="1188" y="138"/>
                </a:lnTo>
                <a:lnTo>
                  <a:pt x="1186" y="138"/>
                </a:lnTo>
                <a:lnTo>
                  <a:pt x="1182" y="138"/>
                </a:lnTo>
                <a:lnTo>
                  <a:pt x="1179" y="138"/>
                </a:lnTo>
                <a:lnTo>
                  <a:pt x="1173" y="138"/>
                </a:lnTo>
                <a:lnTo>
                  <a:pt x="1169" y="138"/>
                </a:lnTo>
                <a:lnTo>
                  <a:pt x="1163" y="140"/>
                </a:lnTo>
                <a:lnTo>
                  <a:pt x="1158" y="140"/>
                </a:lnTo>
                <a:lnTo>
                  <a:pt x="1150" y="140"/>
                </a:lnTo>
                <a:lnTo>
                  <a:pt x="1144" y="140"/>
                </a:lnTo>
                <a:lnTo>
                  <a:pt x="1136" y="142"/>
                </a:lnTo>
                <a:lnTo>
                  <a:pt x="1129" y="142"/>
                </a:lnTo>
                <a:lnTo>
                  <a:pt x="1119" y="142"/>
                </a:lnTo>
                <a:lnTo>
                  <a:pt x="1111" y="144"/>
                </a:lnTo>
                <a:lnTo>
                  <a:pt x="1102" y="144"/>
                </a:lnTo>
                <a:lnTo>
                  <a:pt x="1092" y="145"/>
                </a:lnTo>
                <a:lnTo>
                  <a:pt x="1081" y="145"/>
                </a:lnTo>
                <a:lnTo>
                  <a:pt x="1071" y="147"/>
                </a:lnTo>
                <a:lnTo>
                  <a:pt x="1060" y="149"/>
                </a:lnTo>
                <a:lnTo>
                  <a:pt x="1048" y="149"/>
                </a:lnTo>
                <a:lnTo>
                  <a:pt x="1035" y="151"/>
                </a:lnTo>
                <a:lnTo>
                  <a:pt x="1021" y="153"/>
                </a:lnTo>
                <a:lnTo>
                  <a:pt x="1008" y="153"/>
                </a:lnTo>
                <a:lnTo>
                  <a:pt x="994" y="155"/>
                </a:lnTo>
                <a:lnTo>
                  <a:pt x="981" y="157"/>
                </a:lnTo>
                <a:lnTo>
                  <a:pt x="966" y="159"/>
                </a:lnTo>
                <a:lnTo>
                  <a:pt x="950" y="161"/>
                </a:lnTo>
                <a:lnTo>
                  <a:pt x="935" y="163"/>
                </a:lnTo>
                <a:lnTo>
                  <a:pt x="918" y="165"/>
                </a:lnTo>
                <a:lnTo>
                  <a:pt x="902" y="167"/>
                </a:lnTo>
                <a:lnTo>
                  <a:pt x="885" y="169"/>
                </a:lnTo>
                <a:lnTo>
                  <a:pt x="866" y="170"/>
                </a:lnTo>
                <a:lnTo>
                  <a:pt x="848" y="172"/>
                </a:lnTo>
                <a:lnTo>
                  <a:pt x="829" y="174"/>
                </a:lnTo>
                <a:lnTo>
                  <a:pt x="810" y="178"/>
                </a:lnTo>
                <a:lnTo>
                  <a:pt x="791" y="180"/>
                </a:lnTo>
                <a:lnTo>
                  <a:pt x="770" y="182"/>
                </a:lnTo>
                <a:lnTo>
                  <a:pt x="749" y="186"/>
                </a:lnTo>
                <a:lnTo>
                  <a:pt x="728" y="188"/>
                </a:lnTo>
                <a:lnTo>
                  <a:pt x="706" y="190"/>
                </a:lnTo>
                <a:lnTo>
                  <a:pt x="683" y="193"/>
                </a:lnTo>
                <a:lnTo>
                  <a:pt x="662" y="195"/>
                </a:lnTo>
                <a:lnTo>
                  <a:pt x="637" y="199"/>
                </a:lnTo>
                <a:lnTo>
                  <a:pt x="614" y="203"/>
                </a:lnTo>
                <a:lnTo>
                  <a:pt x="589" y="205"/>
                </a:lnTo>
                <a:lnTo>
                  <a:pt x="566" y="209"/>
                </a:lnTo>
                <a:lnTo>
                  <a:pt x="539" y="213"/>
                </a:lnTo>
                <a:lnTo>
                  <a:pt x="514" y="217"/>
                </a:lnTo>
                <a:lnTo>
                  <a:pt x="488" y="218"/>
                </a:lnTo>
                <a:lnTo>
                  <a:pt x="461" y="222"/>
                </a:lnTo>
                <a:lnTo>
                  <a:pt x="434" y="226"/>
                </a:lnTo>
                <a:lnTo>
                  <a:pt x="407" y="230"/>
                </a:lnTo>
                <a:lnTo>
                  <a:pt x="378" y="234"/>
                </a:lnTo>
                <a:lnTo>
                  <a:pt x="349" y="238"/>
                </a:lnTo>
                <a:lnTo>
                  <a:pt x="321" y="241"/>
                </a:lnTo>
                <a:lnTo>
                  <a:pt x="290" y="245"/>
                </a:lnTo>
                <a:lnTo>
                  <a:pt x="261" y="251"/>
                </a:lnTo>
                <a:lnTo>
                  <a:pt x="230" y="255"/>
                </a:lnTo>
                <a:lnTo>
                  <a:pt x="198" y="259"/>
                </a:lnTo>
                <a:lnTo>
                  <a:pt x="167" y="263"/>
                </a:lnTo>
                <a:lnTo>
                  <a:pt x="134" y="268"/>
                </a:lnTo>
                <a:lnTo>
                  <a:pt x="102" y="272"/>
                </a:lnTo>
                <a:lnTo>
                  <a:pt x="67" y="278"/>
                </a:lnTo>
                <a:lnTo>
                  <a:pt x="34" y="282"/>
                </a:lnTo>
                <a:lnTo>
                  <a:pt x="0" y="288"/>
                </a:lnTo>
                <a:lnTo>
                  <a:pt x="0" y="195"/>
                </a:lnTo>
                <a:lnTo>
                  <a:pt x="11" y="195"/>
                </a:lnTo>
                <a:lnTo>
                  <a:pt x="25" y="195"/>
                </a:lnTo>
                <a:lnTo>
                  <a:pt x="38" y="193"/>
                </a:lnTo>
                <a:lnTo>
                  <a:pt x="54" y="193"/>
                </a:lnTo>
                <a:lnTo>
                  <a:pt x="69" y="192"/>
                </a:lnTo>
                <a:lnTo>
                  <a:pt x="86" y="190"/>
                </a:lnTo>
                <a:lnTo>
                  <a:pt x="104" y="190"/>
                </a:lnTo>
                <a:lnTo>
                  <a:pt x="123" y="188"/>
                </a:lnTo>
                <a:lnTo>
                  <a:pt x="144" y="184"/>
                </a:lnTo>
                <a:lnTo>
                  <a:pt x="165" y="182"/>
                </a:lnTo>
                <a:lnTo>
                  <a:pt x="186" y="180"/>
                </a:lnTo>
                <a:lnTo>
                  <a:pt x="209" y="176"/>
                </a:lnTo>
                <a:lnTo>
                  <a:pt x="232" y="172"/>
                </a:lnTo>
                <a:lnTo>
                  <a:pt x="257" y="169"/>
                </a:lnTo>
                <a:lnTo>
                  <a:pt x="282" y="165"/>
                </a:lnTo>
                <a:lnTo>
                  <a:pt x="309" y="161"/>
                </a:lnTo>
                <a:lnTo>
                  <a:pt x="334" y="157"/>
                </a:lnTo>
                <a:lnTo>
                  <a:pt x="361" y="151"/>
                </a:lnTo>
                <a:lnTo>
                  <a:pt x="390" y="147"/>
                </a:lnTo>
                <a:lnTo>
                  <a:pt x="418" y="144"/>
                </a:lnTo>
                <a:lnTo>
                  <a:pt x="449" y="140"/>
                </a:lnTo>
                <a:lnTo>
                  <a:pt x="482" y="134"/>
                </a:lnTo>
                <a:lnTo>
                  <a:pt x="514" y="130"/>
                </a:lnTo>
                <a:lnTo>
                  <a:pt x="549" y="124"/>
                </a:lnTo>
                <a:lnTo>
                  <a:pt x="585" y="121"/>
                </a:lnTo>
                <a:lnTo>
                  <a:pt x="624" y="115"/>
                </a:lnTo>
                <a:lnTo>
                  <a:pt x="662" y="109"/>
                </a:lnTo>
                <a:lnTo>
                  <a:pt x="704" y="105"/>
                </a:lnTo>
                <a:lnTo>
                  <a:pt x="745" y="99"/>
                </a:lnTo>
                <a:lnTo>
                  <a:pt x="789" y="94"/>
                </a:lnTo>
                <a:lnTo>
                  <a:pt x="833" y="86"/>
                </a:lnTo>
                <a:lnTo>
                  <a:pt x="879" y="80"/>
                </a:lnTo>
                <a:lnTo>
                  <a:pt x="902" y="76"/>
                </a:lnTo>
                <a:lnTo>
                  <a:pt x="923" y="74"/>
                </a:lnTo>
                <a:lnTo>
                  <a:pt x="943" y="71"/>
                </a:lnTo>
                <a:lnTo>
                  <a:pt x="964" y="69"/>
                </a:lnTo>
                <a:lnTo>
                  <a:pt x="983" y="65"/>
                </a:lnTo>
                <a:lnTo>
                  <a:pt x="1002" y="63"/>
                </a:lnTo>
                <a:lnTo>
                  <a:pt x="1019" y="61"/>
                </a:lnTo>
                <a:lnTo>
                  <a:pt x="1039" y="59"/>
                </a:lnTo>
                <a:lnTo>
                  <a:pt x="1056" y="55"/>
                </a:lnTo>
                <a:lnTo>
                  <a:pt x="1071" y="53"/>
                </a:lnTo>
                <a:lnTo>
                  <a:pt x="1087" y="51"/>
                </a:lnTo>
                <a:lnTo>
                  <a:pt x="1102" y="50"/>
                </a:lnTo>
                <a:lnTo>
                  <a:pt x="1117" y="48"/>
                </a:lnTo>
                <a:lnTo>
                  <a:pt x="1131" y="46"/>
                </a:lnTo>
                <a:lnTo>
                  <a:pt x="1144" y="44"/>
                </a:lnTo>
                <a:lnTo>
                  <a:pt x="1158" y="44"/>
                </a:lnTo>
                <a:lnTo>
                  <a:pt x="1169" y="42"/>
                </a:lnTo>
                <a:lnTo>
                  <a:pt x="1181" y="40"/>
                </a:lnTo>
                <a:lnTo>
                  <a:pt x="1192" y="38"/>
                </a:lnTo>
                <a:lnTo>
                  <a:pt x="1204" y="38"/>
                </a:lnTo>
                <a:lnTo>
                  <a:pt x="1213" y="36"/>
                </a:lnTo>
                <a:lnTo>
                  <a:pt x="1223" y="34"/>
                </a:lnTo>
                <a:lnTo>
                  <a:pt x="1230" y="34"/>
                </a:lnTo>
                <a:lnTo>
                  <a:pt x="1238" y="32"/>
                </a:lnTo>
                <a:lnTo>
                  <a:pt x="1246" y="30"/>
                </a:lnTo>
                <a:lnTo>
                  <a:pt x="1254" y="30"/>
                </a:lnTo>
                <a:lnTo>
                  <a:pt x="1259" y="28"/>
                </a:lnTo>
                <a:lnTo>
                  <a:pt x="1265" y="28"/>
                </a:lnTo>
                <a:lnTo>
                  <a:pt x="1271" y="27"/>
                </a:lnTo>
                <a:lnTo>
                  <a:pt x="1277" y="25"/>
                </a:lnTo>
                <a:lnTo>
                  <a:pt x="1280" y="25"/>
                </a:lnTo>
                <a:lnTo>
                  <a:pt x="1284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84"/>
          <p:cNvSpPr/>
          <p:nvPr/>
        </p:nvSpPr>
        <p:spPr>
          <a:xfrm>
            <a:off x="6122880" y="4278240"/>
            <a:ext cx="1131840" cy="200160"/>
          </a:xfrm>
          <a:custGeom>
            <a:avLst/>
            <a:gdLst/>
            <a:ahLst/>
            <a:rect l="l" t="t" r="r" b="b"/>
            <a:pathLst>
              <a:path w="1427" h="251">
                <a:moveTo>
                  <a:pt x="12" y="251"/>
                </a:moveTo>
                <a:lnTo>
                  <a:pt x="0" y="147"/>
                </a:lnTo>
                <a:lnTo>
                  <a:pt x="68" y="142"/>
                </a:lnTo>
                <a:lnTo>
                  <a:pt x="139" y="134"/>
                </a:lnTo>
                <a:lnTo>
                  <a:pt x="212" y="126"/>
                </a:lnTo>
                <a:lnTo>
                  <a:pt x="286" y="119"/>
                </a:lnTo>
                <a:lnTo>
                  <a:pt x="365" y="109"/>
                </a:lnTo>
                <a:lnTo>
                  <a:pt x="446" y="101"/>
                </a:lnTo>
                <a:lnTo>
                  <a:pt x="528" y="92"/>
                </a:lnTo>
                <a:lnTo>
                  <a:pt x="615" y="82"/>
                </a:lnTo>
                <a:lnTo>
                  <a:pt x="703" y="73"/>
                </a:lnTo>
                <a:lnTo>
                  <a:pt x="793" y="63"/>
                </a:lnTo>
                <a:lnTo>
                  <a:pt x="887" y="51"/>
                </a:lnTo>
                <a:lnTo>
                  <a:pt x="983" y="42"/>
                </a:lnTo>
                <a:lnTo>
                  <a:pt x="1081" y="30"/>
                </a:lnTo>
                <a:lnTo>
                  <a:pt x="1181" y="21"/>
                </a:lnTo>
                <a:lnTo>
                  <a:pt x="1285" y="9"/>
                </a:lnTo>
                <a:lnTo>
                  <a:pt x="1390" y="0"/>
                </a:lnTo>
                <a:lnTo>
                  <a:pt x="1408" y="44"/>
                </a:lnTo>
                <a:lnTo>
                  <a:pt x="1427" y="90"/>
                </a:lnTo>
                <a:lnTo>
                  <a:pt x="1406" y="94"/>
                </a:lnTo>
                <a:lnTo>
                  <a:pt x="1386" y="99"/>
                </a:lnTo>
                <a:lnTo>
                  <a:pt x="1369" y="101"/>
                </a:lnTo>
                <a:lnTo>
                  <a:pt x="1350" y="105"/>
                </a:lnTo>
                <a:lnTo>
                  <a:pt x="1333" y="109"/>
                </a:lnTo>
                <a:lnTo>
                  <a:pt x="1315" y="111"/>
                </a:lnTo>
                <a:lnTo>
                  <a:pt x="1300" y="115"/>
                </a:lnTo>
                <a:lnTo>
                  <a:pt x="1283" y="117"/>
                </a:lnTo>
                <a:lnTo>
                  <a:pt x="1267" y="119"/>
                </a:lnTo>
                <a:lnTo>
                  <a:pt x="1254" y="121"/>
                </a:lnTo>
                <a:lnTo>
                  <a:pt x="1239" y="122"/>
                </a:lnTo>
                <a:lnTo>
                  <a:pt x="1225" y="122"/>
                </a:lnTo>
                <a:lnTo>
                  <a:pt x="1212" y="124"/>
                </a:lnTo>
                <a:lnTo>
                  <a:pt x="1200" y="124"/>
                </a:lnTo>
                <a:lnTo>
                  <a:pt x="1187" y="124"/>
                </a:lnTo>
                <a:lnTo>
                  <a:pt x="1177" y="124"/>
                </a:lnTo>
                <a:lnTo>
                  <a:pt x="1170" y="126"/>
                </a:lnTo>
                <a:lnTo>
                  <a:pt x="1164" y="126"/>
                </a:lnTo>
                <a:lnTo>
                  <a:pt x="1158" y="128"/>
                </a:lnTo>
                <a:lnTo>
                  <a:pt x="1150" y="130"/>
                </a:lnTo>
                <a:lnTo>
                  <a:pt x="1141" y="130"/>
                </a:lnTo>
                <a:lnTo>
                  <a:pt x="1133" y="132"/>
                </a:lnTo>
                <a:lnTo>
                  <a:pt x="1123" y="132"/>
                </a:lnTo>
                <a:lnTo>
                  <a:pt x="1114" y="134"/>
                </a:lnTo>
                <a:lnTo>
                  <a:pt x="1104" y="134"/>
                </a:lnTo>
                <a:lnTo>
                  <a:pt x="1093" y="136"/>
                </a:lnTo>
                <a:lnTo>
                  <a:pt x="1083" y="138"/>
                </a:lnTo>
                <a:lnTo>
                  <a:pt x="1070" y="138"/>
                </a:lnTo>
                <a:lnTo>
                  <a:pt x="1058" y="140"/>
                </a:lnTo>
                <a:lnTo>
                  <a:pt x="1047" y="142"/>
                </a:lnTo>
                <a:lnTo>
                  <a:pt x="1033" y="142"/>
                </a:lnTo>
                <a:lnTo>
                  <a:pt x="1020" y="144"/>
                </a:lnTo>
                <a:lnTo>
                  <a:pt x="1004" y="146"/>
                </a:lnTo>
                <a:lnTo>
                  <a:pt x="989" y="146"/>
                </a:lnTo>
                <a:lnTo>
                  <a:pt x="958" y="149"/>
                </a:lnTo>
                <a:lnTo>
                  <a:pt x="926" y="151"/>
                </a:lnTo>
                <a:lnTo>
                  <a:pt x="893" y="155"/>
                </a:lnTo>
                <a:lnTo>
                  <a:pt x="857" y="159"/>
                </a:lnTo>
                <a:lnTo>
                  <a:pt x="818" y="163"/>
                </a:lnTo>
                <a:lnTo>
                  <a:pt x="778" y="167"/>
                </a:lnTo>
                <a:lnTo>
                  <a:pt x="738" y="170"/>
                </a:lnTo>
                <a:lnTo>
                  <a:pt x="559" y="188"/>
                </a:lnTo>
                <a:lnTo>
                  <a:pt x="469" y="197"/>
                </a:lnTo>
                <a:lnTo>
                  <a:pt x="379" y="207"/>
                </a:lnTo>
                <a:lnTo>
                  <a:pt x="288" y="217"/>
                </a:lnTo>
                <a:lnTo>
                  <a:pt x="196" y="226"/>
                </a:lnTo>
                <a:lnTo>
                  <a:pt x="104" y="238"/>
                </a:lnTo>
                <a:lnTo>
                  <a:pt x="12" y="2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85"/>
          <p:cNvSpPr/>
          <p:nvPr/>
        </p:nvSpPr>
        <p:spPr>
          <a:xfrm>
            <a:off x="6485040" y="3408480"/>
            <a:ext cx="207720" cy="1598400"/>
          </a:xfrm>
          <a:custGeom>
            <a:avLst/>
            <a:gdLst/>
            <a:ahLst/>
            <a:rect l="l" t="t" r="r" b="b"/>
            <a:pathLst>
              <a:path w="263" h="2013">
                <a:moveTo>
                  <a:pt x="20" y="98"/>
                </a:moveTo>
                <a:lnTo>
                  <a:pt x="16" y="92"/>
                </a:lnTo>
                <a:lnTo>
                  <a:pt x="12" y="88"/>
                </a:lnTo>
                <a:lnTo>
                  <a:pt x="10" y="84"/>
                </a:lnTo>
                <a:lnTo>
                  <a:pt x="6" y="80"/>
                </a:lnTo>
                <a:lnTo>
                  <a:pt x="4" y="75"/>
                </a:lnTo>
                <a:lnTo>
                  <a:pt x="2" y="71"/>
                </a:lnTo>
                <a:lnTo>
                  <a:pt x="0" y="63"/>
                </a:lnTo>
                <a:lnTo>
                  <a:pt x="0" y="53"/>
                </a:lnTo>
                <a:lnTo>
                  <a:pt x="2" y="46"/>
                </a:lnTo>
                <a:lnTo>
                  <a:pt x="4" y="36"/>
                </a:lnTo>
                <a:lnTo>
                  <a:pt x="8" y="29"/>
                </a:lnTo>
                <a:lnTo>
                  <a:pt x="10" y="23"/>
                </a:lnTo>
                <a:lnTo>
                  <a:pt x="14" y="19"/>
                </a:lnTo>
                <a:lnTo>
                  <a:pt x="18" y="17"/>
                </a:lnTo>
                <a:lnTo>
                  <a:pt x="22" y="13"/>
                </a:lnTo>
                <a:lnTo>
                  <a:pt x="25" y="9"/>
                </a:lnTo>
                <a:lnTo>
                  <a:pt x="31" y="7"/>
                </a:lnTo>
                <a:lnTo>
                  <a:pt x="37" y="6"/>
                </a:lnTo>
                <a:lnTo>
                  <a:pt x="45" y="4"/>
                </a:lnTo>
                <a:lnTo>
                  <a:pt x="50" y="2"/>
                </a:lnTo>
                <a:lnTo>
                  <a:pt x="58" y="2"/>
                </a:lnTo>
                <a:lnTo>
                  <a:pt x="66" y="0"/>
                </a:lnTo>
                <a:lnTo>
                  <a:pt x="75" y="0"/>
                </a:lnTo>
                <a:lnTo>
                  <a:pt x="85" y="2"/>
                </a:lnTo>
                <a:lnTo>
                  <a:pt x="94" y="2"/>
                </a:lnTo>
                <a:lnTo>
                  <a:pt x="104" y="4"/>
                </a:lnTo>
                <a:lnTo>
                  <a:pt x="116" y="6"/>
                </a:lnTo>
                <a:lnTo>
                  <a:pt x="137" y="9"/>
                </a:lnTo>
                <a:lnTo>
                  <a:pt x="158" y="15"/>
                </a:lnTo>
                <a:lnTo>
                  <a:pt x="177" y="21"/>
                </a:lnTo>
                <a:lnTo>
                  <a:pt x="194" y="29"/>
                </a:lnTo>
                <a:lnTo>
                  <a:pt x="210" y="34"/>
                </a:lnTo>
                <a:lnTo>
                  <a:pt x="217" y="38"/>
                </a:lnTo>
                <a:lnTo>
                  <a:pt x="223" y="40"/>
                </a:lnTo>
                <a:lnTo>
                  <a:pt x="231" y="44"/>
                </a:lnTo>
                <a:lnTo>
                  <a:pt x="237" y="46"/>
                </a:lnTo>
                <a:lnTo>
                  <a:pt x="240" y="48"/>
                </a:lnTo>
                <a:lnTo>
                  <a:pt x="246" y="52"/>
                </a:lnTo>
                <a:lnTo>
                  <a:pt x="250" y="59"/>
                </a:lnTo>
                <a:lnTo>
                  <a:pt x="254" y="69"/>
                </a:lnTo>
                <a:lnTo>
                  <a:pt x="258" y="77"/>
                </a:lnTo>
                <a:lnTo>
                  <a:pt x="261" y="86"/>
                </a:lnTo>
                <a:lnTo>
                  <a:pt x="261" y="98"/>
                </a:lnTo>
                <a:lnTo>
                  <a:pt x="263" y="107"/>
                </a:lnTo>
                <a:lnTo>
                  <a:pt x="261" y="119"/>
                </a:lnTo>
                <a:lnTo>
                  <a:pt x="260" y="124"/>
                </a:lnTo>
                <a:lnTo>
                  <a:pt x="258" y="132"/>
                </a:lnTo>
                <a:lnTo>
                  <a:pt x="258" y="136"/>
                </a:lnTo>
                <a:lnTo>
                  <a:pt x="256" y="140"/>
                </a:lnTo>
                <a:lnTo>
                  <a:pt x="256" y="148"/>
                </a:lnTo>
                <a:lnTo>
                  <a:pt x="254" y="155"/>
                </a:lnTo>
                <a:lnTo>
                  <a:pt x="254" y="165"/>
                </a:lnTo>
                <a:lnTo>
                  <a:pt x="252" y="174"/>
                </a:lnTo>
                <a:lnTo>
                  <a:pt x="252" y="186"/>
                </a:lnTo>
                <a:lnTo>
                  <a:pt x="252" y="199"/>
                </a:lnTo>
                <a:lnTo>
                  <a:pt x="250" y="215"/>
                </a:lnTo>
                <a:lnTo>
                  <a:pt x="250" y="230"/>
                </a:lnTo>
                <a:lnTo>
                  <a:pt x="250" y="247"/>
                </a:lnTo>
                <a:lnTo>
                  <a:pt x="248" y="267"/>
                </a:lnTo>
                <a:lnTo>
                  <a:pt x="248" y="288"/>
                </a:lnTo>
                <a:lnTo>
                  <a:pt x="248" y="309"/>
                </a:lnTo>
                <a:lnTo>
                  <a:pt x="248" y="332"/>
                </a:lnTo>
                <a:lnTo>
                  <a:pt x="248" y="355"/>
                </a:lnTo>
                <a:lnTo>
                  <a:pt x="248" y="380"/>
                </a:lnTo>
                <a:lnTo>
                  <a:pt x="246" y="407"/>
                </a:lnTo>
                <a:lnTo>
                  <a:pt x="246" y="435"/>
                </a:lnTo>
                <a:lnTo>
                  <a:pt x="246" y="464"/>
                </a:lnTo>
                <a:lnTo>
                  <a:pt x="246" y="495"/>
                </a:lnTo>
                <a:lnTo>
                  <a:pt x="246" y="528"/>
                </a:lnTo>
                <a:lnTo>
                  <a:pt x="246" y="560"/>
                </a:lnTo>
                <a:lnTo>
                  <a:pt x="246" y="597"/>
                </a:lnTo>
                <a:lnTo>
                  <a:pt x="246" y="631"/>
                </a:lnTo>
                <a:lnTo>
                  <a:pt x="246" y="670"/>
                </a:lnTo>
                <a:lnTo>
                  <a:pt x="246" y="708"/>
                </a:lnTo>
                <a:lnTo>
                  <a:pt x="246" y="748"/>
                </a:lnTo>
                <a:lnTo>
                  <a:pt x="246" y="790"/>
                </a:lnTo>
                <a:lnTo>
                  <a:pt x="246" y="833"/>
                </a:lnTo>
                <a:lnTo>
                  <a:pt x="246" y="877"/>
                </a:lnTo>
                <a:lnTo>
                  <a:pt x="246" y="923"/>
                </a:lnTo>
                <a:lnTo>
                  <a:pt x="246" y="969"/>
                </a:lnTo>
                <a:lnTo>
                  <a:pt x="246" y="1015"/>
                </a:lnTo>
                <a:lnTo>
                  <a:pt x="246" y="1059"/>
                </a:lnTo>
                <a:lnTo>
                  <a:pt x="246" y="1103"/>
                </a:lnTo>
                <a:lnTo>
                  <a:pt x="244" y="1146"/>
                </a:lnTo>
                <a:lnTo>
                  <a:pt x="244" y="1186"/>
                </a:lnTo>
                <a:lnTo>
                  <a:pt x="244" y="1226"/>
                </a:lnTo>
                <a:lnTo>
                  <a:pt x="244" y="1265"/>
                </a:lnTo>
                <a:lnTo>
                  <a:pt x="244" y="1303"/>
                </a:lnTo>
                <a:lnTo>
                  <a:pt x="242" y="1339"/>
                </a:lnTo>
                <a:lnTo>
                  <a:pt x="242" y="1374"/>
                </a:lnTo>
                <a:lnTo>
                  <a:pt x="242" y="1408"/>
                </a:lnTo>
                <a:lnTo>
                  <a:pt x="240" y="1441"/>
                </a:lnTo>
                <a:lnTo>
                  <a:pt x="240" y="1474"/>
                </a:lnTo>
                <a:lnTo>
                  <a:pt x="238" y="1504"/>
                </a:lnTo>
                <a:lnTo>
                  <a:pt x="238" y="1533"/>
                </a:lnTo>
                <a:lnTo>
                  <a:pt x="238" y="1562"/>
                </a:lnTo>
                <a:lnTo>
                  <a:pt x="237" y="1589"/>
                </a:lnTo>
                <a:lnTo>
                  <a:pt x="237" y="1616"/>
                </a:lnTo>
                <a:lnTo>
                  <a:pt x="235" y="1641"/>
                </a:lnTo>
                <a:lnTo>
                  <a:pt x="235" y="1664"/>
                </a:lnTo>
                <a:lnTo>
                  <a:pt x="233" y="1687"/>
                </a:lnTo>
                <a:lnTo>
                  <a:pt x="233" y="1708"/>
                </a:lnTo>
                <a:lnTo>
                  <a:pt x="231" y="1729"/>
                </a:lnTo>
                <a:lnTo>
                  <a:pt x="229" y="1748"/>
                </a:lnTo>
                <a:lnTo>
                  <a:pt x="229" y="1767"/>
                </a:lnTo>
                <a:lnTo>
                  <a:pt x="227" y="1783"/>
                </a:lnTo>
                <a:lnTo>
                  <a:pt x="227" y="1800"/>
                </a:lnTo>
                <a:lnTo>
                  <a:pt x="225" y="1813"/>
                </a:lnTo>
                <a:lnTo>
                  <a:pt x="225" y="1827"/>
                </a:lnTo>
                <a:lnTo>
                  <a:pt x="223" y="1840"/>
                </a:lnTo>
                <a:lnTo>
                  <a:pt x="223" y="1852"/>
                </a:lnTo>
                <a:lnTo>
                  <a:pt x="217" y="1871"/>
                </a:lnTo>
                <a:lnTo>
                  <a:pt x="213" y="1888"/>
                </a:lnTo>
                <a:lnTo>
                  <a:pt x="210" y="1906"/>
                </a:lnTo>
                <a:lnTo>
                  <a:pt x="206" y="1921"/>
                </a:lnTo>
                <a:lnTo>
                  <a:pt x="204" y="1934"/>
                </a:lnTo>
                <a:lnTo>
                  <a:pt x="200" y="1948"/>
                </a:lnTo>
                <a:lnTo>
                  <a:pt x="196" y="1959"/>
                </a:lnTo>
                <a:lnTo>
                  <a:pt x="194" y="1971"/>
                </a:lnTo>
                <a:lnTo>
                  <a:pt x="192" y="1980"/>
                </a:lnTo>
                <a:lnTo>
                  <a:pt x="189" y="1988"/>
                </a:lnTo>
                <a:lnTo>
                  <a:pt x="187" y="1996"/>
                </a:lnTo>
                <a:lnTo>
                  <a:pt x="185" y="2002"/>
                </a:lnTo>
                <a:lnTo>
                  <a:pt x="181" y="2007"/>
                </a:lnTo>
                <a:lnTo>
                  <a:pt x="179" y="2009"/>
                </a:lnTo>
                <a:lnTo>
                  <a:pt x="177" y="2011"/>
                </a:lnTo>
                <a:lnTo>
                  <a:pt x="175" y="2013"/>
                </a:lnTo>
                <a:lnTo>
                  <a:pt x="173" y="2011"/>
                </a:lnTo>
                <a:lnTo>
                  <a:pt x="169" y="2009"/>
                </a:lnTo>
                <a:lnTo>
                  <a:pt x="167" y="2005"/>
                </a:lnTo>
                <a:lnTo>
                  <a:pt x="164" y="2002"/>
                </a:lnTo>
                <a:lnTo>
                  <a:pt x="160" y="1996"/>
                </a:lnTo>
                <a:lnTo>
                  <a:pt x="158" y="1988"/>
                </a:lnTo>
                <a:lnTo>
                  <a:pt x="154" y="1979"/>
                </a:lnTo>
                <a:lnTo>
                  <a:pt x="150" y="1969"/>
                </a:lnTo>
                <a:lnTo>
                  <a:pt x="148" y="1957"/>
                </a:lnTo>
                <a:lnTo>
                  <a:pt x="144" y="1946"/>
                </a:lnTo>
                <a:lnTo>
                  <a:pt x="141" y="1931"/>
                </a:lnTo>
                <a:lnTo>
                  <a:pt x="139" y="1915"/>
                </a:lnTo>
                <a:lnTo>
                  <a:pt x="135" y="1898"/>
                </a:lnTo>
                <a:lnTo>
                  <a:pt x="133" y="1881"/>
                </a:lnTo>
                <a:lnTo>
                  <a:pt x="129" y="1861"/>
                </a:lnTo>
                <a:lnTo>
                  <a:pt x="127" y="1840"/>
                </a:lnTo>
                <a:lnTo>
                  <a:pt x="125" y="1829"/>
                </a:lnTo>
                <a:lnTo>
                  <a:pt x="123" y="1817"/>
                </a:lnTo>
                <a:lnTo>
                  <a:pt x="121" y="1804"/>
                </a:lnTo>
                <a:lnTo>
                  <a:pt x="119" y="1788"/>
                </a:lnTo>
                <a:lnTo>
                  <a:pt x="117" y="1773"/>
                </a:lnTo>
                <a:lnTo>
                  <a:pt x="116" y="1756"/>
                </a:lnTo>
                <a:lnTo>
                  <a:pt x="114" y="1739"/>
                </a:lnTo>
                <a:lnTo>
                  <a:pt x="112" y="1719"/>
                </a:lnTo>
                <a:lnTo>
                  <a:pt x="110" y="1700"/>
                </a:lnTo>
                <a:lnTo>
                  <a:pt x="108" y="1679"/>
                </a:lnTo>
                <a:lnTo>
                  <a:pt x="108" y="1656"/>
                </a:lnTo>
                <a:lnTo>
                  <a:pt x="106" y="1633"/>
                </a:lnTo>
                <a:lnTo>
                  <a:pt x="104" y="1610"/>
                </a:lnTo>
                <a:lnTo>
                  <a:pt x="102" y="1585"/>
                </a:lnTo>
                <a:lnTo>
                  <a:pt x="102" y="1558"/>
                </a:lnTo>
                <a:lnTo>
                  <a:pt x="100" y="1531"/>
                </a:lnTo>
                <a:lnTo>
                  <a:pt x="100" y="1503"/>
                </a:lnTo>
                <a:lnTo>
                  <a:pt x="98" y="1472"/>
                </a:lnTo>
                <a:lnTo>
                  <a:pt x="98" y="1441"/>
                </a:lnTo>
                <a:lnTo>
                  <a:pt x="96" y="1410"/>
                </a:lnTo>
                <a:lnTo>
                  <a:pt x="96" y="1378"/>
                </a:lnTo>
                <a:lnTo>
                  <a:pt x="94" y="1343"/>
                </a:lnTo>
                <a:lnTo>
                  <a:pt x="94" y="1309"/>
                </a:lnTo>
                <a:lnTo>
                  <a:pt x="94" y="1272"/>
                </a:lnTo>
                <a:lnTo>
                  <a:pt x="93" y="1236"/>
                </a:lnTo>
                <a:lnTo>
                  <a:pt x="93" y="1197"/>
                </a:lnTo>
                <a:lnTo>
                  <a:pt x="93" y="1157"/>
                </a:lnTo>
                <a:lnTo>
                  <a:pt x="93" y="1117"/>
                </a:lnTo>
                <a:lnTo>
                  <a:pt x="93" y="1076"/>
                </a:lnTo>
                <a:lnTo>
                  <a:pt x="91" y="1034"/>
                </a:lnTo>
                <a:lnTo>
                  <a:pt x="91" y="990"/>
                </a:lnTo>
                <a:lnTo>
                  <a:pt x="91" y="946"/>
                </a:lnTo>
                <a:lnTo>
                  <a:pt x="91" y="902"/>
                </a:lnTo>
                <a:lnTo>
                  <a:pt x="91" y="860"/>
                </a:lnTo>
                <a:lnTo>
                  <a:pt x="91" y="819"/>
                </a:lnTo>
                <a:lnTo>
                  <a:pt x="91" y="779"/>
                </a:lnTo>
                <a:lnTo>
                  <a:pt x="91" y="741"/>
                </a:lnTo>
                <a:lnTo>
                  <a:pt x="91" y="702"/>
                </a:lnTo>
                <a:lnTo>
                  <a:pt x="91" y="668"/>
                </a:lnTo>
                <a:lnTo>
                  <a:pt x="91" y="631"/>
                </a:lnTo>
                <a:lnTo>
                  <a:pt x="91" y="599"/>
                </a:lnTo>
                <a:lnTo>
                  <a:pt x="91" y="566"/>
                </a:lnTo>
                <a:lnTo>
                  <a:pt x="91" y="535"/>
                </a:lnTo>
                <a:lnTo>
                  <a:pt x="91" y="505"/>
                </a:lnTo>
                <a:lnTo>
                  <a:pt x="91" y="476"/>
                </a:lnTo>
                <a:lnTo>
                  <a:pt x="91" y="449"/>
                </a:lnTo>
                <a:lnTo>
                  <a:pt x="91" y="422"/>
                </a:lnTo>
                <a:lnTo>
                  <a:pt x="91" y="397"/>
                </a:lnTo>
                <a:lnTo>
                  <a:pt x="89" y="374"/>
                </a:lnTo>
                <a:lnTo>
                  <a:pt x="89" y="353"/>
                </a:lnTo>
                <a:lnTo>
                  <a:pt x="89" y="332"/>
                </a:lnTo>
                <a:lnTo>
                  <a:pt x="89" y="311"/>
                </a:lnTo>
                <a:lnTo>
                  <a:pt x="89" y="293"/>
                </a:lnTo>
                <a:lnTo>
                  <a:pt x="87" y="276"/>
                </a:lnTo>
                <a:lnTo>
                  <a:pt x="87" y="261"/>
                </a:lnTo>
                <a:lnTo>
                  <a:pt x="87" y="245"/>
                </a:lnTo>
                <a:lnTo>
                  <a:pt x="85" y="232"/>
                </a:lnTo>
                <a:lnTo>
                  <a:pt x="85" y="220"/>
                </a:lnTo>
                <a:lnTo>
                  <a:pt x="85" y="211"/>
                </a:lnTo>
                <a:lnTo>
                  <a:pt x="83" y="201"/>
                </a:lnTo>
                <a:lnTo>
                  <a:pt x="83" y="194"/>
                </a:lnTo>
                <a:lnTo>
                  <a:pt x="81" y="186"/>
                </a:lnTo>
                <a:lnTo>
                  <a:pt x="81" y="180"/>
                </a:lnTo>
                <a:lnTo>
                  <a:pt x="79" y="176"/>
                </a:lnTo>
                <a:lnTo>
                  <a:pt x="75" y="165"/>
                </a:lnTo>
                <a:lnTo>
                  <a:pt x="69" y="151"/>
                </a:lnTo>
                <a:lnTo>
                  <a:pt x="66" y="140"/>
                </a:lnTo>
                <a:lnTo>
                  <a:pt x="58" y="128"/>
                </a:lnTo>
                <a:lnTo>
                  <a:pt x="52" y="119"/>
                </a:lnTo>
                <a:lnTo>
                  <a:pt x="43" y="109"/>
                </a:lnTo>
                <a:lnTo>
                  <a:pt x="39" y="105"/>
                </a:lnTo>
                <a:lnTo>
                  <a:pt x="33" y="101"/>
                </a:lnTo>
                <a:lnTo>
                  <a:pt x="27" y="100"/>
                </a:lnTo>
                <a:lnTo>
                  <a:pt x="20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佣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1" name="组合 8"/>
          <p:cNvGrpSpPr/>
          <p:nvPr/>
        </p:nvGrpSpPr>
        <p:grpSpPr>
          <a:xfrm>
            <a:off x="1227240" y="3975120"/>
            <a:ext cx="2840040" cy="1571760"/>
            <a:chOff x="1227240" y="3975120"/>
            <a:chExt cx="2840040" cy="1571760"/>
          </a:xfrm>
        </p:grpSpPr>
        <p:pic>
          <p:nvPicPr>
            <p:cNvPr id="192" name="图示 4" descr=""/>
            <p:cNvPicPr/>
            <p:nvPr/>
          </p:nvPicPr>
          <p:blipFill>
            <a:blip r:embed="rId1"/>
            <a:stretch/>
          </p:blipFill>
          <p:spPr>
            <a:xfrm>
              <a:off x="12272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矩形 2"/>
            <p:cNvSpPr/>
            <p:nvPr/>
          </p:nvSpPr>
          <p:spPr>
            <a:xfrm>
              <a:off x="12754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用”的撇为竖撇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矩形 3"/>
          <p:cNvSpPr/>
          <p:nvPr/>
        </p:nvSpPr>
        <p:spPr>
          <a:xfrm>
            <a:off x="1982880" y="1868400"/>
            <a:ext cx="146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ō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41"/>
          <p:cNvSpPr/>
          <p:nvPr/>
        </p:nvSpPr>
        <p:spPr>
          <a:xfrm>
            <a:off x="5599080" y="2928960"/>
            <a:ext cx="849240" cy="1071720"/>
          </a:xfrm>
          <a:custGeom>
            <a:avLst/>
            <a:gdLst/>
            <a:ahLst/>
            <a:rect l="l" t="t" r="r" b="b"/>
            <a:pathLst>
              <a:path w="1071" h="1349">
                <a:moveTo>
                  <a:pt x="2" y="1347"/>
                </a:moveTo>
                <a:lnTo>
                  <a:pt x="0" y="1343"/>
                </a:lnTo>
                <a:lnTo>
                  <a:pt x="0" y="1339"/>
                </a:lnTo>
                <a:lnTo>
                  <a:pt x="2" y="1335"/>
                </a:lnTo>
                <a:lnTo>
                  <a:pt x="3" y="1332"/>
                </a:lnTo>
                <a:lnTo>
                  <a:pt x="7" y="1326"/>
                </a:lnTo>
                <a:lnTo>
                  <a:pt x="13" y="1318"/>
                </a:lnTo>
                <a:lnTo>
                  <a:pt x="19" y="1311"/>
                </a:lnTo>
                <a:lnTo>
                  <a:pt x="26" y="1303"/>
                </a:lnTo>
                <a:lnTo>
                  <a:pt x="34" y="1295"/>
                </a:lnTo>
                <a:lnTo>
                  <a:pt x="44" y="1284"/>
                </a:lnTo>
                <a:lnTo>
                  <a:pt x="53" y="1274"/>
                </a:lnTo>
                <a:lnTo>
                  <a:pt x="65" y="1263"/>
                </a:lnTo>
                <a:lnTo>
                  <a:pt x="78" y="1251"/>
                </a:lnTo>
                <a:lnTo>
                  <a:pt x="92" y="1238"/>
                </a:lnTo>
                <a:lnTo>
                  <a:pt x="105" y="1222"/>
                </a:lnTo>
                <a:lnTo>
                  <a:pt x="121" y="1209"/>
                </a:lnTo>
                <a:lnTo>
                  <a:pt x="151" y="1178"/>
                </a:lnTo>
                <a:lnTo>
                  <a:pt x="182" y="1145"/>
                </a:lnTo>
                <a:lnTo>
                  <a:pt x="215" y="1113"/>
                </a:lnTo>
                <a:lnTo>
                  <a:pt x="247" y="1078"/>
                </a:lnTo>
                <a:lnTo>
                  <a:pt x="280" y="1042"/>
                </a:lnTo>
                <a:lnTo>
                  <a:pt x="295" y="1023"/>
                </a:lnTo>
                <a:lnTo>
                  <a:pt x="313" y="1003"/>
                </a:lnTo>
                <a:lnTo>
                  <a:pt x="330" y="984"/>
                </a:lnTo>
                <a:lnTo>
                  <a:pt x="347" y="963"/>
                </a:lnTo>
                <a:lnTo>
                  <a:pt x="364" y="942"/>
                </a:lnTo>
                <a:lnTo>
                  <a:pt x="382" y="921"/>
                </a:lnTo>
                <a:lnTo>
                  <a:pt x="399" y="900"/>
                </a:lnTo>
                <a:lnTo>
                  <a:pt x="416" y="877"/>
                </a:lnTo>
                <a:lnTo>
                  <a:pt x="435" y="854"/>
                </a:lnTo>
                <a:lnTo>
                  <a:pt x="453" y="831"/>
                </a:lnTo>
                <a:lnTo>
                  <a:pt x="470" y="808"/>
                </a:lnTo>
                <a:lnTo>
                  <a:pt x="489" y="783"/>
                </a:lnTo>
                <a:lnTo>
                  <a:pt x="506" y="758"/>
                </a:lnTo>
                <a:lnTo>
                  <a:pt x="524" y="733"/>
                </a:lnTo>
                <a:lnTo>
                  <a:pt x="543" y="706"/>
                </a:lnTo>
                <a:lnTo>
                  <a:pt x="560" y="679"/>
                </a:lnTo>
                <a:lnTo>
                  <a:pt x="577" y="652"/>
                </a:lnTo>
                <a:lnTo>
                  <a:pt x="597" y="625"/>
                </a:lnTo>
                <a:lnTo>
                  <a:pt x="614" y="597"/>
                </a:lnTo>
                <a:lnTo>
                  <a:pt x="631" y="568"/>
                </a:lnTo>
                <a:lnTo>
                  <a:pt x="650" y="539"/>
                </a:lnTo>
                <a:lnTo>
                  <a:pt x="668" y="508"/>
                </a:lnTo>
                <a:lnTo>
                  <a:pt x="683" y="481"/>
                </a:lnTo>
                <a:lnTo>
                  <a:pt x="696" y="455"/>
                </a:lnTo>
                <a:lnTo>
                  <a:pt x="710" y="428"/>
                </a:lnTo>
                <a:lnTo>
                  <a:pt x="723" y="403"/>
                </a:lnTo>
                <a:lnTo>
                  <a:pt x="737" y="380"/>
                </a:lnTo>
                <a:lnTo>
                  <a:pt x="748" y="357"/>
                </a:lnTo>
                <a:lnTo>
                  <a:pt x="760" y="334"/>
                </a:lnTo>
                <a:lnTo>
                  <a:pt x="771" y="314"/>
                </a:lnTo>
                <a:lnTo>
                  <a:pt x="781" y="293"/>
                </a:lnTo>
                <a:lnTo>
                  <a:pt x="789" y="274"/>
                </a:lnTo>
                <a:lnTo>
                  <a:pt x="796" y="257"/>
                </a:lnTo>
                <a:lnTo>
                  <a:pt x="804" y="241"/>
                </a:lnTo>
                <a:lnTo>
                  <a:pt x="810" y="226"/>
                </a:lnTo>
                <a:lnTo>
                  <a:pt x="816" y="213"/>
                </a:lnTo>
                <a:lnTo>
                  <a:pt x="819" y="199"/>
                </a:lnTo>
                <a:lnTo>
                  <a:pt x="821" y="188"/>
                </a:lnTo>
                <a:lnTo>
                  <a:pt x="825" y="167"/>
                </a:lnTo>
                <a:lnTo>
                  <a:pt x="829" y="147"/>
                </a:lnTo>
                <a:lnTo>
                  <a:pt x="829" y="128"/>
                </a:lnTo>
                <a:lnTo>
                  <a:pt x="831" y="111"/>
                </a:lnTo>
                <a:lnTo>
                  <a:pt x="829" y="96"/>
                </a:lnTo>
                <a:lnTo>
                  <a:pt x="829" y="82"/>
                </a:lnTo>
                <a:lnTo>
                  <a:pt x="827" y="76"/>
                </a:lnTo>
                <a:lnTo>
                  <a:pt x="825" y="71"/>
                </a:lnTo>
                <a:lnTo>
                  <a:pt x="823" y="65"/>
                </a:lnTo>
                <a:lnTo>
                  <a:pt x="821" y="61"/>
                </a:lnTo>
                <a:lnTo>
                  <a:pt x="817" y="57"/>
                </a:lnTo>
                <a:lnTo>
                  <a:pt x="814" y="51"/>
                </a:lnTo>
                <a:lnTo>
                  <a:pt x="810" y="44"/>
                </a:lnTo>
                <a:lnTo>
                  <a:pt x="806" y="38"/>
                </a:lnTo>
                <a:lnTo>
                  <a:pt x="806" y="32"/>
                </a:lnTo>
                <a:lnTo>
                  <a:pt x="804" y="27"/>
                </a:lnTo>
                <a:lnTo>
                  <a:pt x="806" y="23"/>
                </a:lnTo>
                <a:lnTo>
                  <a:pt x="806" y="21"/>
                </a:lnTo>
                <a:lnTo>
                  <a:pt x="808" y="17"/>
                </a:lnTo>
                <a:lnTo>
                  <a:pt x="810" y="15"/>
                </a:lnTo>
                <a:lnTo>
                  <a:pt x="816" y="11"/>
                </a:lnTo>
                <a:lnTo>
                  <a:pt x="821" y="7"/>
                </a:lnTo>
                <a:lnTo>
                  <a:pt x="829" y="3"/>
                </a:lnTo>
                <a:lnTo>
                  <a:pt x="839" y="2"/>
                </a:lnTo>
                <a:lnTo>
                  <a:pt x="848" y="0"/>
                </a:lnTo>
                <a:lnTo>
                  <a:pt x="854" y="0"/>
                </a:lnTo>
                <a:lnTo>
                  <a:pt x="862" y="0"/>
                </a:lnTo>
                <a:lnTo>
                  <a:pt x="869" y="0"/>
                </a:lnTo>
                <a:lnTo>
                  <a:pt x="877" y="0"/>
                </a:lnTo>
                <a:lnTo>
                  <a:pt x="885" y="2"/>
                </a:lnTo>
                <a:lnTo>
                  <a:pt x="892" y="3"/>
                </a:lnTo>
                <a:lnTo>
                  <a:pt x="906" y="9"/>
                </a:lnTo>
                <a:lnTo>
                  <a:pt x="921" y="15"/>
                </a:lnTo>
                <a:lnTo>
                  <a:pt x="936" y="21"/>
                </a:lnTo>
                <a:lnTo>
                  <a:pt x="952" y="30"/>
                </a:lnTo>
                <a:lnTo>
                  <a:pt x="967" y="38"/>
                </a:lnTo>
                <a:lnTo>
                  <a:pt x="983" y="50"/>
                </a:lnTo>
                <a:lnTo>
                  <a:pt x="998" y="61"/>
                </a:lnTo>
                <a:lnTo>
                  <a:pt x="1011" y="73"/>
                </a:lnTo>
                <a:lnTo>
                  <a:pt x="1025" y="86"/>
                </a:lnTo>
                <a:lnTo>
                  <a:pt x="1036" y="98"/>
                </a:lnTo>
                <a:lnTo>
                  <a:pt x="1046" y="107"/>
                </a:lnTo>
                <a:lnTo>
                  <a:pt x="1054" y="117"/>
                </a:lnTo>
                <a:lnTo>
                  <a:pt x="1061" y="126"/>
                </a:lnTo>
                <a:lnTo>
                  <a:pt x="1065" y="132"/>
                </a:lnTo>
                <a:lnTo>
                  <a:pt x="1067" y="136"/>
                </a:lnTo>
                <a:lnTo>
                  <a:pt x="1069" y="140"/>
                </a:lnTo>
                <a:lnTo>
                  <a:pt x="1069" y="146"/>
                </a:lnTo>
                <a:lnTo>
                  <a:pt x="1071" y="149"/>
                </a:lnTo>
                <a:lnTo>
                  <a:pt x="1071" y="153"/>
                </a:lnTo>
                <a:lnTo>
                  <a:pt x="1069" y="159"/>
                </a:lnTo>
                <a:lnTo>
                  <a:pt x="1065" y="165"/>
                </a:lnTo>
                <a:lnTo>
                  <a:pt x="1061" y="172"/>
                </a:lnTo>
                <a:lnTo>
                  <a:pt x="1057" y="182"/>
                </a:lnTo>
                <a:lnTo>
                  <a:pt x="1052" y="192"/>
                </a:lnTo>
                <a:lnTo>
                  <a:pt x="1046" y="203"/>
                </a:lnTo>
                <a:lnTo>
                  <a:pt x="1040" y="217"/>
                </a:lnTo>
                <a:lnTo>
                  <a:pt x="1032" y="232"/>
                </a:lnTo>
                <a:lnTo>
                  <a:pt x="1023" y="247"/>
                </a:lnTo>
                <a:lnTo>
                  <a:pt x="1015" y="266"/>
                </a:lnTo>
                <a:lnTo>
                  <a:pt x="1006" y="286"/>
                </a:lnTo>
                <a:lnTo>
                  <a:pt x="994" y="307"/>
                </a:lnTo>
                <a:lnTo>
                  <a:pt x="983" y="328"/>
                </a:lnTo>
                <a:lnTo>
                  <a:pt x="969" y="353"/>
                </a:lnTo>
                <a:lnTo>
                  <a:pt x="956" y="378"/>
                </a:lnTo>
                <a:lnTo>
                  <a:pt x="940" y="407"/>
                </a:lnTo>
                <a:lnTo>
                  <a:pt x="925" y="433"/>
                </a:lnTo>
                <a:lnTo>
                  <a:pt x="908" y="462"/>
                </a:lnTo>
                <a:lnTo>
                  <a:pt x="890" y="489"/>
                </a:lnTo>
                <a:lnTo>
                  <a:pt x="871" y="518"/>
                </a:lnTo>
                <a:lnTo>
                  <a:pt x="852" y="547"/>
                </a:lnTo>
                <a:lnTo>
                  <a:pt x="833" y="574"/>
                </a:lnTo>
                <a:lnTo>
                  <a:pt x="812" y="602"/>
                </a:lnTo>
                <a:lnTo>
                  <a:pt x="791" y="631"/>
                </a:lnTo>
                <a:lnTo>
                  <a:pt x="768" y="660"/>
                </a:lnTo>
                <a:lnTo>
                  <a:pt x="744" y="691"/>
                </a:lnTo>
                <a:lnTo>
                  <a:pt x="721" y="719"/>
                </a:lnTo>
                <a:lnTo>
                  <a:pt x="698" y="750"/>
                </a:lnTo>
                <a:lnTo>
                  <a:pt x="673" y="781"/>
                </a:lnTo>
                <a:lnTo>
                  <a:pt x="648" y="811"/>
                </a:lnTo>
                <a:lnTo>
                  <a:pt x="622" y="844"/>
                </a:lnTo>
                <a:lnTo>
                  <a:pt x="597" y="877"/>
                </a:lnTo>
                <a:lnTo>
                  <a:pt x="570" y="907"/>
                </a:lnTo>
                <a:lnTo>
                  <a:pt x="543" y="938"/>
                </a:lnTo>
                <a:lnTo>
                  <a:pt x="518" y="967"/>
                </a:lnTo>
                <a:lnTo>
                  <a:pt x="491" y="996"/>
                </a:lnTo>
                <a:lnTo>
                  <a:pt x="466" y="1021"/>
                </a:lnTo>
                <a:lnTo>
                  <a:pt x="441" y="1046"/>
                </a:lnTo>
                <a:lnTo>
                  <a:pt x="416" y="1071"/>
                </a:lnTo>
                <a:lnTo>
                  <a:pt x="391" y="1094"/>
                </a:lnTo>
                <a:lnTo>
                  <a:pt x="366" y="1115"/>
                </a:lnTo>
                <a:lnTo>
                  <a:pt x="343" y="1136"/>
                </a:lnTo>
                <a:lnTo>
                  <a:pt x="318" y="1157"/>
                </a:lnTo>
                <a:lnTo>
                  <a:pt x="295" y="1176"/>
                </a:lnTo>
                <a:lnTo>
                  <a:pt x="272" y="1193"/>
                </a:lnTo>
                <a:lnTo>
                  <a:pt x="249" y="1211"/>
                </a:lnTo>
                <a:lnTo>
                  <a:pt x="226" y="1228"/>
                </a:lnTo>
                <a:lnTo>
                  <a:pt x="203" y="1243"/>
                </a:lnTo>
                <a:lnTo>
                  <a:pt x="182" y="1257"/>
                </a:lnTo>
                <a:lnTo>
                  <a:pt x="161" y="1270"/>
                </a:lnTo>
                <a:lnTo>
                  <a:pt x="142" y="1284"/>
                </a:lnTo>
                <a:lnTo>
                  <a:pt x="124" y="1295"/>
                </a:lnTo>
                <a:lnTo>
                  <a:pt x="107" y="1305"/>
                </a:lnTo>
                <a:lnTo>
                  <a:pt x="92" y="1314"/>
                </a:lnTo>
                <a:lnTo>
                  <a:pt x="76" y="1322"/>
                </a:lnTo>
                <a:lnTo>
                  <a:pt x="63" y="1330"/>
                </a:lnTo>
                <a:lnTo>
                  <a:pt x="51" y="1335"/>
                </a:lnTo>
                <a:lnTo>
                  <a:pt x="40" y="1339"/>
                </a:lnTo>
                <a:lnTo>
                  <a:pt x="30" y="1343"/>
                </a:lnTo>
                <a:lnTo>
                  <a:pt x="21" y="1347"/>
                </a:lnTo>
                <a:lnTo>
                  <a:pt x="15" y="1347"/>
                </a:lnTo>
                <a:lnTo>
                  <a:pt x="9" y="1349"/>
                </a:lnTo>
                <a:lnTo>
                  <a:pt x="5" y="1347"/>
                </a:lnTo>
                <a:lnTo>
                  <a:pt x="2" y="13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42"/>
          <p:cNvSpPr/>
          <p:nvPr/>
        </p:nvSpPr>
        <p:spPr>
          <a:xfrm>
            <a:off x="6278400" y="3206880"/>
            <a:ext cx="435240" cy="1585800"/>
          </a:xfrm>
          <a:custGeom>
            <a:avLst/>
            <a:gdLst/>
            <a:ahLst/>
            <a:rect l="l" t="t" r="r" b="b"/>
            <a:pathLst>
              <a:path w="549" h="1998">
                <a:moveTo>
                  <a:pt x="489" y="1203"/>
                </a:moveTo>
                <a:lnTo>
                  <a:pt x="474" y="1259"/>
                </a:lnTo>
                <a:lnTo>
                  <a:pt x="461" y="1313"/>
                </a:lnTo>
                <a:lnTo>
                  <a:pt x="443" y="1366"/>
                </a:lnTo>
                <a:lnTo>
                  <a:pt x="426" y="1416"/>
                </a:lnTo>
                <a:lnTo>
                  <a:pt x="407" y="1466"/>
                </a:lnTo>
                <a:lnTo>
                  <a:pt x="388" y="1514"/>
                </a:lnTo>
                <a:lnTo>
                  <a:pt x="378" y="1537"/>
                </a:lnTo>
                <a:lnTo>
                  <a:pt x="366" y="1560"/>
                </a:lnTo>
                <a:lnTo>
                  <a:pt x="357" y="1583"/>
                </a:lnTo>
                <a:lnTo>
                  <a:pt x="345" y="1604"/>
                </a:lnTo>
                <a:lnTo>
                  <a:pt x="334" y="1626"/>
                </a:lnTo>
                <a:lnTo>
                  <a:pt x="322" y="1647"/>
                </a:lnTo>
                <a:lnTo>
                  <a:pt x="311" y="1668"/>
                </a:lnTo>
                <a:lnTo>
                  <a:pt x="299" y="1687"/>
                </a:lnTo>
                <a:lnTo>
                  <a:pt x="288" y="1706"/>
                </a:lnTo>
                <a:lnTo>
                  <a:pt x="274" y="1725"/>
                </a:lnTo>
                <a:lnTo>
                  <a:pt x="249" y="1762"/>
                </a:lnTo>
                <a:lnTo>
                  <a:pt x="223" y="1796"/>
                </a:lnTo>
                <a:lnTo>
                  <a:pt x="198" y="1829"/>
                </a:lnTo>
                <a:lnTo>
                  <a:pt x="171" y="1862"/>
                </a:lnTo>
                <a:lnTo>
                  <a:pt x="144" y="1892"/>
                </a:lnTo>
                <a:lnTo>
                  <a:pt x="128" y="1906"/>
                </a:lnTo>
                <a:lnTo>
                  <a:pt x="115" y="1919"/>
                </a:lnTo>
                <a:lnTo>
                  <a:pt x="102" y="1933"/>
                </a:lnTo>
                <a:lnTo>
                  <a:pt x="88" y="1944"/>
                </a:lnTo>
                <a:lnTo>
                  <a:pt x="77" y="1954"/>
                </a:lnTo>
                <a:lnTo>
                  <a:pt x="65" y="1963"/>
                </a:lnTo>
                <a:lnTo>
                  <a:pt x="55" y="1971"/>
                </a:lnTo>
                <a:lnTo>
                  <a:pt x="46" y="1979"/>
                </a:lnTo>
                <a:lnTo>
                  <a:pt x="38" y="1984"/>
                </a:lnTo>
                <a:lnTo>
                  <a:pt x="31" y="1988"/>
                </a:lnTo>
                <a:lnTo>
                  <a:pt x="23" y="1992"/>
                </a:lnTo>
                <a:lnTo>
                  <a:pt x="17" y="1996"/>
                </a:lnTo>
                <a:lnTo>
                  <a:pt x="11" y="1996"/>
                </a:lnTo>
                <a:lnTo>
                  <a:pt x="7" y="1998"/>
                </a:lnTo>
                <a:lnTo>
                  <a:pt x="4" y="1996"/>
                </a:lnTo>
                <a:lnTo>
                  <a:pt x="2" y="1996"/>
                </a:lnTo>
                <a:lnTo>
                  <a:pt x="0" y="1992"/>
                </a:lnTo>
                <a:lnTo>
                  <a:pt x="0" y="1988"/>
                </a:lnTo>
                <a:lnTo>
                  <a:pt x="0" y="1981"/>
                </a:lnTo>
                <a:lnTo>
                  <a:pt x="2" y="1973"/>
                </a:lnTo>
                <a:lnTo>
                  <a:pt x="6" y="1963"/>
                </a:lnTo>
                <a:lnTo>
                  <a:pt x="9" y="1954"/>
                </a:lnTo>
                <a:lnTo>
                  <a:pt x="15" y="1940"/>
                </a:lnTo>
                <a:lnTo>
                  <a:pt x="21" y="1927"/>
                </a:lnTo>
                <a:lnTo>
                  <a:pt x="29" y="1910"/>
                </a:lnTo>
                <a:lnTo>
                  <a:pt x="38" y="1892"/>
                </a:lnTo>
                <a:lnTo>
                  <a:pt x="48" y="1873"/>
                </a:lnTo>
                <a:lnTo>
                  <a:pt x="59" y="1854"/>
                </a:lnTo>
                <a:lnTo>
                  <a:pt x="73" y="1831"/>
                </a:lnTo>
                <a:lnTo>
                  <a:pt x="88" y="1806"/>
                </a:lnTo>
                <a:lnTo>
                  <a:pt x="103" y="1781"/>
                </a:lnTo>
                <a:lnTo>
                  <a:pt x="121" y="1754"/>
                </a:lnTo>
                <a:lnTo>
                  <a:pt x="138" y="1725"/>
                </a:lnTo>
                <a:lnTo>
                  <a:pt x="153" y="1697"/>
                </a:lnTo>
                <a:lnTo>
                  <a:pt x="171" y="1668"/>
                </a:lnTo>
                <a:lnTo>
                  <a:pt x="186" y="1637"/>
                </a:lnTo>
                <a:lnTo>
                  <a:pt x="201" y="1606"/>
                </a:lnTo>
                <a:lnTo>
                  <a:pt x="217" y="1576"/>
                </a:lnTo>
                <a:lnTo>
                  <a:pt x="230" y="1545"/>
                </a:lnTo>
                <a:lnTo>
                  <a:pt x="244" y="1512"/>
                </a:lnTo>
                <a:lnTo>
                  <a:pt x="257" y="1480"/>
                </a:lnTo>
                <a:lnTo>
                  <a:pt x="270" y="1447"/>
                </a:lnTo>
                <a:lnTo>
                  <a:pt x="282" y="1414"/>
                </a:lnTo>
                <a:lnTo>
                  <a:pt x="294" y="1380"/>
                </a:lnTo>
                <a:lnTo>
                  <a:pt x="305" y="1345"/>
                </a:lnTo>
                <a:lnTo>
                  <a:pt x="315" y="1311"/>
                </a:lnTo>
                <a:lnTo>
                  <a:pt x="324" y="1274"/>
                </a:lnTo>
                <a:lnTo>
                  <a:pt x="334" y="1238"/>
                </a:lnTo>
                <a:lnTo>
                  <a:pt x="340" y="1201"/>
                </a:lnTo>
                <a:lnTo>
                  <a:pt x="347" y="1163"/>
                </a:lnTo>
                <a:lnTo>
                  <a:pt x="353" y="1127"/>
                </a:lnTo>
                <a:lnTo>
                  <a:pt x="359" y="1088"/>
                </a:lnTo>
                <a:lnTo>
                  <a:pt x="363" y="1048"/>
                </a:lnTo>
                <a:lnTo>
                  <a:pt x="368" y="1009"/>
                </a:lnTo>
                <a:lnTo>
                  <a:pt x="372" y="969"/>
                </a:lnTo>
                <a:lnTo>
                  <a:pt x="376" y="929"/>
                </a:lnTo>
                <a:lnTo>
                  <a:pt x="380" y="887"/>
                </a:lnTo>
                <a:lnTo>
                  <a:pt x="384" y="844"/>
                </a:lnTo>
                <a:lnTo>
                  <a:pt x="388" y="802"/>
                </a:lnTo>
                <a:lnTo>
                  <a:pt x="390" y="760"/>
                </a:lnTo>
                <a:lnTo>
                  <a:pt x="391" y="718"/>
                </a:lnTo>
                <a:lnTo>
                  <a:pt x="391" y="674"/>
                </a:lnTo>
                <a:lnTo>
                  <a:pt x="393" y="629"/>
                </a:lnTo>
                <a:lnTo>
                  <a:pt x="393" y="583"/>
                </a:lnTo>
                <a:lnTo>
                  <a:pt x="393" y="539"/>
                </a:lnTo>
                <a:lnTo>
                  <a:pt x="393" y="497"/>
                </a:lnTo>
                <a:lnTo>
                  <a:pt x="393" y="457"/>
                </a:lnTo>
                <a:lnTo>
                  <a:pt x="393" y="418"/>
                </a:lnTo>
                <a:lnTo>
                  <a:pt x="393" y="382"/>
                </a:lnTo>
                <a:lnTo>
                  <a:pt x="393" y="347"/>
                </a:lnTo>
                <a:lnTo>
                  <a:pt x="391" y="315"/>
                </a:lnTo>
                <a:lnTo>
                  <a:pt x="391" y="282"/>
                </a:lnTo>
                <a:lnTo>
                  <a:pt x="391" y="253"/>
                </a:lnTo>
                <a:lnTo>
                  <a:pt x="390" y="226"/>
                </a:lnTo>
                <a:lnTo>
                  <a:pt x="390" y="201"/>
                </a:lnTo>
                <a:lnTo>
                  <a:pt x="388" y="178"/>
                </a:lnTo>
                <a:lnTo>
                  <a:pt x="388" y="155"/>
                </a:lnTo>
                <a:lnTo>
                  <a:pt x="386" y="136"/>
                </a:lnTo>
                <a:lnTo>
                  <a:pt x="384" y="119"/>
                </a:lnTo>
                <a:lnTo>
                  <a:pt x="382" y="102"/>
                </a:lnTo>
                <a:lnTo>
                  <a:pt x="380" y="90"/>
                </a:lnTo>
                <a:lnTo>
                  <a:pt x="378" y="79"/>
                </a:lnTo>
                <a:lnTo>
                  <a:pt x="376" y="67"/>
                </a:lnTo>
                <a:lnTo>
                  <a:pt x="376" y="58"/>
                </a:lnTo>
                <a:lnTo>
                  <a:pt x="374" y="48"/>
                </a:lnTo>
                <a:lnTo>
                  <a:pt x="374" y="40"/>
                </a:lnTo>
                <a:lnTo>
                  <a:pt x="374" y="33"/>
                </a:lnTo>
                <a:lnTo>
                  <a:pt x="376" y="25"/>
                </a:lnTo>
                <a:lnTo>
                  <a:pt x="376" y="19"/>
                </a:lnTo>
                <a:lnTo>
                  <a:pt x="378" y="13"/>
                </a:lnTo>
                <a:lnTo>
                  <a:pt x="382" y="10"/>
                </a:lnTo>
                <a:lnTo>
                  <a:pt x="384" y="6"/>
                </a:lnTo>
                <a:lnTo>
                  <a:pt x="390" y="2"/>
                </a:lnTo>
                <a:lnTo>
                  <a:pt x="393" y="0"/>
                </a:lnTo>
                <a:lnTo>
                  <a:pt x="399" y="0"/>
                </a:lnTo>
                <a:lnTo>
                  <a:pt x="405" y="0"/>
                </a:lnTo>
                <a:lnTo>
                  <a:pt x="418" y="0"/>
                </a:lnTo>
                <a:lnTo>
                  <a:pt x="434" y="2"/>
                </a:lnTo>
                <a:lnTo>
                  <a:pt x="451" y="4"/>
                </a:lnTo>
                <a:lnTo>
                  <a:pt x="468" y="8"/>
                </a:lnTo>
                <a:lnTo>
                  <a:pt x="486" y="11"/>
                </a:lnTo>
                <a:lnTo>
                  <a:pt x="505" y="19"/>
                </a:lnTo>
                <a:lnTo>
                  <a:pt x="526" y="25"/>
                </a:lnTo>
                <a:lnTo>
                  <a:pt x="549" y="35"/>
                </a:lnTo>
                <a:lnTo>
                  <a:pt x="549" y="107"/>
                </a:lnTo>
                <a:lnTo>
                  <a:pt x="549" y="182"/>
                </a:lnTo>
                <a:lnTo>
                  <a:pt x="549" y="257"/>
                </a:lnTo>
                <a:lnTo>
                  <a:pt x="549" y="334"/>
                </a:lnTo>
                <a:lnTo>
                  <a:pt x="549" y="409"/>
                </a:lnTo>
                <a:lnTo>
                  <a:pt x="549" y="487"/>
                </a:lnTo>
                <a:lnTo>
                  <a:pt x="549" y="641"/>
                </a:lnTo>
                <a:lnTo>
                  <a:pt x="545" y="681"/>
                </a:lnTo>
                <a:lnTo>
                  <a:pt x="543" y="722"/>
                </a:lnTo>
                <a:lnTo>
                  <a:pt x="541" y="760"/>
                </a:lnTo>
                <a:lnTo>
                  <a:pt x="539" y="798"/>
                </a:lnTo>
                <a:lnTo>
                  <a:pt x="535" y="837"/>
                </a:lnTo>
                <a:lnTo>
                  <a:pt x="534" y="873"/>
                </a:lnTo>
                <a:lnTo>
                  <a:pt x="530" y="908"/>
                </a:lnTo>
                <a:lnTo>
                  <a:pt x="528" y="944"/>
                </a:lnTo>
                <a:lnTo>
                  <a:pt x="524" y="979"/>
                </a:lnTo>
                <a:lnTo>
                  <a:pt x="520" y="1013"/>
                </a:lnTo>
                <a:lnTo>
                  <a:pt x="516" y="1046"/>
                </a:lnTo>
                <a:lnTo>
                  <a:pt x="510" y="1079"/>
                </a:lnTo>
                <a:lnTo>
                  <a:pt x="507" y="1111"/>
                </a:lnTo>
                <a:lnTo>
                  <a:pt x="501" y="1142"/>
                </a:lnTo>
                <a:lnTo>
                  <a:pt x="495" y="1173"/>
                </a:lnTo>
                <a:lnTo>
                  <a:pt x="489" y="12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43"/>
          <p:cNvSpPr/>
          <p:nvPr/>
        </p:nvSpPr>
        <p:spPr>
          <a:xfrm>
            <a:off x="6637320" y="3097080"/>
            <a:ext cx="1009800" cy="1756080"/>
          </a:xfrm>
          <a:custGeom>
            <a:avLst/>
            <a:gdLst/>
            <a:ahLst/>
            <a:rect l="l" t="t" r="r" b="b"/>
            <a:pathLst>
              <a:path w="1271" h="2213">
                <a:moveTo>
                  <a:pt x="1211" y="562"/>
                </a:moveTo>
                <a:lnTo>
                  <a:pt x="1211" y="579"/>
                </a:lnTo>
                <a:lnTo>
                  <a:pt x="1211" y="597"/>
                </a:lnTo>
                <a:lnTo>
                  <a:pt x="1211" y="616"/>
                </a:lnTo>
                <a:lnTo>
                  <a:pt x="1213" y="635"/>
                </a:lnTo>
                <a:lnTo>
                  <a:pt x="1213" y="654"/>
                </a:lnTo>
                <a:lnTo>
                  <a:pt x="1213" y="675"/>
                </a:lnTo>
                <a:lnTo>
                  <a:pt x="1213" y="696"/>
                </a:lnTo>
                <a:lnTo>
                  <a:pt x="1213" y="718"/>
                </a:lnTo>
                <a:lnTo>
                  <a:pt x="1215" y="741"/>
                </a:lnTo>
                <a:lnTo>
                  <a:pt x="1215" y="764"/>
                </a:lnTo>
                <a:lnTo>
                  <a:pt x="1217" y="787"/>
                </a:lnTo>
                <a:lnTo>
                  <a:pt x="1217" y="812"/>
                </a:lnTo>
                <a:lnTo>
                  <a:pt x="1217" y="835"/>
                </a:lnTo>
                <a:lnTo>
                  <a:pt x="1219" y="860"/>
                </a:lnTo>
                <a:lnTo>
                  <a:pt x="1219" y="886"/>
                </a:lnTo>
                <a:lnTo>
                  <a:pt x="1221" y="913"/>
                </a:lnTo>
                <a:lnTo>
                  <a:pt x="1223" y="940"/>
                </a:lnTo>
                <a:lnTo>
                  <a:pt x="1223" y="967"/>
                </a:lnTo>
                <a:lnTo>
                  <a:pt x="1225" y="996"/>
                </a:lnTo>
                <a:lnTo>
                  <a:pt x="1227" y="1023"/>
                </a:lnTo>
                <a:lnTo>
                  <a:pt x="1227" y="1053"/>
                </a:lnTo>
                <a:lnTo>
                  <a:pt x="1229" y="1082"/>
                </a:lnTo>
                <a:lnTo>
                  <a:pt x="1230" y="1113"/>
                </a:lnTo>
                <a:lnTo>
                  <a:pt x="1232" y="1144"/>
                </a:lnTo>
                <a:lnTo>
                  <a:pt x="1234" y="1174"/>
                </a:lnTo>
                <a:lnTo>
                  <a:pt x="1236" y="1207"/>
                </a:lnTo>
                <a:lnTo>
                  <a:pt x="1238" y="1240"/>
                </a:lnTo>
                <a:lnTo>
                  <a:pt x="1240" y="1272"/>
                </a:lnTo>
                <a:lnTo>
                  <a:pt x="1242" y="1307"/>
                </a:lnTo>
                <a:lnTo>
                  <a:pt x="1244" y="1341"/>
                </a:lnTo>
                <a:lnTo>
                  <a:pt x="1246" y="1376"/>
                </a:lnTo>
                <a:lnTo>
                  <a:pt x="1248" y="1410"/>
                </a:lnTo>
                <a:lnTo>
                  <a:pt x="1248" y="1445"/>
                </a:lnTo>
                <a:lnTo>
                  <a:pt x="1250" y="1480"/>
                </a:lnTo>
                <a:lnTo>
                  <a:pt x="1250" y="1512"/>
                </a:lnTo>
                <a:lnTo>
                  <a:pt x="1250" y="1545"/>
                </a:lnTo>
                <a:lnTo>
                  <a:pt x="1252" y="1577"/>
                </a:lnTo>
                <a:lnTo>
                  <a:pt x="1252" y="1608"/>
                </a:lnTo>
                <a:lnTo>
                  <a:pt x="1252" y="1637"/>
                </a:lnTo>
                <a:lnTo>
                  <a:pt x="1252" y="1666"/>
                </a:lnTo>
                <a:lnTo>
                  <a:pt x="1252" y="1694"/>
                </a:lnTo>
                <a:lnTo>
                  <a:pt x="1250" y="1721"/>
                </a:lnTo>
                <a:lnTo>
                  <a:pt x="1250" y="1748"/>
                </a:lnTo>
                <a:lnTo>
                  <a:pt x="1250" y="1773"/>
                </a:lnTo>
                <a:lnTo>
                  <a:pt x="1248" y="1798"/>
                </a:lnTo>
                <a:lnTo>
                  <a:pt x="1248" y="1821"/>
                </a:lnTo>
                <a:lnTo>
                  <a:pt x="1246" y="1844"/>
                </a:lnTo>
                <a:lnTo>
                  <a:pt x="1244" y="1865"/>
                </a:lnTo>
                <a:lnTo>
                  <a:pt x="1242" y="1886"/>
                </a:lnTo>
                <a:lnTo>
                  <a:pt x="1240" y="1908"/>
                </a:lnTo>
                <a:lnTo>
                  <a:pt x="1238" y="1927"/>
                </a:lnTo>
                <a:lnTo>
                  <a:pt x="1236" y="1944"/>
                </a:lnTo>
                <a:lnTo>
                  <a:pt x="1232" y="1963"/>
                </a:lnTo>
                <a:lnTo>
                  <a:pt x="1230" y="1979"/>
                </a:lnTo>
                <a:lnTo>
                  <a:pt x="1227" y="1996"/>
                </a:lnTo>
                <a:lnTo>
                  <a:pt x="1223" y="2009"/>
                </a:lnTo>
                <a:lnTo>
                  <a:pt x="1221" y="2025"/>
                </a:lnTo>
                <a:lnTo>
                  <a:pt x="1217" y="2038"/>
                </a:lnTo>
                <a:lnTo>
                  <a:pt x="1211" y="2050"/>
                </a:lnTo>
                <a:lnTo>
                  <a:pt x="1207" y="2061"/>
                </a:lnTo>
                <a:lnTo>
                  <a:pt x="1204" y="2073"/>
                </a:lnTo>
                <a:lnTo>
                  <a:pt x="1198" y="2082"/>
                </a:lnTo>
                <a:lnTo>
                  <a:pt x="1194" y="2090"/>
                </a:lnTo>
                <a:lnTo>
                  <a:pt x="1188" y="2099"/>
                </a:lnTo>
                <a:lnTo>
                  <a:pt x="1177" y="2113"/>
                </a:lnTo>
                <a:lnTo>
                  <a:pt x="1167" y="2126"/>
                </a:lnTo>
                <a:lnTo>
                  <a:pt x="1157" y="2140"/>
                </a:lnTo>
                <a:lnTo>
                  <a:pt x="1148" y="2151"/>
                </a:lnTo>
                <a:lnTo>
                  <a:pt x="1138" y="2161"/>
                </a:lnTo>
                <a:lnTo>
                  <a:pt x="1131" y="2170"/>
                </a:lnTo>
                <a:lnTo>
                  <a:pt x="1123" y="2178"/>
                </a:lnTo>
                <a:lnTo>
                  <a:pt x="1115" y="2186"/>
                </a:lnTo>
                <a:lnTo>
                  <a:pt x="1108" y="2193"/>
                </a:lnTo>
                <a:lnTo>
                  <a:pt x="1102" y="2197"/>
                </a:lnTo>
                <a:lnTo>
                  <a:pt x="1096" y="2203"/>
                </a:lnTo>
                <a:lnTo>
                  <a:pt x="1090" y="2207"/>
                </a:lnTo>
                <a:lnTo>
                  <a:pt x="1085" y="2209"/>
                </a:lnTo>
                <a:lnTo>
                  <a:pt x="1079" y="2211"/>
                </a:lnTo>
                <a:lnTo>
                  <a:pt x="1073" y="2213"/>
                </a:lnTo>
                <a:lnTo>
                  <a:pt x="1069" y="2213"/>
                </a:lnTo>
                <a:lnTo>
                  <a:pt x="1065" y="2213"/>
                </a:lnTo>
                <a:lnTo>
                  <a:pt x="1061" y="2211"/>
                </a:lnTo>
                <a:lnTo>
                  <a:pt x="1058" y="2209"/>
                </a:lnTo>
                <a:lnTo>
                  <a:pt x="1054" y="2207"/>
                </a:lnTo>
                <a:lnTo>
                  <a:pt x="1050" y="2203"/>
                </a:lnTo>
                <a:lnTo>
                  <a:pt x="1046" y="2199"/>
                </a:lnTo>
                <a:lnTo>
                  <a:pt x="1044" y="2193"/>
                </a:lnTo>
                <a:lnTo>
                  <a:pt x="1040" y="2188"/>
                </a:lnTo>
                <a:lnTo>
                  <a:pt x="1038" y="2180"/>
                </a:lnTo>
                <a:lnTo>
                  <a:pt x="1035" y="2172"/>
                </a:lnTo>
                <a:lnTo>
                  <a:pt x="1033" y="2165"/>
                </a:lnTo>
                <a:lnTo>
                  <a:pt x="1031" y="2155"/>
                </a:lnTo>
                <a:lnTo>
                  <a:pt x="1029" y="2146"/>
                </a:lnTo>
                <a:lnTo>
                  <a:pt x="1027" y="2134"/>
                </a:lnTo>
                <a:lnTo>
                  <a:pt x="1023" y="2122"/>
                </a:lnTo>
                <a:lnTo>
                  <a:pt x="1021" y="2111"/>
                </a:lnTo>
                <a:lnTo>
                  <a:pt x="1019" y="2098"/>
                </a:lnTo>
                <a:lnTo>
                  <a:pt x="1015" y="2084"/>
                </a:lnTo>
                <a:lnTo>
                  <a:pt x="1012" y="2073"/>
                </a:lnTo>
                <a:lnTo>
                  <a:pt x="1008" y="2061"/>
                </a:lnTo>
                <a:lnTo>
                  <a:pt x="1004" y="2050"/>
                </a:lnTo>
                <a:lnTo>
                  <a:pt x="998" y="2038"/>
                </a:lnTo>
                <a:lnTo>
                  <a:pt x="992" y="2027"/>
                </a:lnTo>
                <a:lnTo>
                  <a:pt x="985" y="2015"/>
                </a:lnTo>
                <a:lnTo>
                  <a:pt x="977" y="2005"/>
                </a:lnTo>
                <a:lnTo>
                  <a:pt x="969" y="1994"/>
                </a:lnTo>
                <a:lnTo>
                  <a:pt x="960" y="1984"/>
                </a:lnTo>
                <a:lnTo>
                  <a:pt x="950" y="1975"/>
                </a:lnTo>
                <a:lnTo>
                  <a:pt x="939" y="1965"/>
                </a:lnTo>
                <a:lnTo>
                  <a:pt x="927" y="1955"/>
                </a:lnTo>
                <a:lnTo>
                  <a:pt x="916" y="1946"/>
                </a:lnTo>
                <a:lnTo>
                  <a:pt x="902" y="1938"/>
                </a:lnTo>
                <a:lnTo>
                  <a:pt x="891" y="1929"/>
                </a:lnTo>
                <a:lnTo>
                  <a:pt x="877" y="1921"/>
                </a:lnTo>
                <a:lnTo>
                  <a:pt x="866" y="1913"/>
                </a:lnTo>
                <a:lnTo>
                  <a:pt x="856" y="1906"/>
                </a:lnTo>
                <a:lnTo>
                  <a:pt x="846" y="1898"/>
                </a:lnTo>
                <a:lnTo>
                  <a:pt x="837" y="1890"/>
                </a:lnTo>
                <a:lnTo>
                  <a:pt x="829" y="1884"/>
                </a:lnTo>
                <a:lnTo>
                  <a:pt x="823" y="1877"/>
                </a:lnTo>
                <a:lnTo>
                  <a:pt x="816" y="1871"/>
                </a:lnTo>
                <a:lnTo>
                  <a:pt x="810" y="1865"/>
                </a:lnTo>
                <a:lnTo>
                  <a:pt x="806" y="1860"/>
                </a:lnTo>
                <a:lnTo>
                  <a:pt x="802" y="1854"/>
                </a:lnTo>
                <a:lnTo>
                  <a:pt x="800" y="1848"/>
                </a:lnTo>
                <a:lnTo>
                  <a:pt x="797" y="1844"/>
                </a:lnTo>
                <a:lnTo>
                  <a:pt x="797" y="1838"/>
                </a:lnTo>
                <a:lnTo>
                  <a:pt x="797" y="1835"/>
                </a:lnTo>
                <a:lnTo>
                  <a:pt x="797" y="1833"/>
                </a:lnTo>
                <a:lnTo>
                  <a:pt x="798" y="1831"/>
                </a:lnTo>
                <a:lnTo>
                  <a:pt x="800" y="1829"/>
                </a:lnTo>
                <a:lnTo>
                  <a:pt x="804" y="1827"/>
                </a:lnTo>
                <a:lnTo>
                  <a:pt x="810" y="1825"/>
                </a:lnTo>
                <a:lnTo>
                  <a:pt x="816" y="1823"/>
                </a:lnTo>
                <a:lnTo>
                  <a:pt x="822" y="1821"/>
                </a:lnTo>
                <a:lnTo>
                  <a:pt x="829" y="1821"/>
                </a:lnTo>
                <a:lnTo>
                  <a:pt x="839" y="1819"/>
                </a:lnTo>
                <a:lnTo>
                  <a:pt x="848" y="1819"/>
                </a:lnTo>
                <a:lnTo>
                  <a:pt x="860" y="1819"/>
                </a:lnTo>
                <a:lnTo>
                  <a:pt x="871" y="1819"/>
                </a:lnTo>
                <a:lnTo>
                  <a:pt x="883" y="1819"/>
                </a:lnTo>
                <a:lnTo>
                  <a:pt x="896" y="1819"/>
                </a:lnTo>
                <a:lnTo>
                  <a:pt x="912" y="1821"/>
                </a:lnTo>
                <a:lnTo>
                  <a:pt x="927" y="1823"/>
                </a:lnTo>
                <a:lnTo>
                  <a:pt x="942" y="1825"/>
                </a:lnTo>
                <a:lnTo>
                  <a:pt x="956" y="1827"/>
                </a:lnTo>
                <a:lnTo>
                  <a:pt x="969" y="1829"/>
                </a:lnTo>
                <a:lnTo>
                  <a:pt x="983" y="1831"/>
                </a:lnTo>
                <a:lnTo>
                  <a:pt x="994" y="1831"/>
                </a:lnTo>
                <a:lnTo>
                  <a:pt x="1006" y="1831"/>
                </a:lnTo>
                <a:lnTo>
                  <a:pt x="1015" y="1833"/>
                </a:lnTo>
                <a:lnTo>
                  <a:pt x="1025" y="1833"/>
                </a:lnTo>
                <a:lnTo>
                  <a:pt x="1033" y="1833"/>
                </a:lnTo>
                <a:lnTo>
                  <a:pt x="1040" y="1831"/>
                </a:lnTo>
                <a:lnTo>
                  <a:pt x="1048" y="1831"/>
                </a:lnTo>
                <a:lnTo>
                  <a:pt x="1054" y="1829"/>
                </a:lnTo>
                <a:lnTo>
                  <a:pt x="1060" y="1829"/>
                </a:lnTo>
                <a:lnTo>
                  <a:pt x="1063" y="1827"/>
                </a:lnTo>
                <a:lnTo>
                  <a:pt x="1067" y="1825"/>
                </a:lnTo>
                <a:lnTo>
                  <a:pt x="1069" y="1823"/>
                </a:lnTo>
                <a:lnTo>
                  <a:pt x="1071" y="1821"/>
                </a:lnTo>
                <a:lnTo>
                  <a:pt x="1071" y="1819"/>
                </a:lnTo>
                <a:lnTo>
                  <a:pt x="1073" y="1817"/>
                </a:lnTo>
                <a:lnTo>
                  <a:pt x="1073" y="1813"/>
                </a:lnTo>
                <a:lnTo>
                  <a:pt x="1073" y="1808"/>
                </a:lnTo>
                <a:lnTo>
                  <a:pt x="1075" y="1804"/>
                </a:lnTo>
                <a:lnTo>
                  <a:pt x="1075" y="1798"/>
                </a:lnTo>
                <a:lnTo>
                  <a:pt x="1077" y="1790"/>
                </a:lnTo>
                <a:lnTo>
                  <a:pt x="1077" y="1783"/>
                </a:lnTo>
                <a:lnTo>
                  <a:pt x="1077" y="1775"/>
                </a:lnTo>
                <a:lnTo>
                  <a:pt x="1077" y="1765"/>
                </a:lnTo>
                <a:lnTo>
                  <a:pt x="1079" y="1756"/>
                </a:lnTo>
                <a:lnTo>
                  <a:pt x="1079" y="1744"/>
                </a:lnTo>
                <a:lnTo>
                  <a:pt x="1079" y="1733"/>
                </a:lnTo>
                <a:lnTo>
                  <a:pt x="1079" y="1721"/>
                </a:lnTo>
                <a:lnTo>
                  <a:pt x="1079" y="1708"/>
                </a:lnTo>
                <a:lnTo>
                  <a:pt x="1081" y="1694"/>
                </a:lnTo>
                <a:lnTo>
                  <a:pt x="1081" y="1679"/>
                </a:lnTo>
                <a:lnTo>
                  <a:pt x="1081" y="1664"/>
                </a:lnTo>
                <a:lnTo>
                  <a:pt x="1081" y="1648"/>
                </a:lnTo>
                <a:lnTo>
                  <a:pt x="1081" y="1631"/>
                </a:lnTo>
                <a:lnTo>
                  <a:pt x="1081" y="1614"/>
                </a:lnTo>
                <a:lnTo>
                  <a:pt x="1081" y="1595"/>
                </a:lnTo>
                <a:lnTo>
                  <a:pt x="1081" y="1575"/>
                </a:lnTo>
                <a:lnTo>
                  <a:pt x="1081" y="1554"/>
                </a:lnTo>
                <a:lnTo>
                  <a:pt x="1081" y="1533"/>
                </a:lnTo>
                <a:lnTo>
                  <a:pt x="1081" y="1510"/>
                </a:lnTo>
                <a:lnTo>
                  <a:pt x="1081" y="1487"/>
                </a:lnTo>
                <a:lnTo>
                  <a:pt x="1081" y="1464"/>
                </a:lnTo>
                <a:lnTo>
                  <a:pt x="1081" y="1439"/>
                </a:lnTo>
                <a:lnTo>
                  <a:pt x="1081" y="1414"/>
                </a:lnTo>
                <a:lnTo>
                  <a:pt x="1081" y="1387"/>
                </a:lnTo>
                <a:lnTo>
                  <a:pt x="1081" y="1334"/>
                </a:lnTo>
                <a:lnTo>
                  <a:pt x="1081" y="1282"/>
                </a:lnTo>
                <a:lnTo>
                  <a:pt x="1081" y="1230"/>
                </a:lnTo>
                <a:lnTo>
                  <a:pt x="1081" y="1178"/>
                </a:lnTo>
                <a:lnTo>
                  <a:pt x="1081" y="1128"/>
                </a:lnTo>
                <a:lnTo>
                  <a:pt x="1081" y="1078"/>
                </a:lnTo>
                <a:lnTo>
                  <a:pt x="1081" y="1028"/>
                </a:lnTo>
                <a:lnTo>
                  <a:pt x="1079" y="981"/>
                </a:lnTo>
                <a:lnTo>
                  <a:pt x="1079" y="933"/>
                </a:lnTo>
                <a:lnTo>
                  <a:pt x="1079" y="885"/>
                </a:lnTo>
                <a:lnTo>
                  <a:pt x="1077" y="791"/>
                </a:lnTo>
                <a:lnTo>
                  <a:pt x="1073" y="698"/>
                </a:lnTo>
                <a:lnTo>
                  <a:pt x="1069" y="608"/>
                </a:lnTo>
                <a:lnTo>
                  <a:pt x="1067" y="585"/>
                </a:lnTo>
                <a:lnTo>
                  <a:pt x="1067" y="564"/>
                </a:lnTo>
                <a:lnTo>
                  <a:pt x="1065" y="543"/>
                </a:lnTo>
                <a:lnTo>
                  <a:pt x="1063" y="522"/>
                </a:lnTo>
                <a:lnTo>
                  <a:pt x="1063" y="503"/>
                </a:lnTo>
                <a:lnTo>
                  <a:pt x="1061" y="483"/>
                </a:lnTo>
                <a:lnTo>
                  <a:pt x="1060" y="466"/>
                </a:lnTo>
                <a:lnTo>
                  <a:pt x="1058" y="447"/>
                </a:lnTo>
                <a:lnTo>
                  <a:pt x="1056" y="432"/>
                </a:lnTo>
                <a:lnTo>
                  <a:pt x="1056" y="414"/>
                </a:lnTo>
                <a:lnTo>
                  <a:pt x="1054" y="399"/>
                </a:lnTo>
                <a:lnTo>
                  <a:pt x="1052" y="384"/>
                </a:lnTo>
                <a:lnTo>
                  <a:pt x="1050" y="368"/>
                </a:lnTo>
                <a:lnTo>
                  <a:pt x="1048" y="355"/>
                </a:lnTo>
                <a:lnTo>
                  <a:pt x="1046" y="341"/>
                </a:lnTo>
                <a:lnTo>
                  <a:pt x="1044" y="330"/>
                </a:lnTo>
                <a:lnTo>
                  <a:pt x="1042" y="316"/>
                </a:lnTo>
                <a:lnTo>
                  <a:pt x="1040" y="305"/>
                </a:lnTo>
                <a:lnTo>
                  <a:pt x="1038" y="295"/>
                </a:lnTo>
                <a:lnTo>
                  <a:pt x="1037" y="284"/>
                </a:lnTo>
                <a:lnTo>
                  <a:pt x="1033" y="274"/>
                </a:lnTo>
                <a:lnTo>
                  <a:pt x="1031" y="267"/>
                </a:lnTo>
                <a:lnTo>
                  <a:pt x="1029" y="257"/>
                </a:lnTo>
                <a:lnTo>
                  <a:pt x="1027" y="249"/>
                </a:lnTo>
                <a:lnTo>
                  <a:pt x="1025" y="242"/>
                </a:lnTo>
                <a:lnTo>
                  <a:pt x="1023" y="236"/>
                </a:lnTo>
                <a:lnTo>
                  <a:pt x="1021" y="228"/>
                </a:lnTo>
                <a:lnTo>
                  <a:pt x="1019" y="222"/>
                </a:lnTo>
                <a:lnTo>
                  <a:pt x="1015" y="219"/>
                </a:lnTo>
                <a:lnTo>
                  <a:pt x="1013" y="213"/>
                </a:lnTo>
                <a:lnTo>
                  <a:pt x="1012" y="209"/>
                </a:lnTo>
                <a:lnTo>
                  <a:pt x="1010" y="205"/>
                </a:lnTo>
                <a:lnTo>
                  <a:pt x="1006" y="199"/>
                </a:lnTo>
                <a:lnTo>
                  <a:pt x="1000" y="194"/>
                </a:lnTo>
                <a:lnTo>
                  <a:pt x="994" y="188"/>
                </a:lnTo>
                <a:lnTo>
                  <a:pt x="990" y="184"/>
                </a:lnTo>
                <a:lnTo>
                  <a:pt x="977" y="176"/>
                </a:lnTo>
                <a:lnTo>
                  <a:pt x="964" y="171"/>
                </a:lnTo>
                <a:lnTo>
                  <a:pt x="948" y="165"/>
                </a:lnTo>
                <a:lnTo>
                  <a:pt x="931" y="163"/>
                </a:lnTo>
                <a:lnTo>
                  <a:pt x="921" y="161"/>
                </a:lnTo>
                <a:lnTo>
                  <a:pt x="912" y="161"/>
                </a:lnTo>
                <a:lnTo>
                  <a:pt x="902" y="161"/>
                </a:lnTo>
                <a:lnTo>
                  <a:pt x="891" y="161"/>
                </a:lnTo>
                <a:lnTo>
                  <a:pt x="885" y="161"/>
                </a:lnTo>
                <a:lnTo>
                  <a:pt x="877" y="161"/>
                </a:lnTo>
                <a:lnTo>
                  <a:pt x="868" y="161"/>
                </a:lnTo>
                <a:lnTo>
                  <a:pt x="858" y="161"/>
                </a:lnTo>
                <a:lnTo>
                  <a:pt x="846" y="163"/>
                </a:lnTo>
                <a:lnTo>
                  <a:pt x="833" y="163"/>
                </a:lnTo>
                <a:lnTo>
                  <a:pt x="818" y="165"/>
                </a:lnTo>
                <a:lnTo>
                  <a:pt x="802" y="167"/>
                </a:lnTo>
                <a:lnTo>
                  <a:pt x="785" y="169"/>
                </a:lnTo>
                <a:lnTo>
                  <a:pt x="766" y="169"/>
                </a:lnTo>
                <a:lnTo>
                  <a:pt x="745" y="171"/>
                </a:lnTo>
                <a:lnTo>
                  <a:pt x="724" y="174"/>
                </a:lnTo>
                <a:lnTo>
                  <a:pt x="701" y="176"/>
                </a:lnTo>
                <a:lnTo>
                  <a:pt x="676" y="178"/>
                </a:lnTo>
                <a:lnTo>
                  <a:pt x="651" y="180"/>
                </a:lnTo>
                <a:lnTo>
                  <a:pt x="624" y="184"/>
                </a:lnTo>
                <a:lnTo>
                  <a:pt x="595" y="188"/>
                </a:lnTo>
                <a:lnTo>
                  <a:pt x="564" y="190"/>
                </a:lnTo>
                <a:lnTo>
                  <a:pt x="534" y="194"/>
                </a:lnTo>
                <a:lnTo>
                  <a:pt x="501" y="197"/>
                </a:lnTo>
                <a:lnTo>
                  <a:pt x="466" y="201"/>
                </a:lnTo>
                <a:lnTo>
                  <a:pt x="432" y="205"/>
                </a:lnTo>
                <a:lnTo>
                  <a:pt x="395" y="209"/>
                </a:lnTo>
                <a:lnTo>
                  <a:pt x="357" y="213"/>
                </a:lnTo>
                <a:lnTo>
                  <a:pt x="317" y="217"/>
                </a:lnTo>
                <a:lnTo>
                  <a:pt x="276" y="222"/>
                </a:lnTo>
                <a:lnTo>
                  <a:pt x="232" y="226"/>
                </a:lnTo>
                <a:lnTo>
                  <a:pt x="190" y="230"/>
                </a:lnTo>
                <a:lnTo>
                  <a:pt x="144" y="236"/>
                </a:lnTo>
                <a:lnTo>
                  <a:pt x="98" y="242"/>
                </a:lnTo>
                <a:lnTo>
                  <a:pt x="50" y="245"/>
                </a:lnTo>
                <a:lnTo>
                  <a:pt x="0" y="251"/>
                </a:lnTo>
                <a:lnTo>
                  <a:pt x="0" y="205"/>
                </a:lnTo>
                <a:lnTo>
                  <a:pt x="0" y="161"/>
                </a:lnTo>
                <a:lnTo>
                  <a:pt x="36" y="159"/>
                </a:lnTo>
                <a:lnTo>
                  <a:pt x="71" y="159"/>
                </a:lnTo>
                <a:lnTo>
                  <a:pt x="107" y="157"/>
                </a:lnTo>
                <a:lnTo>
                  <a:pt x="144" y="155"/>
                </a:lnTo>
                <a:lnTo>
                  <a:pt x="219" y="151"/>
                </a:lnTo>
                <a:lnTo>
                  <a:pt x="292" y="144"/>
                </a:lnTo>
                <a:lnTo>
                  <a:pt x="367" y="136"/>
                </a:lnTo>
                <a:lnTo>
                  <a:pt x="443" y="126"/>
                </a:lnTo>
                <a:lnTo>
                  <a:pt x="518" y="115"/>
                </a:lnTo>
                <a:lnTo>
                  <a:pt x="595" y="103"/>
                </a:lnTo>
                <a:lnTo>
                  <a:pt x="612" y="100"/>
                </a:lnTo>
                <a:lnTo>
                  <a:pt x="631" y="96"/>
                </a:lnTo>
                <a:lnTo>
                  <a:pt x="649" y="94"/>
                </a:lnTo>
                <a:lnTo>
                  <a:pt x="666" y="90"/>
                </a:lnTo>
                <a:lnTo>
                  <a:pt x="681" y="86"/>
                </a:lnTo>
                <a:lnTo>
                  <a:pt x="697" y="84"/>
                </a:lnTo>
                <a:lnTo>
                  <a:pt x="712" y="80"/>
                </a:lnTo>
                <a:lnTo>
                  <a:pt x="727" y="78"/>
                </a:lnTo>
                <a:lnTo>
                  <a:pt x="741" y="77"/>
                </a:lnTo>
                <a:lnTo>
                  <a:pt x="756" y="73"/>
                </a:lnTo>
                <a:lnTo>
                  <a:pt x="768" y="71"/>
                </a:lnTo>
                <a:lnTo>
                  <a:pt x="781" y="67"/>
                </a:lnTo>
                <a:lnTo>
                  <a:pt x="793" y="65"/>
                </a:lnTo>
                <a:lnTo>
                  <a:pt x="804" y="63"/>
                </a:lnTo>
                <a:lnTo>
                  <a:pt x="816" y="61"/>
                </a:lnTo>
                <a:lnTo>
                  <a:pt x="825" y="57"/>
                </a:lnTo>
                <a:lnTo>
                  <a:pt x="835" y="55"/>
                </a:lnTo>
                <a:lnTo>
                  <a:pt x="845" y="54"/>
                </a:lnTo>
                <a:lnTo>
                  <a:pt x="854" y="52"/>
                </a:lnTo>
                <a:lnTo>
                  <a:pt x="862" y="48"/>
                </a:lnTo>
                <a:lnTo>
                  <a:pt x="870" y="46"/>
                </a:lnTo>
                <a:lnTo>
                  <a:pt x="875" y="44"/>
                </a:lnTo>
                <a:lnTo>
                  <a:pt x="883" y="42"/>
                </a:lnTo>
                <a:lnTo>
                  <a:pt x="889" y="40"/>
                </a:lnTo>
                <a:lnTo>
                  <a:pt x="893" y="38"/>
                </a:lnTo>
                <a:lnTo>
                  <a:pt x="898" y="36"/>
                </a:lnTo>
                <a:lnTo>
                  <a:pt x="902" y="32"/>
                </a:lnTo>
                <a:lnTo>
                  <a:pt x="906" y="30"/>
                </a:lnTo>
                <a:lnTo>
                  <a:pt x="910" y="29"/>
                </a:lnTo>
                <a:lnTo>
                  <a:pt x="912" y="27"/>
                </a:lnTo>
                <a:lnTo>
                  <a:pt x="914" y="25"/>
                </a:lnTo>
                <a:lnTo>
                  <a:pt x="916" y="23"/>
                </a:lnTo>
                <a:lnTo>
                  <a:pt x="918" y="21"/>
                </a:lnTo>
                <a:lnTo>
                  <a:pt x="919" y="19"/>
                </a:lnTo>
                <a:lnTo>
                  <a:pt x="923" y="15"/>
                </a:lnTo>
                <a:lnTo>
                  <a:pt x="927" y="13"/>
                </a:lnTo>
                <a:lnTo>
                  <a:pt x="937" y="9"/>
                </a:lnTo>
                <a:lnTo>
                  <a:pt x="946" y="7"/>
                </a:lnTo>
                <a:lnTo>
                  <a:pt x="960" y="4"/>
                </a:lnTo>
                <a:lnTo>
                  <a:pt x="971" y="2"/>
                </a:lnTo>
                <a:lnTo>
                  <a:pt x="985" y="0"/>
                </a:lnTo>
                <a:lnTo>
                  <a:pt x="998" y="0"/>
                </a:lnTo>
                <a:lnTo>
                  <a:pt x="1012" y="4"/>
                </a:lnTo>
                <a:lnTo>
                  <a:pt x="1027" y="9"/>
                </a:lnTo>
                <a:lnTo>
                  <a:pt x="1035" y="13"/>
                </a:lnTo>
                <a:lnTo>
                  <a:pt x="1044" y="17"/>
                </a:lnTo>
                <a:lnTo>
                  <a:pt x="1054" y="21"/>
                </a:lnTo>
                <a:lnTo>
                  <a:pt x="1063" y="25"/>
                </a:lnTo>
                <a:lnTo>
                  <a:pt x="1073" y="29"/>
                </a:lnTo>
                <a:lnTo>
                  <a:pt x="1085" y="34"/>
                </a:lnTo>
                <a:lnTo>
                  <a:pt x="1096" y="40"/>
                </a:lnTo>
                <a:lnTo>
                  <a:pt x="1108" y="44"/>
                </a:lnTo>
                <a:lnTo>
                  <a:pt x="1121" y="50"/>
                </a:lnTo>
                <a:lnTo>
                  <a:pt x="1134" y="55"/>
                </a:lnTo>
                <a:lnTo>
                  <a:pt x="1150" y="61"/>
                </a:lnTo>
                <a:lnTo>
                  <a:pt x="1165" y="69"/>
                </a:lnTo>
                <a:lnTo>
                  <a:pt x="1177" y="77"/>
                </a:lnTo>
                <a:lnTo>
                  <a:pt x="1190" y="86"/>
                </a:lnTo>
                <a:lnTo>
                  <a:pt x="1200" y="94"/>
                </a:lnTo>
                <a:lnTo>
                  <a:pt x="1211" y="101"/>
                </a:lnTo>
                <a:lnTo>
                  <a:pt x="1221" y="107"/>
                </a:lnTo>
                <a:lnTo>
                  <a:pt x="1229" y="115"/>
                </a:lnTo>
                <a:lnTo>
                  <a:pt x="1238" y="121"/>
                </a:lnTo>
                <a:lnTo>
                  <a:pt x="1244" y="126"/>
                </a:lnTo>
                <a:lnTo>
                  <a:pt x="1252" y="132"/>
                </a:lnTo>
                <a:lnTo>
                  <a:pt x="1255" y="138"/>
                </a:lnTo>
                <a:lnTo>
                  <a:pt x="1261" y="144"/>
                </a:lnTo>
                <a:lnTo>
                  <a:pt x="1265" y="148"/>
                </a:lnTo>
                <a:lnTo>
                  <a:pt x="1267" y="151"/>
                </a:lnTo>
                <a:lnTo>
                  <a:pt x="1269" y="155"/>
                </a:lnTo>
                <a:lnTo>
                  <a:pt x="1271" y="157"/>
                </a:lnTo>
                <a:lnTo>
                  <a:pt x="1271" y="161"/>
                </a:lnTo>
                <a:lnTo>
                  <a:pt x="1271" y="169"/>
                </a:lnTo>
                <a:lnTo>
                  <a:pt x="1269" y="178"/>
                </a:lnTo>
                <a:lnTo>
                  <a:pt x="1267" y="186"/>
                </a:lnTo>
                <a:lnTo>
                  <a:pt x="1263" y="196"/>
                </a:lnTo>
                <a:lnTo>
                  <a:pt x="1259" y="205"/>
                </a:lnTo>
                <a:lnTo>
                  <a:pt x="1255" y="217"/>
                </a:lnTo>
                <a:lnTo>
                  <a:pt x="1252" y="228"/>
                </a:lnTo>
                <a:lnTo>
                  <a:pt x="1248" y="240"/>
                </a:lnTo>
                <a:lnTo>
                  <a:pt x="1244" y="247"/>
                </a:lnTo>
                <a:lnTo>
                  <a:pt x="1238" y="257"/>
                </a:lnTo>
                <a:lnTo>
                  <a:pt x="1236" y="267"/>
                </a:lnTo>
                <a:lnTo>
                  <a:pt x="1232" y="280"/>
                </a:lnTo>
                <a:lnTo>
                  <a:pt x="1229" y="293"/>
                </a:lnTo>
                <a:lnTo>
                  <a:pt x="1227" y="309"/>
                </a:lnTo>
                <a:lnTo>
                  <a:pt x="1223" y="326"/>
                </a:lnTo>
                <a:lnTo>
                  <a:pt x="1221" y="345"/>
                </a:lnTo>
                <a:lnTo>
                  <a:pt x="1219" y="366"/>
                </a:lnTo>
                <a:lnTo>
                  <a:pt x="1217" y="387"/>
                </a:lnTo>
                <a:lnTo>
                  <a:pt x="1215" y="412"/>
                </a:lnTo>
                <a:lnTo>
                  <a:pt x="1213" y="439"/>
                </a:lnTo>
                <a:lnTo>
                  <a:pt x="1213" y="466"/>
                </a:lnTo>
                <a:lnTo>
                  <a:pt x="1213" y="497"/>
                </a:lnTo>
                <a:lnTo>
                  <a:pt x="1211" y="528"/>
                </a:lnTo>
                <a:lnTo>
                  <a:pt x="1211" y="5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44"/>
          <p:cNvSpPr/>
          <p:nvPr/>
        </p:nvSpPr>
        <p:spPr>
          <a:xfrm>
            <a:off x="6964200" y="3233880"/>
            <a:ext cx="149400" cy="1547640"/>
          </a:xfrm>
          <a:custGeom>
            <a:avLst/>
            <a:gdLst/>
            <a:ahLst/>
            <a:rect l="l" t="t" r="r" b="b"/>
            <a:pathLst>
              <a:path w="188" h="1949">
                <a:moveTo>
                  <a:pt x="40" y="1869"/>
                </a:moveTo>
                <a:lnTo>
                  <a:pt x="32" y="1848"/>
                </a:lnTo>
                <a:lnTo>
                  <a:pt x="25" y="1827"/>
                </a:lnTo>
                <a:lnTo>
                  <a:pt x="19" y="1807"/>
                </a:lnTo>
                <a:lnTo>
                  <a:pt x="13" y="1790"/>
                </a:lnTo>
                <a:lnTo>
                  <a:pt x="9" y="1773"/>
                </a:lnTo>
                <a:lnTo>
                  <a:pt x="7" y="1758"/>
                </a:lnTo>
                <a:lnTo>
                  <a:pt x="5" y="1744"/>
                </a:lnTo>
                <a:lnTo>
                  <a:pt x="5" y="1731"/>
                </a:lnTo>
                <a:lnTo>
                  <a:pt x="4" y="1723"/>
                </a:lnTo>
                <a:lnTo>
                  <a:pt x="2" y="1717"/>
                </a:lnTo>
                <a:lnTo>
                  <a:pt x="0" y="1710"/>
                </a:lnTo>
                <a:lnTo>
                  <a:pt x="0" y="1702"/>
                </a:lnTo>
                <a:lnTo>
                  <a:pt x="0" y="1685"/>
                </a:lnTo>
                <a:lnTo>
                  <a:pt x="2" y="1677"/>
                </a:lnTo>
                <a:lnTo>
                  <a:pt x="2" y="1667"/>
                </a:lnTo>
                <a:lnTo>
                  <a:pt x="4" y="1658"/>
                </a:lnTo>
                <a:lnTo>
                  <a:pt x="5" y="1646"/>
                </a:lnTo>
                <a:lnTo>
                  <a:pt x="5" y="1637"/>
                </a:lnTo>
                <a:lnTo>
                  <a:pt x="7" y="1623"/>
                </a:lnTo>
                <a:lnTo>
                  <a:pt x="9" y="1612"/>
                </a:lnTo>
                <a:lnTo>
                  <a:pt x="13" y="1598"/>
                </a:lnTo>
                <a:lnTo>
                  <a:pt x="15" y="1585"/>
                </a:lnTo>
                <a:lnTo>
                  <a:pt x="17" y="1569"/>
                </a:lnTo>
                <a:lnTo>
                  <a:pt x="17" y="1564"/>
                </a:lnTo>
                <a:lnTo>
                  <a:pt x="19" y="1554"/>
                </a:lnTo>
                <a:lnTo>
                  <a:pt x="19" y="1546"/>
                </a:lnTo>
                <a:lnTo>
                  <a:pt x="21" y="1537"/>
                </a:lnTo>
                <a:lnTo>
                  <a:pt x="21" y="1525"/>
                </a:lnTo>
                <a:lnTo>
                  <a:pt x="23" y="1514"/>
                </a:lnTo>
                <a:lnTo>
                  <a:pt x="23" y="1500"/>
                </a:lnTo>
                <a:lnTo>
                  <a:pt x="23" y="1485"/>
                </a:lnTo>
                <a:lnTo>
                  <a:pt x="25" y="1472"/>
                </a:lnTo>
                <a:lnTo>
                  <a:pt x="25" y="1454"/>
                </a:lnTo>
                <a:lnTo>
                  <a:pt x="25" y="1437"/>
                </a:lnTo>
                <a:lnTo>
                  <a:pt x="25" y="1420"/>
                </a:lnTo>
                <a:lnTo>
                  <a:pt x="27" y="1401"/>
                </a:lnTo>
                <a:lnTo>
                  <a:pt x="27" y="1379"/>
                </a:lnTo>
                <a:lnTo>
                  <a:pt x="27" y="1358"/>
                </a:lnTo>
                <a:lnTo>
                  <a:pt x="27" y="1335"/>
                </a:lnTo>
                <a:lnTo>
                  <a:pt x="27" y="1312"/>
                </a:lnTo>
                <a:lnTo>
                  <a:pt x="27" y="1287"/>
                </a:lnTo>
                <a:lnTo>
                  <a:pt x="28" y="1262"/>
                </a:lnTo>
                <a:lnTo>
                  <a:pt x="28" y="1236"/>
                </a:lnTo>
                <a:lnTo>
                  <a:pt x="28" y="1209"/>
                </a:lnTo>
                <a:lnTo>
                  <a:pt x="28" y="1180"/>
                </a:lnTo>
                <a:lnTo>
                  <a:pt x="28" y="1151"/>
                </a:lnTo>
                <a:lnTo>
                  <a:pt x="28" y="1120"/>
                </a:lnTo>
                <a:lnTo>
                  <a:pt x="28" y="1088"/>
                </a:lnTo>
                <a:lnTo>
                  <a:pt x="28" y="1055"/>
                </a:lnTo>
                <a:lnTo>
                  <a:pt x="28" y="1021"/>
                </a:lnTo>
                <a:lnTo>
                  <a:pt x="28" y="986"/>
                </a:lnTo>
                <a:lnTo>
                  <a:pt x="28" y="950"/>
                </a:lnTo>
                <a:lnTo>
                  <a:pt x="28" y="913"/>
                </a:lnTo>
                <a:lnTo>
                  <a:pt x="28" y="875"/>
                </a:lnTo>
                <a:lnTo>
                  <a:pt x="28" y="836"/>
                </a:lnTo>
                <a:lnTo>
                  <a:pt x="28" y="798"/>
                </a:lnTo>
                <a:lnTo>
                  <a:pt x="28" y="760"/>
                </a:lnTo>
                <a:lnTo>
                  <a:pt x="28" y="723"/>
                </a:lnTo>
                <a:lnTo>
                  <a:pt x="28" y="687"/>
                </a:lnTo>
                <a:lnTo>
                  <a:pt x="28" y="652"/>
                </a:lnTo>
                <a:lnTo>
                  <a:pt x="27" y="618"/>
                </a:lnTo>
                <a:lnTo>
                  <a:pt x="27" y="585"/>
                </a:lnTo>
                <a:lnTo>
                  <a:pt x="27" y="552"/>
                </a:lnTo>
                <a:lnTo>
                  <a:pt x="27" y="520"/>
                </a:lnTo>
                <a:lnTo>
                  <a:pt x="25" y="489"/>
                </a:lnTo>
                <a:lnTo>
                  <a:pt x="25" y="458"/>
                </a:lnTo>
                <a:lnTo>
                  <a:pt x="25" y="429"/>
                </a:lnTo>
                <a:lnTo>
                  <a:pt x="23" y="401"/>
                </a:lnTo>
                <a:lnTo>
                  <a:pt x="23" y="372"/>
                </a:lnTo>
                <a:lnTo>
                  <a:pt x="21" y="345"/>
                </a:lnTo>
                <a:lnTo>
                  <a:pt x="21" y="318"/>
                </a:lnTo>
                <a:lnTo>
                  <a:pt x="21" y="293"/>
                </a:lnTo>
                <a:lnTo>
                  <a:pt x="19" y="268"/>
                </a:lnTo>
                <a:lnTo>
                  <a:pt x="19" y="243"/>
                </a:lnTo>
                <a:lnTo>
                  <a:pt x="17" y="220"/>
                </a:lnTo>
                <a:lnTo>
                  <a:pt x="17" y="197"/>
                </a:lnTo>
                <a:lnTo>
                  <a:pt x="15" y="176"/>
                </a:lnTo>
                <a:lnTo>
                  <a:pt x="15" y="155"/>
                </a:lnTo>
                <a:lnTo>
                  <a:pt x="13" y="134"/>
                </a:lnTo>
                <a:lnTo>
                  <a:pt x="11" y="115"/>
                </a:lnTo>
                <a:lnTo>
                  <a:pt x="11" y="95"/>
                </a:lnTo>
                <a:lnTo>
                  <a:pt x="9" y="78"/>
                </a:lnTo>
                <a:lnTo>
                  <a:pt x="9" y="61"/>
                </a:lnTo>
                <a:lnTo>
                  <a:pt x="7" y="44"/>
                </a:lnTo>
                <a:lnTo>
                  <a:pt x="7" y="28"/>
                </a:lnTo>
                <a:lnTo>
                  <a:pt x="5" y="13"/>
                </a:lnTo>
                <a:lnTo>
                  <a:pt x="5" y="0"/>
                </a:lnTo>
                <a:lnTo>
                  <a:pt x="23" y="7"/>
                </a:lnTo>
                <a:lnTo>
                  <a:pt x="38" y="15"/>
                </a:lnTo>
                <a:lnTo>
                  <a:pt x="53" y="23"/>
                </a:lnTo>
                <a:lnTo>
                  <a:pt x="69" y="30"/>
                </a:lnTo>
                <a:lnTo>
                  <a:pt x="82" y="38"/>
                </a:lnTo>
                <a:lnTo>
                  <a:pt x="96" y="46"/>
                </a:lnTo>
                <a:lnTo>
                  <a:pt x="107" y="51"/>
                </a:lnTo>
                <a:lnTo>
                  <a:pt x="119" y="57"/>
                </a:lnTo>
                <a:lnTo>
                  <a:pt x="128" y="63"/>
                </a:lnTo>
                <a:lnTo>
                  <a:pt x="138" y="69"/>
                </a:lnTo>
                <a:lnTo>
                  <a:pt x="146" y="72"/>
                </a:lnTo>
                <a:lnTo>
                  <a:pt x="153" y="78"/>
                </a:lnTo>
                <a:lnTo>
                  <a:pt x="159" y="82"/>
                </a:lnTo>
                <a:lnTo>
                  <a:pt x="165" y="84"/>
                </a:lnTo>
                <a:lnTo>
                  <a:pt x="169" y="88"/>
                </a:lnTo>
                <a:lnTo>
                  <a:pt x="171" y="90"/>
                </a:lnTo>
                <a:lnTo>
                  <a:pt x="172" y="95"/>
                </a:lnTo>
                <a:lnTo>
                  <a:pt x="176" y="101"/>
                </a:lnTo>
                <a:lnTo>
                  <a:pt x="178" y="107"/>
                </a:lnTo>
                <a:lnTo>
                  <a:pt x="180" y="117"/>
                </a:lnTo>
                <a:lnTo>
                  <a:pt x="182" y="124"/>
                </a:lnTo>
                <a:lnTo>
                  <a:pt x="182" y="134"/>
                </a:lnTo>
                <a:lnTo>
                  <a:pt x="184" y="145"/>
                </a:lnTo>
                <a:lnTo>
                  <a:pt x="186" y="157"/>
                </a:lnTo>
                <a:lnTo>
                  <a:pt x="186" y="170"/>
                </a:lnTo>
                <a:lnTo>
                  <a:pt x="188" y="184"/>
                </a:lnTo>
                <a:lnTo>
                  <a:pt x="188" y="199"/>
                </a:lnTo>
                <a:lnTo>
                  <a:pt x="188" y="214"/>
                </a:lnTo>
                <a:lnTo>
                  <a:pt x="188" y="230"/>
                </a:lnTo>
                <a:lnTo>
                  <a:pt x="186" y="247"/>
                </a:lnTo>
                <a:lnTo>
                  <a:pt x="186" y="266"/>
                </a:lnTo>
                <a:lnTo>
                  <a:pt x="184" y="285"/>
                </a:lnTo>
                <a:lnTo>
                  <a:pt x="174" y="372"/>
                </a:lnTo>
                <a:lnTo>
                  <a:pt x="171" y="414"/>
                </a:lnTo>
                <a:lnTo>
                  <a:pt x="167" y="458"/>
                </a:lnTo>
                <a:lnTo>
                  <a:pt x="163" y="502"/>
                </a:lnTo>
                <a:lnTo>
                  <a:pt x="161" y="548"/>
                </a:lnTo>
                <a:lnTo>
                  <a:pt x="159" y="594"/>
                </a:lnTo>
                <a:lnTo>
                  <a:pt x="159" y="641"/>
                </a:lnTo>
                <a:lnTo>
                  <a:pt x="159" y="664"/>
                </a:lnTo>
                <a:lnTo>
                  <a:pt x="159" y="689"/>
                </a:lnTo>
                <a:lnTo>
                  <a:pt x="159" y="713"/>
                </a:lnTo>
                <a:lnTo>
                  <a:pt x="159" y="740"/>
                </a:lnTo>
                <a:lnTo>
                  <a:pt x="159" y="765"/>
                </a:lnTo>
                <a:lnTo>
                  <a:pt x="159" y="792"/>
                </a:lnTo>
                <a:lnTo>
                  <a:pt x="159" y="821"/>
                </a:lnTo>
                <a:lnTo>
                  <a:pt x="159" y="848"/>
                </a:lnTo>
                <a:lnTo>
                  <a:pt x="159" y="877"/>
                </a:lnTo>
                <a:lnTo>
                  <a:pt x="159" y="907"/>
                </a:lnTo>
                <a:lnTo>
                  <a:pt x="159" y="938"/>
                </a:lnTo>
                <a:lnTo>
                  <a:pt x="159" y="969"/>
                </a:lnTo>
                <a:lnTo>
                  <a:pt x="159" y="999"/>
                </a:lnTo>
                <a:lnTo>
                  <a:pt x="159" y="1032"/>
                </a:lnTo>
                <a:lnTo>
                  <a:pt x="159" y="1067"/>
                </a:lnTo>
                <a:lnTo>
                  <a:pt x="159" y="1099"/>
                </a:lnTo>
                <a:lnTo>
                  <a:pt x="159" y="1136"/>
                </a:lnTo>
                <a:lnTo>
                  <a:pt x="159" y="1170"/>
                </a:lnTo>
                <a:lnTo>
                  <a:pt x="159" y="1205"/>
                </a:lnTo>
                <a:lnTo>
                  <a:pt x="159" y="1237"/>
                </a:lnTo>
                <a:lnTo>
                  <a:pt x="159" y="1268"/>
                </a:lnTo>
                <a:lnTo>
                  <a:pt x="159" y="1299"/>
                </a:lnTo>
                <a:lnTo>
                  <a:pt x="159" y="1330"/>
                </a:lnTo>
                <a:lnTo>
                  <a:pt x="159" y="1358"/>
                </a:lnTo>
                <a:lnTo>
                  <a:pt x="159" y="1385"/>
                </a:lnTo>
                <a:lnTo>
                  <a:pt x="159" y="1412"/>
                </a:lnTo>
                <a:lnTo>
                  <a:pt x="159" y="1437"/>
                </a:lnTo>
                <a:lnTo>
                  <a:pt x="159" y="1460"/>
                </a:lnTo>
                <a:lnTo>
                  <a:pt x="159" y="1485"/>
                </a:lnTo>
                <a:lnTo>
                  <a:pt x="159" y="1506"/>
                </a:lnTo>
                <a:lnTo>
                  <a:pt x="159" y="1527"/>
                </a:lnTo>
                <a:lnTo>
                  <a:pt x="159" y="1546"/>
                </a:lnTo>
                <a:lnTo>
                  <a:pt x="155" y="1585"/>
                </a:lnTo>
                <a:lnTo>
                  <a:pt x="153" y="1621"/>
                </a:lnTo>
                <a:lnTo>
                  <a:pt x="149" y="1658"/>
                </a:lnTo>
                <a:lnTo>
                  <a:pt x="149" y="1692"/>
                </a:lnTo>
                <a:lnTo>
                  <a:pt x="148" y="1727"/>
                </a:lnTo>
                <a:lnTo>
                  <a:pt x="148" y="1759"/>
                </a:lnTo>
                <a:lnTo>
                  <a:pt x="148" y="1792"/>
                </a:lnTo>
                <a:lnTo>
                  <a:pt x="148" y="1823"/>
                </a:lnTo>
                <a:lnTo>
                  <a:pt x="146" y="1836"/>
                </a:lnTo>
                <a:lnTo>
                  <a:pt x="144" y="1852"/>
                </a:lnTo>
                <a:lnTo>
                  <a:pt x="140" y="1863"/>
                </a:lnTo>
                <a:lnTo>
                  <a:pt x="138" y="1877"/>
                </a:lnTo>
                <a:lnTo>
                  <a:pt x="136" y="1888"/>
                </a:lnTo>
                <a:lnTo>
                  <a:pt x="134" y="1898"/>
                </a:lnTo>
                <a:lnTo>
                  <a:pt x="132" y="1907"/>
                </a:lnTo>
                <a:lnTo>
                  <a:pt x="130" y="1915"/>
                </a:lnTo>
                <a:lnTo>
                  <a:pt x="126" y="1923"/>
                </a:lnTo>
                <a:lnTo>
                  <a:pt x="124" y="1930"/>
                </a:lnTo>
                <a:lnTo>
                  <a:pt x="123" y="1936"/>
                </a:lnTo>
                <a:lnTo>
                  <a:pt x="121" y="1940"/>
                </a:lnTo>
                <a:lnTo>
                  <a:pt x="119" y="1944"/>
                </a:lnTo>
                <a:lnTo>
                  <a:pt x="117" y="1946"/>
                </a:lnTo>
                <a:lnTo>
                  <a:pt x="113" y="1948"/>
                </a:lnTo>
                <a:lnTo>
                  <a:pt x="111" y="1949"/>
                </a:lnTo>
                <a:lnTo>
                  <a:pt x="107" y="1948"/>
                </a:lnTo>
                <a:lnTo>
                  <a:pt x="103" y="1948"/>
                </a:lnTo>
                <a:lnTo>
                  <a:pt x="98" y="1946"/>
                </a:lnTo>
                <a:lnTo>
                  <a:pt x="94" y="1944"/>
                </a:lnTo>
                <a:lnTo>
                  <a:pt x="90" y="1942"/>
                </a:lnTo>
                <a:lnTo>
                  <a:pt x="84" y="1938"/>
                </a:lnTo>
                <a:lnTo>
                  <a:pt x="80" y="1934"/>
                </a:lnTo>
                <a:lnTo>
                  <a:pt x="76" y="1930"/>
                </a:lnTo>
                <a:lnTo>
                  <a:pt x="71" y="1925"/>
                </a:lnTo>
                <a:lnTo>
                  <a:pt x="67" y="1919"/>
                </a:lnTo>
                <a:lnTo>
                  <a:pt x="63" y="1913"/>
                </a:lnTo>
                <a:lnTo>
                  <a:pt x="57" y="1905"/>
                </a:lnTo>
                <a:lnTo>
                  <a:pt x="53" y="1898"/>
                </a:lnTo>
                <a:lnTo>
                  <a:pt x="50" y="1888"/>
                </a:lnTo>
                <a:lnTo>
                  <a:pt x="44" y="1878"/>
                </a:lnTo>
                <a:lnTo>
                  <a:pt x="40" y="18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45"/>
          <p:cNvSpPr/>
          <p:nvPr/>
        </p:nvSpPr>
        <p:spPr>
          <a:xfrm>
            <a:off x="6788160" y="3608280"/>
            <a:ext cx="576360" cy="144720"/>
          </a:xfrm>
          <a:custGeom>
            <a:avLst/>
            <a:gdLst/>
            <a:ahLst/>
            <a:rect l="l" t="t" r="r" b="b"/>
            <a:pathLst>
              <a:path w="726" h="180">
                <a:moveTo>
                  <a:pt x="0" y="122"/>
                </a:moveTo>
                <a:lnTo>
                  <a:pt x="34" y="113"/>
                </a:lnTo>
                <a:lnTo>
                  <a:pt x="69" y="101"/>
                </a:lnTo>
                <a:lnTo>
                  <a:pt x="102" y="92"/>
                </a:lnTo>
                <a:lnTo>
                  <a:pt x="134" y="84"/>
                </a:lnTo>
                <a:lnTo>
                  <a:pt x="163" y="74"/>
                </a:lnTo>
                <a:lnTo>
                  <a:pt x="194" y="67"/>
                </a:lnTo>
                <a:lnTo>
                  <a:pt x="223" y="59"/>
                </a:lnTo>
                <a:lnTo>
                  <a:pt x="249" y="53"/>
                </a:lnTo>
                <a:lnTo>
                  <a:pt x="276" y="46"/>
                </a:lnTo>
                <a:lnTo>
                  <a:pt x="301" y="40"/>
                </a:lnTo>
                <a:lnTo>
                  <a:pt x="324" y="34"/>
                </a:lnTo>
                <a:lnTo>
                  <a:pt x="347" y="28"/>
                </a:lnTo>
                <a:lnTo>
                  <a:pt x="369" y="23"/>
                </a:lnTo>
                <a:lnTo>
                  <a:pt x="390" y="17"/>
                </a:lnTo>
                <a:lnTo>
                  <a:pt x="409" y="13"/>
                </a:lnTo>
                <a:lnTo>
                  <a:pt x="428" y="9"/>
                </a:lnTo>
                <a:lnTo>
                  <a:pt x="445" y="5"/>
                </a:lnTo>
                <a:lnTo>
                  <a:pt x="463" y="3"/>
                </a:lnTo>
                <a:lnTo>
                  <a:pt x="478" y="3"/>
                </a:lnTo>
                <a:lnTo>
                  <a:pt x="495" y="2"/>
                </a:lnTo>
                <a:lnTo>
                  <a:pt x="511" y="0"/>
                </a:lnTo>
                <a:lnTo>
                  <a:pt x="526" y="0"/>
                </a:lnTo>
                <a:lnTo>
                  <a:pt x="555" y="0"/>
                </a:lnTo>
                <a:lnTo>
                  <a:pt x="582" y="0"/>
                </a:lnTo>
                <a:lnTo>
                  <a:pt x="607" y="2"/>
                </a:lnTo>
                <a:lnTo>
                  <a:pt x="630" y="3"/>
                </a:lnTo>
                <a:lnTo>
                  <a:pt x="653" y="9"/>
                </a:lnTo>
                <a:lnTo>
                  <a:pt x="662" y="13"/>
                </a:lnTo>
                <a:lnTo>
                  <a:pt x="670" y="17"/>
                </a:lnTo>
                <a:lnTo>
                  <a:pt x="678" y="21"/>
                </a:lnTo>
                <a:lnTo>
                  <a:pt x="685" y="25"/>
                </a:lnTo>
                <a:lnTo>
                  <a:pt x="691" y="30"/>
                </a:lnTo>
                <a:lnTo>
                  <a:pt x="697" y="34"/>
                </a:lnTo>
                <a:lnTo>
                  <a:pt x="703" y="38"/>
                </a:lnTo>
                <a:lnTo>
                  <a:pt x="706" y="42"/>
                </a:lnTo>
                <a:lnTo>
                  <a:pt x="710" y="48"/>
                </a:lnTo>
                <a:lnTo>
                  <a:pt x="714" y="51"/>
                </a:lnTo>
                <a:lnTo>
                  <a:pt x="718" y="55"/>
                </a:lnTo>
                <a:lnTo>
                  <a:pt x="720" y="59"/>
                </a:lnTo>
                <a:lnTo>
                  <a:pt x="722" y="65"/>
                </a:lnTo>
                <a:lnTo>
                  <a:pt x="724" y="69"/>
                </a:lnTo>
                <a:lnTo>
                  <a:pt x="724" y="73"/>
                </a:lnTo>
                <a:lnTo>
                  <a:pt x="726" y="76"/>
                </a:lnTo>
                <a:lnTo>
                  <a:pt x="724" y="80"/>
                </a:lnTo>
                <a:lnTo>
                  <a:pt x="724" y="84"/>
                </a:lnTo>
                <a:lnTo>
                  <a:pt x="722" y="88"/>
                </a:lnTo>
                <a:lnTo>
                  <a:pt x="718" y="92"/>
                </a:lnTo>
                <a:lnTo>
                  <a:pt x="714" y="96"/>
                </a:lnTo>
                <a:lnTo>
                  <a:pt x="710" y="98"/>
                </a:lnTo>
                <a:lnTo>
                  <a:pt x="704" y="101"/>
                </a:lnTo>
                <a:lnTo>
                  <a:pt x="699" y="103"/>
                </a:lnTo>
                <a:lnTo>
                  <a:pt x="693" y="107"/>
                </a:lnTo>
                <a:lnTo>
                  <a:pt x="685" y="109"/>
                </a:lnTo>
                <a:lnTo>
                  <a:pt x="678" y="111"/>
                </a:lnTo>
                <a:lnTo>
                  <a:pt x="670" y="115"/>
                </a:lnTo>
                <a:lnTo>
                  <a:pt x="660" y="117"/>
                </a:lnTo>
                <a:lnTo>
                  <a:pt x="651" y="119"/>
                </a:lnTo>
                <a:lnTo>
                  <a:pt x="641" y="121"/>
                </a:lnTo>
                <a:lnTo>
                  <a:pt x="630" y="122"/>
                </a:lnTo>
                <a:lnTo>
                  <a:pt x="618" y="124"/>
                </a:lnTo>
                <a:lnTo>
                  <a:pt x="605" y="128"/>
                </a:lnTo>
                <a:lnTo>
                  <a:pt x="591" y="130"/>
                </a:lnTo>
                <a:lnTo>
                  <a:pt x="576" y="132"/>
                </a:lnTo>
                <a:lnTo>
                  <a:pt x="560" y="134"/>
                </a:lnTo>
                <a:lnTo>
                  <a:pt x="543" y="136"/>
                </a:lnTo>
                <a:lnTo>
                  <a:pt x="526" y="140"/>
                </a:lnTo>
                <a:lnTo>
                  <a:pt x="507" y="142"/>
                </a:lnTo>
                <a:lnTo>
                  <a:pt x="486" y="144"/>
                </a:lnTo>
                <a:lnTo>
                  <a:pt x="465" y="147"/>
                </a:lnTo>
                <a:lnTo>
                  <a:pt x="443" y="149"/>
                </a:lnTo>
                <a:lnTo>
                  <a:pt x="420" y="153"/>
                </a:lnTo>
                <a:lnTo>
                  <a:pt x="397" y="157"/>
                </a:lnTo>
                <a:lnTo>
                  <a:pt x="372" y="161"/>
                </a:lnTo>
                <a:lnTo>
                  <a:pt x="347" y="165"/>
                </a:lnTo>
                <a:lnTo>
                  <a:pt x="321" y="169"/>
                </a:lnTo>
                <a:lnTo>
                  <a:pt x="292" y="172"/>
                </a:lnTo>
                <a:lnTo>
                  <a:pt x="265" y="176"/>
                </a:lnTo>
                <a:lnTo>
                  <a:pt x="238" y="178"/>
                </a:lnTo>
                <a:lnTo>
                  <a:pt x="213" y="180"/>
                </a:lnTo>
                <a:lnTo>
                  <a:pt x="190" y="180"/>
                </a:lnTo>
                <a:lnTo>
                  <a:pt x="167" y="180"/>
                </a:lnTo>
                <a:lnTo>
                  <a:pt x="146" y="178"/>
                </a:lnTo>
                <a:lnTo>
                  <a:pt x="125" y="176"/>
                </a:lnTo>
                <a:lnTo>
                  <a:pt x="106" y="172"/>
                </a:lnTo>
                <a:lnTo>
                  <a:pt x="86" y="169"/>
                </a:lnTo>
                <a:lnTo>
                  <a:pt x="69" y="165"/>
                </a:lnTo>
                <a:lnTo>
                  <a:pt x="54" y="157"/>
                </a:lnTo>
                <a:lnTo>
                  <a:pt x="38" y="151"/>
                </a:lnTo>
                <a:lnTo>
                  <a:pt x="25" y="142"/>
                </a:lnTo>
                <a:lnTo>
                  <a:pt x="11" y="134"/>
                </a:lnTo>
                <a:lnTo>
                  <a:pt x="0" y="1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46"/>
          <p:cNvSpPr/>
          <p:nvPr/>
        </p:nvSpPr>
        <p:spPr>
          <a:xfrm>
            <a:off x="6750000" y="3979800"/>
            <a:ext cx="623880" cy="146160"/>
          </a:xfrm>
          <a:custGeom>
            <a:avLst/>
            <a:gdLst/>
            <a:ahLst/>
            <a:rect l="l" t="t" r="r" b="b"/>
            <a:pathLst>
              <a:path w="785" h="182">
                <a:moveTo>
                  <a:pt x="0" y="102"/>
                </a:moveTo>
                <a:lnTo>
                  <a:pt x="27" y="96"/>
                </a:lnTo>
                <a:lnTo>
                  <a:pt x="52" y="90"/>
                </a:lnTo>
                <a:lnTo>
                  <a:pt x="77" y="84"/>
                </a:lnTo>
                <a:lnTo>
                  <a:pt x="102" y="77"/>
                </a:lnTo>
                <a:lnTo>
                  <a:pt x="125" y="73"/>
                </a:lnTo>
                <a:lnTo>
                  <a:pt x="148" y="67"/>
                </a:lnTo>
                <a:lnTo>
                  <a:pt x="169" y="61"/>
                </a:lnTo>
                <a:lnTo>
                  <a:pt x="190" y="56"/>
                </a:lnTo>
                <a:lnTo>
                  <a:pt x="209" y="52"/>
                </a:lnTo>
                <a:lnTo>
                  <a:pt x="230" y="48"/>
                </a:lnTo>
                <a:lnTo>
                  <a:pt x="248" y="42"/>
                </a:lnTo>
                <a:lnTo>
                  <a:pt x="267" y="38"/>
                </a:lnTo>
                <a:lnTo>
                  <a:pt x="284" y="34"/>
                </a:lnTo>
                <a:lnTo>
                  <a:pt x="301" y="31"/>
                </a:lnTo>
                <a:lnTo>
                  <a:pt x="317" y="27"/>
                </a:lnTo>
                <a:lnTo>
                  <a:pt x="332" y="25"/>
                </a:lnTo>
                <a:lnTo>
                  <a:pt x="345" y="21"/>
                </a:lnTo>
                <a:lnTo>
                  <a:pt x="359" y="19"/>
                </a:lnTo>
                <a:lnTo>
                  <a:pt x="372" y="15"/>
                </a:lnTo>
                <a:lnTo>
                  <a:pt x="384" y="13"/>
                </a:lnTo>
                <a:lnTo>
                  <a:pt x="395" y="11"/>
                </a:lnTo>
                <a:lnTo>
                  <a:pt x="407" y="10"/>
                </a:lnTo>
                <a:lnTo>
                  <a:pt x="417" y="8"/>
                </a:lnTo>
                <a:lnTo>
                  <a:pt x="426" y="6"/>
                </a:lnTo>
                <a:lnTo>
                  <a:pt x="436" y="4"/>
                </a:lnTo>
                <a:lnTo>
                  <a:pt x="443" y="2"/>
                </a:lnTo>
                <a:lnTo>
                  <a:pt x="451" y="2"/>
                </a:lnTo>
                <a:lnTo>
                  <a:pt x="457" y="0"/>
                </a:lnTo>
                <a:lnTo>
                  <a:pt x="463" y="0"/>
                </a:lnTo>
                <a:lnTo>
                  <a:pt x="468" y="0"/>
                </a:lnTo>
                <a:lnTo>
                  <a:pt x="472" y="0"/>
                </a:lnTo>
                <a:lnTo>
                  <a:pt x="476" y="0"/>
                </a:lnTo>
                <a:lnTo>
                  <a:pt x="489" y="0"/>
                </a:lnTo>
                <a:lnTo>
                  <a:pt x="505" y="0"/>
                </a:lnTo>
                <a:lnTo>
                  <a:pt x="522" y="0"/>
                </a:lnTo>
                <a:lnTo>
                  <a:pt x="539" y="0"/>
                </a:lnTo>
                <a:lnTo>
                  <a:pt x="559" y="0"/>
                </a:lnTo>
                <a:lnTo>
                  <a:pt x="570" y="0"/>
                </a:lnTo>
                <a:lnTo>
                  <a:pt x="582" y="0"/>
                </a:lnTo>
                <a:lnTo>
                  <a:pt x="593" y="0"/>
                </a:lnTo>
                <a:lnTo>
                  <a:pt x="605" y="0"/>
                </a:lnTo>
                <a:lnTo>
                  <a:pt x="616" y="0"/>
                </a:lnTo>
                <a:lnTo>
                  <a:pt x="630" y="0"/>
                </a:lnTo>
                <a:lnTo>
                  <a:pt x="653" y="0"/>
                </a:lnTo>
                <a:lnTo>
                  <a:pt x="672" y="2"/>
                </a:lnTo>
                <a:lnTo>
                  <a:pt x="691" y="4"/>
                </a:lnTo>
                <a:lnTo>
                  <a:pt x="708" y="6"/>
                </a:lnTo>
                <a:lnTo>
                  <a:pt x="726" y="10"/>
                </a:lnTo>
                <a:lnTo>
                  <a:pt x="731" y="11"/>
                </a:lnTo>
                <a:lnTo>
                  <a:pt x="739" y="13"/>
                </a:lnTo>
                <a:lnTo>
                  <a:pt x="745" y="15"/>
                </a:lnTo>
                <a:lnTo>
                  <a:pt x="751" y="17"/>
                </a:lnTo>
                <a:lnTo>
                  <a:pt x="756" y="19"/>
                </a:lnTo>
                <a:lnTo>
                  <a:pt x="760" y="23"/>
                </a:lnTo>
                <a:lnTo>
                  <a:pt x="766" y="31"/>
                </a:lnTo>
                <a:lnTo>
                  <a:pt x="770" y="36"/>
                </a:lnTo>
                <a:lnTo>
                  <a:pt x="774" y="44"/>
                </a:lnTo>
                <a:lnTo>
                  <a:pt x="777" y="50"/>
                </a:lnTo>
                <a:lnTo>
                  <a:pt x="779" y="54"/>
                </a:lnTo>
                <a:lnTo>
                  <a:pt x="783" y="59"/>
                </a:lnTo>
                <a:lnTo>
                  <a:pt x="783" y="63"/>
                </a:lnTo>
                <a:lnTo>
                  <a:pt x="785" y="67"/>
                </a:lnTo>
                <a:lnTo>
                  <a:pt x="785" y="69"/>
                </a:lnTo>
                <a:lnTo>
                  <a:pt x="783" y="69"/>
                </a:lnTo>
                <a:lnTo>
                  <a:pt x="781" y="71"/>
                </a:lnTo>
                <a:lnTo>
                  <a:pt x="779" y="73"/>
                </a:lnTo>
                <a:lnTo>
                  <a:pt x="777" y="75"/>
                </a:lnTo>
                <a:lnTo>
                  <a:pt x="776" y="75"/>
                </a:lnTo>
                <a:lnTo>
                  <a:pt x="772" y="77"/>
                </a:lnTo>
                <a:lnTo>
                  <a:pt x="766" y="79"/>
                </a:lnTo>
                <a:lnTo>
                  <a:pt x="762" y="81"/>
                </a:lnTo>
                <a:lnTo>
                  <a:pt x="756" y="82"/>
                </a:lnTo>
                <a:lnTo>
                  <a:pt x="751" y="84"/>
                </a:lnTo>
                <a:lnTo>
                  <a:pt x="745" y="84"/>
                </a:lnTo>
                <a:lnTo>
                  <a:pt x="737" y="86"/>
                </a:lnTo>
                <a:lnTo>
                  <a:pt x="729" y="90"/>
                </a:lnTo>
                <a:lnTo>
                  <a:pt x="722" y="92"/>
                </a:lnTo>
                <a:lnTo>
                  <a:pt x="714" y="94"/>
                </a:lnTo>
                <a:lnTo>
                  <a:pt x="704" y="96"/>
                </a:lnTo>
                <a:lnTo>
                  <a:pt x="695" y="98"/>
                </a:lnTo>
                <a:lnTo>
                  <a:pt x="683" y="100"/>
                </a:lnTo>
                <a:lnTo>
                  <a:pt x="674" y="102"/>
                </a:lnTo>
                <a:lnTo>
                  <a:pt x="662" y="106"/>
                </a:lnTo>
                <a:lnTo>
                  <a:pt x="649" y="107"/>
                </a:lnTo>
                <a:lnTo>
                  <a:pt x="637" y="109"/>
                </a:lnTo>
                <a:lnTo>
                  <a:pt x="624" y="113"/>
                </a:lnTo>
                <a:lnTo>
                  <a:pt x="610" y="115"/>
                </a:lnTo>
                <a:lnTo>
                  <a:pt x="597" y="119"/>
                </a:lnTo>
                <a:lnTo>
                  <a:pt x="582" y="121"/>
                </a:lnTo>
                <a:lnTo>
                  <a:pt x="566" y="125"/>
                </a:lnTo>
                <a:lnTo>
                  <a:pt x="551" y="127"/>
                </a:lnTo>
                <a:lnTo>
                  <a:pt x="534" y="130"/>
                </a:lnTo>
                <a:lnTo>
                  <a:pt x="516" y="134"/>
                </a:lnTo>
                <a:lnTo>
                  <a:pt x="499" y="136"/>
                </a:lnTo>
                <a:lnTo>
                  <a:pt x="482" y="140"/>
                </a:lnTo>
                <a:lnTo>
                  <a:pt x="465" y="144"/>
                </a:lnTo>
                <a:lnTo>
                  <a:pt x="449" y="146"/>
                </a:lnTo>
                <a:lnTo>
                  <a:pt x="432" y="150"/>
                </a:lnTo>
                <a:lnTo>
                  <a:pt x="401" y="153"/>
                </a:lnTo>
                <a:lnTo>
                  <a:pt x="372" y="159"/>
                </a:lnTo>
                <a:lnTo>
                  <a:pt x="345" y="163"/>
                </a:lnTo>
                <a:lnTo>
                  <a:pt x="321" y="167"/>
                </a:lnTo>
                <a:lnTo>
                  <a:pt x="297" y="171"/>
                </a:lnTo>
                <a:lnTo>
                  <a:pt x="274" y="173"/>
                </a:lnTo>
                <a:lnTo>
                  <a:pt x="255" y="175"/>
                </a:lnTo>
                <a:lnTo>
                  <a:pt x="238" y="177"/>
                </a:lnTo>
                <a:lnTo>
                  <a:pt x="221" y="178"/>
                </a:lnTo>
                <a:lnTo>
                  <a:pt x="207" y="180"/>
                </a:lnTo>
                <a:lnTo>
                  <a:pt x="194" y="180"/>
                </a:lnTo>
                <a:lnTo>
                  <a:pt x="184" y="182"/>
                </a:lnTo>
                <a:lnTo>
                  <a:pt x="175" y="182"/>
                </a:lnTo>
                <a:lnTo>
                  <a:pt x="167" y="182"/>
                </a:lnTo>
                <a:lnTo>
                  <a:pt x="159" y="182"/>
                </a:lnTo>
                <a:lnTo>
                  <a:pt x="152" y="180"/>
                </a:lnTo>
                <a:lnTo>
                  <a:pt x="144" y="180"/>
                </a:lnTo>
                <a:lnTo>
                  <a:pt x="136" y="178"/>
                </a:lnTo>
                <a:lnTo>
                  <a:pt x="127" y="175"/>
                </a:lnTo>
                <a:lnTo>
                  <a:pt x="117" y="173"/>
                </a:lnTo>
                <a:lnTo>
                  <a:pt x="107" y="169"/>
                </a:lnTo>
                <a:lnTo>
                  <a:pt x="96" y="163"/>
                </a:lnTo>
                <a:lnTo>
                  <a:pt x="86" y="159"/>
                </a:lnTo>
                <a:lnTo>
                  <a:pt x="75" y="153"/>
                </a:lnTo>
                <a:lnTo>
                  <a:pt x="63" y="146"/>
                </a:lnTo>
                <a:lnTo>
                  <a:pt x="52" y="140"/>
                </a:lnTo>
                <a:lnTo>
                  <a:pt x="38" y="130"/>
                </a:lnTo>
                <a:lnTo>
                  <a:pt x="27" y="123"/>
                </a:lnTo>
                <a:lnTo>
                  <a:pt x="13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47"/>
          <p:cNvSpPr/>
          <p:nvPr/>
        </p:nvSpPr>
        <p:spPr>
          <a:xfrm>
            <a:off x="6062760" y="3497400"/>
            <a:ext cx="196920" cy="1311120"/>
          </a:xfrm>
          <a:custGeom>
            <a:avLst/>
            <a:gdLst/>
            <a:ahLst/>
            <a:rect l="l" t="t" r="r" b="b"/>
            <a:pathLst>
              <a:path w="250" h="1650">
                <a:moveTo>
                  <a:pt x="96" y="882"/>
                </a:moveTo>
                <a:lnTo>
                  <a:pt x="100" y="819"/>
                </a:lnTo>
                <a:lnTo>
                  <a:pt x="104" y="756"/>
                </a:lnTo>
                <a:lnTo>
                  <a:pt x="110" y="694"/>
                </a:lnTo>
                <a:lnTo>
                  <a:pt x="112" y="666"/>
                </a:lnTo>
                <a:lnTo>
                  <a:pt x="113" y="635"/>
                </a:lnTo>
                <a:lnTo>
                  <a:pt x="115" y="608"/>
                </a:lnTo>
                <a:lnTo>
                  <a:pt x="117" y="579"/>
                </a:lnTo>
                <a:lnTo>
                  <a:pt x="121" y="550"/>
                </a:lnTo>
                <a:lnTo>
                  <a:pt x="123" y="523"/>
                </a:lnTo>
                <a:lnTo>
                  <a:pt x="125" y="499"/>
                </a:lnTo>
                <a:lnTo>
                  <a:pt x="127" y="472"/>
                </a:lnTo>
                <a:lnTo>
                  <a:pt x="129" y="447"/>
                </a:lnTo>
                <a:lnTo>
                  <a:pt x="131" y="424"/>
                </a:lnTo>
                <a:lnTo>
                  <a:pt x="131" y="399"/>
                </a:lnTo>
                <a:lnTo>
                  <a:pt x="131" y="376"/>
                </a:lnTo>
                <a:lnTo>
                  <a:pt x="129" y="351"/>
                </a:lnTo>
                <a:lnTo>
                  <a:pt x="127" y="326"/>
                </a:lnTo>
                <a:lnTo>
                  <a:pt x="125" y="301"/>
                </a:lnTo>
                <a:lnTo>
                  <a:pt x="121" y="276"/>
                </a:lnTo>
                <a:lnTo>
                  <a:pt x="117" y="251"/>
                </a:lnTo>
                <a:lnTo>
                  <a:pt x="113" y="224"/>
                </a:lnTo>
                <a:lnTo>
                  <a:pt x="108" y="197"/>
                </a:lnTo>
                <a:lnTo>
                  <a:pt x="104" y="170"/>
                </a:lnTo>
                <a:lnTo>
                  <a:pt x="98" y="143"/>
                </a:lnTo>
                <a:lnTo>
                  <a:pt x="90" y="115"/>
                </a:lnTo>
                <a:lnTo>
                  <a:pt x="85" y="88"/>
                </a:lnTo>
                <a:lnTo>
                  <a:pt x="77" y="59"/>
                </a:lnTo>
                <a:lnTo>
                  <a:pt x="69" y="28"/>
                </a:lnTo>
                <a:lnTo>
                  <a:pt x="60" y="0"/>
                </a:lnTo>
                <a:lnTo>
                  <a:pt x="85" y="15"/>
                </a:lnTo>
                <a:lnTo>
                  <a:pt x="106" y="28"/>
                </a:lnTo>
                <a:lnTo>
                  <a:pt x="127" y="44"/>
                </a:lnTo>
                <a:lnTo>
                  <a:pt x="144" y="57"/>
                </a:lnTo>
                <a:lnTo>
                  <a:pt x="161" y="72"/>
                </a:lnTo>
                <a:lnTo>
                  <a:pt x="177" y="86"/>
                </a:lnTo>
                <a:lnTo>
                  <a:pt x="192" y="99"/>
                </a:lnTo>
                <a:lnTo>
                  <a:pt x="204" y="111"/>
                </a:lnTo>
                <a:lnTo>
                  <a:pt x="215" y="124"/>
                </a:lnTo>
                <a:lnTo>
                  <a:pt x="225" y="136"/>
                </a:lnTo>
                <a:lnTo>
                  <a:pt x="233" y="149"/>
                </a:lnTo>
                <a:lnTo>
                  <a:pt x="238" y="161"/>
                </a:lnTo>
                <a:lnTo>
                  <a:pt x="244" y="172"/>
                </a:lnTo>
                <a:lnTo>
                  <a:pt x="248" y="184"/>
                </a:lnTo>
                <a:lnTo>
                  <a:pt x="250" y="195"/>
                </a:lnTo>
                <a:lnTo>
                  <a:pt x="250" y="205"/>
                </a:lnTo>
                <a:lnTo>
                  <a:pt x="250" y="216"/>
                </a:lnTo>
                <a:lnTo>
                  <a:pt x="250" y="230"/>
                </a:lnTo>
                <a:lnTo>
                  <a:pt x="250" y="245"/>
                </a:lnTo>
                <a:lnTo>
                  <a:pt x="250" y="262"/>
                </a:lnTo>
                <a:lnTo>
                  <a:pt x="250" y="280"/>
                </a:lnTo>
                <a:lnTo>
                  <a:pt x="250" y="299"/>
                </a:lnTo>
                <a:lnTo>
                  <a:pt x="250" y="322"/>
                </a:lnTo>
                <a:lnTo>
                  <a:pt x="248" y="345"/>
                </a:lnTo>
                <a:lnTo>
                  <a:pt x="248" y="370"/>
                </a:lnTo>
                <a:lnTo>
                  <a:pt x="248" y="397"/>
                </a:lnTo>
                <a:lnTo>
                  <a:pt x="246" y="426"/>
                </a:lnTo>
                <a:lnTo>
                  <a:pt x="246" y="456"/>
                </a:lnTo>
                <a:lnTo>
                  <a:pt x="244" y="487"/>
                </a:lnTo>
                <a:lnTo>
                  <a:pt x="242" y="522"/>
                </a:lnTo>
                <a:lnTo>
                  <a:pt x="240" y="558"/>
                </a:lnTo>
                <a:lnTo>
                  <a:pt x="238" y="596"/>
                </a:lnTo>
                <a:lnTo>
                  <a:pt x="236" y="637"/>
                </a:lnTo>
                <a:lnTo>
                  <a:pt x="234" y="675"/>
                </a:lnTo>
                <a:lnTo>
                  <a:pt x="233" y="714"/>
                </a:lnTo>
                <a:lnTo>
                  <a:pt x="231" y="752"/>
                </a:lnTo>
                <a:lnTo>
                  <a:pt x="231" y="790"/>
                </a:lnTo>
                <a:lnTo>
                  <a:pt x="229" y="827"/>
                </a:lnTo>
                <a:lnTo>
                  <a:pt x="227" y="861"/>
                </a:lnTo>
                <a:lnTo>
                  <a:pt x="227" y="896"/>
                </a:lnTo>
                <a:lnTo>
                  <a:pt x="225" y="930"/>
                </a:lnTo>
                <a:lnTo>
                  <a:pt x="225" y="963"/>
                </a:lnTo>
                <a:lnTo>
                  <a:pt x="223" y="996"/>
                </a:lnTo>
                <a:lnTo>
                  <a:pt x="221" y="1028"/>
                </a:lnTo>
                <a:lnTo>
                  <a:pt x="221" y="1059"/>
                </a:lnTo>
                <a:lnTo>
                  <a:pt x="219" y="1088"/>
                </a:lnTo>
                <a:lnTo>
                  <a:pt x="217" y="1118"/>
                </a:lnTo>
                <a:lnTo>
                  <a:pt x="215" y="1145"/>
                </a:lnTo>
                <a:lnTo>
                  <a:pt x="213" y="1174"/>
                </a:lnTo>
                <a:lnTo>
                  <a:pt x="209" y="1201"/>
                </a:lnTo>
                <a:lnTo>
                  <a:pt x="208" y="1228"/>
                </a:lnTo>
                <a:lnTo>
                  <a:pt x="204" y="1253"/>
                </a:lnTo>
                <a:lnTo>
                  <a:pt x="200" y="1278"/>
                </a:lnTo>
                <a:lnTo>
                  <a:pt x="198" y="1303"/>
                </a:lnTo>
                <a:lnTo>
                  <a:pt x="194" y="1328"/>
                </a:lnTo>
                <a:lnTo>
                  <a:pt x="190" y="1351"/>
                </a:lnTo>
                <a:lnTo>
                  <a:pt x="186" y="1374"/>
                </a:lnTo>
                <a:lnTo>
                  <a:pt x="181" y="1397"/>
                </a:lnTo>
                <a:lnTo>
                  <a:pt x="177" y="1418"/>
                </a:lnTo>
                <a:lnTo>
                  <a:pt x="173" y="1437"/>
                </a:lnTo>
                <a:lnTo>
                  <a:pt x="169" y="1458"/>
                </a:lnTo>
                <a:lnTo>
                  <a:pt x="163" y="1477"/>
                </a:lnTo>
                <a:lnTo>
                  <a:pt x="160" y="1495"/>
                </a:lnTo>
                <a:lnTo>
                  <a:pt x="156" y="1514"/>
                </a:lnTo>
                <a:lnTo>
                  <a:pt x="152" y="1529"/>
                </a:lnTo>
                <a:lnTo>
                  <a:pt x="146" y="1545"/>
                </a:lnTo>
                <a:lnTo>
                  <a:pt x="142" y="1560"/>
                </a:lnTo>
                <a:lnTo>
                  <a:pt x="138" y="1573"/>
                </a:lnTo>
                <a:lnTo>
                  <a:pt x="135" y="1585"/>
                </a:lnTo>
                <a:lnTo>
                  <a:pt x="129" y="1596"/>
                </a:lnTo>
                <a:lnTo>
                  <a:pt x="125" y="1608"/>
                </a:lnTo>
                <a:lnTo>
                  <a:pt x="121" y="1616"/>
                </a:lnTo>
                <a:lnTo>
                  <a:pt x="117" y="1625"/>
                </a:lnTo>
                <a:lnTo>
                  <a:pt x="113" y="1631"/>
                </a:lnTo>
                <a:lnTo>
                  <a:pt x="110" y="1637"/>
                </a:lnTo>
                <a:lnTo>
                  <a:pt x="108" y="1642"/>
                </a:lnTo>
                <a:lnTo>
                  <a:pt x="104" y="1646"/>
                </a:lnTo>
                <a:lnTo>
                  <a:pt x="100" y="1648"/>
                </a:lnTo>
                <a:lnTo>
                  <a:pt x="98" y="1650"/>
                </a:lnTo>
                <a:lnTo>
                  <a:pt x="96" y="1650"/>
                </a:lnTo>
                <a:lnTo>
                  <a:pt x="90" y="1650"/>
                </a:lnTo>
                <a:lnTo>
                  <a:pt x="87" y="1648"/>
                </a:lnTo>
                <a:lnTo>
                  <a:pt x="83" y="1646"/>
                </a:lnTo>
                <a:lnTo>
                  <a:pt x="79" y="1644"/>
                </a:lnTo>
                <a:lnTo>
                  <a:pt x="73" y="1641"/>
                </a:lnTo>
                <a:lnTo>
                  <a:pt x="69" y="1637"/>
                </a:lnTo>
                <a:lnTo>
                  <a:pt x="65" y="1633"/>
                </a:lnTo>
                <a:lnTo>
                  <a:pt x="62" y="1627"/>
                </a:lnTo>
                <a:lnTo>
                  <a:pt x="58" y="1619"/>
                </a:lnTo>
                <a:lnTo>
                  <a:pt x="54" y="1614"/>
                </a:lnTo>
                <a:lnTo>
                  <a:pt x="50" y="1606"/>
                </a:lnTo>
                <a:lnTo>
                  <a:pt x="48" y="1598"/>
                </a:lnTo>
                <a:lnTo>
                  <a:pt x="44" y="1589"/>
                </a:lnTo>
                <a:lnTo>
                  <a:pt x="41" y="1579"/>
                </a:lnTo>
                <a:lnTo>
                  <a:pt x="39" y="1569"/>
                </a:lnTo>
                <a:lnTo>
                  <a:pt x="37" y="1560"/>
                </a:lnTo>
                <a:lnTo>
                  <a:pt x="29" y="1539"/>
                </a:lnTo>
                <a:lnTo>
                  <a:pt x="21" y="1518"/>
                </a:lnTo>
                <a:lnTo>
                  <a:pt x="16" y="1498"/>
                </a:lnTo>
                <a:lnTo>
                  <a:pt x="10" y="1481"/>
                </a:lnTo>
                <a:lnTo>
                  <a:pt x="6" y="1464"/>
                </a:lnTo>
                <a:lnTo>
                  <a:pt x="2" y="1449"/>
                </a:lnTo>
                <a:lnTo>
                  <a:pt x="2" y="1435"/>
                </a:lnTo>
                <a:lnTo>
                  <a:pt x="0" y="1422"/>
                </a:lnTo>
                <a:lnTo>
                  <a:pt x="0" y="1414"/>
                </a:lnTo>
                <a:lnTo>
                  <a:pt x="2" y="1406"/>
                </a:lnTo>
                <a:lnTo>
                  <a:pt x="2" y="1399"/>
                </a:lnTo>
                <a:lnTo>
                  <a:pt x="2" y="1391"/>
                </a:lnTo>
                <a:lnTo>
                  <a:pt x="4" y="1381"/>
                </a:lnTo>
                <a:lnTo>
                  <a:pt x="6" y="1374"/>
                </a:lnTo>
                <a:lnTo>
                  <a:pt x="8" y="1362"/>
                </a:lnTo>
                <a:lnTo>
                  <a:pt x="10" y="1353"/>
                </a:lnTo>
                <a:lnTo>
                  <a:pt x="12" y="1341"/>
                </a:lnTo>
                <a:lnTo>
                  <a:pt x="16" y="1330"/>
                </a:lnTo>
                <a:lnTo>
                  <a:pt x="17" y="1318"/>
                </a:lnTo>
                <a:lnTo>
                  <a:pt x="21" y="1305"/>
                </a:lnTo>
                <a:lnTo>
                  <a:pt x="25" y="1291"/>
                </a:lnTo>
                <a:lnTo>
                  <a:pt x="29" y="1278"/>
                </a:lnTo>
                <a:lnTo>
                  <a:pt x="33" y="1264"/>
                </a:lnTo>
                <a:lnTo>
                  <a:pt x="37" y="1249"/>
                </a:lnTo>
                <a:lnTo>
                  <a:pt x="41" y="1234"/>
                </a:lnTo>
                <a:lnTo>
                  <a:pt x="44" y="1218"/>
                </a:lnTo>
                <a:lnTo>
                  <a:pt x="50" y="1201"/>
                </a:lnTo>
                <a:lnTo>
                  <a:pt x="54" y="1182"/>
                </a:lnTo>
                <a:lnTo>
                  <a:pt x="58" y="1163"/>
                </a:lnTo>
                <a:lnTo>
                  <a:pt x="62" y="1143"/>
                </a:lnTo>
                <a:lnTo>
                  <a:pt x="67" y="1122"/>
                </a:lnTo>
                <a:lnTo>
                  <a:pt x="71" y="1099"/>
                </a:lnTo>
                <a:lnTo>
                  <a:pt x="75" y="1076"/>
                </a:lnTo>
                <a:lnTo>
                  <a:pt x="79" y="1053"/>
                </a:lnTo>
                <a:lnTo>
                  <a:pt x="81" y="1028"/>
                </a:lnTo>
                <a:lnTo>
                  <a:pt x="85" y="1001"/>
                </a:lnTo>
                <a:lnTo>
                  <a:pt x="89" y="973"/>
                </a:lnTo>
                <a:lnTo>
                  <a:pt x="90" y="944"/>
                </a:lnTo>
                <a:lnTo>
                  <a:pt x="94" y="913"/>
                </a:lnTo>
                <a:lnTo>
                  <a:pt x="96" y="8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0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小右大。“穴”扁小，“串”竖直且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矩形 3"/>
          <p:cNvSpPr/>
          <p:nvPr/>
        </p:nvSpPr>
        <p:spPr>
          <a:xfrm>
            <a:off x="1967040" y="1884240"/>
            <a:ext cx="164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29"/>
          <p:cNvSpPr/>
          <p:nvPr/>
        </p:nvSpPr>
        <p:spPr>
          <a:xfrm>
            <a:off x="5702400" y="3170160"/>
            <a:ext cx="220680" cy="451080"/>
          </a:xfrm>
          <a:custGeom>
            <a:avLst/>
            <a:gdLst/>
            <a:ahLst/>
            <a:rect l="l" t="t" r="r" b="b"/>
            <a:pathLst>
              <a:path w="276" h="568">
                <a:moveTo>
                  <a:pt x="19" y="121"/>
                </a:moveTo>
                <a:lnTo>
                  <a:pt x="13" y="115"/>
                </a:lnTo>
                <a:lnTo>
                  <a:pt x="11" y="111"/>
                </a:lnTo>
                <a:lnTo>
                  <a:pt x="7" y="105"/>
                </a:lnTo>
                <a:lnTo>
                  <a:pt x="5" y="99"/>
                </a:lnTo>
                <a:lnTo>
                  <a:pt x="4" y="96"/>
                </a:lnTo>
                <a:lnTo>
                  <a:pt x="2" y="90"/>
                </a:lnTo>
                <a:lnTo>
                  <a:pt x="0" y="84"/>
                </a:lnTo>
                <a:lnTo>
                  <a:pt x="0" y="78"/>
                </a:lnTo>
                <a:lnTo>
                  <a:pt x="0" y="73"/>
                </a:lnTo>
                <a:lnTo>
                  <a:pt x="2" y="65"/>
                </a:lnTo>
                <a:lnTo>
                  <a:pt x="4" y="59"/>
                </a:lnTo>
                <a:lnTo>
                  <a:pt x="5" y="53"/>
                </a:lnTo>
                <a:lnTo>
                  <a:pt x="7" y="48"/>
                </a:lnTo>
                <a:lnTo>
                  <a:pt x="11" y="40"/>
                </a:lnTo>
                <a:lnTo>
                  <a:pt x="13" y="34"/>
                </a:lnTo>
                <a:lnTo>
                  <a:pt x="19" y="28"/>
                </a:lnTo>
                <a:lnTo>
                  <a:pt x="21" y="21"/>
                </a:lnTo>
                <a:lnTo>
                  <a:pt x="25" y="17"/>
                </a:lnTo>
                <a:lnTo>
                  <a:pt x="30" y="11"/>
                </a:lnTo>
                <a:lnTo>
                  <a:pt x="36" y="7"/>
                </a:lnTo>
                <a:lnTo>
                  <a:pt x="44" y="5"/>
                </a:lnTo>
                <a:lnTo>
                  <a:pt x="52" y="3"/>
                </a:lnTo>
                <a:lnTo>
                  <a:pt x="61" y="2"/>
                </a:lnTo>
                <a:lnTo>
                  <a:pt x="71" y="0"/>
                </a:lnTo>
                <a:lnTo>
                  <a:pt x="84" y="0"/>
                </a:lnTo>
                <a:lnTo>
                  <a:pt x="96" y="0"/>
                </a:lnTo>
                <a:lnTo>
                  <a:pt x="111" y="2"/>
                </a:lnTo>
                <a:lnTo>
                  <a:pt x="124" y="3"/>
                </a:lnTo>
                <a:lnTo>
                  <a:pt x="142" y="5"/>
                </a:lnTo>
                <a:lnTo>
                  <a:pt x="159" y="9"/>
                </a:lnTo>
                <a:lnTo>
                  <a:pt x="176" y="11"/>
                </a:lnTo>
                <a:lnTo>
                  <a:pt x="197" y="17"/>
                </a:lnTo>
                <a:lnTo>
                  <a:pt x="201" y="44"/>
                </a:lnTo>
                <a:lnTo>
                  <a:pt x="205" y="71"/>
                </a:lnTo>
                <a:lnTo>
                  <a:pt x="209" y="98"/>
                </a:lnTo>
                <a:lnTo>
                  <a:pt x="215" y="124"/>
                </a:lnTo>
                <a:lnTo>
                  <a:pt x="219" y="149"/>
                </a:lnTo>
                <a:lnTo>
                  <a:pt x="222" y="174"/>
                </a:lnTo>
                <a:lnTo>
                  <a:pt x="228" y="199"/>
                </a:lnTo>
                <a:lnTo>
                  <a:pt x="232" y="222"/>
                </a:lnTo>
                <a:lnTo>
                  <a:pt x="236" y="245"/>
                </a:lnTo>
                <a:lnTo>
                  <a:pt x="242" y="268"/>
                </a:lnTo>
                <a:lnTo>
                  <a:pt x="245" y="291"/>
                </a:lnTo>
                <a:lnTo>
                  <a:pt x="249" y="312"/>
                </a:lnTo>
                <a:lnTo>
                  <a:pt x="255" y="334"/>
                </a:lnTo>
                <a:lnTo>
                  <a:pt x="259" y="355"/>
                </a:lnTo>
                <a:lnTo>
                  <a:pt x="263" y="376"/>
                </a:lnTo>
                <a:lnTo>
                  <a:pt x="268" y="395"/>
                </a:lnTo>
                <a:lnTo>
                  <a:pt x="270" y="414"/>
                </a:lnTo>
                <a:lnTo>
                  <a:pt x="270" y="431"/>
                </a:lnTo>
                <a:lnTo>
                  <a:pt x="272" y="447"/>
                </a:lnTo>
                <a:lnTo>
                  <a:pt x="274" y="464"/>
                </a:lnTo>
                <a:lnTo>
                  <a:pt x="274" y="478"/>
                </a:lnTo>
                <a:lnTo>
                  <a:pt x="276" y="491"/>
                </a:lnTo>
                <a:lnTo>
                  <a:pt x="276" y="504"/>
                </a:lnTo>
                <a:lnTo>
                  <a:pt x="276" y="516"/>
                </a:lnTo>
                <a:lnTo>
                  <a:pt x="276" y="525"/>
                </a:lnTo>
                <a:lnTo>
                  <a:pt x="276" y="535"/>
                </a:lnTo>
                <a:lnTo>
                  <a:pt x="274" y="543"/>
                </a:lnTo>
                <a:lnTo>
                  <a:pt x="274" y="550"/>
                </a:lnTo>
                <a:lnTo>
                  <a:pt x="272" y="556"/>
                </a:lnTo>
                <a:lnTo>
                  <a:pt x="272" y="560"/>
                </a:lnTo>
                <a:lnTo>
                  <a:pt x="270" y="564"/>
                </a:lnTo>
                <a:lnTo>
                  <a:pt x="268" y="568"/>
                </a:lnTo>
                <a:lnTo>
                  <a:pt x="263" y="568"/>
                </a:lnTo>
                <a:lnTo>
                  <a:pt x="259" y="568"/>
                </a:lnTo>
                <a:lnTo>
                  <a:pt x="253" y="564"/>
                </a:lnTo>
                <a:lnTo>
                  <a:pt x="247" y="560"/>
                </a:lnTo>
                <a:lnTo>
                  <a:pt x="242" y="554"/>
                </a:lnTo>
                <a:lnTo>
                  <a:pt x="236" y="547"/>
                </a:lnTo>
                <a:lnTo>
                  <a:pt x="228" y="535"/>
                </a:lnTo>
                <a:lnTo>
                  <a:pt x="220" y="524"/>
                </a:lnTo>
                <a:lnTo>
                  <a:pt x="213" y="510"/>
                </a:lnTo>
                <a:lnTo>
                  <a:pt x="205" y="495"/>
                </a:lnTo>
                <a:lnTo>
                  <a:pt x="197" y="478"/>
                </a:lnTo>
                <a:lnTo>
                  <a:pt x="188" y="456"/>
                </a:lnTo>
                <a:lnTo>
                  <a:pt x="180" y="435"/>
                </a:lnTo>
                <a:lnTo>
                  <a:pt x="171" y="412"/>
                </a:lnTo>
                <a:lnTo>
                  <a:pt x="159" y="387"/>
                </a:lnTo>
                <a:lnTo>
                  <a:pt x="149" y="360"/>
                </a:lnTo>
                <a:lnTo>
                  <a:pt x="138" y="334"/>
                </a:lnTo>
                <a:lnTo>
                  <a:pt x="128" y="307"/>
                </a:lnTo>
                <a:lnTo>
                  <a:pt x="119" y="284"/>
                </a:lnTo>
                <a:lnTo>
                  <a:pt x="109" y="261"/>
                </a:lnTo>
                <a:lnTo>
                  <a:pt x="100" y="241"/>
                </a:lnTo>
                <a:lnTo>
                  <a:pt x="92" y="222"/>
                </a:lnTo>
                <a:lnTo>
                  <a:pt x="82" y="205"/>
                </a:lnTo>
                <a:lnTo>
                  <a:pt x="75" y="188"/>
                </a:lnTo>
                <a:lnTo>
                  <a:pt x="67" y="174"/>
                </a:lnTo>
                <a:lnTo>
                  <a:pt x="59" y="161"/>
                </a:lnTo>
                <a:lnTo>
                  <a:pt x="52" y="151"/>
                </a:lnTo>
                <a:lnTo>
                  <a:pt x="46" y="142"/>
                </a:lnTo>
                <a:lnTo>
                  <a:pt x="38" y="134"/>
                </a:lnTo>
                <a:lnTo>
                  <a:pt x="32" y="126"/>
                </a:lnTo>
                <a:lnTo>
                  <a:pt x="25" y="122"/>
                </a:lnTo>
                <a:lnTo>
                  <a:pt x="19" y="1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30"/>
          <p:cNvSpPr/>
          <p:nvPr/>
        </p:nvSpPr>
        <p:spPr>
          <a:xfrm>
            <a:off x="5802480" y="3075120"/>
            <a:ext cx="556920" cy="436320"/>
          </a:xfrm>
          <a:custGeom>
            <a:avLst/>
            <a:gdLst/>
            <a:ahLst/>
            <a:rect l="l" t="t" r="r" b="b"/>
            <a:pathLst>
              <a:path w="703" h="551">
                <a:moveTo>
                  <a:pt x="406" y="46"/>
                </a:moveTo>
                <a:lnTo>
                  <a:pt x="409" y="40"/>
                </a:lnTo>
                <a:lnTo>
                  <a:pt x="413" y="34"/>
                </a:lnTo>
                <a:lnTo>
                  <a:pt x="419" y="28"/>
                </a:lnTo>
                <a:lnTo>
                  <a:pt x="423" y="23"/>
                </a:lnTo>
                <a:lnTo>
                  <a:pt x="432" y="15"/>
                </a:lnTo>
                <a:lnTo>
                  <a:pt x="440" y="9"/>
                </a:lnTo>
                <a:lnTo>
                  <a:pt x="450" y="5"/>
                </a:lnTo>
                <a:lnTo>
                  <a:pt x="459" y="2"/>
                </a:lnTo>
                <a:lnTo>
                  <a:pt x="467" y="0"/>
                </a:lnTo>
                <a:lnTo>
                  <a:pt x="477" y="0"/>
                </a:lnTo>
                <a:lnTo>
                  <a:pt x="480" y="0"/>
                </a:lnTo>
                <a:lnTo>
                  <a:pt x="486" y="0"/>
                </a:lnTo>
                <a:lnTo>
                  <a:pt x="492" y="0"/>
                </a:lnTo>
                <a:lnTo>
                  <a:pt x="498" y="2"/>
                </a:lnTo>
                <a:lnTo>
                  <a:pt x="505" y="4"/>
                </a:lnTo>
                <a:lnTo>
                  <a:pt x="513" y="5"/>
                </a:lnTo>
                <a:lnTo>
                  <a:pt x="528" y="9"/>
                </a:lnTo>
                <a:lnTo>
                  <a:pt x="546" y="15"/>
                </a:lnTo>
                <a:lnTo>
                  <a:pt x="565" y="23"/>
                </a:lnTo>
                <a:lnTo>
                  <a:pt x="574" y="28"/>
                </a:lnTo>
                <a:lnTo>
                  <a:pt x="586" y="34"/>
                </a:lnTo>
                <a:lnTo>
                  <a:pt x="596" y="40"/>
                </a:lnTo>
                <a:lnTo>
                  <a:pt x="607" y="46"/>
                </a:lnTo>
                <a:lnTo>
                  <a:pt x="619" y="52"/>
                </a:lnTo>
                <a:lnTo>
                  <a:pt x="628" y="57"/>
                </a:lnTo>
                <a:lnTo>
                  <a:pt x="638" y="63"/>
                </a:lnTo>
                <a:lnTo>
                  <a:pt x="647" y="69"/>
                </a:lnTo>
                <a:lnTo>
                  <a:pt x="655" y="75"/>
                </a:lnTo>
                <a:lnTo>
                  <a:pt x="663" y="80"/>
                </a:lnTo>
                <a:lnTo>
                  <a:pt x="670" y="84"/>
                </a:lnTo>
                <a:lnTo>
                  <a:pt x="676" y="88"/>
                </a:lnTo>
                <a:lnTo>
                  <a:pt x="682" y="94"/>
                </a:lnTo>
                <a:lnTo>
                  <a:pt x="688" y="98"/>
                </a:lnTo>
                <a:lnTo>
                  <a:pt x="692" y="100"/>
                </a:lnTo>
                <a:lnTo>
                  <a:pt x="695" y="103"/>
                </a:lnTo>
                <a:lnTo>
                  <a:pt x="699" y="107"/>
                </a:lnTo>
                <a:lnTo>
                  <a:pt x="701" y="109"/>
                </a:lnTo>
                <a:lnTo>
                  <a:pt x="701" y="113"/>
                </a:lnTo>
                <a:lnTo>
                  <a:pt x="703" y="115"/>
                </a:lnTo>
                <a:lnTo>
                  <a:pt x="701" y="123"/>
                </a:lnTo>
                <a:lnTo>
                  <a:pt x="699" y="132"/>
                </a:lnTo>
                <a:lnTo>
                  <a:pt x="697" y="140"/>
                </a:lnTo>
                <a:lnTo>
                  <a:pt x="692" y="147"/>
                </a:lnTo>
                <a:lnTo>
                  <a:pt x="686" y="155"/>
                </a:lnTo>
                <a:lnTo>
                  <a:pt x="682" y="157"/>
                </a:lnTo>
                <a:lnTo>
                  <a:pt x="676" y="161"/>
                </a:lnTo>
                <a:lnTo>
                  <a:pt x="672" y="165"/>
                </a:lnTo>
                <a:lnTo>
                  <a:pt x="667" y="167"/>
                </a:lnTo>
                <a:lnTo>
                  <a:pt x="661" y="169"/>
                </a:lnTo>
                <a:lnTo>
                  <a:pt x="655" y="172"/>
                </a:lnTo>
                <a:lnTo>
                  <a:pt x="651" y="174"/>
                </a:lnTo>
                <a:lnTo>
                  <a:pt x="647" y="176"/>
                </a:lnTo>
                <a:lnTo>
                  <a:pt x="644" y="180"/>
                </a:lnTo>
                <a:lnTo>
                  <a:pt x="642" y="184"/>
                </a:lnTo>
                <a:lnTo>
                  <a:pt x="638" y="190"/>
                </a:lnTo>
                <a:lnTo>
                  <a:pt x="634" y="194"/>
                </a:lnTo>
                <a:lnTo>
                  <a:pt x="630" y="199"/>
                </a:lnTo>
                <a:lnTo>
                  <a:pt x="626" y="207"/>
                </a:lnTo>
                <a:lnTo>
                  <a:pt x="622" y="213"/>
                </a:lnTo>
                <a:lnTo>
                  <a:pt x="617" y="220"/>
                </a:lnTo>
                <a:lnTo>
                  <a:pt x="613" y="228"/>
                </a:lnTo>
                <a:lnTo>
                  <a:pt x="609" y="236"/>
                </a:lnTo>
                <a:lnTo>
                  <a:pt x="605" y="245"/>
                </a:lnTo>
                <a:lnTo>
                  <a:pt x="601" y="255"/>
                </a:lnTo>
                <a:lnTo>
                  <a:pt x="596" y="265"/>
                </a:lnTo>
                <a:lnTo>
                  <a:pt x="592" y="274"/>
                </a:lnTo>
                <a:lnTo>
                  <a:pt x="588" y="286"/>
                </a:lnTo>
                <a:lnTo>
                  <a:pt x="582" y="297"/>
                </a:lnTo>
                <a:lnTo>
                  <a:pt x="578" y="309"/>
                </a:lnTo>
                <a:lnTo>
                  <a:pt x="573" y="322"/>
                </a:lnTo>
                <a:lnTo>
                  <a:pt x="569" y="336"/>
                </a:lnTo>
                <a:lnTo>
                  <a:pt x="563" y="349"/>
                </a:lnTo>
                <a:lnTo>
                  <a:pt x="559" y="362"/>
                </a:lnTo>
                <a:lnTo>
                  <a:pt x="553" y="378"/>
                </a:lnTo>
                <a:lnTo>
                  <a:pt x="550" y="393"/>
                </a:lnTo>
                <a:lnTo>
                  <a:pt x="544" y="409"/>
                </a:lnTo>
                <a:lnTo>
                  <a:pt x="538" y="426"/>
                </a:lnTo>
                <a:lnTo>
                  <a:pt x="534" y="443"/>
                </a:lnTo>
                <a:lnTo>
                  <a:pt x="528" y="460"/>
                </a:lnTo>
                <a:lnTo>
                  <a:pt x="523" y="478"/>
                </a:lnTo>
                <a:lnTo>
                  <a:pt x="517" y="497"/>
                </a:lnTo>
                <a:lnTo>
                  <a:pt x="513" y="516"/>
                </a:lnTo>
                <a:lnTo>
                  <a:pt x="507" y="516"/>
                </a:lnTo>
                <a:lnTo>
                  <a:pt x="502" y="516"/>
                </a:lnTo>
                <a:lnTo>
                  <a:pt x="496" y="516"/>
                </a:lnTo>
                <a:lnTo>
                  <a:pt x="490" y="518"/>
                </a:lnTo>
                <a:lnTo>
                  <a:pt x="482" y="518"/>
                </a:lnTo>
                <a:lnTo>
                  <a:pt x="477" y="520"/>
                </a:lnTo>
                <a:lnTo>
                  <a:pt x="459" y="524"/>
                </a:lnTo>
                <a:lnTo>
                  <a:pt x="442" y="529"/>
                </a:lnTo>
                <a:lnTo>
                  <a:pt x="423" y="535"/>
                </a:lnTo>
                <a:lnTo>
                  <a:pt x="404" y="541"/>
                </a:lnTo>
                <a:lnTo>
                  <a:pt x="381" y="551"/>
                </a:lnTo>
                <a:lnTo>
                  <a:pt x="388" y="531"/>
                </a:lnTo>
                <a:lnTo>
                  <a:pt x="394" y="512"/>
                </a:lnTo>
                <a:lnTo>
                  <a:pt x="400" y="495"/>
                </a:lnTo>
                <a:lnTo>
                  <a:pt x="406" y="476"/>
                </a:lnTo>
                <a:lnTo>
                  <a:pt x="415" y="443"/>
                </a:lnTo>
                <a:lnTo>
                  <a:pt x="425" y="410"/>
                </a:lnTo>
                <a:lnTo>
                  <a:pt x="430" y="378"/>
                </a:lnTo>
                <a:lnTo>
                  <a:pt x="434" y="362"/>
                </a:lnTo>
                <a:lnTo>
                  <a:pt x="436" y="347"/>
                </a:lnTo>
                <a:lnTo>
                  <a:pt x="438" y="332"/>
                </a:lnTo>
                <a:lnTo>
                  <a:pt x="440" y="316"/>
                </a:lnTo>
                <a:lnTo>
                  <a:pt x="440" y="301"/>
                </a:lnTo>
                <a:lnTo>
                  <a:pt x="440" y="286"/>
                </a:lnTo>
                <a:lnTo>
                  <a:pt x="440" y="274"/>
                </a:lnTo>
                <a:lnTo>
                  <a:pt x="440" y="261"/>
                </a:lnTo>
                <a:lnTo>
                  <a:pt x="440" y="249"/>
                </a:lnTo>
                <a:lnTo>
                  <a:pt x="440" y="240"/>
                </a:lnTo>
                <a:lnTo>
                  <a:pt x="440" y="228"/>
                </a:lnTo>
                <a:lnTo>
                  <a:pt x="440" y="219"/>
                </a:lnTo>
                <a:lnTo>
                  <a:pt x="440" y="211"/>
                </a:lnTo>
                <a:lnTo>
                  <a:pt x="440" y="201"/>
                </a:lnTo>
                <a:lnTo>
                  <a:pt x="438" y="194"/>
                </a:lnTo>
                <a:lnTo>
                  <a:pt x="438" y="188"/>
                </a:lnTo>
                <a:lnTo>
                  <a:pt x="436" y="180"/>
                </a:lnTo>
                <a:lnTo>
                  <a:pt x="436" y="174"/>
                </a:lnTo>
                <a:lnTo>
                  <a:pt x="434" y="171"/>
                </a:lnTo>
                <a:lnTo>
                  <a:pt x="432" y="167"/>
                </a:lnTo>
                <a:lnTo>
                  <a:pt x="430" y="163"/>
                </a:lnTo>
                <a:lnTo>
                  <a:pt x="429" y="161"/>
                </a:lnTo>
                <a:lnTo>
                  <a:pt x="429" y="159"/>
                </a:lnTo>
                <a:lnTo>
                  <a:pt x="425" y="159"/>
                </a:lnTo>
                <a:lnTo>
                  <a:pt x="423" y="157"/>
                </a:lnTo>
                <a:lnTo>
                  <a:pt x="419" y="157"/>
                </a:lnTo>
                <a:lnTo>
                  <a:pt x="415" y="157"/>
                </a:lnTo>
                <a:lnTo>
                  <a:pt x="409" y="159"/>
                </a:lnTo>
                <a:lnTo>
                  <a:pt x="404" y="159"/>
                </a:lnTo>
                <a:lnTo>
                  <a:pt x="398" y="159"/>
                </a:lnTo>
                <a:lnTo>
                  <a:pt x="390" y="161"/>
                </a:lnTo>
                <a:lnTo>
                  <a:pt x="382" y="161"/>
                </a:lnTo>
                <a:lnTo>
                  <a:pt x="375" y="163"/>
                </a:lnTo>
                <a:lnTo>
                  <a:pt x="365" y="165"/>
                </a:lnTo>
                <a:lnTo>
                  <a:pt x="356" y="167"/>
                </a:lnTo>
                <a:lnTo>
                  <a:pt x="346" y="169"/>
                </a:lnTo>
                <a:lnTo>
                  <a:pt x="334" y="171"/>
                </a:lnTo>
                <a:lnTo>
                  <a:pt x="321" y="174"/>
                </a:lnTo>
                <a:lnTo>
                  <a:pt x="310" y="176"/>
                </a:lnTo>
                <a:lnTo>
                  <a:pt x="296" y="180"/>
                </a:lnTo>
                <a:lnTo>
                  <a:pt x="283" y="182"/>
                </a:lnTo>
                <a:lnTo>
                  <a:pt x="267" y="186"/>
                </a:lnTo>
                <a:lnTo>
                  <a:pt x="252" y="190"/>
                </a:lnTo>
                <a:lnTo>
                  <a:pt x="237" y="194"/>
                </a:lnTo>
                <a:lnTo>
                  <a:pt x="219" y="197"/>
                </a:lnTo>
                <a:lnTo>
                  <a:pt x="202" y="201"/>
                </a:lnTo>
                <a:lnTo>
                  <a:pt x="183" y="205"/>
                </a:lnTo>
                <a:lnTo>
                  <a:pt x="166" y="211"/>
                </a:lnTo>
                <a:lnTo>
                  <a:pt x="144" y="215"/>
                </a:lnTo>
                <a:lnTo>
                  <a:pt x="125" y="220"/>
                </a:lnTo>
                <a:lnTo>
                  <a:pt x="104" y="224"/>
                </a:lnTo>
                <a:lnTo>
                  <a:pt x="83" y="230"/>
                </a:lnTo>
                <a:lnTo>
                  <a:pt x="60" y="236"/>
                </a:lnTo>
                <a:lnTo>
                  <a:pt x="37" y="242"/>
                </a:lnTo>
                <a:lnTo>
                  <a:pt x="0" y="149"/>
                </a:lnTo>
                <a:lnTo>
                  <a:pt x="23" y="144"/>
                </a:lnTo>
                <a:lnTo>
                  <a:pt x="47" y="140"/>
                </a:lnTo>
                <a:lnTo>
                  <a:pt x="68" y="136"/>
                </a:lnTo>
                <a:lnTo>
                  <a:pt x="89" y="132"/>
                </a:lnTo>
                <a:lnTo>
                  <a:pt x="110" y="128"/>
                </a:lnTo>
                <a:lnTo>
                  <a:pt x="129" y="124"/>
                </a:lnTo>
                <a:lnTo>
                  <a:pt x="148" y="121"/>
                </a:lnTo>
                <a:lnTo>
                  <a:pt x="166" y="117"/>
                </a:lnTo>
                <a:lnTo>
                  <a:pt x="183" y="113"/>
                </a:lnTo>
                <a:lnTo>
                  <a:pt x="200" y="109"/>
                </a:lnTo>
                <a:lnTo>
                  <a:pt x="217" y="105"/>
                </a:lnTo>
                <a:lnTo>
                  <a:pt x="233" y="101"/>
                </a:lnTo>
                <a:lnTo>
                  <a:pt x="248" y="98"/>
                </a:lnTo>
                <a:lnTo>
                  <a:pt x="262" y="94"/>
                </a:lnTo>
                <a:lnTo>
                  <a:pt x="275" y="92"/>
                </a:lnTo>
                <a:lnTo>
                  <a:pt x="288" y="88"/>
                </a:lnTo>
                <a:lnTo>
                  <a:pt x="300" y="84"/>
                </a:lnTo>
                <a:lnTo>
                  <a:pt x="311" y="82"/>
                </a:lnTo>
                <a:lnTo>
                  <a:pt x="323" y="78"/>
                </a:lnTo>
                <a:lnTo>
                  <a:pt x="333" y="76"/>
                </a:lnTo>
                <a:lnTo>
                  <a:pt x="342" y="73"/>
                </a:lnTo>
                <a:lnTo>
                  <a:pt x="352" y="71"/>
                </a:lnTo>
                <a:lnTo>
                  <a:pt x="359" y="67"/>
                </a:lnTo>
                <a:lnTo>
                  <a:pt x="367" y="65"/>
                </a:lnTo>
                <a:lnTo>
                  <a:pt x="375" y="61"/>
                </a:lnTo>
                <a:lnTo>
                  <a:pt x="381" y="59"/>
                </a:lnTo>
                <a:lnTo>
                  <a:pt x="386" y="57"/>
                </a:lnTo>
                <a:lnTo>
                  <a:pt x="392" y="55"/>
                </a:lnTo>
                <a:lnTo>
                  <a:pt x="396" y="52"/>
                </a:lnTo>
                <a:lnTo>
                  <a:pt x="400" y="50"/>
                </a:lnTo>
                <a:lnTo>
                  <a:pt x="402" y="48"/>
                </a:lnTo>
                <a:lnTo>
                  <a:pt x="406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1"/>
          <p:cNvSpPr/>
          <p:nvPr/>
        </p:nvSpPr>
        <p:spPr>
          <a:xfrm>
            <a:off x="5991120" y="3540240"/>
            <a:ext cx="158760" cy="809640"/>
          </a:xfrm>
          <a:custGeom>
            <a:avLst/>
            <a:gdLst/>
            <a:ahLst/>
            <a:rect l="l" t="t" r="r" b="b"/>
            <a:pathLst>
              <a:path w="199" h="1021">
                <a:moveTo>
                  <a:pt x="24" y="1021"/>
                </a:moveTo>
                <a:lnTo>
                  <a:pt x="24" y="977"/>
                </a:lnTo>
                <a:lnTo>
                  <a:pt x="23" y="935"/>
                </a:lnTo>
                <a:lnTo>
                  <a:pt x="23" y="894"/>
                </a:lnTo>
                <a:lnTo>
                  <a:pt x="23" y="854"/>
                </a:lnTo>
                <a:lnTo>
                  <a:pt x="23" y="814"/>
                </a:lnTo>
                <a:lnTo>
                  <a:pt x="23" y="774"/>
                </a:lnTo>
                <a:lnTo>
                  <a:pt x="23" y="735"/>
                </a:lnTo>
                <a:lnTo>
                  <a:pt x="21" y="699"/>
                </a:lnTo>
                <a:lnTo>
                  <a:pt x="21" y="660"/>
                </a:lnTo>
                <a:lnTo>
                  <a:pt x="21" y="624"/>
                </a:lnTo>
                <a:lnTo>
                  <a:pt x="21" y="587"/>
                </a:lnTo>
                <a:lnTo>
                  <a:pt x="19" y="553"/>
                </a:lnTo>
                <a:lnTo>
                  <a:pt x="19" y="518"/>
                </a:lnTo>
                <a:lnTo>
                  <a:pt x="17" y="486"/>
                </a:lnTo>
                <a:lnTo>
                  <a:pt x="17" y="451"/>
                </a:lnTo>
                <a:lnTo>
                  <a:pt x="17" y="420"/>
                </a:lnTo>
                <a:lnTo>
                  <a:pt x="15" y="388"/>
                </a:lnTo>
                <a:lnTo>
                  <a:pt x="15" y="357"/>
                </a:lnTo>
                <a:lnTo>
                  <a:pt x="13" y="326"/>
                </a:lnTo>
                <a:lnTo>
                  <a:pt x="13" y="298"/>
                </a:lnTo>
                <a:lnTo>
                  <a:pt x="11" y="269"/>
                </a:lnTo>
                <a:lnTo>
                  <a:pt x="11" y="240"/>
                </a:lnTo>
                <a:lnTo>
                  <a:pt x="9" y="213"/>
                </a:lnTo>
                <a:lnTo>
                  <a:pt x="9" y="186"/>
                </a:lnTo>
                <a:lnTo>
                  <a:pt x="7" y="161"/>
                </a:lnTo>
                <a:lnTo>
                  <a:pt x="5" y="136"/>
                </a:lnTo>
                <a:lnTo>
                  <a:pt x="5" y="111"/>
                </a:lnTo>
                <a:lnTo>
                  <a:pt x="3" y="86"/>
                </a:lnTo>
                <a:lnTo>
                  <a:pt x="3" y="63"/>
                </a:lnTo>
                <a:lnTo>
                  <a:pt x="1" y="42"/>
                </a:lnTo>
                <a:lnTo>
                  <a:pt x="1" y="21"/>
                </a:lnTo>
                <a:lnTo>
                  <a:pt x="0" y="0"/>
                </a:lnTo>
                <a:lnTo>
                  <a:pt x="21" y="10"/>
                </a:lnTo>
                <a:lnTo>
                  <a:pt x="42" y="21"/>
                </a:lnTo>
                <a:lnTo>
                  <a:pt x="61" y="31"/>
                </a:lnTo>
                <a:lnTo>
                  <a:pt x="78" y="40"/>
                </a:lnTo>
                <a:lnTo>
                  <a:pt x="94" y="50"/>
                </a:lnTo>
                <a:lnTo>
                  <a:pt x="109" y="60"/>
                </a:lnTo>
                <a:lnTo>
                  <a:pt x="122" y="67"/>
                </a:lnTo>
                <a:lnTo>
                  <a:pt x="134" y="75"/>
                </a:lnTo>
                <a:lnTo>
                  <a:pt x="145" y="85"/>
                </a:lnTo>
                <a:lnTo>
                  <a:pt x="155" y="90"/>
                </a:lnTo>
                <a:lnTo>
                  <a:pt x="165" y="98"/>
                </a:lnTo>
                <a:lnTo>
                  <a:pt x="172" y="104"/>
                </a:lnTo>
                <a:lnTo>
                  <a:pt x="178" y="111"/>
                </a:lnTo>
                <a:lnTo>
                  <a:pt x="184" y="115"/>
                </a:lnTo>
                <a:lnTo>
                  <a:pt x="188" y="121"/>
                </a:lnTo>
                <a:lnTo>
                  <a:pt x="190" y="127"/>
                </a:lnTo>
                <a:lnTo>
                  <a:pt x="193" y="138"/>
                </a:lnTo>
                <a:lnTo>
                  <a:pt x="197" y="152"/>
                </a:lnTo>
                <a:lnTo>
                  <a:pt x="197" y="165"/>
                </a:lnTo>
                <a:lnTo>
                  <a:pt x="199" y="180"/>
                </a:lnTo>
                <a:lnTo>
                  <a:pt x="197" y="196"/>
                </a:lnTo>
                <a:lnTo>
                  <a:pt x="197" y="213"/>
                </a:lnTo>
                <a:lnTo>
                  <a:pt x="193" y="232"/>
                </a:lnTo>
                <a:lnTo>
                  <a:pt x="191" y="242"/>
                </a:lnTo>
                <a:lnTo>
                  <a:pt x="190" y="252"/>
                </a:lnTo>
                <a:lnTo>
                  <a:pt x="186" y="273"/>
                </a:lnTo>
                <a:lnTo>
                  <a:pt x="184" y="294"/>
                </a:lnTo>
                <a:lnTo>
                  <a:pt x="180" y="313"/>
                </a:lnTo>
                <a:lnTo>
                  <a:pt x="178" y="332"/>
                </a:lnTo>
                <a:lnTo>
                  <a:pt x="176" y="351"/>
                </a:lnTo>
                <a:lnTo>
                  <a:pt x="172" y="370"/>
                </a:lnTo>
                <a:lnTo>
                  <a:pt x="170" y="392"/>
                </a:lnTo>
                <a:lnTo>
                  <a:pt x="167" y="413"/>
                </a:lnTo>
                <a:lnTo>
                  <a:pt x="163" y="434"/>
                </a:lnTo>
                <a:lnTo>
                  <a:pt x="159" y="455"/>
                </a:lnTo>
                <a:lnTo>
                  <a:pt x="157" y="478"/>
                </a:lnTo>
                <a:lnTo>
                  <a:pt x="155" y="499"/>
                </a:lnTo>
                <a:lnTo>
                  <a:pt x="155" y="522"/>
                </a:lnTo>
                <a:lnTo>
                  <a:pt x="155" y="547"/>
                </a:lnTo>
                <a:lnTo>
                  <a:pt x="155" y="570"/>
                </a:lnTo>
                <a:lnTo>
                  <a:pt x="155" y="597"/>
                </a:lnTo>
                <a:lnTo>
                  <a:pt x="155" y="610"/>
                </a:lnTo>
                <a:lnTo>
                  <a:pt x="155" y="626"/>
                </a:lnTo>
                <a:lnTo>
                  <a:pt x="153" y="641"/>
                </a:lnTo>
                <a:lnTo>
                  <a:pt x="153" y="660"/>
                </a:lnTo>
                <a:lnTo>
                  <a:pt x="153" y="681"/>
                </a:lnTo>
                <a:lnTo>
                  <a:pt x="153" y="703"/>
                </a:lnTo>
                <a:lnTo>
                  <a:pt x="153" y="726"/>
                </a:lnTo>
                <a:lnTo>
                  <a:pt x="153" y="751"/>
                </a:lnTo>
                <a:lnTo>
                  <a:pt x="151" y="777"/>
                </a:lnTo>
                <a:lnTo>
                  <a:pt x="151" y="806"/>
                </a:lnTo>
                <a:lnTo>
                  <a:pt x="149" y="835"/>
                </a:lnTo>
                <a:lnTo>
                  <a:pt x="149" y="868"/>
                </a:lnTo>
                <a:lnTo>
                  <a:pt x="147" y="900"/>
                </a:lnTo>
                <a:lnTo>
                  <a:pt x="145" y="935"/>
                </a:lnTo>
                <a:lnTo>
                  <a:pt x="143" y="971"/>
                </a:lnTo>
                <a:lnTo>
                  <a:pt x="142" y="1010"/>
                </a:lnTo>
                <a:lnTo>
                  <a:pt x="82" y="1015"/>
                </a:lnTo>
                <a:lnTo>
                  <a:pt x="24" y="102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32"/>
          <p:cNvSpPr/>
          <p:nvPr/>
        </p:nvSpPr>
        <p:spPr>
          <a:xfrm>
            <a:off x="5638680" y="3876840"/>
            <a:ext cx="220680" cy="544320"/>
          </a:xfrm>
          <a:custGeom>
            <a:avLst/>
            <a:gdLst/>
            <a:ahLst/>
            <a:rect l="l" t="t" r="r" b="b"/>
            <a:pathLst>
              <a:path w="278" h="687">
                <a:moveTo>
                  <a:pt x="242" y="81"/>
                </a:moveTo>
                <a:lnTo>
                  <a:pt x="244" y="83"/>
                </a:lnTo>
                <a:lnTo>
                  <a:pt x="244" y="87"/>
                </a:lnTo>
                <a:lnTo>
                  <a:pt x="246" y="90"/>
                </a:lnTo>
                <a:lnTo>
                  <a:pt x="246" y="96"/>
                </a:lnTo>
                <a:lnTo>
                  <a:pt x="248" y="104"/>
                </a:lnTo>
                <a:lnTo>
                  <a:pt x="248" y="112"/>
                </a:lnTo>
                <a:lnTo>
                  <a:pt x="250" y="119"/>
                </a:lnTo>
                <a:lnTo>
                  <a:pt x="252" y="131"/>
                </a:lnTo>
                <a:lnTo>
                  <a:pt x="252" y="140"/>
                </a:lnTo>
                <a:lnTo>
                  <a:pt x="253" y="152"/>
                </a:lnTo>
                <a:lnTo>
                  <a:pt x="253" y="165"/>
                </a:lnTo>
                <a:lnTo>
                  <a:pt x="255" y="179"/>
                </a:lnTo>
                <a:lnTo>
                  <a:pt x="255" y="194"/>
                </a:lnTo>
                <a:lnTo>
                  <a:pt x="257" y="209"/>
                </a:lnTo>
                <a:lnTo>
                  <a:pt x="259" y="227"/>
                </a:lnTo>
                <a:lnTo>
                  <a:pt x="259" y="246"/>
                </a:lnTo>
                <a:lnTo>
                  <a:pt x="261" y="263"/>
                </a:lnTo>
                <a:lnTo>
                  <a:pt x="261" y="284"/>
                </a:lnTo>
                <a:lnTo>
                  <a:pt x="263" y="305"/>
                </a:lnTo>
                <a:lnTo>
                  <a:pt x="265" y="328"/>
                </a:lnTo>
                <a:lnTo>
                  <a:pt x="265" y="351"/>
                </a:lnTo>
                <a:lnTo>
                  <a:pt x="267" y="374"/>
                </a:lnTo>
                <a:lnTo>
                  <a:pt x="267" y="401"/>
                </a:lnTo>
                <a:lnTo>
                  <a:pt x="269" y="426"/>
                </a:lnTo>
                <a:lnTo>
                  <a:pt x="269" y="455"/>
                </a:lnTo>
                <a:lnTo>
                  <a:pt x="271" y="482"/>
                </a:lnTo>
                <a:lnTo>
                  <a:pt x="273" y="513"/>
                </a:lnTo>
                <a:lnTo>
                  <a:pt x="273" y="543"/>
                </a:lnTo>
                <a:lnTo>
                  <a:pt x="275" y="574"/>
                </a:lnTo>
                <a:lnTo>
                  <a:pt x="275" y="607"/>
                </a:lnTo>
                <a:lnTo>
                  <a:pt x="276" y="641"/>
                </a:lnTo>
                <a:lnTo>
                  <a:pt x="278" y="676"/>
                </a:lnTo>
                <a:lnTo>
                  <a:pt x="225" y="682"/>
                </a:lnTo>
                <a:lnTo>
                  <a:pt x="171" y="687"/>
                </a:lnTo>
                <a:lnTo>
                  <a:pt x="165" y="649"/>
                </a:lnTo>
                <a:lnTo>
                  <a:pt x="161" y="612"/>
                </a:lnTo>
                <a:lnTo>
                  <a:pt x="157" y="578"/>
                </a:lnTo>
                <a:lnTo>
                  <a:pt x="154" y="543"/>
                </a:lnTo>
                <a:lnTo>
                  <a:pt x="148" y="511"/>
                </a:lnTo>
                <a:lnTo>
                  <a:pt x="144" y="480"/>
                </a:lnTo>
                <a:lnTo>
                  <a:pt x="140" y="449"/>
                </a:lnTo>
                <a:lnTo>
                  <a:pt x="136" y="421"/>
                </a:lnTo>
                <a:lnTo>
                  <a:pt x="133" y="394"/>
                </a:lnTo>
                <a:lnTo>
                  <a:pt x="129" y="369"/>
                </a:lnTo>
                <a:lnTo>
                  <a:pt x="125" y="344"/>
                </a:lnTo>
                <a:lnTo>
                  <a:pt x="121" y="321"/>
                </a:lnTo>
                <a:lnTo>
                  <a:pt x="119" y="298"/>
                </a:lnTo>
                <a:lnTo>
                  <a:pt x="115" y="279"/>
                </a:lnTo>
                <a:lnTo>
                  <a:pt x="113" y="259"/>
                </a:lnTo>
                <a:lnTo>
                  <a:pt x="111" y="240"/>
                </a:lnTo>
                <a:lnTo>
                  <a:pt x="106" y="227"/>
                </a:lnTo>
                <a:lnTo>
                  <a:pt x="102" y="211"/>
                </a:lnTo>
                <a:lnTo>
                  <a:pt x="98" y="198"/>
                </a:lnTo>
                <a:lnTo>
                  <a:pt x="94" y="184"/>
                </a:lnTo>
                <a:lnTo>
                  <a:pt x="88" y="173"/>
                </a:lnTo>
                <a:lnTo>
                  <a:pt x="85" y="161"/>
                </a:lnTo>
                <a:lnTo>
                  <a:pt x="81" y="150"/>
                </a:lnTo>
                <a:lnTo>
                  <a:pt x="75" y="140"/>
                </a:lnTo>
                <a:lnTo>
                  <a:pt x="71" y="131"/>
                </a:lnTo>
                <a:lnTo>
                  <a:pt x="67" y="123"/>
                </a:lnTo>
                <a:lnTo>
                  <a:pt x="61" y="115"/>
                </a:lnTo>
                <a:lnTo>
                  <a:pt x="58" y="110"/>
                </a:lnTo>
                <a:lnTo>
                  <a:pt x="54" y="104"/>
                </a:lnTo>
                <a:lnTo>
                  <a:pt x="48" y="98"/>
                </a:lnTo>
                <a:lnTo>
                  <a:pt x="44" y="94"/>
                </a:lnTo>
                <a:lnTo>
                  <a:pt x="40" y="92"/>
                </a:lnTo>
                <a:lnTo>
                  <a:pt x="33" y="90"/>
                </a:lnTo>
                <a:lnTo>
                  <a:pt x="27" y="87"/>
                </a:lnTo>
                <a:lnTo>
                  <a:pt x="21" y="85"/>
                </a:lnTo>
                <a:lnTo>
                  <a:pt x="17" y="81"/>
                </a:lnTo>
                <a:lnTo>
                  <a:pt x="13" y="77"/>
                </a:lnTo>
                <a:lnTo>
                  <a:pt x="10" y="75"/>
                </a:lnTo>
                <a:lnTo>
                  <a:pt x="6" y="71"/>
                </a:lnTo>
                <a:lnTo>
                  <a:pt x="4" y="67"/>
                </a:lnTo>
                <a:lnTo>
                  <a:pt x="2" y="64"/>
                </a:lnTo>
                <a:lnTo>
                  <a:pt x="0" y="60"/>
                </a:lnTo>
                <a:lnTo>
                  <a:pt x="0" y="56"/>
                </a:lnTo>
                <a:lnTo>
                  <a:pt x="0" y="52"/>
                </a:lnTo>
                <a:lnTo>
                  <a:pt x="0" y="46"/>
                </a:lnTo>
                <a:lnTo>
                  <a:pt x="0" y="42"/>
                </a:lnTo>
                <a:lnTo>
                  <a:pt x="2" y="39"/>
                </a:lnTo>
                <a:lnTo>
                  <a:pt x="4" y="35"/>
                </a:lnTo>
                <a:lnTo>
                  <a:pt x="10" y="27"/>
                </a:lnTo>
                <a:lnTo>
                  <a:pt x="15" y="19"/>
                </a:lnTo>
                <a:lnTo>
                  <a:pt x="23" y="14"/>
                </a:lnTo>
                <a:lnTo>
                  <a:pt x="33" y="8"/>
                </a:lnTo>
                <a:lnTo>
                  <a:pt x="42" y="4"/>
                </a:lnTo>
                <a:lnTo>
                  <a:pt x="50" y="4"/>
                </a:lnTo>
                <a:lnTo>
                  <a:pt x="56" y="2"/>
                </a:lnTo>
                <a:lnTo>
                  <a:pt x="63" y="0"/>
                </a:lnTo>
                <a:lnTo>
                  <a:pt x="71" y="0"/>
                </a:lnTo>
                <a:lnTo>
                  <a:pt x="79" y="0"/>
                </a:lnTo>
                <a:lnTo>
                  <a:pt x="88" y="0"/>
                </a:lnTo>
                <a:lnTo>
                  <a:pt x="113" y="0"/>
                </a:lnTo>
                <a:lnTo>
                  <a:pt x="127" y="0"/>
                </a:lnTo>
                <a:lnTo>
                  <a:pt x="140" y="2"/>
                </a:lnTo>
                <a:lnTo>
                  <a:pt x="154" y="2"/>
                </a:lnTo>
                <a:lnTo>
                  <a:pt x="167" y="4"/>
                </a:lnTo>
                <a:lnTo>
                  <a:pt x="181" y="8"/>
                </a:lnTo>
                <a:lnTo>
                  <a:pt x="194" y="12"/>
                </a:lnTo>
                <a:lnTo>
                  <a:pt x="202" y="16"/>
                </a:lnTo>
                <a:lnTo>
                  <a:pt x="209" y="21"/>
                </a:lnTo>
                <a:lnTo>
                  <a:pt x="217" y="29"/>
                </a:lnTo>
                <a:lnTo>
                  <a:pt x="223" y="37"/>
                </a:lnTo>
                <a:lnTo>
                  <a:pt x="228" y="46"/>
                </a:lnTo>
                <a:lnTo>
                  <a:pt x="232" y="56"/>
                </a:lnTo>
                <a:lnTo>
                  <a:pt x="238" y="67"/>
                </a:lnTo>
                <a:lnTo>
                  <a:pt x="242" y="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33"/>
          <p:cNvSpPr/>
          <p:nvPr/>
        </p:nvSpPr>
        <p:spPr>
          <a:xfrm>
            <a:off x="6084720" y="3830760"/>
            <a:ext cx="349560" cy="126720"/>
          </a:xfrm>
          <a:custGeom>
            <a:avLst/>
            <a:gdLst/>
            <a:ahLst/>
            <a:rect l="l" t="t" r="r" b="b"/>
            <a:pathLst>
              <a:path w="439" h="161">
                <a:moveTo>
                  <a:pt x="0" y="92"/>
                </a:moveTo>
                <a:lnTo>
                  <a:pt x="30" y="80"/>
                </a:lnTo>
                <a:lnTo>
                  <a:pt x="59" y="71"/>
                </a:lnTo>
                <a:lnTo>
                  <a:pt x="86" y="61"/>
                </a:lnTo>
                <a:lnTo>
                  <a:pt x="111" y="51"/>
                </a:lnTo>
                <a:lnTo>
                  <a:pt x="136" y="44"/>
                </a:lnTo>
                <a:lnTo>
                  <a:pt x="157" y="36"/>
                </a:lnTo>
                <a:lnTo>
                  <a:pt x="178" y="30"/>
                </a:lnTo>
                <a:lnTo>
                  <a:pt x="197" y="23"/>
                </a:lnTo>
                <a:lnTo>
                  <a:pt x="215" y="19"/>
                </a:lnTo>
                <a:lnTo>
                  <a:pt x="230" y="13"/>
                </a:lnTo>
                <a:lnTo>
                  <a:pt x="245" y="9"/>
                </a:lnTo>
                <a:lnTo>
                  <a:pt x="259" y="5"/>
                </a:lnTo>
                <a:lnTo>
                  <a:pt x="270" y="3"/>
                </a:lnTo>
                <a:lnTo>
                  <a:pt x="280" y="2"/>
                </a:lnTo>
                <a:lnTo>
                  <a:pt x="289" y="0"/>
                </a:lnTo>
                <a:lnTo>
                  <a:pt x="297" y="0"/>
                </a:lnTo>
                <a:lnTo>
                  <a:pt x="309" y="0"/>
                </a:lnTo>
                <a:lnTo>
                  <a:pt x="322" y="0"/>
                </a:lnTo>
                <a:lnTo>
                  <a:pt x="334" y="0"/>
                </a:lnTo>
                <a:lnTo>
                  <a:pt x="345" y="2"/>
                </a:lnTo>
                <a:lnTo>
                  <a:pt x="355" y="2"/>
                </a:lnTo>
                <a:lnTo>
                  <a:pt x="366" y="3"/>
                </a:lnTo>
                <a:lnTo>
                  <a:pt x="380" y="7"/>
                </a:lnTo>
                <a:lnTo>
                  <a:pt x="391" y="11"/>
                </a:lnTo>
                <a:lnTo>
                  <a:pt x="399" y="13"/>
                </a:lnTo>
                <a:lnTo>
                  <a:pt x="405" y="15"/>
                </a:lnTo>
                <a:lnTo>
                  <a:pt x="408" y="19"/>
                </a:lnTo>
                <a:lnTo>
                  <a:pt x="414" y="21"/>
                </a:lnTo>
                <a:lnTo>
                  <a:pt x="418" y="25"/>
                </a:lnTo>
                <a:lnTo>
                  <a:pt x="422" y="28"/>
                </a:lnTo>
                <a:lnTo>
                  <a:pt x="430" y="34"/>
                </a:lnTo>
                <a:lnTo>
                  <a:pt x="433" y="40"/>
                </a:lnTo>
                <a:lnTo>
                  <a:pt x="437" y="46"/>
                </a:lnTo>
                <a:lnTo>
                  <a:pt x="439" y="51"/>
                </a:lnTo>
                <a:lnTo>
                  <a:pt x="439" y="57"/>
                </a:lnTo>
                <a:lnTo>
                  <a:pt x="437" y="59"/>
                </a:lnTo>
                <a:lnTo>
                  <a:pt x="433" y="61"/>
                </a:lnTo>
                <a:lnTo>
                  <a:pt x="430" y="65"/>
                </a:lnTo>
                <a:lnTo>
                  <a:pt x="424" y="67"/>
                </a:lnTo>
                <a:lnTo>
                  <a:pt x="416" y="71"/>
                </a:lnTo>
                <a:lnTo>
                  <a:pt x="410" y="75"/>
                </a:lnTo>
                <a:lnTo>
                  <a:pt x="401" y="78"/>
                </a:lnTo>
                <a:lnTo>
                  <a:pt x="391" y="80"/>
                </a:lnTo>
                <a:lnTo>
                  <a:pt x="382" y="84"/>
                </a:lnTo>
                <a:lnTo>
                  <a:pt x="370" y="88"/>
                </a:lnTo>
                <a:lnTo>
                  <a:pt x="357" y="94"/>
                </a:lnTo>
                <a:lnTo>
                  <a:pt x="343" y="98"/>
                </a:lnTo>
                <a:lnTo>
                  <a:pt x="326" y="101"/>
                </a:lnTo>
                <a:lnTo>
                  <a:pt x="311" y="105"/>
                </a:lnTo>
                <a:lnTo>
                  <a:pt x="291" y="109"/>
                </a:lnTo>
                <a:lnTo>
                  <a:pt x="272" y="115"/>
                </a:lnTo>
                <a:lnTo>
                  <a:pt x="253" y="121"/>
                </a:lnTo>
                <a:lnTo>
                  <a:pt x="234" y="126"/>
                </a:lnTo>
                <a:lnTo>
                  <a:pt x="216" y="132"/>
                </a:lnTo>
                <a:lnTo>
                  <a:pt x="199" y="136"/>
                </a:lnTo>
                <a:lnTo>
                  <a:pt x="184" y="140"/>
                </a:lnTo>
                <a:lnTo>
                  <a:pt x="168" y="144"/>
                </a:lnTo>
                <a:lnTo>
                  <a:pt x="153" y="147"/>
                </a:lnTo>
                <a:lnTo>
                  <a:pt x="140" y="149"/>
                </a:lnTo>
                <a:lnTo>
                  <a:pt x="126" y="153"/>
                </a:lnTo>
                <a:lnTo>
                  <a:pt x="115" y="155"/>
                </a:lnTo>
                <a:lnTo>
                  <a:pt x="103" y="157"/>
                </a:lnTo>
                <a:lnTo>
                  <a:pt x="92" y="157"/>
                </a:lnTo>
                <a:lnTo>
                  <a:pt x="82" y="159"/>
                </a:lnTo>
                <a:lnTo>
                  <a:pt x="74" y="159"/>
                </a:lnTo>
                <a:lnTo>
                  <a:pt x="67" y="159"/>
                </a:lnTo>
                <a:lnTo>
                  <a:pt x="59" y="161"/>
                </a:lnTo>
                <a:lnTo>
                  <a:pt x="53" y="159"/>
                </a:lnTo>
                <a:lnTo>
                  <a:pt x="48" y="159"/>
                </a:lnTo>
                <a:lnTo>
                  <a:pt x="42" y="157"/>
                </a:lnTo>
                <a:lnTo>
                  <a:pt x="36" y="155"/>
                </a:lnTo>
                <a:lnTo>
                  <a:pt x="32" y="153"/>
                </a:lnTo>
                <a:lnTo>
                  <a:pt x="28" y="151"/>
                </a:lnTo>
                <a:lnTo>
                  <a:pt x="24" y="147"/>
                </a:lnTo>
                <a:lnTo>
                  <a:pt x="21" y="144"/>
                </a:lnTo>
                <a:lnTo>
                  <a:pt x="17" y="138"/>
                </a:lnTo>
                <a:lnTo>
                  <a:pt x="15" y="134"/>
                </a:lnTo>
                <a:lnTo>
                  <a:pt x="11" y="128"/>
                </a:lnTo>
                <a:lnTo>
                  <a:pt x="9" y="121"/>
                </a:lnTo>
                <a:lnTo>
                  <a:pt x="7" y="115"/>
                </a:lnTo>
                <a:lnTo>
                  <a:pt x="3" y="107"/>
                </a:lnTo>
                <a:lnTo>
                  <a:pt x="1" y="99"/>
                </a:lnTo>
                <a:lnTo>
                  <a:pt x="0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34"/>
          <p:cNvSpPr/>
          <p:nvPr/>
        </p:nvSpPr>
        <p:spPr>
          <a:xfrm>
            <a:off x="5537160" y="4216320"/>
            <a:ext cx="841320" cy="371520"/>
          </a:xfrm>
          <a:custGeom>
            <a:avLst/>
            <a:gdLst/>
            <a:ahLst/>
            <a:rect l="l" t="t" r="r" b="b"/>
            <a:pathLst>
              <a:path w="1060" h="469">
                <a:moveTo>
                  <a:pt x="1060" y="8"/>
                </a:moveTo>
                <a:lnTo>
                  <a:pt x="1060" y="10"/>
                </a:lnTo>
                <a:lnTo>
                  <a:pt x="1060" y="12"/>
                </a:lnTo>
                <a:lnTo>
                  <a:pt x="1060" y="14"/>
                </a:lnTo>
                <a:lnTo>
                  <a:pt x="1058" y="18"/>
                </a:lnTo>
                <a:lnTo>
                  <a:pt x="1056" y="19"/>
                </a:lnTo>
                <a:lnTo>
                  <a:pt x="1054" y="21"/>
                </a:lnTo>
                <a:lnTo>
                  <a:pt x="1051" y="25"/>
                </a:lnTo>
                <a:lnTo>
                  <a:pt x="1047" y="27"/>
                </a:lnTo>
                <a:lnTo>
                  <a:pt x="1043" y="31"/>
                </a:lnTo>
                <a:lnTo>
                  <a:pt x="1039" y="35"/>
                </a:lnTo>
                <a:lnTo>
                  <a:pt x="1033" y="39"/>
                </a:lnTo>
                <a:lnTo>
                  <a:pt x="1027" y="42"/>
                </a:lnTo>
                <a:lnTo>
                  <a:pt x="1020" y="48"/>
                </a:lnTo>
                <a:lnTo>
                  <a:pt x="1014" y="52"/>
                </a:lnTo>
                <a:lnTo>
                  <a:pt x="1006" y="58"/>
                </a:lnTo>
                <a:lnTo>
                  <a:pt x="999" y="64"/>
                </a:lnTo>
                <a:lnTo>
                  <a:pt x="989" y="67"/>
                </a:lnTo>
                <a:lnTo>
                  <a:pt x="979" y="73"/>
                </a:lnTo>
                <a:lnTo>
                  <a:pt x="970" y="79"/>
                </a:lnTo>
                <a:lnTo>
                  <a:pt x="960" y="87"/>
                </a:lnTo>
                <a:lnTo>
                  <a:pt x="949" y="92"/>
                </a:lnTo>
                <a:lnTo>
                  <a:pt x="937" y="98"/>
                </a:lnTo>
                <a:lnTo>
                  <a:pt x="926" y="106"/>
                </a:lnTo>
                <a:lnTo>
                  <a:pt x="912" y="113"/>
                </a:lnTo>
                <a:lnTo>
                  <a:pt x="901" y="119"/>
                </a:lnTo>
                <a:lnTo>
                  <a:pt x="887" y="127"/>
                </a:lnTo>
                <a:lnTo>
                  <a:pt x="872" y="135"/>
                </a:lnTo>
                <a:lnTo>
                  <a:pt x="859" y="142"/>
                </a:lnTo>
                <a:lnTo>
                  <a:pt x="843" y="152"/>
                </a:lnTo>
                <a:lnTo>
                  <a:pt x="826" y="160"/>
                </a:lnTo>
                <a:lnTo>
                  <a:pt x="811" y="169"/>
                </a:lnTo>
                <a:lnTo>
                  <a:pt x="778" y="184"/>
                </a:lnTo>
                <a:lnTo>
                  <a:pt x="745" y="202"/>
                </a:lnTo>
                <a:lnTo>
                  <a:pt x="715" y="219"/>
                </a:lnTo>
                <a:lnTo>
                  <a:pt x="684" y="234"/>
                </a:lnTo>
                <a:lnTo>
                  <a:pt x="653" y="248"/>
                </a:lnTo>
                <a:lnTo>
                  <a:pt x="624" y="263"/>
                </a:lnTo>
                <a:lnTo>
                  <a:pt x="597" y="277"/>
                </a:lnTo>
                <a:lnTo>
                  <a:pt x="571" y="290"/>
                </a:lnTo>
                <a:lnTo>
                  <a:pt x="544" y="303"/>
                </a:lnTo>
                <a:lnTo>
                  <a:pt x="519" y="317"/>
                </a:lnTo>
                <a:lnTo>
                  <a:pt x="494" y="328"/>
                </a:lnTo>
                <a:lnTo>
                  <a:pt x="469" y="340"/>
                </a:lnTo>
                <a:lnTo>
                  <a:pt x="446" y="351"/>
                </a:lnTo>
                <a:lnTo>
                  <a:pt x="425" y="363"/>
                </a:lnTo>
                <a:lnTo>
                  <a:pt x="404" y="374"/>
                </a:lnTo>
                <a:lnTo>
                  <a:pt x="382" y="386"/>
                </a:lnTo>
                <a:lnTo>
                  <a:pt x="363" y="398"/>
                </a:lnTo>
                <a:lnTo>
                  <a:pt x="344" y="407"/>
                </a:lnTo>
                <a:lnTo>
                  <a:pt x="327" y="417"/>
                </a:lnTo>
                <a:lnTo>
                  <a:pt x="311" y="424"/>
                </a:lnTo>
                <a:lnTo>
                  <a:pt x="296" y="432"/>
                </a:lnTo>
                <a:lnTo>
                  <a:pt x="281" y="440"/>
                </a:lnTo>
                <a:lnTo>
                  <a:pt x="267" y="447"/>
                </a:lnTo>
                <a:lnTo>
                  <a:pt x="256" y="453"/>
                </a:lnTo>
                <a:lnTo>
                  <a:pt x="242" y="457"/>
                </a:lnTo>
                <a:lnTo>
                  <a:pt x="233" y="461"/>
                </a:lnTo>
                <a:lnTo>
                  <a:pt x="221" y="465"/>
                </a:lnTo>
                <a:lnTo>
                  <a:pt x="212" y="467"/>
                </a:lnTo>
                <a:lnTo>
                  <a:pt x="204" y="469"/>
                </a:lnTo>
                <a:lnTo>
                  <a:pt x="194" y="469"/>
                </a:lnTo>
                <a:lnTo>
                  <a:pt x="187" y="469"/>
                </a:lnTo>
                <a:lnTo>
                  <a:pt x="181" y="467"/>
                </a:lnTo>
                <a:lnTo>
                  <a:pt x="167" y="461"/>
                </a:lnTo>
                <a:lnTo>
                  <a:pt x="152" y="455"/>
                </a:lnTo>
                <a:lnTo>
                  <a:pt x="137" y="447"/>
                </a:lnTo>
                <a:lnTo>
                  <a:pt x="121" y="440"/>
                </a:lnTo>
                <a:lnTo>
                  <a:pt x="106" y="428"/>
                </a:lnTo>
                <a:lnTo>
                  <a:pt x="98" y="422"/>
                </a:lnTo>
                <a:lnTo>
                  <a:pt x="91" y="417"/>
                </a:lnTo>
                <a:lnTo>
                  <a:pt x="83" y="409"/>
                </a:lnTo>
                <a:lnTo>
                  <a:pt x="75" y="403"/>
                </a:lnTo>
                <a:lnTo>
                  <a:pt x="70" y="394"/>
                </a:lnTo>
                <a:lnTo>
                  <a:pt x="62" y="386"/>
                </a:lnTo>
                <a:lnTo>
                  <a:pt x="54" y="380"/>
                </a:lnTo>
                <a:lnTo>
                  <a:pt x="45" y="373"/>
                </a:lnTo>
                <a:lnTo>
                  <a:pt x="37" y="365"/>
                </a:lnTo>
                <a:lnTo>
                  <a:pt x="31" y="359"/>
                </a:lnTo>
                <a:lnTo>
                  <a:pt x="25" y="351"/>
                </a:lnTo>
                <a:lnTo>
                  <a:pt x="20" y="344"/>
                </a:lnTo>
                <a:lnTo>
                  <a:pt x="14" y="336"/>
                </a:lnTo>
                <a:lnTo>
                  <a:pt x="10" y="327"/>
                </a:lnTo>
                <a:lnTo>
                  <a:pt x="6" y="319"/>
                </a:lnTo>
                <a:lnTo>
                  <a:pt x="4" y="311"/>
                </a:lnTo>
                <a:lnTo>
                  <a:pt x="2" y="303"/>
                </a:lnTo>
                <a:lnTo>
                  <a:pt x="0" y="294"/>
                </a:lnTo>
                <a:lnTo>
                  <a:pt x="0" y="286"/>
                </a:lnTo>
                <a:lnTo>
                  <a:pt x="0" y="277"/>
                </a:lnTo>
                <a:lnTo>
                  <a:pt x="0" y="269"/>
                </a:lnTo>
                <a:lnTo>
                  <a:pt x="2" y="259"/>
                </a:lnTo>
                <a:lnTo>
                  <a:pt x="18" y="259"/>
                </a:lnTo>
                <a:lnTo>
                  <a:pt x="33" y="259"/>
                </a:lnTo>
                <a:lnTo>
                  <a:pt x="47" y="259"/>
                </a:lnTo>
                <a:lnTo>
                  <a:pt x="60" y="259"/>
                </a:lnTo>
                <a:lnTo>
                  <a:pt x="73" y="259"/>
                </a:lnTo>
                <a:lnTo>
                  <a:pt x="85" y="259"/>
                </a:lnTo>
                <a:lnTo>
                  <a:pt x="96" y="259"/>
                </a:lnTo>
                <a:lnTo>
                  <a:pt x="108" y="259"/>
                </a:lnTo>
                <a:lnTo>
                  <a:pt x="118" y="259"/>
                </a:lnTo>
                <a:lnTo>
                  <a:pt x="127" y="259"/>
                </a:lnTo>
                <a:lnTo>
                  <a:pt x="137" y="259"/>
                </a:lnTo>
                <a:lnTo>
                  <a:pt x="144" y="259"/>
                </a:lnTo>
                <a:lnTo>
                  <a:pt x="152" y="259"/>
                </a:lnTo>
                <a:lnTo>
                  <a:pt x="158" y="259"/>
                </a:lnTo>
                <a:lnTo>
                  <a:pt x="164" y="259"/>
                </a:lnTo>
                <a:lnTo>
                  <a:pt x="169" y="259"/>
                </a:lnTo>
                <a:lnTo>
                  <a:pt x="171" y="259"/>
                </a:lnTo>
                <a:lnTo>
                  <a:pt x="175" y="259"/>
                </a:lnTo>
                <a:lnTo>
                  <a:pt x="179" y="259"/>
                </a:lnTo>
                <a:lnTo>
                  <a:pt x="183" y="257"/>
                </a:lnTo>
                <a:lnTo>
                  <a:pt x="189" y="257"/>
                </a:lnTo>
                <a:lnTo>
                  <a:pt x="196" y="255"/>
                </a:lnTo>
                <a:lnTo>
                  <a:pt x="204" y="254"/>
                </a:lnTo>
                <a:lnTo>
                  <a:pt x="212" y="252"/>
                </a:lnTo>
                <a:lnTo>
                  <a:pt x="219" y="250"/>
                </a:lnTo>
                <a:lnTo>
                  <a:pt x="229" y="246"/>
                </a:lnTo>
                <a:lnTo>
                  <a:pt x="240" y="244"/>
                </a:lnTo>
                <a:lnTo>
                  <a:pt x="250" y="240"/>
                </a:lnTo>
                <a:lnTo>
                  <a:pt x="262" y="236"/>
                </a:lnTo>
                <a:lnTo>
                  <a:pt x="275" y="232"/>
                </a:lnTo>
                <a:lnTo>
                  <a:pt x="288" y="229"/>
                </a:lnTo>
                <a:lnTo>
                  <a:pt x="302" y="225"/>
                </a:lnTo>
                <a:lnTo>
                  <a:pt x="317" y="221"/>
                </a:lnTo>
                <a:lnTo>
                  <a:pt x="333" y="215"/>
                </a:lnTo>
                <a:lnTo>
                  <a:pt x="350" y="209"/>
                </a:lnTo>
                <a:lnTo>
                  <a:pt x="367" y="204"/>
                </a:lnTo>
                <a:lnTo>
                  <a:pt x="384" y="198"/>
                </a:lnTo>
                <a:lnTo>
                  <a:pt x="404" y="192"/>
                </a:lnTo>
                <a:lnTo>
                  <a:pt x="423" y="186"/>
                </a:lnTo>
                <a:lnTo>
                  <a:pt x="444" y="179"/>
                </a:lnTo>
                <a:lnTo>
                  <a:pt x="463" y="171"/>
                </a:lnTo>
                <a:lnTo>
                  <a:pt x="486" y="163"/>
                </a:lnTo>
                <a:lnTo>
                  <a:pt x="507" y="156"/>
                </a:lnTo>
                <a:lnTo>
                  <a:pt x="532" y="148"/>
                </a:lnTo>
                <a:lnTo>
                  <a:pt x="555" y="138"/>
                </a:lnTo>
                <a:lnTo>
                  <a:pt x="580" y="131"/>
                </a:lnTo>
                <a:lnTo>
                  <a:pt x="605" y="121"/>
                </a:lnTo>
                <a:lnTo>
                  <a:pt x="632" y="112"/>
                </a:lnTo>
                <a:lnTo>
                  <a:pt x="657" y="102"/>
                </a:lnTo>
                <a:lnTo>
                  <a:pt x="682" y="94"/>
                </a:lnTo>
                <a:lnTo>
                  <a:pt x="705" y="87"/>
                </a:lnTo>
                <a:lnTo>
                  <a:pt x="728" y="79"/>
                </a:lnTo>
                <a:lnTo>
                  <a:pt x="751" y="71"/>
                </a:lnTo>
                <a:lnTo>
                  <a:pt x="772" y="65"/>
                </a:lnTo>
                <a:lnTo>
                  <a:pt x="793" y="58"/>
                </a:lnTo>
                <a:lnTo>
                  <a:pt x="812" y="52"/>
                </a:lnTo>
                <a:lnTo>
                  <a:pt x="832" y="46"/>
                </a:lnTo>
                <a:lnTo>
                  <a:pt x="849" y="41"/>
                </a:lnTo>
                <a:lnTo>
                  <a:pt x="868" y="37"/>
                </a:lnTo>
                <a:lnTo>
                  <a:pt x="884" y="31"/>
                </a:lnTo>
                <a:lnTo>
                  <a:pt x="901" y="27"/>
                </a:lnTo>
                <a:lnTo>
                  <a:pt x="916" y="23"/>
                </a:lnTo>
                <a:lnTo>
                  <a:pt x="930" y="19"/>
                </a:lnTo>
                <a:lnTo>
                  <a:pt x="943" y="16"/>
                </a:lnTo>
                <a:lnTo>
                  <a:pt x="956" y="14"/>
                </a:lnTo>
                <a:lnTo>
                  <a:pt x="970" y="10"/>
                </a:lnTo>
                <a:lnTo>
                  <a:pt x="981" y="8"/>
                </a:lnTo>
                <a:lnTo>
                  <a:pt x="991" y="6"/>
                </a:lnTo>
                <a:lnTo>
                  <a:pt x="1001" y="4"/>
                </a:lnTo>
                <a:lnTo>
                  <a:pt x="1010" y="2"/>
                </a:lnTo>
                <a:lnTo>
                  <a:pt x="1018" y="2"/>
                </a:lnTo>
                <a:lnTo>
                  <a:pt x="1026" y="2"/>
                </a:lnTo>
                <a:lnTo>
                  <a:pt x="1033" y="0"/>
                </a:lnTo>
                <a:lnTo>
                  <a:pt x="1039" y="0"/>
                </a:lnTo>
                <a:lnTo>
                  <a:pt x="1045" y="2"/>
                </a:lnTo>
                <a:lnTo>
                  <a:pt x="1049" y="2"/>
                </a:lnTo>
                <a:lnTo>
                  <a:pt x="1052" y="2"/>
                </a:lnTo>
                <a:lnTo>
                  <a:pt x="1056" y="4"/>
                </a:lnTo>
                <a:lnTo>
                  <a:pt x="1058" y="6"/>
                </a:lnTo>
                <a:lnTo>
                  <a:pt x="1060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35"/>
          <p:cNvSpPr/>
          <p:nvPr/>
        </p:nvSpPr>
        <p:spPr>
          <a:xfrm>
            <a:off x="6811920" y="2828880"/>
            <a:ext cx="298440" cy="219240"/>
          </a:xfrm>
          <a:custGeom>
            <a:avLst/>
            <a:gdLst/>
            <a:ahLst/>
            <a:rect l="l" t="t" r="r" b="b"/>
            <a:pathLst>
              <a:path w="377" h="274">
                <a:moveTo>
                  <a:pt x="48" y="101"/>
                </a:moveTo>
                <a:lnTo>
                  <a:pt x="41" y="94"/>
                </a:lnTo>
                <a:lnTo>
                  <a:pt x="35" y="86"/>
                </a:lnTo>
                <a:lnTo>
                  <a:pt x="29" y="76"/>
                </a:lnTo>
                <a:lnTo>
                  <a:pt x="25" y="69"/>
                </a:lnTo>
                <a:lnTo>
                  <a:pt x="16" y="55"/>
                </a:lnTo>
                <a:lnTo>
                  <a:pt x="10" y="42"/>
                </a:lnTo>
                <a:lnTo>
                  <a:pt x="6" y="28"/>
                </a:lnTo>
                <a:lnTo>
                  <a:pt x="2" y="19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lnTo>
                  <a:pt x="39" y="0"/>
                </a:lnTo>
                <a:lnTo>
                  <a:pt x="58" y="0"/>
                </a:lnTo>
                <a:lnTo>
                  <a:pt x="75" y="2"/>
                </a:lnTo>
                <a:lnTo>
                  <a:pt x="92" y="2"/>
                </a:lnTo>
                <a:lnTo>
                  <a:pt x="110" y="4"/>
                </a:lnTo>
                <a:lnTo>
                  <a:pt x="127" y="5"/>
                </a:lnTo>
                <a:lnTo>
                  <a:pt x="142" y="9"/>
                </a:lnTo>
                <a:lnTo>
                  <a:pt x="158" y="11"/>
                </a:lnTo>
                <a:lnTo>
                  <a:pt x="173" y="15"/>
                </a:lnTo>
                <a:lnTo>
                  <a:pt x="186" y="19"/>
                </a:lnTo>
                <a:lnTo>
                  <a:pt x="200" y="23"/>
                </a:lnTo>
                <a:lnTo>
                  <a:pt x="213" y="28"/>
                </a:lnTo>
                <a:lnTo>
                  <a:pt x="225" y="32"/>
                </a:lnTo>
                <a:lnTo>
                  <a:pt x="238" y="38"/>
                </a:lnTo>
                <a:lnTo>
                  <a:pt x="250" y="46"/>
                </a:lnTo>
                <a:lnTo>
                  <a:pt x="271" y="57"/>
                </a:lnTo>
                <a:lnTo>
                  <a:pt x="290" y="71"/>
                </a:lnTo>
                <a:lnTo>
                  <a:pt x="309" y="84"/>
                </a:lnTo>
                <a:lnTo>
                  <a:pt x="319" y="92"/>
                </a:lnTo>
                <a:lnTo>
                  <a:pt x="327" y="98"/>
                </a:lnTo>
                <a:lnTo>
                  <a:pt x="334" y="105"/>
                </a:lnTo>
                <a:lnTo>
                  <a:pt x="340" y="113"/>
                </a:lnTo>
                <a:lnTo>
                  <a:pt x="348" y="119"/>
                </a:lnTo>
                <a:lnTo>
                  <a:pt x="353" y="126"/>
                </a:lnTo>
                <a:lnTo>
                  <a:pt x="357" y="134"/>
                </a:lnTo>
                <a:lnTo>
                  <a:pt x="361" y="144"/>
                </a:lnTo>
                <a:lnTo>
                  <a:pt x="365" y="151"/>
                </a:lnTo>
                <a:lnTo>
                  <a:pt x="369" y="159"/>
                </a:lnTo>
                <a:lnTo>
                  <a:pt x="371" y="171"/>
                </a:lnTo>
                <a:lnTo>
                  <a:pt x="371" y="180"/>
                </a:lnTo>
                <a:lnTo>
                  <a:pt x="373" y="188"/>
                </a:lnTo>
                <a:lnTo>
                  <a:pt x="375" y="197"/>
                </a:lnTo>
                <a:lnTo>
                  <a:pt x="375" y="203"/>
                </a:lnTo>
                <a:lnTo>
                  <a:pt x="377" y="211"/>
                </a:lnTo>
                <a:lnTo>
                  <a:pt x="377" y="217"/>
                </a:lnTo>
                <a:lnTo>
                  <a:pt x="377" y="222"/>
                </a:lnTo>
                <a:lnTo>
                  <a:pt x="377" y="228"/>
                </a:lnTo>
                <a:lnTo>
                  <a:pt x="377" y="232"/>
                </a:lnTo>
                <a:lnTo>
                  <a:pt x="375" y="240"/>
                </a:lnTo>
                <a:lnTo>
                  <a:pt x="373" y="245"/>
                </a:lnTo>
                <a:lnTo>
                  <a:pt x="369" y="251"/>
                </a:lnTo>
                <a:lnTo>
                  <a:pt x="363" y="255"/>
                </a:lnTo>
                <a:lnTo>
                  <a:pt x="357" y="259"/>
                </a:lnTo>
                <a:lnTo>
                  <a:pt x="352" y="263"/>
                </a:lnTo>
                <a:lnTo>
                  <a:pt x="344" y="266"/>
                </a:lnTo>
                <a:lnTo>
                  <a:pt x="338" y="270"/>
                </a:lnTo>
                <a:lnTo>
                  <a:pt x="330" y="272"/>
                </a:lnTo>
                <a:lnTo>
                  <a:pt x="325" y="274"/>
                </a:lnTo>
                <a:lnTo>
                  <a:pt x="321" y="274"/>
                </a:lnTo>
                <a:lnTo>
                  <a:pt x="315" y="274"/>
                </a:lnTo>
                <a:lnTo>
                  <a:pt x="311" y="272"/>
                </a:lnTo>
                <a:lnTo>
                  <a:pt x="305" y="272"/>
                </a:lnTo>
                <a:lnTo>
                  <a:pt x="300" y="270"/>
                </a:lnTo>
                <a:lnTo>
                  <a:pt x="288" y="265"/>
                </a:lnTo>
                <a:lnTo>
                  <a:pt x="275" y="259"/>
                </a:lnTo>
                <a:lnTo>
                  <a:pt x="259" y="251"/>
                </a:lnTo>
                <a:lnTo>
                  <a:pt x="250" y="245"/>
                </a:lnTo>
                <a:lnTo>
                  <a:pt x="242" y="240"/>
                </a:lnTo>
                <a:lnTo>
                  <a:pt x="233" y="236"/>
                </a:lnTo>
                <a:lnTo>
                  <a:pt x="223" y="230"/>
                </a:lnTo>
                <a:lnTo>
                  <a:pt x="211" y="222"/>
                </a:lnTo>
                <a:lnTo>
                  <a:pt x="202" y="217"/>
                </a:lnTo>
                <a:lnTo>
                  <a:pt x="179" y="203"/>
                </a:lnTo>
                <a:lnTo>
                  <a:pt x="158" y="190"/>
                </a:lnTo>
                <a:lnTo>
                  <a:pt x="137" y="176"/>
                </a:lnTo>
                <a:lnTo>
                  <a:pt x="115" y="163"/>
                </a:lnTo>
                <a:lnTo>
                  <a:pt x="96" y="149"/>
                </a:lnTo>
                <a:lnTo>
                  <a:pt x="77" y="134"/>
                </a:lnTo>
                <a:lnTo>
                  <a:pt x="69" y="126"/>
                </a:lnTo>
                <a:lnTo>
                  <a:pt x="62" y="119"/>
                </a:lnTo>
                <a:lnTo>
                  <a:pt x="54" y="111"/>
                </a:lnTo>
                <a:lnTo>
                  <a:pt x="48" y="10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36"/>
          <p:cNvSpPr/>
          <p:nvPr/>
        </p:nvSpPr>
        <p:spPr>
          <a:xfrm>
            <a:off x="6396120" y="3102120"/>
            <a:ext cx="171360" cy="363240"/>
          </a:xfrm>
          <a:custGeom>
            <a:avLst/>
            <a:gdLst/>
            <a:ahLst/>
            <a:rect l="l" t="t" r="r" b="b"/>
            <a:pathLst>
              <a:path w="215" h="459">
                <a:moveTo>
                  <a:pt x="48" y="208"/>
                </a:moveTo>
                <a:lnTo>
                  <a:pt x="56" y="192"/>
                </a:lnTo>
                <a:lnTo>
                  <a:pt x="65" y="177"/>
                </a:lnTo>
                <a:lnTo>
                  <a:pt x="73" y="161"/>
                </a:lnTo>
                <a:lnTo>
                  <a:pt x="79" y="148"/>
                </a:lnTo>
                <a:lnTo>
                  <a:pt x="87" y="135"/>
                </a:lnTo>
                <a:lnTo>
                  <a:pt x="92" y="121"/>
                </a:lnTo>
                <a:lnTo>
                  <a:pt x="96" y="108"/>
                </a:lnTo>
                <a:lnTo>
                  <a:pt x="102" y="94"/>
                </a:lnTo>
                <a:lnTo>
                  <a:pt x="106" y="81"/>
                </a:lnTo>
                <a:lnTo>
                  <a:pt x="110" y="69"/>
                </a:lnTo>
                <a:lnTo>
                  <a:pt x="113" y="58"/>
                </a:lnTo>
                <a:lnTo>
                  <a:pt x="115" y="44"/>
                </a:lnTo>
                <a:lnTo>
                  <a:pt x="117" y="33"/>
                </a:lnTo>
                <a:lnTo>
                  <a:pt x="119" y="21"/>
                </a:lnTo>
                <a:lnTo>
                  <a:pt x="119" y="10"/>
                </a:lnTo>
                <a:lnTo>
                  <a:pt x="119" y="0"/>
                </a:lnTo>
                <a:lnTo>
                  <a:pt x="131" y="2"/>
                </a:lnTo>
                <a:lnTo>
                  <a:pt x="140" y="6"/>
                </a:lnTo>
                <a:lnTo>
                  <a:pt x="150" y="10"/>
                </a:lnTo>
                <a:lnTo>
                  <a:pt x="158" y="14"/>
                </a:lnTo>
                <a:lnTo>
                  <a:pt x="165" y="18"/>
                </a:lnTo>
                <a:lnTo>
                  <a:pt x="173" y="23"/>
                </a:lnTo>
                <a:lnTo>
                  <a:pt x="179" y="29"/>
                </a:lnTo>
                <a:lnTo>
                  <a:pt x="184" y="37"/>
                </a:lnTo>
                <a:lnTo>
                  <a:pt x="190" y="42"/>
                </a:lnTo>
                <a:lnTo>
                  <a:pt x="194" y="52"/>
                </a:lnTo>
                <a:lnTo>
                  <a:pt x="200" y="60"/>
                </a:lnTo>
                <a:lnTo>
                  <a:pt x="204" y="69"/>
                </a:lnTo>
                <a:lnTo>
                  <a:pt x="207" y="79"/>
                </a:lnTo>
                <a:lnTo>
                  <a:pt x="209" y="90"/>
                </a:lnTo>
                <a:lnTo>
                  <a:pt x="213" y="102"/>
                </a:lnTo>
                <a:lnTo>
                  <a:pt x="215" y="115"/>
                </a:lnTo>
                <a:lnTo>
                  <a:pt x="215" y="129"/>
                </a:lnTo>
                <a:lnTo>
                  <a:pt x="213" y="144"/>
                </a:lnTo>
                <a:lnTo>
                  <a:pt x="211" y="160"/>
                </a:lnTo>
                <a:lnTo>
                  <a:pt x="209" y="173"/>
                </a:lnTo>
                <a:lnTo>
                  <a:pt x="207" y="186"/>
                </a:lnTo>
                <a:lnTo>
                  <a:pt x="206" y="202"/>
                </a:lnTo>
                <a:lnTo>
                  <a:pt x="198" y="229"/>
                </a:lnTo>
                <a:lnTo>
                  <a:pt x="190" y="257"/>
                </a:lnTo>
                <a:lnTo>
                  <a:pt x="179" y="286"/>
                </a:lnTo>
                <a:lnTo>
                  <a:pt x="167" y="315"/>
                </a:lnTo>
                <a:lnTo>
                  <a:pt x="156" y="344"/>
                </a:lnTo>
                <a:lnTo>
                  <a:pt x="146" y="359"/>
                </a:lnTo>
                <a:lnTo>
                  <a:pt x="138" y="373"/>
                </a:lnTo>
                <a:lnTo>
                  <a:pt x="131" y="384"/>
                </a:lnTo>
                <a:lnTo>
                  <a:pt x="123" y="396"/>
                </a:lnTo>
                <a:lnTo>
                  <a:pt x="115" y="407"/>
                </a:lnTo>
                <a:lnTo>
                  <a:pt x="108" y="417"/>
                </a:lnTo>
                <a:lnTo>
                  <a:pt x="100" y="424"/>
                </a:lnTo>
                <a:lnTo>
                  <a:pt x="94" y="432"/>
                </a:lnTo>
                <a:lnTo>
                  <a:pt x="88" y="438"/>
                </a:lnTo>
                <a:lnTo>
                  <a:pt x="83" y="444"/>
                </a:lnTo>
                <a:lnTo>
                  <a:pt x="77" y="449"/>
                </a:lnTo>
                <a:lnTo>
                  <a:pt x="73" y="453"/>
                </a:lnTo>
                <a:lnTo>
                  <a:pt x="69" y="455"/>
                </a:lnTo>
                <a:lnTo>
                  <a:pt x="65" y="457"/>
                </a:lnTo>
                <a:lnTo>
                  <a:pt x="64" y="459"/>
                </a:lnTo>
                <a:lnTo>
                  <a:pt x="60" y="459"/>
                </a:lnTo>
                <a:lnTo>
                  <a:pt x="58" y="459"/>
                </a:lnTo>
                <a:lnTo>
                  <a:pt x="56" y="457"/>
                </a:lnTo>
                <a:lnTo>
                  <a:pt x="52" y="457"/>
                </a:lnTo>
                <a:lnTo>
                  <a:pt x="50" y="455"/>
                </a:lnTo>
                <a:lnTo>
                  <a:pt x="46" y="453"/>
                </a:lnTo>
                <a:lnTo>
                  <a:pt x="42" y="449"/>
                </a:lnTo>
                <a:lnTo>
                  <a:pt x="40" y="446"/>
                </a:lnTo>
                <a:lnTo>
                  <a:pt x="37" y="442"/>
                </a:lnTo>
                <a:lnTo>
                  <a:pt x="33" y="438"/>
                </a:lnTo>
                <a:lnTo>
                  <a:pt x="29" y="432"/>
                </a:lnTo>
                <a:lnTo>
                  <a:pt x="27" y="426"/>
                </a:lnTo>
                <a:lnTo>
                  <a:pt x="23" y="421"/>
                </a:lnTo>
                <a:lnTo>
                  <a:pt x="19" y="413"/>
                </a:lnTo>
                <a:lnTo>
                  <a:pt x="17" y="405"/>
                </a:lnTo>
                <a:lnTo>
                  <a:pt x="16" y="398"/>
                </a:lnTo>
                <a:lnTo>
                  <a:pt x="14" y="390"/>
                </a:lnTo>
                <a:lnTo>
                  <a:pt x="8" y="380"/>
                </a:lnTo>
                <a:lnTo>
                  <a:pt x="6" y="373"/>
                </a:lnTo>
                <a:lnTo>
                  <a:pt x="4" y="363"/>
                </a:lnTo>
                <a:lnTo>
                  <a:pt x="2" y="353"/>
                </a:lnTo>
                <a:lnTo>
                  <a:pt x="0" y="344"/>
                </a:lnTo>
                <a:lnTo>
                  <a:pt x="2" y="332"/>
                </a:lnTo>
                <a:lnTo>
                  <a:pt x="2" y="323"/>
                </a:lnTo>
                <a:lnTo>
                  <a:pt x="4" y="311"/>
                </a:lnTo>
                <a:lnTo>
                  <a:pt x="6" y="300"/>
                </a:lnTo>
                <a:lnTo>
                  <a:pt x="10" y="288"/>
                </a:lnTo>
                <a:lnTo>
                  <a:pt x="16" y="275"/>
                </a:lnTo>
                <a:lnTo>
                  <a:pt x="19" y="263"/>
                </a:lnTo>
                <a:lnTo>
                  <a:pt x="25" y="250"/>
                </a:lnTo>
                <a:lnTo>
                  <a:pt x="33" y="236"/>
                </a:lnTo>
                <a:lnTo>
                  <a:pt x="40" y="221"/>
                </a:lnTo>
                <a:lnTo>
                  <a:pt x="48" y="2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37"/>
          <p:cNvSpPr/>
          <p:nvPr/>
        </p:nvSpPr>
        <p:spPr>
          <a:xfrm>
            <a:off x="6510240" y="3035160"/>
            <a:ext cx="1235160" cy="260640"/>
          </a:xfrm>
          <a:custGeom>
            <a:avLst/>
            <a:gdLst/>
            <a:ahLst/>
            <a:rect l="l" t="t" r="r" b="b"/>
            <a:pathLst>
              <a:path w="1555" h="328">
                <a:moveTo>
                  <a:pt x="1129" y="15"/>
                </a:moveTo>
                <a:lnTo>
                  <a:pt x="1146" y="11"/>
                </a:lnTo>
                <a:lnTo>
                  <a:pt x="1162" y="7"/>
                </a:lnTo>
                <a:lnTo>
                  <a:pt x="1177" y="4"/>
                </a:lnTo>
                <a:lnTo>
                  <a:pt x="1192" y="2"/>
                </a:lnTo>
                <a:lnTo>
                  <a:pt x="1206" y="0"/>
                </a:lnTo>
                <a:lnTo>
                  <a:pt x="1221" y="0"/>
                </a:lnTo>
                <a:lnTo>
                  <a:pt x="1235" y="0"/>
                </a:lnTo>
                <a:lnTo>
                  <a:pt x="1240" y="2"/>
                </a:lnTo>
                <a:lnTo>
                  <a:pt x="1248" y="4"/>
                </a:lnTo>
                <a:lnTo>
                  <a:pt x="1254" y="6"/>
                </a:lnTo>
                <a:lnTo>
                  <a:pt x="1261" y="9"/>
                </a:lnTo>
                <a:lnTo>
                  <a:pt x="1269" y="13"/>
                </a:lnTo>
                <a:lnTo>
                  <a:pt x="1279" y="17"/>
                </a:lnTo>
                <a:lnTo>
                  <a:pt x="1288" y="21"/>
                </a:lnTo>
                <a:lnTo>
                  <a:pt x="1298" y="25"/>
                </a:lnTo>
                <a:lnTo>
                  <a:pt x="1307" y="31"/>
                </a:lnTo>
                <a:lnTo>
                  <a:pt x="1319" y="36"/>
                </a:lnTo>
                <a:lnTo>
                  <a:pt x="1331" y="42"/>
                </a:lnTo>
                <a:lnTo>
                  <a:pt x="1342" y="50"/>
                </a:lnTo>
                <a:lnTo>
                  <a:pt x="1354" y="55"/>
                </a:lnTo>
                <a:lnTo>
                  <a:pt x="1367" y="63"/>
                </a:lnTo>
                <a:lnTo>
                  <a:pt x="1380" y="71"/>
                </a:lnTo>
                <a:lnTo>
                  <a:pt x="1396" y="78"/>
                </a:lnTo>
                <a:lnTo>
                  <a:pt x="1409" y="86"/>
                </a:lnTo>
                <a:lnTo>
                  <a:pt x="1425" y="96"/>
                </a:lnTo>
                <a:lnTo>
                  <a:pt x="1440" y="105"/>
                </a:lnTo>
                <a:lnTo>
                  <a:pt x="1455" y="115"/>
                </a:lnTo>
                <a:lnTo>
                  <a:pt x="1469" y="125"/>
                </a:lnTo>
                <a:lnTo>
                  <a:pt x="1480" y="132"/>
                </a:lnTo>
                <a:lnTo>
                  <a:pt x="1492" y="140"/>
                </a:lnTo>
                <a:lnTo>
                  <a:pt x="1503" y="148"/>
                </a:lnTo>
                <a:lnTo>
                  <a:pt x="1513" y="153"/>
                </a:lnTo>
                <a:lnTo>
                  <a:pt x="1521" y="159"/>
                </a:lnTo>
                <a:lnTo>
                  <a:pt x="1530" y="163"/>
                </a:lnTo>
                <a:lnTo>
                  <a:pt x="1536" y="169"/>
                </a:lnTo>
                <a:lnTo>
                  <a:pt x="1542" y="173"/>
                </a:lnTo>
                <a:lnTo>
                  <a:pt x="1547" y="176"/>
                </a:lnTo>
                <a:lnTo>
                  <a:pt x="1551" y="180"/>
                </a:lnTo>
                <a:lnTo>
                  <a:pt x="1553" y="182"/>
                </a:lnTo>
                <a:lnTo>
                  <a:pt x="1555" y="184"/>
                </a:lnTo>
                <a:lnTo>
                  <a:pt x="1555" y="188"/>
                </a:lnTo>
                <a:lnTo>
                  <a:pt x="1555" y="190"/>
                </a:lnTo>
                <a:lnTo>
                  <a:pt x="1553" y="192"/>
                </a:lnTo>
                <a:lnTo>
                  <a:pt x="1551" y="194"/>
                </a:lnTo>
                <a:lnTo>
                  <a:pt x="1549" y="196"/>
                </a:lnTo>
                <a:lnTo>
                  <a:pt x="1546" y="197"/>
                </a:lnTo>
                <a:lnTo>
                  <a:pt x="1542" y="199"/>
                </a:lnTo>
                <a:lnTo>
                  <a:pt x="1536" y="201"/>
                </a:lnTo>
                <a:lnTo>
                  <a:pt x="1530" y="205"/>
                </a:lnTo>
                <a:lnTo>
                  <a:pt x="1524" y="207"/>
                </a:lnTo>
                <a:lnTo>
                  <a:pt x="1517" y="209"/>
                </a:lnTo>
                <a:lnTo>
                  <a:pt x="1509" y="211"/>
                </a:lnTo>
                <a:lnTo>
                  <a:pt x="1501" y="213"/>
                </a:lnTo>
                <a:lnTo>
                  <a:pt x="1492" y="215"/>
                </a:lnTo>
                <a:lnTo>
                  <a:pt x="1482" y="217"/>
                </a:lnTo>
                <a:lnTo>
                  <a:pt x="1471" y="219"/>
                </a:lnTo>
                <a:lnTo>
                  <a:pt x="1461" y="222"/>
                </a:lnTo>
                <a:lnTo>
                  <a:pt x="1438" y="226"/>
                </a:lnTo>
                <a:lnTo>
                  <a:pt x="1415" y="230"/>
                </a:lnTo>
                <a:lnTo>
                  <a:pt x="1390" y="236"/>
                </a:lnTo>
                <a:lnTo>
                  <a:pt x="1365" y="242"/>
                </a:lnTo>
                <a:lnTo>
                  <a:pt x="1342" y="249"/>
                </a:lnTo>
                <a:lnTo>
                  <a:pt x="1317" y="257"/>
                </a:lnTo>
                <a:lnTo>
                  <a:pt x="1306" y="263"/>
                </a:lnTo>
                <a:lnTo>
                  <a:pt x="1294" y="267"/>
                </a:lnTo>
                <a:lnTo>
                  <a:pt x="1283" y="272"/>
                </a:lnTo>
                <a:lnTo>
                  <a:pt x="1271" y="280"/>
                </a:lnTo>
                <a:lnTo>
                  <a:pt x="1258" y="286"/>
                </a:lnTo>
                <a:lnTo>
                  <a:pt x="1246" y="292"/>
                </a:lnTo>
                <a:lnTo>
                  <a:pt x="1235" y="297"/>
                </a:lnTo>
                <a:lnTo>
                  <a:pt x="1223" y="303"/>
                </a:lnTo>
                <a:lnTo>
                  <a:pt x="1213" y="307"/>
                </a:lnTo>
                <a:lnTo>
                  <a:pt x="1206" y="313"/>
                </a:lnTo>
                <a:lnTo>
                  <a:pt x="1196" y="316"/>
                </a:lnTo>
                <a:lnTo>
                  <a:pt x="1188" y="318"/>
                </a:lnTo>
                <a:lnTo>
                  <a:pt x="1183" y="322"/>
                </a:lnTo>
                <a:lnTo>
                  <a:pt x="1175" y="324"/>
                </a:lnTo>
                <a:lnTo>
                  <a:pt x="1171" y="326"/>
                </a:lnTo>
                <a:lnTo>
                  <a:pt x="1165" y="328"/>
                </a:lnTo>
                <a:lnTo>
                  <a:pt x="1162" y="328"/>
                </a:lnTo>
                <a:lnTo>
                  <a:pt x="1158" y="328"/>
                </a:lnTo>
                <a:lnTo>
                  <a:pt x="1154" y="326"/>
                </a:lnTo>
                <a:lnTo>
                  <a:pt x="1152" y="324"/>
                </a:lnTo>
                <a:lnTo>
                  <a:pt x="1150" y="324"/>
                </a:lnTo>
                <a:lnTo>
                  <a:pt x="1148" y="322"/>
                </a:lnTo>
                <a:lnTo>
                  <a:pt x="1148" y="320"/>
                </a:lnTo>
                <a:lnTo>
                  <a:pt x="1148" y="318"/>
                </a:lnTo>
                <a:lnTo>
                  <a:pt x="1148" y="315"/>
                </a:lnTo>
                <a:lnTo>
                  <a:pt x="1148" y="311"/>
                </a:lnTo>
                <a:lnTo>
                  <a:pt x="1148" y="307"/>
                </a:lnTo>
                <a:lnTo>
                  <a:pt x="1150" y="301"/>
                </a:lnTo>
                <a:lnTo>
                  <a:pt x="1152" y="293"/>
                </a:lnTo>
                <a:lnTo>
                  <a:pt x="1154" y="288"/>
                </a:lnTo>
                <a:lnTo>
                  <a:pt x="1158" y="280"/>
                </a:lnTo>
                <a:lnTo>
                  <a:pt x="1160" y="272"/>
                </a:lnTo>
                <a:lnTo>
                  <a:pt x="1163" y="263"/>
                </a:lnTo>
                <a:lnTo>
                  <a:pt x="1167" y="253"/>
                </a:lnTo>
                <a:lnTo>
                  <a:pt x="1171" y="244"/>
                </a:lnTo>
                <a:lnTo>
                  <a:pt x="1175" y="234"/>
                </a:lnTo>
                <a:lnTo>
                  <a:pt x="1177" y="222"/>
                </a:lnTo>
                <a:lnTo>
                  <a:pt x="1181" y="213"/>
                </a:lnTo>
                <a:lnTo>
                  <a:pt x="1183" y="203"/>
                </a:lnTo>
                <a:lnTo>
                  <a:pt x="1185" y="194"/>
                </a:lnTo>
                <a:lnTo>
                  <a:pt x="1187" y="186"/>
                </a:lnTo>
                <a:lnTo>
                  <a:pt x="1188" y="178"/>
                </a:lnTo>
                <a:lnTo>
                  <a:pt x="1188" y="171"/>
                </a:lnTo>
                <a:lnTo>
                  <a:pt x="1190" y="165"/>
                </a:lnTo>
                <a:lnTo>
                  <a:pt x="1192" y="157"/>
                </a:lnTo>
                <a:lnTo>
                  <a:pt x="1192" y="153"/>
                </a:lnTo>
                <a:lnTo>
                  <a:pt x="1192" y="148"/>
                </a:lnTo>
                <a:lnTo>
                  <a:pt x="1192" y="142"/>
                </a:lnTo>
                <a:lnTo>
                  <a:pt x="1192" y="138"/>
                </a:lnTo>
                <a:lnTo>
                  <a:pt x="1190" y="136"/>
                </a:lnTo>
                <a:lnTo>
                  <a:pt x="1190" y="132"/>
                </a:lnTo>
                <a:lnTo>
                  <a:pt x="1188" y="130"/>
                </a:lnTo>
                <a:lnTo>
                  <a:pt x="1183" y="126"/>
                </a:lnTo>
                <a:lnTo>
                  <a:pt x="1177" y="123"/>
                </a:lnTo>
                <a:lnTo>
                  <a:pt x="1169" y="121"/>
                </a:lnTo>
                <a:lnTo>
                  <a:pt x="1162" y="121"/>
                </a:lnTo>
                <a:lnTo>
                  <a:pt x="1152" y="119"/>
                </a:lnTo>
                <a:lnTo>
                  <a:pt x="1140" y="119"/>
                </a:lnTo>
                <a:lnTo>
                  <a:pt x="1129" y="119"/>
                </a:lnTo>
                <a:lnTo>
                  <a:pt x="1116" y="119"/>
                </a:lnTo>
                <a:lnTo>
                  <a:pt x="1112" y="119"/>
                </a:lnTo>
                <a:lnTo>
                  <a:pt x="1106" y="119"/>
                </a:lnTo>
                <a:lnTo>
                  <a:pt x="1100" y="119"/>
                </a:lnTo>
                <a:lnTo>
                  <a:pt x="1092" y="119"/>
                </a:lnTo>
                <a:lnTo>
                  <a:pt x="1085" y="121"/>
                </a:lnTo>
                <a:lnTo>
                  <a:pt x="1077" y="121"/>
                </a:lnTo>
                <a:lnTo>
                  <a:pt x="1068" y="121"/>
                </a:lnTo>
                <a:lnTo>
                  <a:pt x="1058" y="123"/>
                </a:lnTo>
                <a:lnTo>
                  <a:pt x="1048" y="123"/>
                </a:lnTo>
                <a:lnTo>
                  <a:pt x="1037" y="125"/>
                </a:lnTo>
                <a:lnTo>
                  <a:pt x="1025" y="126"/>
                </a:lnTo>
                <a:lnTo>
                  <a:pt x="1012" y="126"/>
                </a:lnTo>
                <a:lnTo>
                  <a:pt x="1000" y="128"/>
                </a:lnTo>
                <a:lnTo>
                  <a:pt x="985" y="130"/>
                </a:lnTo>
                <a:lnTo>
                  <a:pt x="972" y="132"/>
                </a:lnTo>
                <a:lnTo>
                  <a:pt x="956" y="134"/>
                </a:lnTo>
                <a:lnTo>
                  <a:pt x="941" y="136"/>
                </a:lnTo>
                <a:lnTo>
                  <a:pt x="924" y="138"/>
                </a:lnTo>
                <a:lnTo>
                  <a:pt x="906" y="140"/>
                </a:lnTo>
                <a:lnTo>
                  <a:pt x="887" y="142"/>
                </a:lnTo>
                <a:lnTo>
                  <a:pt x="870" y="144"/>
                </a:lnTo>
                <a:lnTo>
                  <a:pt x="851" y="148"/>
                </a:lnTo>
                <a:lnTo>
                  <a:pt x="829" y="150"/>
                </a:lnTo>
                <a:lnTo>
                  <a:pt x="808" y="151"/>
                </a:lnTo>
                <a:lnTo>
                  <a:pt x="787" y="155"/>
                </a:lnTo>
                <a:lnTo>
                  <a:pt x="766" y="157"/>
                </a:lnTo>
                <a:lnTo>
                  <a:pt x="743" y="161"/>
                </a:lnTo>
                <a:lnTo>
                  <a:pt x="718" y="163"/>
                </a:lnTo>
                <a:lnTo>
                  <a:pt x="695" y="167"/>
                </a:lnTo>
                <a:lnTo>
                  <a:pt x="670" y="169"/>
                </a:lnTo>
                <a:lnTo>
                  <a:pt x="643" y="173"/>
                </a:lnTo>
                <a:lnTo>
                  <a:pt x="618" y="176"/>
                </a:lnTo>
                <a:lnTo>
                  <a:pt x="591" y="178"/>
                </a:lnTo>
                <a:lnTo>
                  <a:pt x="565" y="182"/>
                </a:lnTo>
                <a:lnTo>
                  <a:pt x="515" y="190"/>
                </a:lnTo>
                <a:lnTo>
                  <a:pt x="465" y="196"/>
                </a:lnTo>
                <a:lnTo>
                  <a:pt x="419" y="201"/>
                </a:lnTo>
                <a:lnTo>
                  <a:pt x="374" y="207"/>
                </a:lnTo>
                <a:lnTo>
                  <a:pt x="330" y="215"/>
                </a:lnTo>
                <a:lnTo>
                  <a:pt x="290" y="221"/>
                </a:lnTo>
                <a:lnTo>
                  <a:pt x="250" y="226"/>
                </a:lnTo>
                <a:lnTo>
                  <a:pt x="213" y="232"/>
                </a:lnTo>
                <a:lnTo>
                  <a:pt x="177" y="238"/>
                </a:lnTo>
                <a:lnTo>
                  <a:pt x="142" y="244"/>
                </a:lnTo>
                <a:lnTo>
                  <a:pt x="111" y="247"/>
                </a:lnTo>
                <a:lnTo>
                  <a:pt x="81" y="253"/>
                </a:lnTo>
                <a:lnTo>
                  <a:pt x="52" y="259"/>
                </a:lnTo>
                <a:lnTo>
                  <a:pt x="25" y="263"/>
                </a:lnTo>
                <a:lnTo>
                  <a:pt x="0" y="269"/>
                </a:lnTo>
                <a:lnTo>
                  <a:pt x="17" y="222"/>
                </a:lnTo>
                <a:lnTo>
                  <a:pt x="35" y="176"/>
                </a:lnTo>
                <a:lnTo>
                  <a:pt x="42" y="174"/>
                </a:lnTo>
                <a:lnTo>
                  <a:pt x="52" y="174"/>
                </a:lnTo>
                <a:lnTo>
                  <a:pt x="62" y="173"/>
                </a:lnTo>
                <a:lnTo>
                  <a:pt x="71" y="171"/>
                </a:lnTo>
                <a:lnTo>
                  <a:pt x="81" y="169"/>
                </a:lnTo>
                <a:lnTo>
                  <a:pt x="92" y="169"/>
                </a:lnTo>
                <a:lnTo>
                  <a:pt x="106" y="167"/>
                </a:lnTo>
                <a:lnTo>
                  <a:pt x="117" y="165"/>
                </a:lnTo>
                <a:lnTo>
                  <a:pt x="131" y="163"/>
                </a:lnTo>
                <a:lnTo>
                  <a:pt x="144" y="161"/>
                </a:lnTo>
                <a:lnTo>
                  <a:pt x="159" y="159"/>
                </a:lnTo>
                <a:lnTo>
                  <a:pt x="173" y="157"/>
                </a:lnTo>
                <a:lnTo>
                  <a:pt x="190" y="155"/>
                </a:lnTo>
                <a:lnTo>
                  <a:pt x="206" y="153"/>
                </a:lnTo>
                <a:lnTo>
                  <a:pt x="223" y="151"/>
                </a:lnTo>
                <a:lnTo>
                  <a:pt x="240" y="150"/>
                </a:lnTo>
                <a:lnTo>
                  <a:pt x="257" y="146"/>
                </a:lnTo>
                <a:lnTo>
                  <a:pt x="277" y="144"/>
                </a:lnTo>
                <a:lnTo>
                  <a:pt x="296" y="142"/>
                </a:lnTo>
                <a:lnTo>
                  <a:pt x="317" y="138"/>
                </a:lnTo>
                <a:lnTo>
                  <a:pt x="336" y="136"/>
                </a:lnTo>
                <a:lnTo>
                  <a:pt x="359" y="132"/>
                </a:lnTo>
                <a:lnTo>
                  <a:pt x="380" y="128"/>
                </a:lnTo>
                <a:lnTo>
                  <a:pt x="403" y="126"/>
                </a:lnTo>
                <a:lnTo>
                  <a:pt x="426" y="123"/>
                </a:lnTo>
                <a:lnTo>
                  <a:pt x="449" y="119"/>
                </a:lnTo>
                <a:lnTo>
                  <a:pt x="474" y="115"/>
                </a:lnTo>
                <a:lnTo>
                  <a:pt x="499" y="111"/>
                </a:lnTo>
                <a:lnTo>
                  <a:pt x="524" y="107"/>
                </a:lnTo>
                <a:lnTo>
                  <a:pt x="551" y="103"/>
                </a:lnTo>
                <a:lnTo>
                  <a:pt x="578" y="100"/>
                </a:lnTo>
                <a:lnTo>
                  <a:pt x="605" y="96"/>
                </a:lnTo>
                <a:lnTo>
                  <a:pt x="634" y="92"/>
                </a:lnTo>
                <a:lnTo>
                  <a:pt x="661" y="88"/>
                </a:lnTo>
                <a:lnTo>
                  <a:pt x="685" y="86"/>
                </a:lnTo>
                <a:lnTo>
                  <a:pt x="710" y="82"/>
                </a:lnTo>
                <a:lnTo>
                  <a:pt x="735" y="78"/>
                </a:lnTo>
                <a:lnTo>
                  <a:pt x="760" y="77"/>
                </a:lnTo>
                <a:lnTo>
                  <a:pt x="783" y="73"/>
                </a:lnTo>
                <a:lnTo>
                  <a:pt x="806" y="69"/>
                </a:lnTo>
                <a:lnTo>
                  <a:pt x="828" y="67"/>
                </a:lnTo>
                <a:lnTo>
                  <a:pt x="849" y="63"/>
                </a:lnTo>
                <a:lnTo>
                  <a:pt x="870" y="61"/>
                </a:lnTo>
                <a:lnTo>
                  <a:pt x="889" y="57"/>
                </a:lnTo>
                <a:lnTo>
                  <a:pt x="908" y="55"/>
                </a:lnTo>
                <a:lnTo>
                  <a:pt x="925" y="52"/>
                </a:lnTo>
                <a:lnTo>
                  <a:pt x="943" y="50"/>
                </a:lnTo>
                <a:lnTo>
                  <a:pt x="960" y="46"/>
                </a:lnTo>
                <a:lnTo>
                  <a:pt x="977" y="44"/>
                </a:lnTo>
                <a:lnTo>
                  <a:pt x="991" y="42"/>
                </a:lnTo>
                <a:lnTo>
                  <a:pt x="1006" y="38"/>
                </a:lnTo>
                <a:lnTo>
                  <a:pt x="1020" y="36"/>
                </a:lnTo>
                <a:lnTo>
                  <a:pt x="1033" y="34"/>
                </a:lnTo>
                <a:lnTo>
                  <a:pt x="1046" y="32"/>
                </a:lnTo>
                <a:lnTo>
                  <a:pt x="1058" y="31"/>
                </a:lnTo>
                <a:lnTo>
                  <a:pt x="1068" y="29"/>
                </a:lnTo>
                <a:lnTo>
                  <a:pt x="1079" y="25"/>
                </a:lnTo>
                <a:lnTo>
                  <a:pt x="1087" y="25"/>
                </a:lnTo>
                <a:lnTo>
                  <a:pt x="1096" y="23"/>
                </a:lnTo>
                <a:lnTo>
                  <a:pt x="1104" y="21"/>
                </a:lnTo>
                <a:lnTo>
                  <a:pt x="1112" y="19"/>
                </a:lnTo>
                <a:lnTo>
                  <a:pt x="1117" y="17"/>
                </a:lnTo>
                <a:lnTo>
                  <a:pt x="1123" y="17"/>
                </a:lnTo>
                <a:lnTo>
                  <a:pt x="1129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38"/>
          <p:cNvSpPr/>
          <p:nvPr/>
        </p:nvSpPr>
        <p:spPr>
          <a:xfrm>
            <a:off x="6489720" y="3267000"/>
            <a:ext cx="390600" cy="311400"/>
          </a:xfrm>
          <a:custGeom>
            <a:avLst/>
            <a:gdLst/>
            <a:ahLst/>
            <a:rect l="l" t="t" r="r" b="b"/>
            <a:pathLst>
              <a:path w="494" h="393">
                <a:moveTo>
                  <a:pt x="311" y="44"/>
                </a:moveTo>
                <a:lnTo>
                  <a:pt x="311" y="38"/>
                </a:lnTo>
                <a:lnTo>
                  <a:pt x="311" y="32"/>
                </a:lnTo>
                <a:lnTo>
                  <a:pt x="313" y="26"/>
                </a:lnTo>
                <a:lnTo>
                  <a:pt x="313" y="23"/>
                </a:lnTo>
                <a:lnTo>
                  <a:pt x="317" y="15"/>
                </a:lnTo>
                <a:lnTo>
                  <a:pt x="321" y="9"/>
                </a:lnTo>
                <a:lnTo>
                  <a:pt x="329" y="3"/>
                </a:lnTo>
                <a:lnTo>
                  <a:pt x="332" y="1"/>
                </a:lnTo>
                <a:lnTo>
                  <a:pt x="336" y="1"/>
                </a:lnTo>
                <a:lnTo>
                  <a:pt x="342" y="0"/>
                </a:lnTo>
                <a:lnTo>
                  <a:pt x="346" y="0"/>
                </a:lnTo>
                <a:lnTo>
                  <a:pt x="352" y="0"/>
                </a:lnTo>
                <a:lnTo>
                  <a:pt x="359" y="0"/>
                </a:lnTo>
                <a:lnTo>
                  <a:pt x="371" y="3"/>
                </a:lnTo>
                <a:lnTo>
                  <a:pt x="384" y="7"/>
                </a:lnTo>
                <a:lnTo>
                  <a:pt x="396" y="13"/>
                </a:lnTo>
                <a:lnTo>
                  <a:pt x="407" y="17"/>
                </a:lnTo>
                <a:lnTo>
                  <a:pt x="419" y="23"/>
                </a:lnTo>
                <a:lnTo>
                  <a:pt x="430" y="28"/>
                </a:lnTo>
                <a:lnTo>
                  <a:pt x="442" y="36"/>
                </a:lnTo>
                <a:lnTo>
                  <a:pt x="455" y="44"/>
                </a:lnTo>
                <a:lnTo>
                  <a:pt x="461" y="51"/>
                </a:lnTo>
                <a:lnTo>
                  <a:pt x="467" y="57"/>
                </a:lnTo>
                <a:lnTo>
                  <a:pt x="473" y="63"/>
                </a:lnTo>
                <a:lnTo>
                  <a:pt x="476" y="69"/>
                </a:lnTo>
                <a:lnTo>
                  <a:pt x="480" y="72"/>
                </a:lnTo>
                <a:lnTo>
                  <a:pt x="484" y="78"/>
                </a:lnTo>
                <a:lnTo>
                  <a:pt x="488" y="84"/>
                </a:lnTo>
                <a:lnTo>
                  <a:pt x="490" y="88"/>
                </a:lnTo>
                <a:lnTo>
                  <a:pt x="492" y="92"/>
                </a:lnTo>
                <a:lnTo>
                  <a:pt x="494" y="95"/>
                </a:lnTo>
                <a:lnTo>
                  <a:pt x="494" y="99"/>
                </a:lnTo>
                <a:lnTo>
                  <a:pt x="494" y="103"/>
                </a:lnTo>
                <a:lnTo>
                  <a:pt x="494" y="105"/>
                </a:lnTo>
                <a:lnTo>
                  <a:pt x="494" y="109"/>
                </a:lnTo>
                <a:lnTo>
                  <a:pt x="492" y="111"/>
                </a:lnTo>
                <a:lnTo>
                  <a:pt x="490" y="113"/>
                </a:lnTo>
                <a:lnTo>
                  <a:pt x="484" y="122"/>
                </a:lnTo>
                <a:lnTo>
                  <a:pt x="478" y="132"/>
                </a:lnTo>
                <a:lnTo>
                  <a:pt x="474" y="138"/>
                </a:lnTo>
                <a:lnTo>
                  <a:pt x="471" y="143"/>
                </a:lnTo>
                <a:lnTo>
                  <a:pt x="465" y="149"/>
                </a:lnTo>
                <a:lnTo>
                  <a:pt x="459" y="157"/>
                </a:lnTo>
                <a:lnTo>
                  <a:pt x="453" y="163"/>
                </a:lnTo>
                <a:lnTo>
                  <a:pt x="448" y="170"/>
                </a:lnTo>
                <a:lnTo>
                  <a:pt x="440" y="176"/>
                </a:lnTo>
                <a:lnTo>
                  <a:pt x="432" y="184"/>
                </a:lnTo>
                <a:lnTo>
                  <a:pt x="425" y="191"/>
                </a:lnTo>
                <a:lnTo>
                  <a:pt x="415" y="199"/>
                </a:lnTo>
                <a:lnTo>
                  <a:pt x="405" y="209"/>
                </a:lnTo>
                <a:lnTo>
                  <a:pt x="396" y="216"/>
                </a:lnTo>
                <a:lnTo>
                  <a:pt x="373" y="234"/>
                </a:lnTo>
                <a:lnTo>
                  <a:pt x="348" y="251"/>
                </a:lnTo>
                <a:lnTo>
                  <a:pt x="323" y="268"/>
                </a:lnTo>
                <a:lnTo>
                  <a:pt x="296" y="284"/>
                </a:lnTo>
                <a:lnTo>
                  <a:pt x="267" y="299"/>
                </a:lnTo>
                <a:lnTo>
                  <a:pt x="252" y="307"/>
                </a:lnTo>
                <a:lnTo>
                  <a:pt x="236" y="314"/>
                </a:lnTo>
                <a:lnTo>
                  <a:pt x="219" y="322"/>
                </a:lnTo>
                <a:lnTo>
                  <a:pt x="204" y="330"/>
                </a:lnTo>
                <a:lnTo>
                  <a:pt x="186" y="335"/>
                </a:lnTo>
                <a:lnTo>
                  <a:pt x="169" y="343"/>
                </a:lnTo>
                <a:lnTo>
                  <a:pt x="150" y="351"/>
                </a:lnTo>
                <a:lnTo>
                  <a:pt x="131" y="358"/>
                </a:lnTo>
                <a:lnTo>
                  <a:pt x="115" y="364"/>
                </a:lnTo>
                <a:lnTo>
                  <a:pt x="100" y="372"/>
                </a:lnTo>
                <a:lnTo>
                  <a:pt x="85" y="376"/>
                </a:lnTo>
                <a:lnTo>
                  <a:pt x="73" y="381"/>
                </a:lnTo>
                <a:lnTo>
                  <a:pt x="60" y="383"/>
                </a:lnTo>
                <a:lnTo>
                  <a:pt x="50" y="387"/>
                </a:lnTo>
                <a:lnTo>
                  <a:pt x="41" y="389"/>
                </a:lnTo>
                <a:lnTo>
                  <a:pt x="33" y="391"/>
                </a:lnTo>
                <a:lnTo>
                  <a:pt x="25" y="393"/>
                </a:lnTo>
                <a:lnTo>
                  <a:pt x="19" y="393"/>
                </a:lnTo>
                <a:lnTo>
                  <a:pt x="14" y="393"/>
                </a:lnTo>
                <a:lnTo>
                  <a:pt x="8" y="391"/>
                </a:lnTo>
                <a:lnTo>
                  <a:pt x="6" y="391"/>
                </a:lnTo>
                <a:lnTo>
                  <a:pt x="2" y="389"/>
                </a:lnTo>
                <a:lnTo>
                  <a:pt x="0" y="385"/>
                </a:lnTo>
                <a:lnTo>
                  <a:pt x="0" y="383"/>
                </a:lnTo>
                <a:lnTo>
                  <a:pt x="2" y="380"/>
                </a:lnTo>
                <a:lnTo>
                  <a:pt x="4" y="376"/>
                </a:lnTo>
                <a:lnTo>
                  <a:pt x="8" y="370"/>
                </a:lnTo>
                <a:lnTo>
                  <a:pt x="14" y="366"/>
                </a:lnTo>
                <a:lnTo>
                  <a:pt x="19" y="360"/>
                </a:lnTo>
                <a:lnTo>
                  <a:pt x="27" y="355"/>
                </a:lnTo>
                <a:lnTo>
                  <a:pt x="35" y="347"/>
                </a:lnTo>
                <a:lnTo>
                  <a:pt x="44" y="339"/>
                </a:lnTo>
                <a:lnTo>
                  <a:pt x="54" y="332"/>
                </a:lnTo>
                <a:lnTo>
                  <a:pt x="66" y="324"/>
                </a:lnTo>
                <a:lnTo>
                  <a:pt x="79" y="314"/>
                </a:lnTo>
                <a:lnTo>
                  <a:pt x="92" y="307"/>
                </a:lnTo>
                <a:lnTo>
                  <a:pt x="106" y="295"/>
                </a:lnTo>
                <a:lnTo>
                  <a:pt x="121" y="286"/>
                </a:lnTo>
                <a:lnTo>
                  <a:pt x="137" y="274"/>
                </a:lnTo>
                <a:lnTo>
                  <a:pt x="150" y="262"/>
                </a:lnTo>
                <a:lnTo>
                  <a:pt x="163" y="253"/>
                </a:lnTo>
                <a:lnTo>
                  <a:pt x="177" y="241"/>
                </a:lnTo>
                <a:lnTo>
                  <a:pt x="188" y="232"/>
                </a:lnTo>
                <a:lnTo>
                  <a:pt x="200" y="222"/>
                </a:lnTo>
                <a:lnTo>
                  <a:pt x="211" y="213"/>
                </a:lnTo>
                <a:lnTo>
                  <a:pt x="223" y="201"/>
                </a:lnTo>
                <a:lnTo>
                  <a:pt x="233" y="191"/>
                </a:lnTo>
                <a:lnTo>
                  <a:pt x="242" y="184"/>
                </a:lnTo>
                <a:lnTo>
                  <a:pt x="250" y="174"/>
                </a:lnTo>
                <a:lnTo>
                  <a:pt x="258" y="167"/>
                </a:lnTo>
                <a:lnTo>
                  <a:pt x="273" y="151"/>
                </a:lnTo>
                <a:lnTo>
                  <a:pt x="281" y="143"/>
                </a:lnTo>
                <a:lnTo>
                  <a:pt x="288" y="136"/>
                </a:lnTo>
                <a:lnTo>
                  <a:pt x="296" y="124"/>
                </a:lnTo>
                <a:lnTo>
                  <a:pt x="304" y="113"/>
                </a:lnTo>
                <a:lnTo>
                  <a:pt x="309" y="101"/>
                </a:lnTo>
                <a:lnTo>
                  <a:pt x="313" y="90"/>
                </a:lnTo>
                <a:lnTo>
                  <a:pt x="315" y="80"/>
                </a:lnTo>
                <a:lnTo>
                  <a:pt x="315" y="74"/>
                </a:lnTo>
                <a:lnTo>
                  <a:pt x="315" y="69"/>
                </a:lnTo>
                <a:lnTo>
                  <a:pt x="315" y="63"/>
                </a:lnTo>
                <a:lnTo>
                  <a:pt x="315" y="57"/>
                </a:lnTo>
                <a:lnTo>
                  <a:pt x="313" y="51"/>
                </a:lnTo>
                <a:lnTo>
                  <a:pt x="311" y="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39"/>
          <p:cNvSpPr/>
          <p:nvPr/>
        </p:nvSpPr>
        <p:spPr>
          <a:xfrm>
            <a:off x="7037280" y="3257640"/>
            <a:ext cx="330480" cy="210960"/>
          </a:xfrm>
          <a:custGeom>
            <a:avLst/>
            <a:gdLst/>
            <a:ahLst/>
            <a:rect l="l" t="t" r="r" b="b"/>
            <a:pathLst>
              <a:path w="417" h="267">
                <a:moveTo>
                  <a:pt x="346" y="90"/>
                </a:moveTo>
                <a:lnTo>
                  <a:pt x="354" y="98"/>
                </a:lnTo>
                <a:lnTo>
                  <a:pt x="361" y="104"/>
                </a:lnTo>
                <a:lnTo>
                  <a:pt x="369" y="109"/>
                </a:lnTo>
                <a:lnTo>
                  <a:pt x="377" y="117"/>
                </a:lnTo>
                <a:lnTo>
                  <a:pt x="382" y="123"/>
                </a:lnTo>
                <a:lnTo>
                  <a:pt x="388" y="131"/>
                </a:lnTo>
                <a:lnTo>
                  <a:pt x="394" y="136"/>
                </a:lnTo>
                <a:lnTo>
                  <a:pt x="398" y="142"/>
                </a:lnTo>
                <a:lnTo>
                  <a:pt x="404" y="150"/>
                </a:lnTo>
                <a:lnTo>
                  <a:pt x="407" y="155"/>
                </a:lnTo>
                <a:lnTo>
                  <a:pt x="409" y="161"/>
                </a:lnTo>
                <a:lnTo>
                  <a:pt x="411" y="169"/>
                </a:lnTo>
                <a:lnTo>
                  <a:pt x="413" y="175"/>
                </a:lnTo>
                <a:lnTo>
                  <a:pt x="415" y="180"/>
                </a:lnTo>
                <a:lnTo>
                  <a:pt x="417" y="188"/>
                </a:lnTo>
                <a:lnTo>
                  <a:pt x="417" y="194"/>
                </a:lnTo>
                <a:lnTo>
                  <a:pt x="417" y="205"/>
                </a:lnTo>
                <a:lnTo>
                  <a:pt x="417" y="217"/>
                </a:lnTo>
                <a:lnTo>
                  <a:pt x="415" y="228"/>
                </a:lnTo>
                <a:lnTo>
                  <a:pt x="415" y="236"/>
                </a:lnTo>
                <a:lnTo>
                  <a:pt x="413" y="246"/>
                </a:lnTo>
                <a:lnTo>
                  <a:pt x="411" y="251"/>
                </a:lnTo>
                <a:lnTo>
                  <a:pt x="409" y="257"/>
                </a:lnTo>
                <a:lnTo>
                  <a:pt x="405" y="263"/>
                </a:lnTo>
                <a:lnTo>
                  <a:pt x="402" y="265"/>
                </a:lnTo>
                <a:lnTo>
                  <a:pt x="398" y="265"/>
                </a:lnTo>
                <a:lnTo>
                  <a:pt x="392" y="267"/>
                </a:lnTo>
                <a:lnTo>
                  <a:pt x="384" y="265"/>
                </a:lnTo>
                <a:lnTo>
                  <a:pt x="377" y="263"/>
                </a:lnTo>
                <a:lnTo>
                  <a:pt x="367" y="261"/>
                </a:lnTo>
                <a:lnTo>
                  <a:pt x="356" y="257"/>
                </a:lnTo>
                <a:lnTo>
                  <a:pt x="342" y="253"/>
                </a:lnTo>
                <a:lnTo>
                  <a:pt x="329" y="248"/>
                </a:lnTo>
                <a:lnTo>
                  <a:pt x="313" y="242"/>
                </a:lnTo>
                <a:lnTo>
                  <a:pt x="296" y="234"/>
                </a:lnTo>
                <a:lnTo>
                  <a:pt x="277" y="226"/>
                </a:lnTo>
                <a:lnTo>
                  <a:pt x="258" y="217"/>
                </a:lnTo>
                <a:lnTo>
                  <a:pt x="236" y="207"/>
                </a:lnTo>
                <a:lnTo>
                  <a:pt x="215" y="196"/>
                </a:lnTo>
                <a:lnTo>
                  <a:pt x="190" y="182"/>
                </a:lnTo>
                <a:lnTo>
                  <a:pt x="167" y="169"/>
                </a:lnTo>
                <a:lnTo>
                  <a:pt x="146" y="157"/>
                </a:lnTo>
                <a:lnTo>
                  <a:pt x="125" y="146"/>
                </a:lnTo>
                <a:lnTo>
                  <a:pt x="106" y="134"/>
                </a:lnTo>
                <a:lnTo>
                  <a:pt x="89" y="123"/>
                </a:lnTo>
                <a:lnTo>
                  <a:pt x="73" y="113"/>
                </a:lnTo>
                <a:lnTo>
                  <a:pt x="60" y="104"/>
                </a:lnTo>
                <a:lnTo>
                  <a:pt x="46" y="94"/>
                </a:lnTo>
                <a:lnTo>
                  <a:pt x="37" y="86"/>
                </a:lnTo>
                <a:lnTo>
                  <a:pt x="27" y="77"/>
                </a:lnTo>
                <a:lnTo>
                  <a:pt x="20" y="69"/>
                </a:lnTo>
                <a:lnTo>
                  <a:pt x="12" y="61"/>
                </a:lnTo>
                <a:lnTo>
                  <a:pt x="8" y="54"/>
                </a:lnTo>
                <a:lnTo>
                  <a:pt x="4" y="46"/>
                </a:lnTo>
                <a:lnTo>
                  <a:pt x="2" y="40"/>
                </a:lnTo>
                <a:lnTo>
                  <a:pt x="0" y="33"/>
                </a:lnTo>
                <a:lnTo>
                  <a:pt x="2" y="25"/>
                </a:lnTo>
                <a:lnTo>
                  <a:pt x="2" y="19"/>
                </a:lnTo>
                <a:lnTo>
                  <a:pt x="6" y="12"/>
                </a:lnTo>
                <a:lnTo>
                  <a:pt x="8" y="8"/>
                </a:lnTo>
                <a:lnTo>
                  <a:pt x="12" y="4"/>
                </a:lnTo>
                <a:lnTo>
                  <a:pt x="16" y="2"/>
                </a:lnTo>
                <a:lnTo>
                  <a:pt x="20" y="0"/>
                </a:lnTo>
                <a:lnTo>
                  <a:pt x="25" y="0"/>
                </a:lnTo>
                <a:lnTo>
                  <a:pt x="27" y="0"/>
                </a:lnTo>
                <a:lnTo>
                  <a:pt x="29" y="0"/>
                </a:lnTo>
                <a:lnTo>
                  <a:pt x="33" y="0"/>
                </a:lnTo>
                <a:lnTo>
                  <a:pt x="39" y="0"/>
                </a:lnTo>
                <a:lnTo>
                  <a:pt x="43" y="0"/>
                </a:lnTo>
                <a:lnTo>
                  <a:pt x="48" y="0"/>
                </a:lnTo>
                <a:lnTo>
                  <a:pt x="56" y="0"/>
                </a:lnTo>
                <a:lnTo>
                  <a:pt x="64" y="0"/>
                </a:lnTo>
                <a:lnTo>
                  <a:pt x="71" y="0"/>
                </a:lnTo>
                <a:lnTo>
                  <a:pt x="81" y="2"/>
                </a:lnTo>
                <a:lnTo>
                  <a:pt x="91" y="2"/>
                </a:lnTo>
                <a:lnTo>
                  <a:pt x="102" y="4"/>
                </a:lnTo>
                <a:lnTo>
                  <a:pt x="114" y="6"/>
                </a:lnTo>
                <a:lnTo>
                  <a:pt x="125" y="6"/>
                </a:lnTo>
                <a:lnTo>
                  <a:pt x="141" y="8"/>
                </a:lnTo>
                <a:lnTo>
                  <a:pt x="156" y="12"/>
                </a:lnTo>
                <a:lnTo>
                  <a:pt x="171" y="13"/>
                </a:lnTo>
                <a:lnTo>
                  <a:pt x="185" y="15"/>
                </a:lnTo>
                <a:lnTo>
                  <a:pt x="200" y="19"/>
                </a:lnTo>
                <a:lnTo>
                  <a:pt x="213" y="23"/>
                </a:lnTo>
                <a:lnTo>
                  <a:pt x="227" y="27"/>
                </a:lnTo>
                <a:lnTo>
                  <a:pt x="240" y="33"/>
                </a:lnTo>
                <a:lnTo>
                  <a:pt x="263" y="42"/>
                </a:lnTo>
                <a:lnTo>
                  <a:pt x="286" y="54"/>
                </a:lnTo>
                <a:lnTo>
                  <a:pt x="308" y="65"/>
                </a:lnTo>
                <a:lnTo>
                  <a:pt x="327" y="77"/>
                </a:lnTo>
                <a:lnTo>
                  <a:pt x="346" y="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0"/>
          <p:cNvSpPr/>
          <p:nvPr/>
        </p:nvSpPr>
        <p:spPr>
          <a:xfrm>
            <a:off x="6510240" y="3675240"/>
            <a:ext cx="177840" cy="347400"/>
          </a:xfrm>
          <a:custGeom>
            <a:avLst/>
            <a:gdLst/>
            <a:ahLst/>
            <a:rect l="l" t="t" r="r" b="b"/>
            <a:pathLst>
              <a:path w="225" h="437">
                <a:moveTo>
                  <a:pt x="190" y="34"/>
                </a:moveTo>
                <a:lnTo>
                  <a:pt x="194" y="71"/>
                </a:lnTo>
                <a:lnTo>
                  <a:pt x="198" y="104"/>
                </a:lnTo>
                <a:lnTo>
                  <a:pt x="202" y="136"/>
                </a:lnTo>
                <a:lnTo>
                  <a:pt x="206" y="167"/>
                </a:lnTo>
                <a:lnTo>
                  <a:pt x="207" y="194"/>
                </a:lnTo>
                <a:lnTo>
                  <a:pt x="211" y="221"/>
                </a:lnTo>
                <a:lnTo>
                  <a:pt x="213" y="246"/>
                </a:lnTo>
                <a:lnTo>
                  <a:pt x="215" y="267"/>
                </a:lnTo>
                <a:lnTo>
                  <a:pt x="219" y="288"/>
                </a:lnTo>
                <a:lnTo>
                  <a:pt x="221" y="307"/>
                </a:lnTo>
                <a:lnTo>
                  <a:pt x="221" y="324"/>
                </a:lnTo>
                <a:lnTo>
                  <a:pt x="223" y="338"/>
                </a:lnTo>
                <a:lnTo>
                  <a:pt x="225" y="351"/>
                </a:lnTo>
                <a:lnTo>
                  <a:pt x="225" y="363"/>
                </a:lnTo>
                <a:lnTo>
                  <a:pt x="225" y="372"/>
                </a:lnTo>
                <a:lnTo>
                  <a:pt x="225" y="380"/>
                </a:lnTo>
                <a:lnTo>
                  <a:pt x="225" y="391"/>
                </a:lnTo>
                <a:lnTo>
                  <a:pt x="223" y="403"/>
                </a:lnTo>
                <a:lnTo>
                  <a:pt x="221" y="413"/>
                </a:lnTo>
                <a:lnTo>
                  <a:pt x="217" y="420"/>
                </a:lnTo>
                <a:lnTo>
                  <a:pt x="213" y="428"/>
                </a:lnTo>
                <a:lnTo>
                  <a:pt x="209" y="432"/>
                </a:lnTo>
                <a:lnTo>
                  <a:pt x="207" y="434"/>
                </a:lnTo>
                <a:lnTo>
                  <a:pt x="206" y="436"/>
                </a:lnTo>
                <a:lnTo>
                  <a:pt x="204" y="436"/>
                </a:lnTo>
                <a:lnTo>
                  <a:pt x="202" y="437"/>
                </a:lnTo>
                <a:lnTo>
                  <a:pt x="196" y="436"/>
                </a:lnTo>
                <a:lnTo>
                  <a:pt x="192" y="434"/>
                </a:lnTo>
                <a:lnTo>
                  <a:pt x="188" y="430"/>
                </a:lnTo>
                <a:lnTo>
                  <a:pt x="183" y="426"/>
                </a:lnTo>
                <a:lnTo>
                  <a:pt x="179" y="420"/>
                </a:lnTo>
                <a:lnTo>
                  <a:pt x="173" y="413"/>
                </a:lnTo>
                <a:lnTo>
                  <a:pt x="169" y="405"/>
                </a:lnTo>
                <a:lnTo>
                  <a:pt x="163" y="395"/>
                </a:lnTo>
                <a:lnTo>
                  <a:pt x="159" y="384"/>
                </a:lnTo>
                <a:lnTo>
                  <a:pt x="154" y="372"/>
                </a:lnTo>
                <a:lnTo>
                  <a:pt x="148" y="359"/>
                </a:lnTo>
                <a:lnTo>
                  <a:pt x="142" y="345"/>
                </a:lnTo>
                <a:lnTo>
                  <a:pt x="136" y="328"/>
                </a:lnTo>
                <a:lnTo>
                  <a:pt x="131" y="313"/>
                </a:lnTo>
                <a:lnTo>
                  <a:pt x="125" y="295"/>
                </a:lnTo>
                <a:lnTo>
                  <a:pt x="119" y="276"/>
                </a:lnTo>
                <a:lnTo>
                  <a:pt x="111" y="257"/>
                </a:lnTo>
                <a:lnTo>
                  <a:pt x="106" y="240"/>
                </a:lnTo>
                <a:lnTo>
                  <a:pt x="98" y="223"/>
                </a:lnTo>
                <a:lnTo>
                  <a:pt x="92" y="207"/>
                </a:lnTo>
                <a:lnTo>
                  <a:pt x="87" y="192"/>
                </a:lnTo>
                <a:lnTo>
                  <a:pt x="79" y="178"/>
                </a:lnTo>
                <a:lnTo>
                  <a:pt x="73" y="167"/>
                </a:lnTo>
                <a:lnTo>
                  <a:pt x="67" y="155"/>
                </a:lnTo>
                <a:lnTo>
                  <a:pt x="62" y="146"/>
                </a:lnTo>
                <a:lnTo>
                  <a:pt x="58" y="136"/>
                </a:lnTo>
                <a:lnTo>
                  <a:pt x="52" y="128"/>
                </a:lnTo>
                <a:lnTo>
                  <a:pt x="48" y="121"/>
                </a:lnTo>
                <a:lnTo>
                  <a:pt x="44" y="115"/>
                </a:lnTo>
                <a:lnTo>
                  <a:pt x="40" y="109"/>
                </a:lnTo>
                <a:lnTo>
                  <a:pt x="37" y="105"/>
                </a:lnTo>
                <a:lnTo>
                  <a:pt x="35" y="104"/>
                </a:lnTo>
                <a:lnTo>
                  <a:pt x="27" y="100"/>
                </a:lnTo>
                <a:lnTo>
                  <a:pt x="19" y="94"/>
                </a:lnTo>
                <a:lnTo>
                  <a:pt x="14" y="86"/>
                </a:lnTo>
                <a:lnTo>
                  <a:pt x="8" y="79"/>
                </a:lnTo>
                <a:lnTo>
                  <a:pt x="4" y="71"/>
                </a:lnTo>
                <a:lnTo>
                  <a:pt x="2" y="63"/>
                </a:lnTo>
                <a:lnTo>
                  <a:pt x="0" y="56"/>
                </a:lnTo>
                <a:lnTo>
                  <a:pt x="0" y="46"/>
                </a:lnTo>
                <a:lnTo>
                  <a:pt x="0" y="38"/>
                </a:lnTo>
                <a:lnTo>
                  <a:pt x="2" y="31"/>
                </a:lnTo>
                <a:lnTo>
                  <a:pt x="4" y="25"/>
                </a:lnTo>
                <a:lnTo>
                  <a:pt x="8" y="19"/>
                </a:lnTo>
                <a:lnTo>
                  <a:pt x="14" y="13"/>
                </a:lnTo>
                <a:lnTo>
                  <a:pt x="19" y="9"/>
                </a:lnTo>
                <a:lnTo>
                  <a:pt x="27" y="6"/>
                </a:lnTo>
                <a:lnTo>
                  <a:pt x="35" y="0"/>
                </a:lnTo>
                <a:lnTo>
                  <a:pt x="40" y="0"/>
                </a:lnTo>
                <a:lnTo>
                  <a:pt x="44" y="2"/>
                </a:lnTo>
                <a:lnTo>
                  <a:pt x="50" y="2"/>
                </a:lnTo>
                <a:lnTo>
                  <a:pt x="58" y="2"/>
                </a:lnTo>
                <a:lnTo>
                  <a:pt x="65" y="4"/>
                </a:lnTo>
                <a:lnTo>
                  <a:pt x="73" y="6"/>
                </a:lnTo>
                <a:lnTo>
                  <a:pt x="81" y="8"/>
                </a:lnTo>
                <a:lnTo>
                  <a:pt x="90" y="9"/>
                </a:lnTo>
                <a:lnTo>
                  <a:pt x="100" y="11"/>
                </a:lnTo>
                <a:lnTo>
                  <a:pt x="110" y="13"/>
                </a:lnTo>
                <a:lnTo>
                  <a:pt x="121" y="17"/>
                </a:lnTo>
                <a:lnTo>
                  <a:pt x="133" y="19"/>
                </a:lnTo>
                <a:lnTo>
                  <a:pt x="146" y="23"/>
                </a:lnTo>
                <a:lnTo>
                  <a:pt x="159" y="27"/>
                </a:lnTo>
                <a:lnTo>
                  <a:pt x="175" y="31"/>
                </a:lnTo>
                <a:lnTo>
                  <a:pt x="190" y="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41"/>
          <p:cNvSpPr/>
          <p:nvPr/>
        </p:nvSpPr>
        <p:spPr>
          <a:xfrm>
            <a:off x="6613560" y="3576600"/>
            <a:ext cx="906480" cy="300240"/>
          </a:xfrm>
          <a:custGeom>
            <a:avLst/>
            <a:gdLst/>
            <a:ahLst/>
            <a:rect l="l" t="t" r="r" b="b"/>
            <a:pathLst>
              <a:path w="1140" h="378">
                <a:moveTo>
                  <a:pt x="1080" y="194"/>
                </a:moveTo>
                <a:lnTo>
                  <a:pt x="1067" y="200"/>
                </a:lnTo>
                <a:lnTo>
                  <a:pt x="1054" y="206"/>
                </a:lnTo>
                <a:lnTo>
                  <a:pt x="1040" y="213"/>
                </a:lnTo>
                <a:lnTo>
                  <a:pt x="1032" y="217"/>
                </a:lnTo>
                <a:lnTo>
                  <a:pt x="1027" y="223"/>
                </a:lnTo>
                <a:lnTo>
                  <a:pt x="1019" y="229"/>
                </a:lnTo>
                <a:lnTo>
                  <a:pt x="1013" y="234"/>
                </a:lnTo>
                <a:lnTo>
                  <a:pt x="1008" y="242"/>
                </a:lnTo>
                <a:lnTo>
                  <a:pt x="1000" y="250"/>
                </a:lnTo>
                <a:lnTo>
                  <a:pt x="994" y="257"/>
                </a:lnTo>
                <a:lnTo>
                  <a:pt x="986" y="267"/>
                </a:lnTo>
                <a:lnTo>
                  <a:pt x="981" y="277"/>
                </a:lnTo>
                <a:lnTo>
                  <a:pt x="973" y="286"/>
                </a:lnTo>
                <a:lnTo>
                  <a:pt x="967" y="298"/>
                </a:lnTo>
                <a:lnTo>
                  <a:pt x="958" y="307"/>
                </a:lnTo>
                <a:lnTo>
                  <a:pt x="948" y="317"/>
                </a:lnTo>
                <a:lnTo>
                  <a:pt x="938" y="324"/>
                </a:lnTo>
                <a:lnTo>
                  <a:pt x="927" y="332"/>
                </a:lnTo>
                <a:lnTo>
                  <a:pt x="913" y="340"/>
                </a:lnTo>
                <a:lnTo>
                  <a:pt x="900" y="348"/>
                </a:lnTo>
                <a:lnTo>
                  <a:pt x="885" y="353"/>
                </a:lnTo>
                <a:lnTo>
                  <a:pt x="867" y="359"/>
                </a:lnTo>
                <a:lnTo>
                  <a:pt x="850" y="365"/>
                </a:lnTo>
                <a:lnTo>
                  <a:pt x="833" y="369"/>
                </a:lnTo>
                <a:lnTo>
                  <a:pt x="814" y="372"/>
                </a:lnTo>
                <a:lnTo>
                  <a:pt x="793" y="374"/>
                </a:lnTo>
                <a:lnTo>
                  <a:pt x="771" y="376"/>
                </a:lnTo>
                <a:lnTo>
                  <a:pt x="748" y="378"/>
                </a:lnTo>
                <a:lnTo>
                  <a:pt x="723" y="378"/>
                </a:lnTo>
                <a:lnTo>
                  <a:pt x="735" y="367"/>
                </a:lnTo>
                <a:lnTo>
                  <a:pt x="745" y="357"/>
                </a:lnTo>
                <a:lnTo>
                  <a:pt x="754" y="346"/>
                </a:lnTo>
                <a:lnTo>
                  <a:pt x="764" y="334"/>
                </a:lnTo>
                <a:lnTo>
                  <a:pt x="781" y="313"/>
                </a:lnTo>
                <a:lnTo>
                  <a:pt x="796" y="292"/>
                </a:lnTo>
                <a:lnTo>
                  <a:pt x="810" y="271"/>
                </a:lnTo>
                <a:lnTo>
                  <a:pt x="823" y="250"/>
                </a:lnTo>
                <a:lnTo>
                  <a:pt x="833" y="227"/>
                </a:lnTo>
                <a:lnTo>
                  <a:pt x="842" y="206"/>
                </a:lnTo>
                <a:lnTo>
                  <a:pt x="846" y="190"/>
                </a:lnTo>
                <a:lnTo>
                  <a:pt x="850" y="175"/>
                </a:lnTo>
                <a:lnTo>
                  <a:pt x="850" y="159"/>
                </a:lnTo>
                <a:lnTo>
                  <a:pt x="852" y="148"/>
                </a:lnTo>
                <a:lnTo>
                  <a:pt x="850" y="136"/>
                </a:lnTo>
                <a:lnTo>
                  <a:pt x="850" y="127"/>
                </a:lnTo>
                <a:lnTo>
                  <a:pt x="848" y="123"/>
                </a:lnTo>
                <a:lnTo>
                  <a:pt x="846" y="119"/>
                </a:lnTo>
                <a:lnTo>
                  <a:pt x="844" y="117"/>
                </a:lnTo>
                <a:lnTo>
                  <a:pt x="842" y="113"/>
                </a:lnTo>
                <a:lnTo>
                  <a:pt x="841" y="113"/>
                </a:lnTo>
                <a:lnTo>
                  <a:pt x="837" y="111"/>
                </a:lnTo>
                <a:lnTo>
                  <a:pt x="833" y="111"/>
                </a:lnTo>
                <a:lnTo>
                  <a:pt x="825" y="111"/>
                </a:lnTo>
                <a:lnTo>
                  <a:pt x="817" y="113"/>
                </a:lnTo>
                <a:lnTo>
                  <a:pt x="808" y="113"/>
                </a:lnTo>
                <a:lnTo>
                  <a:pt x="798" y="115"/>
                </a:lnTo>
                <a:lnTo>
                  <a:pt x="785" y="115"/>
                </a:lnTo>
                <a:lnTo>
                  <a:pt x="771" y="117"/>
                </a:lnTo>
                <a:lnTo>
                  <a:pt x="756" y="119"/>
                </a:lnTo>
                <a:lnTo>
                  <a:pt x="739" y="121"/>
                </a:lnTo>
                <a:lnTo>
                  <a:pt x="720" y="125"/>
                </a:lnTo>
                <a:lnTo>
                  <a:pt x="700" y="129"/>
                </a:lnTo>
                <a:lnTo>
                  <a:pt x="677" y="131"/>
                </a:lnTo>
                <a:lnTo>
                  <a:pt x="654" y="134"/>
                </a:lnTo>
                <a:lnTo>
                  <a:pt x="629" y="138"/>
                </a:lnTo>
                <a:lnTo>
                  <a:pt x="604" y="144"/>
                </a:lnTo>
                <a:lnTo>
                  <a:pt x="576" y="148"/>
                </a:lnTo>
                <a:lnTo>
                  <a:pt x="547" y="154"/>
                </a:lnTo>
                <a:lnTo>
                  <a:pt x="516" y="159"/>
                </a:lnTo>
                <a:lnTo>
                  <a:pt x="485" y="165"/>
                </a:lnTo>
                <a:lnTo>
                  <a:pt x="451" y="171"/>
                </a:lnTo>
                <a:lnTo>
                  <a:pt x="416" y="177"/>
                </a:lnTo>
                <a:lnTo>
                  <a:pt x="380" y="184"/>
                </a:lnTo>
                <a:lnTo>
                  <a:pt x="341" y="192"/>
                </a:lnTo>
                <a:lnTo>
                  <a:pt x="303" y="200"/>
                </a:lnTo>
                <a:lnTo>
                  <a:pt x="261" y="207"/>
                </a:lnTo>
                <a:lnTo>
                  <a:pt x="219" y="215"/>
                </a:lnTo>
                <a:lnTo>
                  <a:pt x="174" y="223"/>
                </a:lnTo>
                <a:lnTo>
                  <a:pt x="130" y="232"/>
                </a:lnTo>
                <a:lnTo>
                  <a:pt x="82" y="242"/>
                </a:lnTo>
                <a:lnTo>
                  <a:pt x="34" y="252"/>
                </a:lnTo>
                <a:lnTo>
                  <a:pt x="17" y="206"/>
                </a:lnTo>
                <a:lnTo>
                  <a:pt x="0" y="159"/>
                </a:lnTo>
                <a:lnTo>
                  <a:pt x="15" y="159"/>
                </a:lnTo>
                <a:lnTo>
                  <a:pt x="34" y="159"/>
                </a:lnTo>
                <a:lnTo>
                  <a:pt x="53" y="158"/>
                </a:lnTo>
                <a:lnTo>
                  <a:pt x="75" y="156"/>
                </a:lnTo>
                <a:lnTo>
                  <a:pt x="98" y="154"/>
                </a:lnTo>
                <a:lnTo>
                  <a:pt x="123" y="150"/>
                </a:lnTo>
                <a:lnTo>
                  <a:pt x="148" y="148"/>
                </a:lnTo>
                <a:lnTo>
                  <a:pt x="176" y="142"/>
                </a:lnTo>
                <a:lnTo>
                  <a:pt x="205" y="138"/>
                </a:lnTo>
                <a:lnTo>
                  <a:pt x="236" y="133"/>
                </a:lnTo>
                <a:lnTo>
                  <a:pt x="268" y="129"/>
                </a:lnTo>
                <a:lnTo>
                  <a:pt x="301" y="121"/>
                </a:lnTo>
                <a:lnTo>
                  <a:pt x="336" y="115"/>
                </a:lnTo>
                <a:lnTo>
                  <a:pt x="374" y="108"/>
                </a:lnTo>
                <a:lnTo>
                  <a:pt x="411" y="100"/>
                </a:lnTo>
                <a:lnTo>
                  <a:pt x="451" y="92"/>
                </a:lnTo>
                <a:lnTo>
                  <a:pt x="470" y="88"/>
                </a:lnTo>
                <a:lnTo>
                  <a:pt x="487" y="85"/>
                </a:lnTo>
                <a:lnTo>
                  <a:pt x="505" y="81"/>
                </a:lnTo>
                <a:lnTo>
                  <a:pt x="522" y="79"/>
                </a:lnTo>
                <a:lnTo>
                  <a:pt x="539" y="75"/>
                </a:lnTo>
                <a:lnTo>
                  <a:pt x="554" y="71"/>
                </a:lnTo>
                <a:lnTo>
                  <a:pt x="572" y="69"/>
                </a:lnTo>
                <a:lnTo>
                  <a:pt x="587" y="65"/>
                </a:lnTo>
                <a:lnTo>
                  <a:pt x="601" y="62"/>
                </a:lnTo>
                <a:lnTo>
                  <a:pt x="616" y="60"/>
                </a:lnTo>
                <a:lnTo>
                  <a:pt x="629" y="56"/>
                </a:lnTo>
                <a:lnTo>
                  <a:pt x="643" y="54"/>
                </a:lnTo>
                <a:lnTo>
                  <a:pt x="656" y="50"/>
                </a:lnTo>
                <a:lnTo>
                  <a:pt x="668" y="48"/>
                </a:lnTo>
                <a:lnTo>
                  <a:pt x="679" y="44"/>
                </a:lnTo>
                <a:lnTo>
                  <a:pt x="691" y="42"/>
                </a:lnTo>
                <a:lnTo>
                  <a:pt x="702" y="40"/>
                </a:lnTo>
                <a:lnTo>
                  <a:pt x="712" y="37"/>
                </a:lnTo>
                <a:lnTo>
                  <a:pt x="722" y="35"/>
                </a:lnTo>
                <a:lnTo>
                  <a:pt x="731" y="33"/>
                </a:lnTo>
                <a:lnTo>
                  <a:pt x="741" y="29"/>
                </a:lnTo>
                <a:lnTo>
                  <a:pt x="748" y="27"/>
                </a:lnTo>
                <a:lnTo>
                  <a:pt x="758" y="25"/>
                </a:lnTo>
                <a:lnTo>
                  <a:pt x="764" y="23"/>
                </a:lnTo>
                <a:lnTo>
                  <a:pt x="771" y="21"/>
                </a:lnTo>
                <a:lnTo>
                  <a:pt x="779" y="19"/>
                </a:lnTo>
                <a:lnTo>
                  <a:pt x="785" y="17"/>
                </a:lnTo>
                <a:lnTo>
                  <a:pt x="791" y="15"/>
                </a:lnTo>
                <a:lnTo>
                  <a:pt x="794" y="15"/>
                </a:lnTo>
                <a:lnTo>
                  <a:pt x="800" y="14"/>
                </a:lnTo>
                <a:lnTo>
                  <a:pt x="804" y="12"/>
                </a:lnTo>
                <a:lnTo>
                  <a:pt x="808" y="12"/>
                </a:lnTo>
                <a:lnTo>
                  <a:pt x="819" y="8"/>
                </a:lnTo>
                <a:lnTo>
                  <a:pt x="831" y="4"/>
                </a:lnTo>
                <a:lnTo>
                  <a:pt x="842" y="2"/>
                </a:lnTo>
                <a:lnTo>
                  <a:pt x="852" y="0"/>
                </a:lnTo>
                <a:lnTo>
                  <a:pt x="864" y="0"/>
                </a:lnTo>
                <a:lnTo>
                  <a:pt x="871" y="0"/>
                </a:lnTo>
                <a:lnTo>
                  <a:pt x="890" y="0"/>
                </a:lnTo>
                <a:lnTo>
                  <a:pt x="894" y="2"/>
                </a:lnTo>
                <a:lnTo>
                  <a:pt x="900" y="4"/>
                </a:lnTo>
                <a:lnTo>
                  <a:pt x="906" y="8"/>
                </a:lnTo>
                <a:lnTo>
                  <a:pt x="912" y="10"/>
                </a:lnTo>
                <a:lnTo>
                  <a:pt x="919" y="14"/>
                </a:lnTo>
                <a:lnTo>
                  <a:pt x="927" y="17"/>
                </a:lnTo>
                <a:lnTo>
                  <a:pt x="935" y="21"/>
                </a:lnTo>
                <a:lnTo>
                  <a:pt x="944" y="25"/>
                </a:lnTo>
                <a:lnTo>
                  <a:pt x="954" y="29"/>
                </a:lnTo>
                <a:lnTo>
                  <a:pt x="963" y="35"/>
                </a:lnTo>
                <a:lnTo>
                  <a:pt x="973" y="39"/>
                </a:lnTo>
                <a:lnTo>
                  <a:pt x="985" y="44"/>
                </a:lnTo>
                <a:lnTo>
                  <a:pt x="996" y="50"/>
                </a:lnTo>
                <a:lnTo>
                  <a:pt x="1008" y="56"/>
                </a:lnTo>
                <a:lnTo>
                  <a:pt x="1019" y="62"/>
                </a:lnTo>
                <a:lnTo>
                  <a:pt x="1032" y="69"/>
                </a:lnTo>
                <a:lnTo>
                  <a:pt x="1046" y="77"/>
                </a:lnTo>
                <a:lnTo>
                  <a:pt x="1057" y="85"/>
                </a:lnTo>
                <a:lnTo>
                  <a:pt x="1069" y="92"/>
                </a:lnTo>
                <a:lnTo>
                  <a:pt x="1079" y="100"/>
                </a:lnTo>
                <a:lnTo>
                  <a:pt x="1088" y="108"/>
                </a:lnTo>
                <a:lnTo>
                  <a:pt x="1098" y="115"/>
                </a:lnTo>
                <a:lnTo>
                  <a:pt x="1105" y="121"/>
                </a:lnTo>
                <a:lnTo>
                  <a:pt x="1113" y="127"/>
                </a:lnTo>
                <a:lnTo>
                  <a:pt x="1119" y="133"/>
                </a:lnTo>
                <a:lnTo>
                  <a:pt x="1125" y="138"/>
                </a:lnTo>
                <a:lnTo>
                  <a:pt x="1128" y="142"/>
                </a:lnTo>
                <a:lnTo>
                  <a:pt x="1132" y="148"/>
                </a:lnTo>
                <a:lnTo>
                  <a:pt x="1136" y="152"/>
                </a:lnTo>
                <a:lnTo>
                  <a:pt x="1138" y="154"/>
                </a:lnTo>
                <a:lnTo>
                  <a:pt x="1140" y="158"/>
                </a:lnTo>
                <a:lnTo>
                  <a:pt x="1140" y="159"/>
                </a:lnTo>
                <a:lnTo>
                  <a:pt x="1140" y="161"/>
                </a:lnTo>
                <a:lnTo>
                  <a:pt x="1138" y="165"/>
                </a:lnTo>
                <a:lnTo>
                  <a:pt x="1138" y="167"/>
                </a:lnTo>
                <a:lnTo>
                  <a:pt x="1136" y="169"/>
                </a:lnTo>
                <a:lnTo>
                  <a:pt x="1132" y="171"/>
                </a:lnTo>
                <a:lnTo>
                  <a:pt x="1130" y="173"/>
                </a:lnTo>
                <a:lnTo>
                  <a:pt x="1123" y="177"/>
                </a:lnTo>
                <a:lnTo>
                  <a:pt x="1115" y="181"/>
                </a:lnTo>
                <a:lnTo>
                  <a:pt x="1105" y="186"/>
                </a:lnTo>
                <a:lnTo>
                  <a:pt x="1094" y="190"/>
                </a:lnTo>
                <a:lnTo>
                  <a:pt x="1080" y="1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42"/>
          <p:cNvSpPr/>
          <p:nvPr/>
        </p:nvSpPr>
        <p:spPr>
          <a:xfrm>
            <a:off x="6661080" y="3835440"/>
            <a:ext cx="706680" cy="158760"/>
          </a:xfrm>
          <a:custGeom>
            <a:avLst/>
            <a:gdLst/>
            <a:ahLst/>
            <a:rect l="l" t="t" r="r" b="b"/>
            <a:pathLst>
              <a:path w="891" h="202">
                <a:moveTo>
                  <a:pt x="868" y="29"/>
                </a:moveTo>
                <a:lnTo>
                  <a:pt x="872" y="33"/>
                </a:lnTo>
                <a:lnTo>
                  <a:pt x="876" y="39"/>
                </a:lnTo>
                <a:lnTo>
                  <a:pt x="879" y="45"/>
                </a:lnTo>
                <a:lnTo>
                  <a:pt x="883" y="52"/>
                </a:lnTo>
                <a:lnTo>
                  <a:pt x="885" y="58"/>
                </a:lnTo>
                <a:lnTo>
                  <a:pt x="889" y="64"/>
                </a:lnTo>
                <a:lnTo>
                  <a:pt x="889" y="70"/>
                </a:lnTo>
                <a:lnTo>
                  <a:pt x="891" y="75"/>
                </a:lnTo>
                <a:lnTo>
                  <a:pt x="668" y="106"/>
                </a:lnTo>
                <a:lnTo>
                  <a:pt x="446" y="139"/>
                </a:lnTo>
                <a:lnTo>
                  <a:pt x="223" y="169"/>
                </a:lnTo>
                <a:lnTo>
                  <a:pt x="0" y="202"/>
                </a:lnTo>
                <a:lnTo>
                  <a:pt x="0" y="156"/>
                </a:lnTo>
                <a:lnTo>
                  <a:pt x="0" y="110"/>
                </a:lnTo>
                <a:lnTo>
                  <a:pt x="41" y="104"/>
                </a:lnTo>
                <a:lnTo>
                  <a:pt x="79" y="98"/>
                </a:lnTo>
                <a:lnTo>
                  <a:pt x="117" y="94"/>
                </a:lnTo>
                <a:lnTo>
                  <a:pt x="156" y="89"/>
                </a:lnTo>
                <a:lnTo>
                  <a:pt x="192" y="83"/>
                </a:lnTo>
                <a:lnTo>
                  <a:pt x="227" y="79"/>
                </a:lnTo>
                <a:lnTo>
                  <a:pt x="261" y="75"/>
                </a:lnTo>
                <a:lnTo>
                  <a:pt x="296" y="70"/>
                </a:lnTo>
                <a:lnTo>
                  <a:pt x="327" y="66"/>
                </a:lnTo>
                <a:lnTo>
                  <a:pt x="359" y="62"/>
                </a:lnTo>
                <a:lnTo>
                  <a:pt x="388" y="58"/>
                </a:lnTo>
                <a:lnTo>
                  <a:pt x="417" y="54"/>
                </a:lnTo>
                <a:lnTo>
                  <a:pt x="446" y="50"/>
                </a:lnTo>
                <a:lnTo>
                  <a:pt x="472" y="46"/>
                </a:lnTo>
                <a:lnTo>
                  <a:pt x="497" y="43"/>
                </a:lnTo>
                <a:lnTo>
                  <a:pt x="522" y="41"/>
                </a:lnTo>
                <a:lnTo>
                  <a:pt x="545" y="37"/>
                </a:lnTo>
                <a:lnTo>
                  <a:pt x="568" y="33"/>
                </a:lnTo>
                <a:lnTo>
                  <a:pt x="590" y="31"/>
                </a:lnTo>
                <a:lnTo>
                  <a:pt x="609" y="29"/>
                </a:lnTo>
                <a:lnTo>
                  <a:pt x="628" y="25"/>
                </a:lnTo>
                <a:lnTo>
                  <a:pt x="645" y="23"/>
                </a:lnTo>
                <a:lnTo>
                  <a:pt x="663" y="22"/>
                </a:lnTo>
                <a:lnTo>
                  <a:pt x="678" y="20"/>
                </a:lnTo>
                <a:lnTo>
                  <a:pt x="691" y="16"/>
                </a:lnTo>
                <a:lnTo>
                  <a:pt x="705" y="14"/>
                </a:lnTo>
                <a:lnTo>
                  <a:pt x="718" y="14"/>
                </a:lnTo>
                <a:lnTo>
                  <a:pt x="728" y="12"/>
                </a:lnTo>
                <a:lnTo>
                  <a:pt x="737" y="10"/>
                </a:lnTo>
                <a:lnTo>
                  <a:pt x="747" y="8"/>
                </a:lnTo>
                <a:lnTo>
                  <a:pt x="755" y="6"/>
                </a:lnTo>
                <a:lnTo>
                  <a:pt x="760" y="6"/>
                </a:lnTo>
                <a:lnTo>
                  <a:pt x="770" y="4"/>
                </a:lnTo>
                <a:lnTo>
                  <a:pt x="782" y="2"/>
                </a:lnTo>
                <a:lnTo>
                  <a:pt x="791" y="2"/>
                </a:lnTo>
                <a:lnTo>
                  <a:pt x="801" y="0"/>
                </a:lnTo>
                <a:lnTo>
                  <a:pt x="808" y="0"/>
                </a:lnTo>
                <a:lnTo>
                  <a:pt x="816" y="2"/>
                </a:lnTo>
                <a:lnTo>
                  <a:pt x="824" y="2"/>
                </a:lnTo>
                <a:lnTo>
                  <a:pt x="831" y="4"/>
                </a:lnTo>
                <a:lnTo>
                  <a:pt x="837" y="6"/>
                </a:lnTo>
                <a:lnTo>
                  <a:pt x="843" y="8"/>
                </a:lnTo>
                <a:lnTo>
                  <a:pt x="849" y="10"/>
                </a:lnTo>
                <a:lnTo>
                  <a:pt x="853" y="14"/>
                </a:lnTo>
                <a:lnTo>
                  <a:pt x="858" y="18"/>
                </a:lnTo>
                <a:lnTo>
                  <a:pt x="862" y="22"/>
                </a:lnTo>
                <a:lnTo>
                  <a:pt x="864" y="25"/>
                </a:lnTo>
                <a:lnTo>
                  <a:pt x="868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43"/>
          <p:cNvSpPr/>
          <p:nvPr/>
        </p:nvSpPr>
        <p:spPr>
          <a:xfrm>
            <a:off x="6462720" y="4121280"/>
            <a:ext cx="179280" cy="447480"/>
          </a:xfrm>
          <a:custGeom>
            <a:avLst/>
            <a:gdLst/>
            <a:ahLst/>
            <a:rect l="l" t="t" r="r" b="b"/>
            <a:pathLst>
              <a:path w="224" h="565">
                <a:moveTo>
                  <a:pt x="34" y="115"/>
                </a:moveTo>
                <a:lnTo>
                  <a:pt x="27" y="110"/>
                </a:lnTo>
                <a:lnTo>
                  <a:pt x="19" y="104"/>
                </a:lnTo>
                <a:lnTo>
                  <a:pt x="13" y="98"/>
                </a:lnTo>
                <a:lnTo>
                  <a:pt x="7" y="89"/>
                </a:lnTo>
                <a:lnTo>
                  <a:pt x="3" y="81"/>
                </a:lnTo>
                <a:lnTo>
                  <a:pt x="2" y="69"/>
                </a:lnTo>
                <a:lnTo>
                  <a:pt x="0" y="58"/>
                </a:lnTo>
                <a:lnTo>
                  <a:pt x="0" y="46"/>
                </a:lnTo>
                <a:lnTo>
                  <a:pt x="0" y="41"/>
                </a:lnTo>
                <a:lnTo>
                  <a:pt x="0" y="35"/>
                </a:lnTo>
                <a:lnTo>
                  <a:pt x="0" y="29"/>
                </a:lnTo>
                <a:lnTo>
                  <a:pt x="2" y="25"/>
                </a:lnTo>
                <a:lnTo>
                  <a:pt x="3" y="18"/>
                </a:lnTo>
                <a:lnTo>
                  <a:pt x="9" y="10"/>
                </a:lnTo>
                <a:lnTo>
                  <a:pt x="15" y="6"/>
                </a:lnTo>
                <a:lnTo>
                  <a:pt x="19" y="4"/>
                </a:lnTo>
                <a:lnTo>
                  <a:pt x="25" y="2"/>
                </a:lnTo>
                <a:lnTo>
                  <a:pt x="28" y="2"/>
                </a:lnTo>
                <a:lnTo>
                  <a:pt x="34" y="2"/>
                </a:lnTo>
                <a:lnTo>
                  <a:pt x="40" y="0"/>
                </a:lnTo>
                <a:lnTo>
                  <a:pt x="46" y="0"/>
                </a:lnTo>
                <a:lnTo>
                  <a:pt x="59" y="4"/>
                </a:lnTo>
                <a:lnTo>
                  <a:pt x="71" y="8"/>
                </a:lnTo>
                <a:lnTo>
                  <a:pt x="82" y="10"/>
                </a:lnTo>
                <a:lnTo>
                  <a:pt x="94" y="12"/>
                </a:lnTo>
                <a:lnTo>
                  <a:pt x="105" y="14"/>
                </a:lnTo>
                <a:lnTo>
                  <a:pt x="117" y="16"/>
                </a:lnTo>
                <a:lnTo>
                  <a:pt x="128" y="19"/>
                </a:lnTo>
                <a:lnTo>
                  <a:pt x="142" y="23"/>
                </a:lnTo>
                <a:lnTo>
                  <a:pt x="153" y="27"/>
                </a:lnTo>
                <a:lnTo>
                  <a:pt x="167" y="33"/>
                </a:lnTo>
                <a:lnTo>
                  <a:pt x="176" y="37"/>
                </a:lnTo>
                <a:lnTo>
                  <a:pt x="186" y="41"/>
                </a:lnTo>
                <a:lnTo>
                  <a:pt x="194" y="44"/>
                </a:lnTo>
                <a:lnTo>
                  <a:pt x="201" y="50"/>
                </a:lnTo>
                <a:lnTo>
                  <a:pt x="207" y="54"/>
                </a:lnTo>
                <a:lnTo>
                  <a:pt x="213" y="58"/>
                </a:lnTo>
                <a:lnTo>
                  <a:pt x="215" y="64"/>
                </a:lnTo>
                <a:lnTo>
                  <a:pt x="217" y="69"/>
                </a:lnTo>
                <a:lnTo>
                  <a:pt x="218" y="79"/>
                </a:lnTo>
                <a:lnTo>
                  <a:pt x="220" y="89"/>
                </a:lnTo>
                <a:lnTo>
                  <a:pt x="220" y="100"/>
                </a:lnTo>
                <a:lnTo>
                  <a:pt x="222" y="112"/>
                </a:lnTo>
                <a:lnTo>
                  <a:pt x="222" y="127"/>
                </a:lnTo>
                <a:lnTo>
                  <a:pt x="222" y="142"/>
                </a:lnTo>
                <a:lnTo>
                  <a:pt x="224" y="160"/>
                </a:lnTo>
                <a:lnTo>
                  <a:pt x="224" y="179"/>
                </a:lnTo>
                <a:lnTo>
                  <a:pt x="224" y="200"/>
                </a:lnTo>
                <a:lnTo>
                  <a:pt x="224" y="221"/>
                </a:lnTo>
                <a:lnTo>
                  <a:pt x="224" y="244"/>
                </a:lnTo>
                <a:lnTo>
                  <a:pt x="224" y="269"/>
                </a:lnTo>
                <a:lnTo>
                  <a:pt x="224" y="294"/>
                </a:lnTo>
                <a:lnTo>
                  <a:pt x="224" y="323"/>
                </a:lnTo>
                <a:lnTo>
                  <a:pt x="224" y="350"/>
                </a:lnTo>
                <a:lnTo>
                  <a:pt x="224" y="374"/>
                </a:lnTo>
                <a:lnTo>
                  <a:pt x="224" y="398"/>
                </a:lnTo>
                <a:lnTo>
                  <a:pt x="222" y="421"/>
                </a:lnTo>
                <a:lnTo>
                  <a:pt x="220" y="442"/>
                </a:lnTo>
                <a:lnTo>
                  <a:pt x="220" y="461"/>
                </a:lnTo>
                <a:lnTo>
                  <a:pt x="218" y="478"/>
                </a:lnTo>
                <a:lnTo>
                  <a:pt x="217" y="493"/>
                </a:lnTo>
                <a:lnTo>
                  <a:pt x="213" y="509"/>
                </a:lnTo>
                <a:lnTo>
                  <a:pt x="211" y="520"/>
                </a:lnTo>
                <a:lnTo>
                  <a:pt x="207" y="532"/>
                </a:lnTo>
                <a:lnTo>
                  <a:pt x="205" y="541"/>
                </a:lnTo>
                <a:lnTo>
                  <a:pt x="201" y="549"/>
                </a:lnTo>
                <a:lnTo>
                  <a:pt x="197" y="555"/>
                </a:lnTo>
                <a:lnTo>
                  <a:pt x="194" y="559"/>
                </a:lnTo>
                <a:lnTo>
                  <a:pt x="190" y="563"/>
                </a:lnTo>
                <a:lnTo>
                  <a:pt x="184" y="565"/>
                </a:lnTo>
                <a:lnTo>
                  <a:pt x="180" y="565"/>
                </a:lnTo>
                <a:lnTo>
                  <a:pt x="176" y="565"/>
                </a:lnTo>
                <a:lnTo>
                  <a:pt x="170" y="563"/>
                </a:lnTo>
                <a:lnTo>
                  <a:pt x="167" y="559"/>
                </a:lnTo>
                <a:lnTo>
                  <a:pt x="163" y="555"/>
                </a:lnTo>
                <a:lnTo>
                  <a:pt x="159" y="549"/>
                </a:lnTo>
                <a:lnTo>
                  <a:pt x="155" y="543"/>
                </a:lnTo>
                <a:lnTo>
                  <a:pt x="151" y="534"/>
                </a:lnTo>
                <a:lnTo>
                  <a:pt x="147" y="524"/>
                </a:lnTo>
                <a:lnTo>
                  <a:pt x="144" y="515"/>
                </a:lnTo>
                <a:lnTo>
                  <a:pt x="140" y="501"/>
                </a:lnTo>
                <a:lnTo>
                  <a:pt x="138" y="488"/>
                </a:lnTo>
                <a:lnTo>
                  <a:pt x="134" y="472"/>
                </a:lnTo>
                <a:lnTo>
                  <a:pt x="132" y="455"/>
                </a:lnTo>
                <a:lnTo>
                  <a:pt x="130" y="436"/>
                </a:lnTo>
                <a:lnTo>
                  <a:pt x="121" y="403"/>
                </a:lnTo>
                <a:lnTo>
                  <a:pt x="115" y="371"/>
                </a:lnTo>
                <a:lnTo>
                  <a:pt x="107" y="338"/>
                </a:lnTo>
                <a:lnTo>
                  <a:pt x="101" y="309"/>
                </a:lnTo>
                <a:lnTo>
                  <a:pt x="96" y="280"/>
                </a:lnTo>
                <a:lnTo>
                  <a:pt x="92" y="254"/>
                </a:lnTo>
                <a:lnTo>
                  <a:pt x="88" y="242"/>
                </a:lnTo>
                <a:lnTo>
                  <a:pt x="86" y="229"/>
                </a:lnTo>
                <a:lnTo>
                  <a:pt x="84" y="217"/>
                </a:lnTo>
                <a:lnTo>
                  <a:pt x="82" y="208"/>
                </a:lnTo>
                <a:lnTo>
                  <a:pt x="80" y="196"/>
                </a:lnTo>
                <a:lnTo>
                  <a:pt x="78" y="186"/>
                </a:lnTo>
                <a:lnTo>
                  <a:pt x="74" y="179"/>
                </a:lnTo>
                <a:lnTo>
                  <a:pt x="73" y="169"/>
                </a:lnTo>
                <a:lnTo>
                  <a:pt x="71" y="163"/>
                </a:lnTo>
                <a:lnTo>
                  <a:pt x="69" y="156"/>
                </a:lnTo>
                <a:lnTo>
                  <a:pt x="65" y="150"/>
                </a:lnTo>
                <a:lnTo>
                  <a:pt x="63" y="144"/>
                </a:lnTo>
                <a:lnTo>
                  <a:pt x="59" y="138"/>
                </a:lnTo>
                <a:lnTo>
                  <a:pt x="57" y="135"/>
                </a:lnTo>
                <a:lnTo>
                  <a:pt x="50" y="127"/>
                </a:lnTo>
                <a:lnTo>
                  <a:pt x="44" y="121"/>
                </a:lnTo>
                <a:lnTo>
                  <a:pt x="34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44"/>
          <p:cNvSpPr/>
          <p:nvPr/>
        </p:nvSpPr>
        <p:spPr>
          <a:xfrm>
            <a:off x="6585120" y="4041720"/>
            <a:ext cx="1009440" cy="344520"/>
          </a:xfrm>
          <a:custGeom>
            <a:avLst/>
            <a:gdLst/>
            <a:ahLst/>
            <a:rect l="l" t="t" r="r" b="b"/>
            <a:pathLst>
              <a:path w="1271" h="434">
                <a:moveTo>
                  <a:pt x="1010" y="8"/>
                </a:moveTo>
                <a:lnTo>
                  <a:pt x="1016" y="8"/>
                </a:lnTo>
                <a:lnTo>
                  <a:pt x="1020" y="10"/>
                </a:lnTo>
                <a:lnTo>
                  <a:pt x="1027" y="10"/>
                </a:lnTo>
                <a:lnTo>
                  <a:pt x="1033" y="12"/>
                </a:lnTo>
                <a:lnTo>
                  <a:pt x="1041" y="16"/>
                </a:lnTo>
                <a:lnTo>
                  <a:pt x="1048" y="18"/>
                </a:lnTo>
                <a:lnTo>
                  <a:pt x="1056" y="22"/>
                </a:lnTo>
                <a:lnTo>
                  <a:pt x="1066" y="23"/>
                </a:lnTo>
                <a:lnTo>
                  <a:pt x="1075" y="27"/>
                </a:lnTo>
                <a:lnTo>
                  <a:pt x="1087" y="33"/>
                </a:lnTo>
                <a:lnTo>
                  <a:pt x="1096" y="37"/>
                </a:lnTo>
                <a:lnTo>
                  <a:pt x="1110" y="43"/>
                </a:lnTo>
                <a:lnTo>
                  <a:pt x="1121" y="48"/>
                </a:lnTo>
                <a:lnTo>
                  <a:pt x="1135" y="54"/>
                </a:lnTo>
                <a:lnTo>
                  <a:pt x="1150" y="60"/>
                </a:lnTo>
                <a:lnTo>
                  <a:pt x="1165" y="66"/>
                </a:lnTo>
                <a:lnTo>
                  <a:pt x="1177" y="75"/>
                </a:lnTo>
                <a:lnTo>
                  <a:pt x="1190" y="83"/>
                </a:lnTo>
                <a:lnTo>
                  <a:pt x="1202" y="91"/>
                </a:lnTo>
                <a:lnTo>
                  <a:pt x="1212" y="98"/>
                </a:lnTo>
                <a:lnTo>
                  <a:pt x="1221" y="106"/>
                </a:lnTo>
                <a:lnTo>
                  <a:pt x="1229" y="112"/>
                </a:lnTo>
                <a:lnTo>
                  <a:pt x="1238" y="119"/>
                </a:lnTo>
                <a:lnTo>
                  <a:pt x="1244" y="125"/>
                </a:lnTo>
                <a:lnTo>
                  <a:pt x="1252" y="131"/>
                </a:lnTo>
                <a:lnTo>
                  <a:pt x="1256" y="137"/>
                </a:lnTo>
                <a:lnTo>
                  <a:pt x="1261" y="141"/>
                </a:lnTo>
                <a:lnTo>
                  <a:pt x="1265" y="144"/>
                </a:lnTo>
                <a:lnTo>
                  <a:pt x="1267" y="148"/>
                </a:lnTo>
                <a:lnTo>
                  <a:pt x="1269" y="152"/>
                </a:lnTo>
                <a:lnTo>
                  <a:pt x="1271" y="156"/>
                </a:lnTo>
                <a:lnTo>
                  <a:pt x="1271" y="158"/>
                </a:lnTo>
                <a:lnTo>
                  <a:pt x="1271" y="160"/>
                </a:lnTo>
                <a:lnTo>
                  <a:pt x="1271" y="162"/>
                </a:lnTo>
                <a:lnTo>
                  <a:pt x="1269" y="164"/>
                </a:lnTo>
                <a:lnTo>
                  <a:pt x="1267" y="167"/>
                </a:lnTo>
                <a:lnTo>
                  <a:pt x="1265" y="169"/>
                </a:lnTo>
                <a:lnTo>
                  <a:pt x="1261" y="171"/>
                </a:lnTo>
                <a:lnTo>
                  <a:pt x="1256" y="175"/>
                </a:lnTo>
                <a:lnTo>
                  <a:pt x="1246" y="179"/>
                </a:lnTo>
                <a:lnTo>
                  <a:pt x="1237" y="185"/>
                </a:lnTo>
                <a:lnTo>
                  <a:pt x="1225" y="189"/>
                </a:lnTo>
                <a:lnTo>
                  <a:pt x="1213" y="192"/>
                </a:lnTo>
                <a:lnTo>
                  <a:pt x="1206" y="194"/>
                </a:lnTo>
                <a:lnTo>
                  <a:pt x="1200" y="198"/>
                </a:lnTo>
                <a:lnTo>
                  <a:pt x="1187" y="206"/>
                </a:lnTo>
                <a:lnTo>
                  <a:pt x="1173" y="213"/>
                </a:lnTo>
                <a:lnTo>
                  <a:pt x="1160" y="223"/>
                </a:lnTo>
                <a:lnTo>
                  <a:pt x="1148" y="235"/>
                </a:lnTo>
                <a:lnTo>
                  <a:pt x="1137" y="246"/>
                </a:lnTo>
                <a:lnTo>
                  <a:pt x="1127" y="260"/>
                </a:lnTo>
                <a:lnTo>
                  <a:pt x="1117" y="273"/>
                </a:lnTo>
                <a:lnTo>
                  <a:pt x="1112" y="281"/>
                </a:lnTo>
                <a:lnTo>
                  <a:pt x="1106" y="290"/>
                </a:lnTo>
                <a:lnTo>
                  <a:pt x="1094" y="306"/>
                </a:lnTo>
                <a:lnTo>
                  <a:pt x="1087" y="321"/>
                </a:lnTo>
                <a:lnTo>
                  <a:pt x="1079" y="334"/>
                </a:lnTo>
                <a:lnTo>
                  <a:pt x="1073" y="348"/>
                </a:lnTo>
                <a:lnTo>
                  <a:pt x="1068" y="361"/>
                </a:lnTo>
                <a:lnTo>
                  <a:pt x="1062" y="375"/>
                </a:lnTo>
                <a:lnTo>
                  <a:pt x="1058" y="388"/>
                </a:lnTo>
                <a:lnTo>
                  <a:pt x="1056" y="394"/>
                </a:lnTo>
                <a:lnTo>
                  <a:pt x="1052" y="400"/>
                </a:lnTo>
                <a:lnTo>
                  <a:pt x="1046" y="403"/>
                </a:lnTo>
                <a:lnTo>
                  <a:pt x="1043" y="409"/>
                </a:lnTo>
                <a:lnTo>
                  <a:pt x="1035" y="413"/>
                </a:lnTo>
                <a:lnTo>
                  <a:pt x="1029" y="417"/>
                </a:lnTo>
                <a:lnTo>
                  <a:pt x="1020" y="421"/>
                </a:lnTo>
                <a:lnTo>
                  <a:pt x="1010" y="423"/>
                </a:lnTo>
                <a:lnTo>
                  <a:pt x="1000" y="427"/>
                </a:lnTo>
                <a:lnTo>
                  <a:pt x="989" y="428"/>
                </a:lnTo>
                <a:lnTo>
                  <a:pt x="975" y="430"/>
                </a:lnTo>
                <a:lnTo>
                  <a:pt x="960" y="430"/>
                </a:lnTo>
                <a:lnTo>
                  <a:pt x="945" y="432"/>
                </a:lnTo>
                <a:lnTo>
                  <a:pt x="929" y="432"/>
                </a:lnTo>
                <a:lnTo>
                  <a:pt x="910" y="432"/>
                </a:lnTo>
                <a:lnTo>
                  <a:pt x="891" y="434"/>
                </a:lnTo>
                <a:lnTo>
                  <a:pt x="897" y="417"/>
                </a:lnTo>
                <a:lnTo>
                  <a:pt x="902" y="400"/>
                </a:lnTo>
                <a:lnTo>
                  <a:pt x="908" y="384"/>
                </a:lnTo>
                <a:lnTo>
                  <a:pt x="912" y="369"/>
                </a:lnTo>
                <a:lnTo>
                  <a:pt x="918" y="354"/>
                </a:lnTo>
                <a:lnTo>
                  <a:pt x="922" y="340"/>
                </a:lnTo>
                <a:lnTo>
                  <a:pt x="926" y="327"/>
                </a:lnTo>
                <a:lnTo>
                  <a:pt x="931" y="313"/>
                </a:lnTo>
                <a:lnTo>
                  <a:pt x="935" y="300"/>
                </a:lnTo>
                <a:lnTo>
                  <a:pt x="939" y="288"/>
                </a:lnTo>
                <a:lnTo>
                  <a:pt x="943" y="277"/>
                </a:lnTo>
                <a:lnTo>
                  <a:pt x="947" y="265"/>
                </a:lnTo>
                <a:lnTo>
                  <a:pt x="950" y="254"/>
                </a:lnTo>
                <a:lnTo>
                  <a:pt x="954" y="244"/>
                </a:lnTo>
                <a:lnTo>
                  <a:pt x="956" y="235"/>
                </a:lnTo>
                <a:lnTo>
                  <a:pt x="960" y="225"/>
                </a:lnTo>
                <a:lnTo>
                  <a:pt x="962" y="217"/>
                </a:lnTo>
                <a:lnTo>
                  <a:pt x="964" y="208"/>
                </a:lnTo>
                <a:lnTo>
                  <a:pt x="968" y="200"/>
                </a:lnTo>
                <a:lnTo>
                  <a:pt x="970" y="194"/>
                </a:lnTo>
                <a:lnTo>
                  <a:pt x="972" y="187"/>
                </a:lnTo>
                <a:lnTo>
                  <a:pt x="972" y="181"/>
                </a:lnTo>
                <a:lnTo>
                  <a:pt x="974" y="175"/>
                </a:lnTo>
                <a:lnTo>
                  <a:pt x="975" y="169"/>
                </a:lnTo>
                <a:lnTo>
                  <a:pt x="975" y="165"/>
                </a:lnTo>
                <a:lnTo>
                  <a:pt x="975" y="162"/>
                </a:lnTo>
                <a:lnTo>
                  <a:pt x="977" y="158"/>
                </a:lnTo>
                <a:lnTo>
                  <a:pt x="977" y="154"/>
                </a:lnTo>
                <a:lnTo>
                  <a:pt x="975" y="150"/>
                </a:lnTo>
                <a:lnTo>
                  <a:pt x="975" y="146"/>
                </a:lnTo>
                <a:lnTo>
                  <a:pt x="972" y="144"/>
                </a:lnTo>
                <a:lnTo>
                  <a:pt x="970" y="142"/>
                </a:lnTo>
                <a:lnTo>
                  <a:pt x="966" y="141"/>
                </a:lnTo>
                <a:lnTo>
                  <a:pt x="962" y="141"/>
                </a:lnTo>
                <a:lnTo>
                  <a:pt x="956" y="139"/>
                </a:lnTo>
                <a:lnTo>
                  <a:pt x="952" y="137"/>
                </a:lnTo>
                <a:lnTo>
                  <a:pt x="941" y="137"/>
                </a:lnTo>
                <a:lnTo>
                  <a:pt x="927" y="135"/>
                </a:lnTo>
                <a:lnTo>
                  <a:pt x="912" y="135"/>
                </a:lnTo>
                <a:lnTo>
                  <a:pt x="897" y="135"/>
                </a:lnTo>
                <a:lnTo>
                  <a:pt x="879" y="135"/>
                </a:lnTo>
                <a:lnTo>
                  <a:pt x="874" y="135"/>
                </a:lnTo>
                <a:lnTo>
                  <a:pt x="866" y="135"/>
                </a:lnTo>
                <a:lnTo>
                  <a:pt x="856" y="135"/>
                </a:lnTo>
                <a:lnTo>
                  <a:pt x="847" y="137"/>
                </a:lnTo>
                <a:lnTo>
                  <a:pt x="835" y="137"/>
                </a:lnTo>
                <a:lnTo>
                  <a:pt x="822" y="139"/>
                </a:lnTo>
                <a:lnTo>
                  <a:pt x="808" y="141"/>
                </a:lnTo>
                <a:lnTo>
                  <a:pt x="793" y="141"/>
                </a:lnTo>
                <a:lnTo>
                  <a:pt x="776" y="142"/>
                </a:lnTo>
                <a:lnTo>
                  <a:pt x="757" y="144"/>
                </a:lnTo>
                <a:lnTo>
                  <a:pt x="737" y="146"/>
                </a:lnTo>
                <a:lnTo>
                  <a:pt x="716" y="148"/>
                </a:lnTo>
                <a:lnTo>
                  <a:pt x="693" y="152"/>
                </a:lnTo>
                <a:lnTo>
                  <a:pt x="670" y="154"/>
                </a:lnTo>
                <a:lnTo>
                  <a:pt x="645" y="158"/>
                </a:lnTo>
                <a:lnTo>
                  <a:pt x="618" y="160"/>
                </a:lnTo>
                <a:lnTo>
                  <a:pt x="590" y="164"/>
                </a:lnTo>
                <a:lnTo>
                  <a:pt x="561" y="167"/>
                </a:lnTo>
                <a:lnTo>
                  <a:pt x="530" y="171"/>
                </a:lnTo>
                <a:lnTo>
                  <a:pt x="497" y="175"/>
                </a:lnTo>
                <a:lnTo>
                  <a:pt x="465" y="179"/>
                </a:lnTo>
                <a:lnTo>
                  <a:pt x="428" y="183"/>
                </a:lnTo>
                <a:lnTo>
                  <a:pt x="392" y="189"/>
                </a:lnTo>
                <a:lnTo>
                  <a:pt x="355" y="192"/>
                </a:lnTo>
                <a:lnTo>
                  <a:pt x="315" y="198"/>
                </a:lnTo>
                <a:lnTo>
                  <a:pt x="275" y="202"/>
                </a:lnTo>
                <a:lnTo>
                  <a:pt x="232" y="208"/>
                </a:lnTo>
                <a:lnTo>
                  <a:pt x="188" y="213"/>
                </a:lnTo>
                <a:lnTo>
                  <a:pt x="144" y="219"/>
                </a:lnTo>
                <a:lnTo>
                  <a:pt x="98" y="225"/>
                </a:lnTo>
                <a:lnTo>
                  <a:pt x="50" y="233"/>
                </a:lnTo>
                <a:lnTo>
                  <a:pt x="0" y="238"/>
                </a:lnTo>
                <a:lnTo>
                  <a:pt x="0" y="146"/>
                </a:lnTo>
                <a:lnTo>
                  <a:pt x="4" y="148"/>
                </a:lnTo>
                <a:lnTo>
                  <a:pt x="8" y="148"/>
                </a:lnTo>
                <a:lnTo>
                  <a:pt x="14" y="148"/>
                </a:lnTo>
                <a:lnTo>
                  <a:pt x="19" y="150"/>
                </a:lnTo>
                <a:lnTo>
                  <a:pt x="25" y="150"/>
                </a:lnTo>
                <a:lnTo>
                  <a:pt x="33" y="150"/>
                </a:lnTo>
                <a:lnTo>
                  <a:pt x="41" y="150"/>
                </a:lnTo>
                <a:lnTo>
                  <a:pt x="48" y="148"/>
                </a:lnTo>
                <a:lnTo>
                  <a:pt x="58" y="148"/>
                </a:lnTo>
                <a:lnTo>
                  <a:pt x="67" y="148"/>
                </a:lnTo>
                <a:lnTo>
                  <a:pt x="79" y="146"/>
                </a:lnTo>
                <a:lnTo>
                  <a:pt x="90" y="146"/>
                </a:lnTo>
                <a:lnTo>
                  <a:pt x="102" y="144"/>
                </a:lnTo>
                <a:lnTo>
                  <a:pt x="113" y="142"/>
                </a:lnTo>
                <a:lnTo>
                  <a:pt x="127" y="142"/>
                </a:lnTo>
                <a:lnTo>
                  <a:pt x="142" y="141"/>
                </a:lnTo>
                <a:lnTo>
                  <a:pt x="156" y="139"/>
                </a:lnTo>
                <a:lnTo>
                  <a:pt x="171" y="135"/>
                </a:lnTo>
                <a:lnTo>
                  <a:pt x="186" y="133"/>
                </a:lnTo>
                <a:lnTo>
                  <a:pt x="204" y="131"/>
                </a:lnTo>
                <a:lnTo>
                  <a:pt x="221" y="129"/>
                </a:lnTo>
                <a:lnTo>
                  <a:pt x="238" y="125"/>
                </a:lnTo>
                <a:lnTo>
                  <a:pt x="257" y="123"/>
                </a:lnTo>
                <a:lnTo>
                  <a:pt x="277" y="119"/>
                </a:lnTo>
                <a:lnTo>
                  <a:pt x="296" y="116"/>
                </a:lnTo>
                <a:lnTo>
                  <a:pt x="317" y="114"/>
                </a:lnTo>
                <a:lnTo>
                  <a:pt x="338" y="110"/>
                </a:lnTo>
                <a:lnTo>
                  <a:pt x="359" y="106"/>
                </a:lnTo>
                <a:lnTo>
                  <a:pt x="380" y="102"/>
                </a:lnTo>
                <a:lnTo>
                  <a:pt x="403" y="98"/>
                </a:lnTo>
                <a:lnTo>
                  <a:pt x="428" y="94"/>
                </a:lnTo>
                <a:lnTo>
                  <a:pt x="451" y="89"/>
                </a:lnTo>
                <a:lnTo>
                  <a:pt x="476" y="87"/>
                </a:lnTo>
                <a:lnTo>
                  <a:pt x="499" y="83"/>
                </a:lnTo>
                <a:lnTo>
                  <a:pt x="522" y="79"/>
                </a:lnTo>
                <a:lnTo>
                  <a:pt x="545" y="75"/>
                </a:lnTo>
                <a:lnTo>
                  <a:pt x="567" y="73"/>
                </a:lnTo>
                <a:lnTo>
                  <a:pt x="588" y="70"/>
                </a:lnTo>
                <a:lnTo>
                  <a:pt x="609" y="68"/>
                </a:lnTo>
                <a:lnTo>
                  <a:pt x="628" y="64"/>
                </a:lnTo>
                <a:lnTo>
                  <a:pt x="647" y="60"/>
                </a:lnTo>
                <a:lnTo>
                  <a:pt x="666" y="58"/>
                </a:lnTo>
                <a:lnTo>
                  <a:pt x="684" y="54"/>
                </a:lnTo>
                <a:lnTo>
                  <a:pt x="701" y="52"/>
                </a:lnTo>
                <a:lnTo>
                  <a:pt x="718" y="48"/>
                </a:lnTo>
                <a:lnTo>
                  <a:pt x="734" y="47"/>
                </a:lnTo>
                <a:lnTo>
                  <a:pt x="749" y="43"/>
                </a:lnTo>
                <a:lnTo>
                  <a:pt x="764" y="41"/>
                </a:lnTo>
                <a:lnTo>
                  <a:pt x="778" y="37"/>
                </a:lnTo>
                <a:lnTo>
                  <a:pt x="791" y="35"/>
                </a:lnTo>
                <a:lnTo>
                  <a:pt x="805" y="33"/>
                </a:lnTo>
                <a:lnTo>
                  <a:pt x="816" y="29"/>
                </a:lnTo>
                <a:lnTo>
                  <a:pt x="828" y="27"/>
                </a:lnTo>
                <a:lnTo>
                  <a:pt x="839" y="25"/>
                </a:lnTo>
                <a:lnTo>
                  <a:pt x="851" y="23"/>
                </a:lnTo>
                <a:lnTo>
                  <a:pt x="860" y="22"/>
                </a:lnTo>
                <a:lnTo>
                  <a:pt x="868" y="20"/>
                </a:lnTo>
                <a:lnTo>
                  <a:pt x="878" y="18"/>
                </a:lnTo>
                <a:lnTo>
                  <a:pt x="885" y="16"/>
                </a:lnTo>
                <a:lnTo>
                  <a:pt x="893" y="14"/>
                </a:lnTo>
                <a:lnTo>
                  <a:pt x="899" y="12"/>
                </a:lnTo>
                <a:lnTo>
                  <a:pt x="904" y="12"/>
                </a:lnTo>
                <a:lnTo>
                  <a:pt x="910" y="10"/>
                </a:lnTo>
                <a:lnTo>
                  <a:pt x="916" y="8"/>
                </a:lnTo>
                <a:lnTo>
                  <a:pt x="929" y="4"/>
                </a:lnTo>
                <a:lnTo>
                  <a:pt x="943" y="2"/>
                </a:lnTo>
                <a:lnTo>
                  <a:pt x="954" y="0"/>
                </a:lnTo>
                <a:lnTo>
                  <a:pt x="968" y="0"/>
                </a:lnTo>
                <a:lnTo>
                  <a:pt x="979" y="0"/>
                </a:lnTo>
                <a:lnTo>
                  <a:pt x="991" y="2"/>
                </a:lnTo>
                <a:lnTo>
                  <a:pt x="1000" y="4"/>
                </a:lnTo>
                <a:lnTo>
                  <a:pt x="1010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45"/>
          <p:cNvSpPr/>
          <p:nvPr/>
        </p:nvSpPr>
        <p:spPr>
          <a:xfrm>
            <a:off x="6611760" y="4336920"/>
            <a:ext cx="860760" cy="166680"/>
          </a:xfrm>
          <a:custGeom>
            <a:avLst/>
            <a:gdLst/>
            <a:ahLst/>
            <a:rect l="l" t="t" r="r" b="b"/>
            <a:pathLst>
              <a:path w="1082" h="209">
                <a:moveTo>
                  <a:pt x="2" y="209"/>
                </a:moveTo>
                <a:lnTo>
                  <a:pt x="2" y="117"/>
                </a:lnTo>
                <a:lnTo>
                  <a:pt x="86" y="109"/>
                </a:lnTo>
                <a:lnTo>
                  <a:pt x="171" y="98"/>
                </a:lnTo>
                <a:lnTo>
                  <a:pt x="255" y="88"/>
                </a:lnTo>
                <a:lnTo>
                  <a:pt x="340" y="77"/>
                </a:lnTo>
                <a:lnTo>
                  <a:pt x="424" y="63"/>
                </a:lnTo>
                <a:lnTo>
                  <a:pt x="508" y="52"/>
                </a:lnTo>
                <a:lnTo>
                  <a:pt x="679" y="27"/>
                </a:lnTo>
                <a:lnTo>
                  <a:pt x="699" y="23"/>
                </a:lnTo>
                <a:lnTo>
                  <a:pt x="720" y="19"/>
                </a:lnTo>
                <a:lnTo>
                  <a:pt x="739" y="17"/>
                </a:lnTo>
                <a:lnTo>
                  <a:pt x="758" y="15"/>
                </a:lnTo>
                <a:lnTo>
                  <a:pt x="777" y="11"/>
                </a:lnTo>
                <a:lnTo>
                  <a:pt x="795" y="9"/>
                </a:lnTo>
                <a:lnTo>
                  <a:pt x="812" y="7"/>
                </a:lnTo>
                <a:lnTo>
                  <a:pt x="827" y="6"/>
                </a:lnTo>
                <a:lnTo>
                  <a:pt x="844" y="4"/>
                </a:lnTo>
                <a:lnTo>
                  <a:pt x="860" y="4"/>
                </a:lnTo>
                <a:lnTo>
                  <a:pt x="873" y="2"/>
                </a:lnTo>
                <a:lnTo>
                  <a:pt x="889" y="2"/>
                </a:lnTo>
                <a:lnTo>
                  <a:pt x="902" y="0"/>
                </a:lnTo>
                <a:lnTo>
                  <a:pt x="914" y="0"/>
                </a:lnTo>
                <a:lnTo>
                  <a:pt x="927" y="0"/>
                </a:lnTo>
                <a:lnTo>
                  <a:pt x="939" y="0"/>
                </a:lnTo>
                <a:lnTo>
                  <a:pt x="950" y="0"/>
                </a:lnTo>
                <a:lnTo>
                  <a:pt x="960" y="0"/>
                </a:lnTo>
                <a:lnTo>
                  <a:pt x="969" y="0"/>
                </a:lnTo>
                <a:lnTo>
                  <a:pt x="979" y="2"/>
                </a:lnTo>
                <a:lnTo>
                  <a:pt x="988" y="2"/>
                </a:lnTo>
                <a:lnTo>
                  <a:pt x="996" y="4"/>
                </a:lnTo>
                <a:lnTo>
                  <a:pt x="1004" y="6"/>
                </a:lnTo>
                <a:lnTo>
                  <a:pt x="1011" y="6"/>
                </a:lnTo>
                <a:lnTo>
                  <a:pt x="1017" y="7"/>
                </a:lnTo>
                <a:lnTo>
                  <a:pt x="1023" y="9"/>
                </a:lnTo>
                <a:lnTo>
                  <a:pt x="1029" y="11"/>
                </a:lnTo>
                <a:lnTo>
                  <a:pt x="1033" y="15"/>
                </a:lnTo>
                <a:lnTo>
                  <a:pt x="1038" y="17"/>
                </a:lnTo>
                <a:lnTo>
                  <a:pt x="1040" y="19"/>
                </a:lnTo>
                <a:lnTo>
                  <a:pt x="1044" y="23"/>
                </a:lnTo>
                <a:lnTo>
                  <a:pt x="1046" y="27"/>
                </a:lnTo>
                <a:lnTo>
                  <a:pt x="1052" y="34"/>
                </a:lnTo>
                <a:lnTo>
                  <a:pt x="1056" y="42"/>
                </a:lnTo>
                <a:lnTo>
                  <a:pt x="1059" y="50"/>
                </a:lnTo>
                <a:lnTo>
                  <a:pt x="1061" y="55"/>
                </a:lnTo>
                <a:lnTo>
                  <a:pt x="1069" y="69"/>
                </a:lnTo>
                <a:lnTo>
                  <a:pt x="1073" y="78"/>
                </a:lnTo>
                <a:lnTo>
                  <a:pt x="1077" y="88"/>
                </a:lnTo>
                <a:lnTo>
                  <a:pt x="1081" y="96"/>
                </a:lnTo>
                <a:lnTo>
                  <a:pt x="1082" y="101"/>
                </a:lnTo>
                <a:lnTo>
                  <a:pt x="1082" y="105"/>
                </a:lnTo>
                <a:lnTo>
                  <a:pt x="1082" y="107"/>
                </a:lnTo>
                <a:lnTo>
                  <a:pt x="1081" y="107"/>
                </a:lnTo>
                <a:lnTo>
                  <a:pt x="1079" y="109"/>
                </a:lnTo>
                <a:lnTo>
                  <a:pt x="1077" y="109"/>
                </a:lnTo>
                <a:lnTo>
                  <a:pt x="1073" y="109"/>
                </a:lnTo>
                <a:lnTo>
                  <a:pt x="1069" y="111"/>
                </a:lnTo>
                <a:lnTo>
                  <a:pt x="1065" y="111"/>
                </a:lnTo>
                <a:lnTo>
                  <a:pt x="1061" y="111"/>
                </a:lnTo>
                <a:lnTo>
                  <a:pt x="1056" y="113"/>
                </a:lnTo>
                <a:lnTo>
                  <a:pt x="1052" y="113"/>
                </a:lnTo>
                <a:lnTo>
                  <a:pt x="1044" y="115"/>
                </a:lnTo>
                <a:lnTo>
                  <a:pt x="1038" y="115"/>
                </a:lnTo>
                <a:lnTo>
                  <a:pt x="1031" y="117"/>
                </a:lnTo>
                <a:lnTo>
                  <a:pt x="1023" y="117"/>
                </a:lnTo>
                <a:lnTo>
                  <a:pt x="1015" y="119"/>
                </a:lnTo>
                <a:lnTo>
                  <a:pt x="1008" y="121"/>
                </a:lnTo>
                <a:lnTo>
                  <a:pt x="998" y="121"/>
                </a:lnTo>
                <a:lnTo>
                  <a:pt x="988" y="123"/>
                </a:lnTo>
                <a:lnTo>
                  <a:pt x="977" y="123"/>
                </a:lnTo>
                <a:lnTo>
                  <a:pt x="967" y="125"/>
                </a:lnTo>
                <a:lnTo>
                  <a:pt x="956" y="126"/>
                </a:lnTo>
                <a:lnTo>
                  <a:pt x="944" y="126"/>
                </a:lnTo>
                <a:lnTo>
                  <a:pt x="931" y="128"/>
                </a:lnTo>
                <a:lnTo>
                  <a:pt x="919" y="130"/>
                </a:lnTo>
                <a:lnTo>
                  <a:pt x="906" y="130"/>
                </a:lnTo>
                <a:lnTo>
                  <a:pt x="891" y="132"/>
                </a:lnTo>
                <a:lnTo>
                  <a:pt x="877" y="134"/>
                </a:lnTo>
                <a:lnTo>
                  <a:pt x="862" y="136"/>
                </a:lnTo>
                <a:lnTo>
                  <a:pt x="846" y="136"/>
                </a:lnTo>
                <a:lnTo>
                  <a:pt x="831" y="138"/>
                </a:lnTo>
                <a:lnTo>
                  <a:pt x="814" y="140"/>
                </a:lnTo>
                <a:lnTo>
                  <a:pt x="796" y="142"/>
                </a:lnTo>
                <a:lnTo>
                  <a:pt x="779" y="144"/>
                </a:lnTo>
                <a:lnTo>
                  <a:pt x="760" y="146"/>
                </a:lnTo>
                <a:lnTo>
                  <a:pt x="743" y="148"/>
                </a:lnTo>
                <a:lnTo>
                  <a:pt x="724" y="148"/>
                </a:lnTo>
                <a:lnTo>
                  <a:pt x="702" y="149"/>
                </a:lnTo>
                <a:lnTo>
                  <a:pt x="683" y="151"/>
                </a:lnTo>
                <a:lnTo>
                  <a:pt x="662" y="153"/>
                </a:lnTo>
                <a:lnTo>
                  <a:pt x="641" y="155"/>
                </a:lnTo>
                <a:lnTo>
                  <a:pt x="618" y="157"/>
                </a:lnTo>
                <a:lnTo>
                  <a:pt x="597" y="159"/>
                </a:lnTo>
                <a:lnTo>
                  <a:pt x="574" y="161"/>
                </a:lnTo>
                <a:lnTo>
                  <a:pt x="549" y="163"/>
                </a:lnTo>
                <a:lnTo>
                  <a:pt x="526" y="167"/>
                </a:lnTo>
                <a:lnTo>
                  <a:pt x="501" y="169"/>
                </a:lnTo>
                <a:lnTo>
                  <a:pt x="476" y="171"/>
                </a:lnTo>
                <a:lnTo>
                  <a:pt x="449" y="173"/>
                </a:lnTo>
                <a:lnTo>
                  <a:pt x="424" y="174"/>
                </a:lnTo>
                <a:lnTo>
                  <a:pt x="397" y="176"/>
                </a:lnTo>
                <a:lnTo>
                  <a:pt x="370" y="178"/>
                </a:lnTo>
                <a:lnTo>
                  <a:pt x="341" y="182"/>
                </a:lnTo>
                <a:lnTo>
                  <a:pt x="313" y="184"/>
                </a:lnTo>
                <a:lnTo>
                  <a:pt x="284" y="186"/>
                </a:lnTo>
                <a:lnTo>
                  <a:pt x="255" y="188"/>
                </a:lnTo>
                <a:lnTo>
                  <a:pt x="224" y="192"/>
                </a:lnTo>
                <a:lnTo>
                  <a:pt x="196" y="194"/>
                </a:lnTo>
                <a:lnTo>
                  <a:pt x="163" y="196"/>
                </a:lnTo>
                <a:lnTo>
                  <a:pt x="132" y="199"/>
                </a:lnTo>
                <a:lnTo>
                  <a:pt x="100" y="201"/>
                </a:lnTo>
                <a:lnTo>
                  <a:pt x="67" y="203"/>
                </a:lnTo>
                <a:lnTo>
                  <a:pt x="34" y="207"/>
                </a:lnTo>
                <a:lnTo>
                  <a:pt x="0" y="209"/>
                </a:lnTo>
                <a:lnTo>
                  <a:pt x="2" y="2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46"/>
          <p:cNvSpPr/>
          <p:nvPr/>
        </p:nvSpPr>
        <p:spPr>
          <a:xfrm>
            <a:off x="6859440" y="3484440"/>
            <a:ext cx="181080" cy="1603440"/>
          </a:xfrm>
          <a:custGeom>
            <a:avLst/>
            <a:gdLst/>
            <a:ahLst/>
            <a:rect l="l" t="t" r="r" b="b"/>
            <a:pathLst>
              <a:path w="228" h="2019">
                <a:moveTo>
                  <a:pt x="142" y="2019"/>
                </a:moveTo>
                <a:lnTo>
                  <a:pt x="140" y="2019"/>
                </a:lnTo>
                <a:lnTo>
                  <a:pt x="136" y="2017"/>
                </a:lnTo>
                <a:lnTo>
                  <a:pt x="134" y="2015"/>
                </a:lnTo>
                <a:lnTo>
                  <a:pt x="130" y="2011"/>
                </a:lnTo>
                <a:lnTo>
                  <a:pt x="126" y="2008"/>
                </a:lnTo>
                <a:lnTo>
                  <a:pt x="123" y="2004"/>
                </a:lnTo>
                <a:lnTo>
                  <a:pt x="121" y="1998"/>
                </a:lnTo>
                <a:lnTo>
                  <a:pt x="117" y="1992"/>
                </a:lnTo>
                <a:lnTo>
                  <a:pt x="111" y="1985"/>
                </a:lnTo>
                <a:lnTo>
                  <a:pt x="107" y="1975"/>
                </a:lnTo>
                <a:lnTo>
                  <a:pt x="103" y="1965"/>
                </a:lnTo>
                <a:lnTo>
                  <a:pt x="100" y="1956"/>
                </a:lnTo>
                <a:lnTo>
                  <a:pt x="96" y="1944"/>
                </a:lnTo>
                <a:lnTo>
                  <a:pt x="92" y="1931"/>
                </a:lnTo>
                <a:lnTo>
                  <a:pt x="86" y="1917"/>
                </a:lnTo>
                <a:lnTo>
                  <a:pt x="82" y="1904"/>
                </a:lnTo>
                <a:lnTo>
                  <a:pt x="80" y="1896"/>
                </a:lnTo>
                <a:lnTo>
                  <a:pt x="78" y="1887"/>
                </a:lnTo>
                <a:lnTo>
                  <a:pt x="77" y="1875"/>
                </a:lnTo>
                <a:lnTo>
                  <a:pt x="75" y="1864"/>
                </a:lnTo>
                <a:lnTo>
                  <a:pt x="73" y="1850"/>
                </a:lnTo>
                <a:lnTo>
                  <a:pt x="71" y="1837"/>
                </a:lnTo>
                <a:lnTo>
                  <a:pt x="69" y="1821"/>
                </a:lnTo>
                <a:lnTo>
                  <a:pt x="67" y="1804"/>
                </a:lnTo>
                <a:lnTo>
                  <a:pt x="65" y="1787"/>
                </a:lnTo>
                <a:lnTo>
                  <a:pt x="63" y="1768"/>
                </a:lnTo>
                <a:lnTo>
                  <a:pt x="63" y="1748"/>
                </a:lnTo>
                <a:lnTo>
                  <a:pt x="61" y="1727"/>
                </a:lnTo>
                <a:lnTo>
                  <a:pt x="59" y="1704"/>
                </a:lnTo>
                <a:lnTo>
                  <a:pt x="59" y="1681"/>
                </a:lnTo>
                <a:lnTo>
                  <a:pt x="57" y="1656"/>
                </a:lnTo>
                <a:lnTo>
                  <a:pt x="57" y="1631"/>
                </a:lnTo>
                <a:lnTo>
                  <a:pt x="57" y="1604"/>
                </a:lnTo>
                <a:lnTo>
                  <a:pt x="55" y="1576"/>
                </a:lnTo>
                <a:lnTo>
                  <a:pt x="55" y="1547"/>
                </a:lnTo>
                <a:lnTo>
                  <a:pt x="55" y="1516"/>
                </a:lnTo>
                <a:lnTo>
                  <a:pt x="54" y="1485"/>
                </a:lnTo>
                <a:lnTo>
                  <a:pt x="54" y="1453"/>
                </a:lnTo>
                <a:lnTo>
                  <a:pt x="54" y="1418"/>
                </a:lnTo>
                <a:lnTo>
                  <a:pt x="54" y="1384"/>
                </a:lnTo>
                <a:lnTo>
                  <a:pt x="54" y="1347"/>
                </a:lnTo>
                <a:lnTo>
                  <a:pt x="54" y="1311"/>
                </a:lnTo>
                <a:lnTo>
                  <a:pt x="55" y="1272"/>
                </a:lnTo>
                <a:lnTo>
                  <a:pt x="55" y="1234"/>
                </a:lnTo>
                <a:lnTo>
                  <a:pt x="55" y="1194"/>
                </a:lnTo>
                <a:lnTo>
                  <a:pt x="57" y="1152"/>
                </a:lnTo>
                <a:lnTo>
                  <a:pt x="57" y="1109"/>
                </a:lnTo>
                <a:lnTo>
                  <a:pt x="59" y="1067"/>
                </a:lnTo>
                <a:lnTo>
                  <a:pt x="59" y="1023"/>
                </a:lnTo>
                <a:lnTo>
                  <a:pt x="57" y="981"/>
                </a:lnTo>
                <a:lnTo>
                  <a:pt x="57" y="939"/>
                </a:lnTo>
                <a:lnTo>
                  <a:pt x="57" y="898"/>
                </a:lnTo>
                <a:lnTo>
                  <a:pt x="57" y="860"/>
                </a:lnTo>
                <a:lnTo>
                  <a:pt x="57" y="821"/>
                </a:lnTo>
                <a:lnTo>
                  <a:pt x="57" y="783"/>
                </a:lnTo>
                <a:lnTo>
                  <a:pt x="55" y="749"/>
                </a:lnTo>
                <a:lnTo>
                  <a:pt x="55" y="714"/>
                </a:lnTo>
                <a:lnTo>
                  <a:pt x="55" y="679"/>
                </a:lnTo>
                <a:lnTo>
                  <a:pt x="55" y="647"/>
                </a:lnTo>
                <a:lnTo>
                  <a:pt x="54" y="614"/>
                </a:lnTo>
                <a:lnTo>
                  <a:pt x="54" y="583"/>
                </a:lnTo>
                <a:lnTo>
                  <a:pt x="52" y="555"/>
                </a:lnTo>
                <a:lnTo>
                  <a:pt x="52" y="526"/>
                </a:lnTo>
                <a:lnTo>
                  <a:pt x="52" y="499"/>
                </a:lnTo>
                <a:lnTo>
                  <a:pt x="50" y="472"/>
                </a:lnTo>
                <a:lnTo>
                  <a:pt x="50" y="447"/>
                </a:lnTo>
                <a:lnTo>
                  <a:pt x="48" y="422"/>
                </a:lnTo>
                <a:lnTo>
                  <a:pt x="48" y="399"/>
                </a:lnTo>
                <a:lnTo>
                  <a:pt x="46" y="378"/>
                </a:lnTo>
                <a:lnTo>
                  <a:pt x="46" y="357"/>
                </a:lnTo>
                <a:lnTo>
                  <a:pt x="44" y="338"/>
                </a:lnTo>
                <a:lnTo>
                  <a:pt x="44" y="319"/>
                </a:lnTo>
                <a:lnTo>
                  <a:pt x="42" y="301"/>
                </a:lnTo>
                <a:lnTo>
                  <a:pt x="40" y="284"/>
                </a:lnTo>
                <a:lnTo>
                  <a:pt x="40" y="269"/>
                </a:lnTo>
                <a:lnTo>
                  <a:pt x="38" y="253"/>
                </a:lnTo>
                <a:lnTo>
                  <a:pt x="38" y="240"/>
                </a:lnTo>
                <a:lnTo>
                  <a:pt x="36" y="228"/>
                </a:lnTo>
                <a:lnTo>
                  <a:pt x="36" y="217"/>
                </a:lnTo>
                <a:lnTo>
                  <a:pt x="34" y="207"/>
                </a:lnTo>
                <a:lnTo>
                  <a:pt x="30" y="188"/>
                </a:lnTo>
                <a:lnTo>
                  <a:pt x="27" y="169"/>
                </a:lnTo>
                <a:lnTo>
                  <a:pt x="23" y="154"/>
                </a:lnTo>
                <a:lnTo>
                  <a:pt x="19" y="136"/>
                </a:lnTo>
                <a:lnTo>
                  <a:pt x="15" y="123"/>
                </a:lnTo>
                <a:lnTo>
                  <a:pt x="13" y="109"/>
                </a:lnTo>
                <a:lnTo>
                  <a:pt x="11" y="96"/>
                </a:lnTo>
                <a:lnTo>
                  <a:pt x="7" y="84"/>
                </a:lnTo>
                <a:lnTo>
                  <a:pt x="6" y="73"/>
                </a:lnTo>
                <a:lnTo>
                  <a:pt x="4" y="63"/>
                </a:lnTo>
                <a:lnTo>
                  <a:pt x="2" y="54"/>
                </a:lnTo>
                <a:lnTo>
                  <a:pt x="2" y="46"/>
                </a:lnTo>
                <a:lnTo>
                  <a:pt x="0" y="38"/>
                </a:lnTo>
                <a:lnTo>
                  <a:pt x="0" y="33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2" y="13"/>
                </a:lnTo>
                <a:lnTo>
                  <a:pt x="4" y="10"/>
                </a:lnTo>
                <a:lnTo>
                  <a:pt x="9" y="8"/>
                </a:lnTo>
                <a:lnTo>
                  <a:pt x="15" y="4"/>
                </a:lnTo>
                <a:lnTo>
                  <a:pt x="19" y="2"/>
                </a:lnTo>
                <a:lnTo>
                  <a:pt x="25" y="2"/>
                </a:lnTo>
                <a:lnTo>
                  <a:pt x="29" y="0"/>
                </a:lnTo>
                <a:lnTo>
                  <a:pt x="34" y="0"/>
                </a:lnTo>
                <a:lnTo>
                  <a:pt x="40" y="0"/>
                </a:lnTo>
                <a:lnTo>
                  <a:pt x="46" y="0"/>
                </a:lnTo>
                <a:lnTo>
                  <a:pt x="59" y="0"/>
                </a:lnTo>
                <a:lnTo>
                  <a:pt x="73" y="2"/>
                </a:lnTo>
                <a:lnTo>
                  <a:pt x="88" y="4"/>
                </a:lnTo>
                <a:lnTo>
                  <a:pt x="103" y="8"/>
                </a:lnTo>
                <a:lnTo>
                  <a:pt x="119" y="10"/>
                </a:lnTo>
                <a:lnTo>
                  <a:pt x="136" y="13"/>
                </a:lnTo>
                <a:lnTo>
                  <a:pt x="146" y="15"/>
                </a:lnTo>
                <a:lnTo>
                  <a:pt x="155" y="19"/>
                </a:lnTo>
                <a:lnTo>
                  <a:pt x="167" y="21"/>
                </a:lnTo>
                <a:lnTo>
                  <a:pt x="178" y="23"/>
                </a:lnTo>
                <a:lnTo>
                  <a:pt x="186" y="27"/>
                </a:lnTo>
                <a:lnTo>
                  <a:pt x="194" y="33"/>
                </a:lnTo>
                <a:lnTo>
                  <a:pt x="199" y="38"/>
                </a:lnTo>
                <a:lnTo>
                  <a:pt x="207" y="44"/>
                </a:lnTo>
                <a:lnTo>
                  <a:pt x="211" y="50"/>
                </a:lnTo>
                <a:lnTo>
                  <a:pt x="217" y="58"/>
                </a:lnTo>
                <a:lnTo>
                  <a:pt x="221" y="65"/>
                </a:lnTo>
                <a:lnTo>
                  <a:pt x="222" y="73"/>
                </a:lnTo>
                <a:lnTo>
                  <a:pt x="226" y="81"/>
                </a:lnTo>
                <a:lnTo>
                  <a:pt x="228" y="90"/>
                </a:lnTo>
                <a:lnTo>
                  <a:pt x="228" y="98"/>
                </a:lnTo>
                <a:lnTo>
                  <a:pt x="228" y="107"/>
                </a:lnTo>
                <a:lnTo>
                  <a:pt x="228" y="117"/>
                </a:lnTo>
                <a:lnTo>
                  <a:pt x="228" y="129"/>
                </a:lnTo>
                <a:lnTo>
                  <a:pt x="226" y="138"/>
                </a:lnTo>
                <a:lnTo>
                  <a:pt x="224" y="150"/>
                </a:lnTo>
                <a:lnTo>
                  <a:pt x="222" y="155"/>
                </a:lnTo>
                <a:lnTo>
                  <a:pt x="221" y="163"/>
                </a:lnTo>
                <a:lnTo>
                  <a:pt x="219" y="173"/>
                </a:lnTo>
                <a:lnTo>
                  <a:pt x="217" y="180"/>
                </a:lnTo>
                <a:lnTo>
                  <a:pt x="215" y="192"/>
                </a:lnTo>
                <a:lnTo>
                  <a:pt x="213" y="202"/>
                </a:lnTo>
                <a:lnTo>
                  <a:pt x="211" y="213"/>
                </a:lnTo>
                <a:lnTo>
                  <a:pt x="209" y="226"/>
                </a:lnTo>
                <a:lnTo>
                  <a:pt x="207" y="240"/>
                </a:lnTo>
                <a:lnTo>
                  <a:pt x="207" y="253"/>
                </a:lnTo>
                <a:lnTo>
                  <a:pt x="205" y="269"/>
                </a:lnTo>
                <a:lnTo>
                  <a:pt x="203" y="286"/>
                </a:lnTo>
                <a:lnTo>
                  <a:pt x="203" y="301"/>
                </a:lnTo>
                <a:lnTo>
                  <a:pt x="201" y="319"/>
                </a:lnTo>
                <a:lnTo>
                  <a:pt x="201" y="338"/>
                </a:lnTo>
                <a:lnTo>
                  <a:pt x="199" y="357"/>
                </a:lnTo>
                <a:lnTo>
                  <a:pt x="199" y="376"/>
                </a:lnTo>
                <a:lnTo>
                  <a:pt x="197" y="397"/>
                </a:lnTo>
                <a:lnTo>
                  <a:pt x="197" y="420"/>
                </a:lnTo>
                <a:lnTo>
                  <a:pt x="197" y="441"/>
                </a:lnTo>
                <a:lnTo>
                  <a:pt x="197" y="466"/>
                </a:lnTo>
                <a:lnTo>
                  <a:pt x="197" y="489"/>
                </a:lnTo>
                <a:lnTo>
                  <a:pt x="196" y="514"/>
                </a:lnTo>
                <a:lnTo>
                  <a:pt x="196" y="541"/>
                </a:lnTo>
                <a:lnTo>
                  <a:pt x="197" y="568"/>
                </a:lnTo>
                <a:lnTo>
                  <a:pt x="197" y="595"/>
                </a:lnTo>
                <a:lnTo>
                  <a:pt x="197" y="624"/>
                </a:lnTo>
                <a:lnTo>
                  <a:pt x="197" y="653"/>
                </a:lnTo>
                <a:lnTo>
                  <a:pt x="197" y="683"/>
                </a:lnTo>
                <a:lnTo>
                  <a:pt x="199" y="714"/>
                </a:lnTo>
                <a:lnTo>
                  <a:pt x="199" y="747"/>
                </a:lnTo>
                <a:lnTo>
                  <a:pt x="201" y="779"/>
                </a:lnTo>
                <a:lnTo>
                  <a:pt x="201" y="812"/>
                </a:lnTo>
                <a:lnTo>
                  <a:pt x="203" y="844"/>
                </a:lnTo>
                <a:lnTo>
                  <a:pt x="203" y="877"/>
                </a:lnTo>
                <a:lnTo>
                  <a:pt x="205" y="908"/>
                </a:lnTo>
                <a:lnTo>
                  <a:pt x="205" y="939"/>
                </a:lnTo>
                <a:lnTo>
                  <a:pt x="207" y="967"/>
                </a:lnTo>
                <a:lnTo>
                  <a:pt x="207" y="996"/>
                </a:lnTo>
                <a:lnTo>
                  <a:pt x="207" y="1025"/>
                </a:lnTo>
                <a:lnTo>
                  <a:pt x="209" y="1052"/>
                </a:lnTo>
                <a:lnTo>
                  <a:pt x="209" y="1079"/>
                </a:lnTo>
                <a:lnTo>
                  <a:pt x="209" y="1105"/>
                </a:lnTo>
                <a:lnTo>
                  <a:pt x="209" y="1130"/>
                </a:lnTo>
                <a:lnTo>
                  <a:pt x="211" y="1155"/>
                </a:lnTo>
                <a:lnTo>
                  <a:pt x="211" y="1178"/>
                </a:lnTo>
                <a:lnTo>
                  <a:pt x="211" y="1201"/>
                </a:lnTo>
                <a:lnTo>
                  <a:pt x="211" y="1224"/>
                </a:lnTo>
                <a:lnTo>
                  <a:pt x="211" y="1246"/>
                </a:lnTo>
                <a:lnTo>
                  <a:pt x="211" y="1267"/>
                </a:lnTo>
                <a:lnTo>
                  <a:pt x="213" y="1288"/>
                </a:lnTo>
                <a:lnTo>
                  <a:pt x="213" y="1307"/>
                </a:lnTo>
                <a:lnTo>
                  <a:pt x="213" y="1324"/>
                </a:lnTo>
                <a:lnTo>
                  <a:pt x="213" y="1343"/>
                </a:lnTo>
                <a:lnTo>
                  <a:pt x="213" y="1361"/>
                </a:lnTo>
                <a:lnTo>
                  <a:pt x="213" y="1376"/>
                </a:lnTo>
                <a:lnTo>
                  <a:pt x="213" y="1391"/>
                </a:lnTo>
                <a:lnTo>
                  <a:pt x="213" y="1407"/>
                </a:lnTo>
                <a:lnTo>
                  <a:pt x="213" y="1420"/>
                </a:lnTo>
                <a:lnTo>
                  <a:pt x="213" y="1434"/>
                </a:lnTo>
                <a:lnTo>
                  <a:pt x="213" y="1447"/>
                </a:lnTo>
                <a:lnTo>
                  <a:pt x="213" y="1459"/>
                </a:lnTo>
                <a:lnTo>
                  <a:pt x="213" y="1470"/>
                </a:lnTo>
                <a:lnTo>
                  <a:pt x="213" y="1480"/>
                </a:lnTo>
                <a:lnTo>
                  <a:pt x="213" y="1522"/>
                </a:lnTo>
                <a:lnTo>
                  <a:pt x="211" y="1566"/>
                </a:lnTo>
                <a:lnTo>
                  <a:pt x="209" y="1608"/>
                </a:lnTo>
                <a:lnTo>
                  <a:pt x="205" y="1652"/>
                </a:lnTo>
                <a:lnTo>
                  <a:pt x="201" y="1697"/>
                </a:lnTo>
                <a:lnTo>
                  <a:pt x="197" y="1743"/>
                </a:lnTo>
                <a:lnTo>
                  <a:pt x="194" y="1789"/>
                </a:lnTo>
                <a:lnTo>
                  <a:pt x="190" y="1835"/>
                </a:lnTo>
                <a:lnTo>
                  <a:pt x="186" y="1858"/>
                </a:lnTo>
                <a:lnTo>
                  <a:pt x="184" y="1879"/>
                </a:lnTo>
                <a:lnTo>
                  <a:pt x="182" y="1898"/>
                </a:lnTo>
                <a:lnTo>
                  <a:pt x="178" y="1917"/>
                </a:lnTo>
                <a:lnTo>
                  <a:pt x="174" y="1933"/>
                </a:lnTo>
                <a:lnTo>
                  <a:pt x="173" y="1948"/>
                </a:lnTo>
                <a:lnTo>
                  <a:pt x="169" y="1961"/>
                </a:lnTo>
                <a:lnTo>
                  <a:pt x="165" y="1975"/>
                </a:lnTo>
                <a:lnTo>
                  <a:pt x="161" y="1985"/>
                </a:lnTo>
                <a:lnTo>
                  <a:pt x="159" y="1994"/>
                </a:lnTo>
                <a:lnTo>
                  <a:pt x="155" y="2002"/>
                </a:lnTo>
                <a:lnTo>
                  <a:pt x="151" y="2008"/>
                </a:lnTo>
                <a:lnTo>
                  <a:pt x="149" y="2013"/>
                </a:lnTo>
                <a:lnTo>
                  <a:pt x="146" y="2015"/>
                </a:lnTo>
                <a:lnTo>
                  <a:pt x="144" y="2017"/>
                </a:lnTo>
                <a:lnTo>
                  <a:pt x="142" y="20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47"/>
          <p:cNvSpPr/>
          <p:nvPr/>
        </p:nvSpPr>
        <p:spPr>
          <a:xfrm>
            <a:off x="5886360" y="3411360"/>
            <a:ext cx="370080" cy="192240"/>
          </a:xfrm>
          <a:custGeom>
            <a:avLst/>
            <a:gdLst/>
            <a:ahLst/>
            <a:rect l="l" t="t" r="r" b="b"/>
            <a:pathLst>
              <a:path w="465" h="242">
                <a:moveTo>
                  <a:pt x="405" y="0"/>
                </a:moveTo>
                <a:lnTo>
                  <a:pt x="417" y="13"/>
                </a:lnTo>
                <a:lnTo>
                  <a:pt x="428" y="29"/>
                </a:lnTo>
                <a:lnTo>
                  <a:pt x="438" y="44"/>
                </a:lnTo>
                <a:lnTo>
                  <a:pt x="447" y="59"/>
                </a:lnTo>
                <a:lnTo>
                  <a:pt x="455" y="75"/>
                </a:lnTo>
                <a:lnTo>
                  <a:pt x="457" y="84"/>
                </a:lnTo>
                <a:lnTo>
                  <a:pt x="459" y="92"/>
                </a:lnTo>
                <a:lnTo>
                  <a:pt x="461" y="100"/>
                </a:lnTo>
                <a:lnTo>
                  <a:pt x="463" y="109"/>
                </a:lnTo>
                <a:lnTo>
                  <a:pt x="463" y="117"/>
                </a:lnTo>
                <a:lnTo>
                  <a:pt x="465" y="127"/>
                </a:lnTo>
                <a:lnTo>
                  <a:pt x="353" y="155"/>
                </a:lnTo>
                <a:lnTo>
                  <a:pt x="244" y="184"/>
                </a:lnTo>
                <a:lnTo>
                  <a:pt x="134" y="211"/>
                </a:lnTo>
                <a:lnTo>
                  <a:pt x="25" y="242"/>
                </a:lnTo>
                <a:lnTo>
                  <a:pt x="11" y="196"/>
                </a:lnTo>
                <a:lnTo>
                  <a:pt x="0" y="150"/>
                </a:lnTo>
                <a:lnTo>
                  <a:pt x="102" y="111"/>
                </a:lnTo>
                <a:lnTo>
                  <a:pt x="202" y="75"/>
                </a:lnTo>
                <a:lnTo>
                  <a:pt x="303" y="38"/>
                </a:lnTo>
                <a:lnTo>
                  <a:pt x="405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茧  偌  蝙  蝠  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3"/>
          <p:cNvSpPr/>
          <p:nvPr/>
        </p:nvSpPr>
        <p:spPr>
          <a:xfrm>
            <a:off x="1577160" y="227016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6"/>
          <p:cNvSpPr/>
          <p:nvPr/>
        </p:nvSpPr>
        <p:spPr>
          <a:xfrm>
            <a:off x="2864880" y="23097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ru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9"/>
          <p:cNvSpPr/>
          <p:nvPr/>
        </p:nvSpPr>
        <p:spPr>
          <a:xfrm>
            <a:off x="3978000" y="231624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i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10"/>
          <p:cNvSpPr/>
          <p:nvPr/>
        </p:nvSpPr>
        <p:spPr>
          <a:xfrm>
            <a:off x="5458320" y="2320920"/>
            <a:ext cx="6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1"/>
          <p:cNvSpPr/>
          <p:nvPr/>
        </p:nvSpPr>
        <p:spPr>
          <a:xfrm>
            <a:off x="6343560" y="234144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í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34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9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Box 1"/>
          <p:cNvSpPr/>
          <p:nvPr/>
        </p:nvSpPr>
        <p:spPr>
          <a:xfrm>
            <a:off x="2166840" y="3124080"/>
            <a:ext cx="578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蝙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蝠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    偌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女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0"/>
          <p:cNvSpPr/>
          <p:nvPr/>
        </p:nvSpPr>
        <p:spPr>
          <a:xfrm>
            <a:off x="1955520" y="259236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bi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2"/>
          <p:cNvSpPr/>
          <p:nvPr/>
        </p:nvSpPr>
        <p:spPr>
          <a:xfrm>
            <a:off x="4215240" y="259236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ru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3"/>
          <p:cNvSpPr/>
          <p:nvPr/>
        </p:nvSpPr>
        <p:spPr>
          <a:xfrm>
            <a:off x="2459160" y="400680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ō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"/>
          <p:cNvGrpSpPr/>
          <p:nvPr/>
        </p:nvGrpSpPr>
        <p:grpSpPr>
          <a:xfrm>
            <a:off x="425520" y="1352520"/>
            <a:ext cx="2905200" cy="666720"/>
            <a:chOff x="425520" y="1352520"/>
            <a:chExt cx="2905200" cy="666720"/>
          </a:xfrm>
        </p:grpSpPr>
        <p:sp>
          <p:nvSpPr>
            <p:cNvPr id="247" name="圆角矩形 17"/>
            <p:cNvSpPr/>
            <p:nvPr/>
          </p:nvSpPr>
          <p:spPr>
            <a:xfrm>
              <a:off x="12412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255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文本框 16"/>
            <p:cNvSpPr/>
            <p:nvPr/>
          </p:nvSpPr>
          <p:spPr>
            <a:xfrm>
              <a:off x="15008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TextBox 1"/>
          <p:cNvSpPr/>
          <p:nvPr/>
        </p:nvSpPr>
        <p:spPr>
          <a:xfrm>
            <a:off x="993600" y="2760840"/>
            <a:ext cx="5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26"/>
          <p:cNvGrpSpPr/>
          <p:nvPr/>
        </p:nvGrpSpPr>
        <p:grpSpPr>
          <a:xfrm>
            <a:off x="1476360" y="2282760"/>
            <a:ext cx="3952800" cy="1373400"/>
            <a:chOff x="1476360" y="2282760"/>
            <a:chExt cx="3952800" cy="1373400"/>
          </a:xfrm>
        </p:grpSpPr>
        <p:sp>
          <p:nvSpPr>
            <p:cNvPr id="252" name="左大括号 27"/>
            <p:cNvSpPr/>
            <p:nvPr/>
          </p:nvSpPr>
          <p:spPr>
            <a:xfrm>
              <a:off x="1476360" y="2525400"/>
              <a:ext cx="311040" cy="9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28"/>
            <p:cNvSpPr/>
            <p:nvPr/>
          </p:nvSpPr>
          <p:spPr>
            <a:xfrm>
              <a:off x="1723680" y="2282760"/>
              <a:ext cx="37054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ō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雇佣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ò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佣金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1"/>
          <p:cNvSpPr/>
          <p:nvPr/>
        </p:nvSpPr>
        <p:spPr>
          <a:xfrm>
            <a:off x="1274760" y="207648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孵化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惯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偌大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囚禁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矩形 1"/>
          <p:cNvSpPr/>
          <p:nvPr/>
        </p:nvSpPr>
        <p:spPr>
          <a:xfrm>
            <a:off x="2085840" y="2082960"/>
            <a:ext cx="62960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昆虫、鱼类、鸟类或爬行动物的卵在一定温度和其他条件下变成幼虫或幼体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一向的做法，常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周一开会是我们的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惯例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意为如此大、这么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偌大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的城市竟没有我的立足之地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把人关在监狱里。这里指雌蛾被关在圆形笼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1"/>
          <p:cNvSpPr/>
          <p:nvPr/>
        </p:nvSpPr>
        <p:spPr>
          <a:xfrm>
            <a:off x="1274760" y="141444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擎着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失散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脱颖而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目瞪口呆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组合 1"/>
          <p:cNvGrpSpPr/>
          <p:nvPr/>
        </p:nvGrpSpPr>
        <p:grpSpPr>
          <a:xfrm>
            <a:off x="385920" y="874800"/>
            <a:ext cx="2593800" cy="666720"/>
            <a:chOff x="385920" y="874800"/>
            <a:chExt cx="2593800" cy="666720"/>
          </a:xfrm>
        </p:grpSpPr>
        <p:sp>
          <p:nvSpPr>
            <p:cNvPr id="262" name="圆角矩形 5"/>
            <p:cNvSpPr/>
            <p:nvPr/>
          </p:nvSpPr>
          <p:spPr>
            <a:xfrm>
              <a:off x="1201680" y="101268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85920" y="87480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文本框 16"/>
            <p:cNvSpPr/>
            <p:nvPr/>
          </p:nvSpPr>
          <p:spPr>
            <a:xfrm>
              <a:off x="1461240" y="1031760"/>
              <a:ext cx="15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5" name="矩形 1"/>
          <p:cNvSpPr/>
          <p:nvPr/>
        </p:nvSpPr>
        <p:spPr>
          <a:xfrm>
            <a:off x="1990800" y="1420920"/>
            <a:ext cx="670860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往上托着，举着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高高地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擎着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火炬向前跑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家人等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离散，失去联系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终于找到了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失散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多年的亲人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颖，尖儿。锥子尖透过布袋显露出来。比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人的才能全部显露出来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他从人群中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脱颖而出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目瞪：睁大眼睛直视。口呆：嘴里说不出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来。形容因惊诧、害怕、茫然而发愣的样子。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一爆炸性的消息把大家惊得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目瞪口呆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1"/>
          <p:cNvSpPr/>
          <p:nvPr/>
        </p:nvSpPr>
        <p:spPr>
          <a:xfrm>
            <a:off x="3822840" y="215568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目瞪口呆　瞠目结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021040" y="2695680"/>
            <a:ext cx="657036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瞪着眼睛说不出话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目瞪口呆”用来形容因吃惊或害怕而发愣的样子；“瞠目结舌”用来形容窘迫或惊呆的样子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他吓得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目瞪口呆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，不知所措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眼前的情景让我们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瞠目结舌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9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组合 4"/>
          <p:cNvGrpSpPr/>
          <p:nvPr/>
        </p:nvGrpSpPr>
        <p:grpSpPr>
          <a:xfrm>
            <a:off x="539640" y="2760840"/>
            <a:ext cx="1670040" cy="459720"/>
            <a:chOff x="539640" y="2760840"/>
            <a:chExt cx="1670040" cy="459720"/>
          </a:xfrm>
        </p:grpSpPr>
        <p:pic>
          <p:nvPicPr>
            <p:cNvPr id="273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539640" y="28152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3"/>
            <p:cNvSpPr/>
            <p:nvPr/>
          </p:nvSpPr>
          <p:spPr>
            <a:xfrm>
              <a:off x="882720" y="27608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组合 20"/>
          <p:cNvGrpSpPr/>
          <p:nvPr/>
        </p:nvGrpSpPr>
        <p:grpSpPr>
          <a:xfrm>
            <a:off x="539640" y="3390840"/>
            <a:ext cx="1670040" cy="459720"/>
            <a:chOff x="539640" y="3390840"/>
            <a:chExt cx="1670040" cy="459720"/>
          </a:xfrm>
        </p:grpSpPr>
        <p:pic>
          <p:nvPicPr>
            <p:cNvPr id="276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539640" y="34452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22"/>
            <p:cNvSpPr/>
            <p:nvPr/>
          </p:nvSpPr>
          <p:spPr>
            <a:xfrm>
              <a:off x="882720" y="33908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组合 23"/>
          <p:cNvGrpSpPr/>
          <p:nvPr/>
        </p:nvGrpSpPr>
        <p:grpSpPr>
          <a:xfrm>
            <a:off x="555480" y="4511520"/>
            <a:ext cx="1670040" cy="459720"/>
            <a:chOff x="555480" y="4511520"/>
            <a:chExt cx="1670040" cy="459720"/>
          </a:xfrm>
        </p:grpSpPr>
        <p:pic>
          <p:nvPicPr>
            <p:cNvPr id="279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555480" y="45658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25"/>
            <p:cNvSpPr/>
            <p:nvPr/>
          </p:nvSpPr>
          <p:spPr>
            <a:xfrm>
              <a:off x="898560" y="45115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2" descr="屏幕剪辑"/>
          <p:cNvPicPr/>
          <p:nvPr/>
        </p:nvPicPr>
        <p:blipFill>
          <a:blip r:embed="rId1"/>
          <a:stretch/>
        </p:blipFill>
        <p:spPr>
          <a:xfrm>
            <a:off x="2494080" y="2176560"/>
            <a:ext cx="4387680" cy="328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2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矩形 47" descr=""/>
            <p:cNvPicPr/>
            <p:nvPr/>
          </p:nvPicPr>
          <p:blipFill>
            <a:blip r:embed="rId5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组合 13338"/>
          <p:cNvGrpSpPr/>
          <p:nvPr/>
        </p:nvGrpSpPr>
        <p:grpSpPr>
          <a:xfrm>
            <a:off x="1216080" y="905040"/>
            <a:ext cx="7250040" cy="1180800"/>
            <a:chOff x="1216080" y="905040"/>
            <a:chExt cx="7250040" cy="1180800"/>
          </a:xfrm>
        </p:grpSpPr>
        <p:sp>
          <p:nvSpPr>
            <p:cNvPr id="66" name="Text Box 2"/>
            <p:cNvSpPr/>
            <p:nvPr/>
          </p:nvSpPr>
          <p:spPr>
            <a:xfrm>
              <a:off x="2365200" y="963720"/>
              <a:ext cx="610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大孔雀蛾的晚会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组合 13337"/>
            <p:cNvGrpSpPr/>
            <p:nvPr/>
          </p:nvGrpSpPr>
          <p:grpSpPr>
            <a:xfrm>
              <a:off x="1216080" y="905040"/>
              <a:ext cx="1180800" cy="1180800"/>
              <a:chOff x="1216080" y="905040"/>
              <a:chExt cx="1180800" cy="1180800"/>
            </a:xfrm>
          </p:grpSpPr>
          <p:sp>
            <p:nvSpPr>
              <p:cNvPr id="68" name="AutoShape 11"/>
              <p:cNvSpPr/>
              <p:nvPr/>
            </p:nvSpPr>
            <p:spPr>
              <a:xfrm>
                <a:off x="121608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文本框 13"/>
              <p:cNvSpPr/>
              <p:nvPr/>
            </p:nvSpPr>
            <p:spPr>
              <a:xfrm>
                <a:off x="14598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887400" y="2228760"/>
            <a:ext cx="743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大孔雀蛾很华美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开篇点题，并介绍了大孔雀蛾的华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聚会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大孔雀蛾聚会的经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难忘的晚会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这是一次难忘的大孔雀蛾的晚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组合 11"/>
          <p:cNvGrpSpPr/>
          <p:nvPr/>
        </p:nvGrpSpPr>
        <p:grpSpPr>
          <a:xfrm>
            <a:off x="804960" y="1200240"/>
            <a:ext cx="3792600" cy="717480"/>
            <a:chOff x="804960" y="1200240"/>
            <a:chExt cx="3792600" cy="717480"/>
          </a:xfrm>
        </p:grpSpPr>
        <p:grpSp>
          <p:nvGrpSpPr>
            <p:cNvPr id="283" name="圆角矩形 4"/>
            <p:cNvGrpSpPr/>
            <p:nvPr/>
          </p:nvGrpSpPr>
          <p:grpSpPr>
            <a:xfrm>
              <a:off x="804960" y="1208880"/>
              <a:ext cx="1032120" cy="530640"/>
              <a:chOff x="804960" y="1208880"/>
              <a:chExt cx="1032120" cy="530640"/>
            </a:xfrm>
          </p:grpSpPr>
          <p:pic>
            <p:nvPicPr>
              <p:cNvPr id="284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960" y="1208880"/>
                <a:ext cx="1032120" cy="53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850680" y="1242000"/>
                <a:ext cx="940680" cy="46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86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1612800" y="1200240"/>
              <a:ext cx="2984760" cy="717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7"/>
          <p:cNvSpPr/>
          <p:nvPr/>
        </p:nvSpPr>
        <p:spPr>
          <a:xfrm>
            <a:off x="1235160" y="3416400"/>
            <a:ext cx="6396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实验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5"/>
          <p:cNvSpPr/>
          <p:nvPr/>
        </p:nvSpPr>
        <p:spPr>
          <a:xfrm>
            <a:off x="441360" y="1835280"/>
            <a:ext cx="7311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作者是在哪做的实验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90" name="矩形 11"/>
          <p:cNvSpPr/>
          <p:nvPr/>
        </p:nvSpPr>
        <p:spPr>
          <a:xfrm>
            <a:off x="1017720" y="24526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课文主要写了法布尔在实验室内做了一个实验，将一只刚破茧而出的雌性大孔雀蛾扣进了网做的圆形笼，结果出现了一群偌大的蝶蛾闯进房间的现象，作者称这是一次难忘的大孔雀蛾的晚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21"/>
          <p:cNvSpPr/>
          <p:nvPr/>
        </p:nvSpPr>
        <p:spPr>
          <a:xfrm>
            <a:off x="1147680" y="2984400"/>
            <a:ext cx="742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它刚一从潮湿的孵化室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u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u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出来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路过厨房，碰上了惊得目瞪口呆的女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ō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ò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ē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è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一次难忘的大孔雀蛾的晚会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93" name="矩形 17"/>
          <p:cNvSpPr/>
          <p:nvPr/>
        </p:nvSpPr>
        <p:spPr>
          <a:xfrm>
            <a:off x="709560" y="187164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出加点字的正确读音，在下面画线，并用另一个读音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3"/>
          <p:cNvSpPr/>
          <p:nvPr/>
        </p:nvSpPr>
        <p:spPr>
          <a:xfrm>
            <a:off x="4741920" y="3554280"/>
            <a:ext cx="71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接连接符 30"/>
          <p:cNvSpPr/>
          <p:nvPr/>
        </p:nvSpPr>
        <p:spPr>
          <a:xfrm>
            <a:off x="6531120" y="4649760"/>
            <a:ext cx="71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接连接符 33"/>
          <p:cNvSpPr/>
          <p:nvPr/>
        </p:nvSpPr>
        <p:spPr>
          <a:xfrm>
            <a:off x="2033640" y="5756400"/>
            <a:ext cx="71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4"/>
          <p:cNvSpPr/>
          <p:nvPr/>
        </p:nvSpPr>
        <p:spPr>
          <a:xfrm>
            <a:off x="1715760" y="364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电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5"/>
          <p:cNvSpPr/>
          <p:nvPr/>
        </p:nvSpPr>
        <p:spPr>
          <a:xfrm>
            <a:off x="1730160" y="4740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佣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6"/>
          <p:cNvSpPr/>
          <p:nvPr/>
        </p:nvSpPr>
        <p:spPr>
          <a:xfrm>
            <a:off x="1715760" y="584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称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21"/>
          <p:cNvSpPr/>
          <p:nvPr/>
        </p:nvSpPr>
        <p:spPr>
          <a:xfrm>
            <a:off x="984240" y="2247840"/>
            <a:ext cx="76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ó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áo         hè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sè           xī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yǐng           lì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íng  kuàng        fē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uàn         nǚ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yōng       cuā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shà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7"/>
          <p:cNvSpPr/>
          <p:nvPr/>
        </p:nvSpPr>
        <p:spPr>
          <a:xfrm>
            <a:off x="774720" y="139860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我根据拼音写出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003640" y="38988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056040" y="38988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矩形 26"/>
          <p:cNvSpPr/>
          <p:nvPr/>
        </p:nvSpPr>
        <p:spPr>
          <a:xfrm>
            <a:off x="3273840" y="3941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飞 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27"/>
          <p:cNvSpPr/>
          <p:nvPr/>
        </p:nvSpPr>
        <p:spPr>
          <a:xfrm>
            <a:off x="5229000" y="3925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女 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119240" y="388764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矩形 29"/>
          <p:cNvSpPr/>
          <p:nvPr/>
        </p:nvSpPr>
        <p:spPr>
          <a:xfrm>
            <a:off x="1337040" y="3930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情 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870600" y="39052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矩形 32"/>
          <p:cNvSpPr/>
          <p:nvPr/>
        </p:nvSpPr>
        <p:spPr>
          <a:xfrm>
            <a:off x="7095960" y="3932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蹿 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010120" y="27972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3062160" y="279720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矩形 34"/>
          <p:cNvSpPr/>
          <p:nvPr/>
        </p:nvSpPr>
        <p:spPr>
          <a:xfrm>
            <a:off x="3280320" y="2840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褐 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35"/>
          <p:cNvSpPr/>
          <p:nvPr/>
        </p:nvSpPr>
        <p:spPr>
          <a:xfrm>
            <a:off x="5235120" y="2824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新 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125360" y="2786040"/>
          <a:ext cx="1440000" cy="731880"/>
        </p:xfrm>
        <a:graphic>
          <a:graphicData uri="http://schemas.openxmlformats.org/drawingml/2006/table">
            <a:tbl>
              <a:tblPr/>
              <a:tblGrid>
                <a:gridCol w="36072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矩形 37"/>
          <p:cNvSpPr/>
          <p:nvPr/>
        </p:nvSpPr>
        <p:spPr>
          <a:xfrm>
            <a:off x="1343520" y="2828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绒 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6877080" y="280368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矩形 39"/>
          <p:cNvSpPr/>
          <p:nvPr/>
        </p:nvSpPr>
        <p:spPr>
          <a:xfrm>
            <a:off x="7102080" y="2830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例 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7"/>
          <p:cNvSpPr/>
          <p:nvPr/>
        </p:nvSpPr>
        <p:spPr>
          <a:xfrm>
            <a:off x="758880" y="1305000"/>
            <a:ext cx="79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16"/>
          <p:cNvSpPr/>
          <p:nvPr/>
        </p:nvSpPr>
        <p:spPr>
          <a:xfrm>
            <a:off x="1725480" y="2170080"/>
            <a:ext cx="52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佣（　　　　）  绒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拥（　　　　）  诫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窜（　　　　）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蹿（　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左大括号 17"/>
          <p:cNvSpPr/>
          <p:nvPr/>
        </p:nvSpPr>
        <p:spPr>
          <a:xfrm>
            <a:off x="1620720" y="2522520"/>
            <a:ext cx="198720" cy="977760"/>
          </a:xfrm>
          <a:custGeom>
            <a:avLst/>
            <a:gdLst>
              <a:gd name="textAreaLeft" fmla="*/ 127080 w 198720"/>
              <a:gd name="textAreaRight" fmla="*/ 199080 w 19872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左大括号 18"/>
          <p:cNvSpPr/>
          <p:nvPr/>
        </p:nvSpPr>
        <p:spPr>
          <a:xfrm>
            <a:off x="4043520" y="25336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19"/>
          <p:cNvSpPr/>
          <p:nvPr/>
        </p:nvSpPr>
        <p:spPr>
          <a:xfrm>
            <a:off x="2744640" y="242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佣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20"/>
          <p:cNvSpPr/>
          <p:nvPr/>
        </p:nvSpPr>
        <p:spPr>
          <a:xfrm>
            <a:off x="2744640" y="3156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拥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21"/>
          <p:cNvSpPr/>
          <p:nvPr/>
        </p:nvSpPr>
        <p:spPr>
          <a:xfrm>
            <a:off x="5262120" y="243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绒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2"/>
          <p:cNvSpPr/>
          <p:nvPr/>
        </p:nvSpPr>
        <p:spPr>
          <a:xfrm>
            <a:off x="5240160" y="3147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告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左大括号 24"/>
          <p:cNvSpPr/>
          <p:nvPr/>
        </p:nvSpPr>
        <p:spPr>
          <a:xfrm>
            <a:off x="1616040" y="3998880"/>
            <a:ext cx="198360" cy="977760"/>
          </a:xfrm>
          <a:custGeom>
            <a:avLst/>
            <a:gdLst>
              <a:gd name="textAreaLeft" fmla="*/ 126720 w 198360"/>
              <a:gd name="textAreaRight" fmla="*/ 198720 w 198360"/>
              <a:gd name="textAreaTop" fmla="*/ 5040 h 977760"/>
              <a:gd name="textAreaBottom" fmla="*/ 972720 h 97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3"/>
                  <a:pt x="10800" y="365"/>
                </a:cubicBezTo>
                <a:lnTo>
                  <a:pt x="10800" y="10435"/>
                </a:lnTo>
                <a:cubicBezTo>
                  <a:pt x="10800" y="10618"/>
                  <a:pt x="5400" y="10800"/>
                  <a:pt x="0" y="10800"/>
                </a:cubicBezTo>
                <a:cubicBezTo>
                  <a:pt x="5400" y="10800"/>
                  <a:pt x="10800" y="10983"/>
                  <a:pt x="10800" y="11165"/>
                </a:cubicBezTo>
                <a:lnTo>
                  <a:pt x="10800" y="21235"/>
                </a:lnTo>
                <a:cubicBezTo>
                  <a:pt x="10800" y="2141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26"/>
          <p:cNvSpPr/>
          <p:nvPr/>
        </p:nvSpPr>
        <p:spPr>
          <a:xfrm>
            <a:off x="2739600" y="3859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窜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7"/>
          <p:cNvSpPr/>
          <p:nvPr/>
        </p:nvSpPr>
        <p:spPr>
          <a:xfrm>
            <a:off x="2739600" y="4603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蹿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1"/>
          <p:cNvSpPr/>
          <p:nvPr/>
        </p:nvSpPr>
        <p:spPr>
          <a:xfrm>
            <a:off x="888840" y="1695600"/>
            <a:ext cx="73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要把加点词的反义词填到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才明白孩子为什么如此情绪振奋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果，我很幸运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也被正在发生的事情惊得目瞪口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4"/>
          <p:cNvSpPr/>
          <p:nvPr/>
        </p:nvSpPr>
        <p:spPr>
          <a:xfrm>
            <a:off x="683244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萎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6"/>
          <p:cNvSpPr/>
          <p:nvPr/>
        </p:nvSpPr>
        <p:spPr>
          <a:xfrm>
            <a:off x="4412880" y="2914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倒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7"/>
          <p:cNvSpPr/>
          <p:nvPr/>
        </p:nvSpPr>
        <p:spPr>
          <a:xfrm>
            <a:off x="6958800" y="3414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容不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"/>
          <p:cNvSpPr/>
          <p:nvPr/>
        </p:nvSpPr>
        <p:spPr>
          <a:xfrm>
            <a:off x="690480" y="1392120"/>
            <a:ext cx="771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写出下列句子运用的描写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见此情形，我不由得想起上午那只被扣起来的雌蛾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听他大声叫我：“快点儿来呀，快看这些蛾子，跟鸟一样大！满屋子都是啦！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大群孔雀蛾轻掀起翅膀，围着圆形笼飞舞，而后停在笼子上，片刻飞离开去，过一会儿又飞回来，接着蹿上天花板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1620000" y="2610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心理描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3"/>
          <p:cNvSpPr/>
          <p:nvPr/>
        </p:nvSpPr>
        <p:spPr>
          <a:xfrm>
            <a:off x="5639760" y="3695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语言描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8"/>
          <p:cNvSpPr/>
          <p:nvPr/>
        </p:nvSpPr>
        <p:spPr>
          <a:xfrm>
            <a:off x="3810960" y="5334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动作描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"/>
          <p:cNvSpPr/>
          <p:nvPr/>
        </p:nvSpPr>
        <p:spPr>
          <a:xfrm>
            <a:off x="838080" y="1636560"/>
            <a:ext cx="752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们知道这种华美的孔雀蛾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成反问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一次神奇的、令人难忘的大孔雀蛾的晚会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8200" indent="-538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3"/>
          <p:cNvSpPr/>
          <p:nvPr/>
        </p:nvSpPr>
        <p:spPr>
          <a:xfrm>
            <a:off x="1371600" y="4432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晚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2"/>
          <p:cNvSpPr/>
          <p:nvPr/>
        </p:nvSpPr>
        <p:spPr>
          <a:xfrm>
            <a:off x="1371600" y="2792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难道人们不知道这种华美的孔雀蛾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认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；理解“惯例、偌大、攀着”等词语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4"/>
          <p:cNvSpPr/>
          <p:nvPr/>
        </p:nvSpPr>
        <p:spPr>
          <a:xfrm>
            <a:off x="2928960" y="1617840"/>
            <a:ext cx="594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法布尔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法国著名的博物学家、文学家，他对植物、生物，特别是昆虫的生活，进行了细致的考察和研究，并将观察所得写成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卷本的“观察手记”，又名“昆虫记”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昆虫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仅体现了作者严谨的科学态度，还倾注了他的感情和思想，既是一部具有独到见解的科学论著，也是一部优秀的文学散文。晚年斯德哥尔摩科学院授予他最高的奖励：林奈奖章。人们称他“解放了科学”，“是学识渊博的博物学家，是现代含义上最出色的当之无愧的诗人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4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5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图片 2" descr="屏幕剪辑"/>
          <p:cNvPicPr/>
          <p:nvPr/>
        </p:nvPicPr>
        <p:blipFill>
          <a:blip r:embed="rId3"/>
          <a:stretch/>
        </p:blipFill>
        <p:spPr>
          <a:xfrm>
            <a:off x="530280" y="2505240"/>
            <a:ext cx="23716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2"/>
          <p:cNvSpPr/>
          <p:nvPr/>
        </p:nvSpPr>
        <p:spPr>
          <a:xfrm>
            <a:off x="976320" y="1384200"/>
            <a:ext cx="7666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孔雀蛾　孔雀蛾是一种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得很漂亮的蛾。它们主要分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在欧洲，全身披着红棕色的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毛，脖子上有一个白色的领结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翅膀上洒着灰色和褐色的小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儿。横贯中间的是一条淡淡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锯齿形的线，翅膀周围有一圈灰白色的边，中央有一个大眼睛，有黑得发亮的瞳孔和许多色彩镶成的眼帘，包括黑色、白色、栗色和紫色的弧形线条。这种蛾是由一种长得极为漂亮的毛虫变来的，它们的身体以黄色为底色，上面嵌着蓝色的珠子。它们的幼虫靠吃杏叶为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1" descr="屏幕剪辑"/>
          <p:cNvPicPr/>
          <p:nvPr/>
        </p:nvPicPr>
        <p:blipFill>
          <a:blip r:embed="rId1"/>
          <a:stretch/>
        </p:blipFill>
        <p:spPr>
          <a:xfrm>
            <a:off x="4737240" y="1627200"/>
            <a:ext cx="3571560" cy="255420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2"/>
          <p:cNvGrpSpPr/>
          <p:nvPr/>
        </p:nvGrpSpPr>
        <p:grpSpPr>
          <a:xfrm>
            <a:off x="585720" y="863640"/>
            <a:ext cx="2905200" cy="666720"/>
            <a:chOff x="585720" y="863640"/>
            <a:chExt cx="2905200" cy="666720"/>
          </a:xfrm>
        </p:grpSpPr>
        <p:sp>
          <p:nvSpPr>
            <p:cNvPr id="82" name="圆角矩形 5"/>
            <p:cNvSpPr/>
            <p:nvPr/>
          </p:nvSpPr>
          <p:spPr>
            <a:xfrm>
              <a:off x="1401480" y="10015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85720" y="8636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文本框 16"/>
            <p:cNvSpPr/>
            <p:nvPr/>
          </p:nvSpPr>
          <p:spPr>
            <a:xfrm>
              <a:off x="1661040" y="1020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写作背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绒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9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组合 8"/>
          <p:cNvGrpSpPr/>
          <p:nvPr/>
        </p:nvGrpSpPr>
        <p:grpSpPr>
          <a:xfrm>
            <a:off x="1258920" y="3975120"/>
            <a:ext cx="2840040" cy="1571760"/>
            <a:chOff x="1258920" y="3975120"/>
            <a:chExt cx="2840040" cy="1571760"/>
          </a:xfrm>
        </p:grpSpPr>
        <p:pic>
          <p:nvPicPr>
            <p:cNvPr id="93" name="图示 4" descr=""/>
            <p:cNvPicPr/>
            <p:nvPr/>
          </p:nvPicPr>
          <p:blipFill>
            <a:blip r:embed="rId3"/>
            <a:stretch/>
          </p:blipFill>
          <p:spPr>
            <a:xfrm>
              <a:off x="125892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矩形 2"/>
            <p:cNvSpPr/>
            <p:nvPr/>
          </p:nvSpPr>
          <p:spPr>
            <a:xfrm>
              <a:off x="1302480" y="4587840"/>
              <a:ext cx="277236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斜钩舒展且较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矩形 3"/>
          <p:cNvSpPr/>
          <p:nvPr/>
        </p:nvSpPr>
        <p:spPr>
          <a:xfrm>
            <a:off x="1982880" y="1868400"/>
            <a:ext cx="138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ó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47"/>
          <p:cNvSpPr/>
          <p:nvPr/>
        </p:nvSpPr>
        <p:spPr>
          <a:xfrm>
            <a:off x="5479920" y="4335480"/>
            <a:ext cx="777960" cy="447480"/>
          </a:xfrm>
          <a:custGeom>
            <a:avLst/>
            <a:gdLst/>
            <a:ahLst/>
            <a:rect l="l" t="t" r="r" b="b"/>
            <a:pathLst>
              <a:path w="981" h="565">
                <a:moveTo>
                  <a:pt x="4" y="344"/>
                </a:moveTo>
                <a:lnTo>
                  <a:pt x="6" y="336"/>
                </a:lnTo>
                <a:lnTo>
                  <a:pt x="10" y="331"/>
                </a:lnTo>
                <a:lnTo>
                  <a:pt x="12" y="325"/>
                </a:lnTo>
                <a:lnTo>
                  <a:pt x="16" y="321"/>
                </a:lnTo>
                <a:lnTo>
                  <a:pt x="20" y="317"/>
                </a:lnTo>
                <a:lnTo>
                  <a:pt x="23" y="313"/>
                </a:lnTo>
                <a:lnTo>
                  <a:pt x="27" y="311"/>
                </a:lnTo>
                <a:lnTo>
                  <a:pt x="31" y="309"/>
                </a:lnTo>
                <a:lnTo>
                  <a:pt x="37" y="309"/>
                </a:lnTo>
                <a:lnTo>
                  <a:pt x="41" y="309"/>
                </a:lnTo>
                <a:lnTo>
                  <a:pt x="47" y="309"/>
                </a:lnTo>
                <a:lnTo>
                  <a:pt x="52" y="309"/>
                </a:lnTo>
                <a:lnTo>
                  <a:pt x="58" y="311"/>
                </a:lnTo>
                <a:lnTo>
                  <a:pt x="64" y="313"/>
                </a:lnTo>
                <a:lnTo>
                  <a:pt x="77" y="317"/>
                </a:lnTo>
                <a:lnTo>
                  <a:pt x="96" y="327"/>
                </a:lnTo>
                <a:lnTo>
                  <a:pt x="104" y="332"/>
                </a:lnTo>
                <a:lnTo>
                  <a:pt x="114" y="336"/>
                </a:lnTo>
                <a:lnTo>
                  <a:pt x="123" y="340"/>
                </a:lnTo>
                <a:lnTo>
                  <a:pt x="133" y="342"/>
                </a:lnTo>
                <a:lnTo>
                  <a:pt x="141" y="344"/>
                </a:lnTo>
                <a:lnTo>
                  <a:pt x="150" y="344"/>
                </a:lnTo>
                <a:lnTo>
                  <a:pt x="152" y="344"/>
                </a:lnTo>
                <a:lnTo>
                  <a:pt x="154" y="344"/>
                </a:lnTo>
                <a:lnTo>
                  <a:pt x="158" y="342"/>
                </a:lnTo>
                <a:lnTo>
                  <a:pt x="162" y="342"/>
                </a:lnTo>
                <a:lnTo>
                  <a:pt x="166" y="340"/>
                </a:lnTo>
                <a:lnTo>
                  <a:pt x="171" y="338"/>
                </a:lnTo>
                <a:lnTo>
                  <a:pt x="177" y="334"/>
                </a:lnTo>
                <a:lnTo>
                  <a:pt x="185" y="332"/>
                </a:lnTo>
                <a:lnTo>
                  <a:pt x="192" y="329"/>
                </a:lnTo>
                <a:lnTo>
                  <a:pt x="202" y="325"/>
                </a:lnTo>
                <a:lnTo>
                  <a:pt x="212" y="321"/>
                </a:lnTo>
                <a:lnTo>
                  <a:pt x="221" y="317"/>
                </a:lnTo>
                <a:lnTo>
                  <a:pt x="231" y="311"/>
                </a:lnTo>
                <a:lnTo>
                  <a:pt x="242" y="307"/>
                </a:lnTo>
                <a:lnTo>
                  <a:pt x="256" y="302"/>
                </a:lnTo>
                <a:lnTo>
                  <a:pt x="269" y="296"/>
                </a:lnTo>
                <a:lnTo>
                  <a:pt x="283" y="290"/>
                </a:lnTo>
                <a:lnTo>
                  <a:pt x="298" y="283"/>
                </a:lnTo>
                <a:lnTo>
                  <a:pt x="313" y="277"/>
                </a:lnTo>
                <a:lnTo>
                  <a:pt x="329" y="269"/>
                </a:lnTo>
                <a:lnTo>
                  <a:pt x="346" y="261"/>
                </a:lnTo>
                <a:lnTo>
                  <a:pt x="363" y="254"/>
                </a:lnTo>
                <a:lnTo>
                  <a:pt x="381" y="244"/>
                </a:lnTo>
                <a:lnTo>
                  <a:pt x="400" y="236"/>
                </a:lnTo>
                <a:lnTo>
                  <a:pt x="421" y="227"/>
                </a:lnTo>
                <a:lnTo>
                  <a:pt x="440" y="217"/>
                </a:lnTo>
                <a:lnTo>
                  <a:pt x="461" y="208"/>
                </a:lnTo>
                <a:lnTo>
                  <a:pt x="484" y="198"/>
                </a:lnTo>
                <a:lnTo>
                  <a:pt x="507" y="187"/>
                </a:lnTo>
                <a:lnTo>
                  <a:pt x="530" y="177"/>
                </a:lnTo>
                <a:lnTo>
                  <a:pt x="553" y="165"/>
                </a:lnTo>
                <a:lnTo>
                  <a:pt x="578" y="154"/>
                </a:lnTo>
                <a:lnTo>
                  <a:pt x="601" y="142"/>
                </a:lnTo>
                <a:lnTo>
                  <a:pt x="624" y="131"/>
                </a:lnTo>
                <a:lnTo>
                  <a:pt x="647" y="121"/>
                </a:lnTo>
                <a:lnTo>
                  <a:pt x="669" y="112"/>
                </a:lnTo>
                <a:lnTo>
                  <a:pt x="690" y="102"/>
                </a:lnTo>
                <a:lnTo>
                  <a:pt x="709" y="93"/>
                </a:lnTo>
                <a:lnTo>
                  <a:pt x="730" y="83"/>
                </a:lnTo>
                <a:lnTo>
                  <a:pt x="747" y="75"/>
                </a:lnTo>
                <a:lnTo>
                  <a:pt x="766" y="68"/>
                </a:lnTo>
                <a:lnTo>
                  <a:pt x="784" y="62"/>
                </a:lnTo>
                <a:lnTo>
                  <a:pt x="799" y="54"/>
                </a:lnTo>
                <a:lnTo>
                  <a:pt x="814" y="48"/>
                </a:lnTo>
                <a:lnTo>
                  <a:pt x="830" y="43"/>
                </a:lnTo>
                <a:lnTo>
                  <a:pt x="845" y="37"/>
                </a:lnTo>
                <a:lnTo>
                  <a:pt x="859" y="31"/>
                </a:lnTo>
                <a:lnTo>
                  <a:pt x="872" y="27"/>
                </a:lnTo>
                <a:lnTo>
                  <a:pt x="884" y="23"/>
                </a:lnTo>
                <a:lnTo>
                  <a:pt x="895" y="20"/>
                </a:lnTo>
                <a:lnTo>
                  <a:pt x="907" y="16"/>
                </a:lnTo>
                <a:lnTo>
                  <a:pt x="916" y="12"/>
                </a:lnTo>
                <a:lnTo>
                  <a:pt x="926" y="10"/>
                </a:lnTo>
                <a:lnTo>
                  <a:pt x="935" y="8"/>
                </a:lnTo>
                <a:lnTo>
                  <a:pt x="943" y="6"/>
                </a:lnTo>
                <a:lnTo>
                  <a:pt x="949" y="4"/>
                </a:lnTo>
                <a:lnTo>
                  <a:pt x="956" y="2"/>
                </a:lnTo>
                <a:lnTo>
                  <a:pt x="962" y="2"/>
                </a:lnTo>
                <a:lnTo>
                  <a:pt x="968" y="2"/>
                </a:lnTo>
                <a:lnTo>
                  <a:pt x="972" y="0"/>
                </a:lnTo>
                <a:lnTo>
                  <a:pt x="976" y="2"/>
                </a:lnTo>
                <a:lnTo>
                  <a:pt x="978" y="2"/>
                </a:lnTo>
                <a:lnTo>
                  <a:pt x="980" y="2"/>
                </a:lnTo>
                <a:lnTo>
                  <a:pt x="981" y="4"/>
                </a:lnTo>
                <a:lnTo>
                  <a:pt x="981" y="6"/>
                </a:lnTo>
                <a:lnTo>
                  <a:pt x="980" y="8"/>
                </a:lnTo>
                <a:lnTo>
                  <a:pt x="978" y="10"/>
                </a:lnTo>
                <a:lnTo>
                  <a:pt x="976" y="12"/>
                </a:lnTo>
                <a:lnTo>
                  <a:pt x="972" y="16"/>
                </a:lnTo>
                <a:lnTo>
                  <a:pt x="968" y="20"/>
                </a:lnTo>
                <a:lnTo>
                  <a:pt x="962" y="23"/>
                </a:lnTo>
                <a:lnTo>
                  <a:pt x="956" y="29"/>
                </a:lnTo>
                <a:lnTo>
                  <a:pt x="951" y="35"/>
                </a:lnTo>
                <a:lnTo>
                  <a:pt x="943" y="41"/>
                </a:lnTo>
                <a:lnTo>
                  <a:pt x="933" y="46"/>
                </a:lnTo>
                <a:lnTo>
                  <a:pt x="926" y="52"/>
                </a:lnTo>
                <a:lnTo>
                  <a:pt x="916" y="60"/>
                </a:lnTo>
                <a:lnTo>
                  <a:pt x="905" y="68"/>
                </a:lnTo>
                <a:lnTo>
                  <a:pt x="893" y="75"/>
                </a:lnTo>
                <a:lnTo>
                  <a:pt x="882" y="85"/>
                </a:lnTo>
                <a:lnTo>
                  <a:pt x="870" y="94"/>
                </a:lnTo>
                <a:lnTo>
                  <a:pt x="857" y="104"/>
                </a:lnTo>
                <a:lnTo>
                  <a:pt x="841" y="114"/>
                </a:lnTo>
                <a:lnTo>
                  <a:pt x="826" y="123"/>
                </a:lnTo>
                <a:lnTo>
                  <a:pt x="811" y="135"/>
                </a:lnTo>
                <a:lnTo>
                  <a:pt x="795" y="146"/>
                </a:lnTo>
                <a:lnTo>
                  <a:pt x="778" y="160"/>
                </a:lnTo>
                <a:lnTo>
                  <a:pt x="759" y="171"/>
                </a:lnTo>
                <a:lnTo>
                  <a:pt x="741" y="185"/>
                </a:lnTo>
                <a:lnTo>
                  <a:pt x="722" y="198"/>
                </a:lnTo>
                <a:lnTo>
                  <a:pt x="701" y="212"/>
                </a:lnTo>
                <a:lnTo>
                  <a:pt x="680" y="227"/>
                </a:lnTo>
                <a:lnTo>
                  <a:pt x="659" y="242"/>
                </a:lnTo>
                <a:lnTo>
                  <a:pt x="638" y="258"/>
                </a:lnTo>
                <a:lnTo>
                  <a:pt x="615" y="273"/>
                </a:lnTo>
                <a:lnTo>
                  <a:pt x="592" y="290"/>
                </a:lnTo>
                <a:lnTo>
                  <a:pt x="567" y="306"/>
                </a:lnTo>
                <a:lnTo>
                  <a:pt x="544" y="323"/>
                </a:lnTo>
                <a:lnTo>
                  <a:pt x="521" y="338"/>
                </a:lnTo>
                <a:lnTo>
                  <a:pt x="500" y="354"/>
                </a:lnTo>
                <a:lnTo>
                  <a:pt x="478" y="367"/>
                </a:lnTo>
                <a:lnTo>
                  <a:pt x="457" y="382"/>
                </a:lnTo>
                <a:lnTo>
                  <a:pt x="438" y="396"/>
                </a:lnTo>
                <a:lnTo>
                  <a:pt x="417" y="407"/>
                </a:lnTo>
                <a:lnTo>
                  <a:pt x="398" y="421"/>
                </a:lnTo>
                <a:lnTo>
                  <a:pt x="381" y="432"/>
                </a:lnTo>
                <a:lnTo>
                  <a:pt x="363" y="444"/>
                </a:lnTo>
                <a:lnTo>
                  <a:pt x="346" y="455"/>
                </a:lnTo>
                <a:lnTo>
                  <a:pt x="329" y="465"/>
                </a:lnTo>
                <a:lnTo>
                  <a:pt x="313" y="474"/>
                </a:lnTo>
                <a:lnTo>
                  <a:pt x="298" y="484"/>
                </a:lnTo>
                <a:lnTo>
                  <a:pt x="283" y="494"/>
                </a:lnTo>
                <a:lnTo>
                  <a:pt x="269" y="501"/>
                </a:lnTo>
                <a:lnTo>
                  <a:pt x="256" y="509"/>
                </a:lnTo>
                <a:lnTo>
                  <a:pt x="242" y="517"/>
                </a:lnTo>
                <a:lnTo>
                  <a:pt x="231" y="522"/>
                </a:lnTo>
                <a:lnTo>
                  <a:pt x="219" y="530"/>
                </a:lnTo>
                <a:lnTo>
                  <a:pt x="208" y="536"/>
                </a:lnTo>
                <a:lnTo>
                  <a:pt x="198" y="540"/>
                </a:lnTo>
                <a:lnTo>
                  <a:pt x="189" y="546"/>
                </a:lnTo>
                <a:lnTo>
                  <a:pt x="181" y="549"/>
                </a:lnTo>
                <a:lnTo>
                  <a:pt x="171" y="553"/>
                </a:lnTo>
                <a:lnTo>
                  <a:pt x="166" y="555"/>
                </a:lnTo>
                <a:lnTo>
                  <a:pt x="158" y="557"/>
                </a:lnTo>
                <a:lnTo>
                  <a:pt x="152" y="559"/>
                </a:lnTo>
                <a:lnTo>
                  <a:pt x="146" y="561"/>
                </a:lnTo>
                <a:lnTo>
                  <a:pt x="142" y="563"/>
                </a:lnTo>
                <a:lnTo>
                  <a:pt x="139" y="563"/>
                </a:lnTo>
                <a:lnTo>
                  <a:pt x="131" y="565"/>
                </a:lnTo>
                <a:lnTo>
                  <a:pt x="125" y="565"/>
                </a:lnTo>
                <a:lnTo>
                  <a:pt x="118" y="565"/>
                </a:lnTo>
                <a:lnTo>
                  <a:pt x="112" y="565"/>
                </a:lnTo>
                <a:lnTo>
                  <a:pt x="104" y="563"/>
                </a:lnTo>
                <a:lnTo>
                  <a:pt x="98" y="561"/>
                </a:lnTo>
                <a:lnTo>
                  <a:pt x="91" y="557"/>
                </a:lnTo>
                <a:lnTo>
                  <a:pt x="85" y="551"/>
                </a:lnTo>
                <a:lnTo>
                  <a:pt x="79" y="547"/>
                </a:lnTo>
                <a:lnTo>
                  <a:pt x="73" y="540"/>
                </a:lnTo>
                <a:lnTo>
                  <a:pt x="68" y="532"/>
                </a:lnTo>
                <a:lnTo>
                  <a:pt x="62" y="524"/>
                </a:lnTo>
                <a:lnTo>
                  <a:pt x="56" y="515"/>
                </a:lnTo>
                <a:lnTo>
                  <a:pt x="50" y="503"/>
                </a:lnTo>
                <a:lnTo>
                  <a:pt x="45" y="494"/>
                </a:lnTo>
                <a:lnTo>
                  <a:pt x="41" y="480"/>
                </a:lnTo>
                <a:lnTo>
                  <a:pt x="35" y="471"/>
                </a:lnTo>
                <a:lnTo>
                  <a:pt x="29" y="461"/>
                </a:lnTo>
                <a:lnTo>
                  <a:pt x="23" y="451"/>
                </a:lnTo>
                <a:lnTo>
                  <a:pt x="18" y="442"/>
                </a:lnTo>
                <a:lnTo>
                  <a:pt x="14" y="432"/>
                </a:lnTo>
                <a:lnTo>
                  <a:pt x="10" y="425"/>
                </a:lnTo>
                <a:lnTo>
                  <a:pt x="6" y="415"/>
                </a:lnTo>
                <a:lnTo>
                  <a:pt x="4" y="407"/>
                </a:lnTo>
                <a:lnTo>
                  <a:pt x="2" y="400"/>
                </a:lnTo>
                <a:lnTo>
                  <a:pt x="0" y="390"/>
                </a:lnTo>
                <a:lnTo>
                  <a:pt x="0" y="382"/>
                </a:lnTo>
                <a:lnTo>
                  <a:pt x="0" y="375"/>
                </a:lnTo>
                <a:lnTo>
                  <a:pt x="0" y="367"/>
                </a:lnTo>
                <a:lnTo>
                  <a:pt x="0" y="359"/>
                </a:lnTo>
                <a:lnTo>
                  <a:pt x="2" y="352"/>
                </a:lnTo>
                <a:lnTo>
                  <a:pt x="4" y="3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8"/>
          <p:cNvSpPr/>
          <p:nvPr/>
        </p:nvSpPr>
        <p:spPr>
          <a:xfrm>
            <a:off x="5537160" y="2924280"/>
            <a:ext cx="585720" cy="955440"/>
          </a:xfrm>
          <a:custGeom>
            <a:avLst/>
            <a:gdLst/>
            <a:ahLst/>
            <a:rect l="l" t="t" r="r" b="b"/>
            <a:pathLst>
              <a:path w="738" h="1205">
                <a:moveTo>
                  <a:pt x="738" y="204"/>
                </a:moveTo>
                <a:lnTo>
                  <a:pt x="738" y="205"/>
                </a:lnTo>
                <a:lnTo>
                  <a:pt x="736" y="209"/>
                </a:lnTo>
                <a:lnTo>
                  <a:pt x="736" y="213"/>
                </a:lnTo>
                <a:lnTo>
                  <a:pt x="734" y="219"/>
                </a:lnTo>
                <a:lnTo>
                  <a:pt x="732" y="225"/>
                </a:lnTo>
                <a:lnTo>
                  <a:pt x="728" y="230"/>
                </a:lnTo>
                <a:lnTo>
                  <a:pt x="726" y="236"/>
                </a:lnTo>
                <a:lnTo>
                  <a:pt x="722" y="244"/>
                </a:lnTo>
                <a:lnTo>
                  <a:pt x="716" y="252"/>
                </a:lnTo>
                <a:lnTo>
                  <a:pt x="713" y="259"/>
                </a:lnTo>
                <a:lnTo>
                  <a:pt x="707" y="269"/>
                </a:lnTo>
                <a:lnTo>
                  <a:pt x="701" y="278"/>
                </a:lnTo>
                <a:lnTo>
                  <a:pt x="695" y="290"/>
                </a:lnTo>
                <a:lnTo>
                  <a:pt x="690" y="300"/>
                </a:lnTo>
                <a:lnTo>
                  <a:pt x="682" y="311"/>
                </a:lnTo>
                <a:lnTo>
                  <a:pt x="674" y="324"/>
                </a:lnTo>
                <a:lnTo>
                  <a:pt x="667" y="336"/>
                </a:lnTo>
                <a:lnTo>
                  <a:pt x="657" y="349"/>
                </a:lnTo>
                <a:lnTo>
                  <a:pt x="649" y="363"/>
                </a:lnTo>
                <a:lnTo>
                  <a:pt x="640" y="378"/>
                </a:lnTo>
                <a:lnTo>
                  <a:pt x="630" y="394"/>
                </a:lnTo>
                <a:lnTo>
                  <a:pt x="619" y="409"/>
                </a:lnTo>
                <a:lnTo>
                  <a:pt x="609" y="424"/>
                </a:lnTo>
                <a:lnTo>
                  <a:pt x="597" y="442"/>
                </a:lnTo>
                <a:lnTo>
                  <a:pt x="586" y="459"/>
                </a:lnTo>
                <a:lnTo>
                  <a:pt x="574" y="478"/>
                </a:lnTo>
                <a:lnTo>
                  <a:pt x="561" y="497"/>
                </a:lnTo>
                <a:lnTo>
                  <a:pt x="549" y="516"/>
                </a:lnTo>
                <a:lnTo>
                  <a:pt x="536" y="536"/>
                </a:lnTo>
                <a:lnTo>
                  <a:pt x="523" y="555"/>
                </a:lnTo>
                <a:lnTo>
                  <a:pt x="507" y="576"/>
                </a:lnTo>
                <a:lnTo>
                  <a:pt x="494" y="599"/>
                </a:lnTo>
                <a:lnTo>
                  <a:pt x="478" y="622"/>
                </a:lnTo>
                <a:lnTo>
                  <a:pt x="465" y="643"/>
                </a:lnTo>
                <a:lnTo>
                  <a:pt x="452" y="664"/>
                </a:lnTo>
                <a:lnTo>
                  <a:pt x="438" y="685"/>
                </a:lnTo>
                <a:lnTo>
                  <a:pt x="427" y="705"/>
                </a:lnTo>
                <a:lnTo>
                  <a:pt x="413" y="724"/>
                </a:lnTo>
                <a:lnTo>
                  <a:pt x="402" y="743"/>
                </a:lnTo>
                <a:lnTo>
                  <a:pt x="392" y="760"/>
                </a:lnTo>
                <a:lnTo>
                  <a:pt x="380" y="777"/>
                </a:lnTo>
                <a:lnTo>
                  <a:pt x="371" y="793"/>
                </a:lnTo>
                <a:lnTo>
                  <a:pt x="361" y="808"/>
                </a:lnTo>
                <a:lnTo>
                  <a:pt x="352" y="824"/>
                </a:lnTo>
                <a:lnTo>
                  <a:pt x="342" y="837"/>
                </a:lnTo>
                <a:lnTo>
                  <a:pt x="334" y="850"/>
                </a:lnTo>
                <a:lnTo>
                  <a:pt x="327" y="864"/>
                </a:lnTo>
                <a:lnTo>
                  <a:pt x="321" y="875"/>
                </a:lnTo>
                <a:lnTo>
                  <a:pt x="313" y="887"/>
                </a:lnTo>
                <a:lnTo>
                  <a:pt x="308" y="898"/>
                </a:lnTo>
                <a:lnTo>
                  <a:pt x="302" y="908"/>
                </a:lnTo>
                <a:lnTo>
                  <a:pt x="296" y="918"/>
                </a:lnTo>
                <a:lnTo>
                  <a:pt x="292" y="927"/>
                </a:lnTo>
                <a:lnTo>
                  <a:pt x="288" y="935"/>
                </a:lnTo>
                <a:lnTo>
                  <a:pt x="285" y="943"/>
                </a:lnTo>
                <a:lnTo>
                  <a:pt x="281" y="948"/>
                </a:lnTo>
                <a:lnTo>
                  <a:pt x="279" y="954"/>
                </a:lnTo>
                <a:lnTo>
                  <a:pt x="275" y="960"/>
                </a:lnTo>
                <a:lnTo>
                  <a:pt x="275" y="966"/>
                </a:lnTo>
                <a:lnTo>
                  <a:pt x="273" y="969"/>
                </a:lnTo>
                <a:lnTo>
                  <a:pt x="273" y="973"/>
                </a:lnTo>
                <a:lnTo>
                  <a:pt x="271" y="975"/>
                </a:lnTo>
                <a:lnTo>
                  <a:pt x="273" y="977"/>
                </a:lnTo>
                <a:lnTo>
                  <a:pt x="273" y="979"/>
                </a:lnTo>
                <a:lnTo>
                  <a:pt x="275" y="981"/>
                </a:lnTo>
                <a:lnTo>
                  <a:pt x="277" y="983"/>
                </a:lnTo>
                <a:lnTo>
                  <a:pt x="279" y="983"/>
                </a:lnTo>
                <a:lnTo>
                  <a:pt x="283" y="985"/>
                </a:lnTo>
                <a:lnTo>
                  <a:pt x="286" y="987"/>
                </a:lnTo>
                <a:lnTo>
                  <a:pt x="292" y="987"/>
                </a:lnTo>
                <a:lnTo>
                  <a:pt x="298" y="989"/>
                </a:lnTo>
                <a:lnTo>
                  <a:pt x="304" y="991"/>
                </a:lnTo>
                <a:lnTo>
                  <a:pt x="309" y="991"/>
                </a:lnTo>
                <a:lnTo>
                  <a:pt x="317" y="992"/>
                </a:lnTo>
                <a:lnTo>
                  <a:pt x="325" y="994"/>
                </a:lnTo>
                <a:lnTo>
                  <a:pt x="334" y="996"/>
                </a:lnTo>
                <a:lnTo>
                  <a:pt x="342" y="996"/>
                </a:lnTo>
                <a:lnTo>
                  <a:pt x="352" y="998"/>
                </a:lnTo>
                <a:lnTo>
                  <a:pt x="363" y="1000"/>
                </a:lnTo>
                <a:lnTo>
                  <a:pt x="375" y="1002"/>
                </a:lnTo>
                <a:lnTo>
                  <a:pt x="386" y="1004"/>
                </a:lnTo>
                <a:lnTo>
                  <a:pt x="398" y="1004"/>
                </a:lnTo>
                <a:lnTo>
                  <a:pt x="411" y="1006"/>
                </a:lnTo>
                <a:lnTo>
                  <a:pt x="425" y="1008"/>
                </a:lnTo>
                <a:lnTo>
                  <a:pt x="440" y="1010"/>
                </a:lnTo>
                <a:lnTo>
                  <a:pt x="455" y="1012"/>
                </a:lnTo>
                <a:lnTo>
                  <a:pt x="471" y="1014"/>
                </a:lnTo>
                <a:lnTo>
                  <a:pt x="486" y="1015"/>
                </a:lnTo>
                <a:lnTo>
                  <a:pt x="503" y="1017"/>
                </a:lnTo>
                <a:lnTo>
                  <a:pt x="521" y="1019"/>
                </a:lnTo>
                <a:lnTo>
                  <a:pt x="540" y="1021"/>
                </a:lnTo>
                <a:lnTo>
                  <a:pt x="557" y="1025"/>
                </a:lnTo>
                <a:lnTo>
                  <a:pt x="578" y="1027"/>
                </a:lnTo>
                <a:lnTo>
                  <a:pt x="597" y="1029"/>
                </a:lnTo>
                <a:lnTo>
                  <a:pt x="619" y="1031"/>
                </a:lnTo>
                <a:lnTo>
                  <a:pt x="640" y="1035"/>
                </a:lnTo>
                <a:lnTo>
                  <a:pt x="640" y="1115"/>
                </a:lnTo>
                <a:lnTo>
                  <a:pt x="599" y="1115"/>
                </a:lnTo>
                <a:lnTo>
                  <a:pt x="559" y="1115"/>
                </a:lnTo>
                <a:lnTo>
                  <a:pt x="521" y="1115"/>
                </a:lnTo>
                <a:lnTo>
                  <a:pt x="484" y="1115"/>
                </a:lnTo>
                <a:lnTo>
                  <a:pt x="448" y="1115"/>
                </a:lnTo>
                <a:lnTo>
                  <a:pt x="413" y="1115"/>
                </a:lnTo>
                <a:lnTo>
                  <a:pt x="379" y="1115"/>
                </a:lnTo>
                <a:lnTo>
                  <a:pt x="346" y="1115"/>
                </a:lnTo>
                <a:lnTo>
                  <a:pt x="315" y="1121"/>
                </a:lnTo>
                <a:lnTo>
                  <a:pt x="285" y="1127"/>
                </a:lnTo>
                <a:lnTo>
                  <a:pt x="256" y="1133"/>
                </a:lnTo>
                <a:lnTo>
                  <a:pt x="229" y="1138"/>
                </a:lnTo>
                <a:lnTo>
                  <a:pt x="204" y="1144"/>
                </a:lnTo>
                <a:lnTo>
                  <a:pt x="190" y="1148"/>
                </a:lnTo>
                <a:lnTo>
                  <a:pt x="179" y="1152"/>
                </a:lnTo>
                <a:lnTo>
                  <a:pt x="169" y="1156"/>
                </a:lnTo>
                <a:lnTo>
                  <a:pt x="158" y="1161"/>
                </a:lnTo>
                <a:lnTo>
                  <a:pt x="148" y="1165"/>
                </a:lnTo>
                <a:lnTo>
                  <a:pt x="139" y="1171"/>
                </a:lnTo>
                <a:lnTo>
                  <a:pt x="127" y="1177"/>
                </a:lnTo>
                <a:lnTo>
                  <a:pt x="117" y="1184"/>
                </a:lnTo>
                <a:lnTo>
                  <a:pt x="108" y="1190"/>
                </a:lnTo>
                <a:lnTo>
                  <a:pt x="100" y="1194"/>
                </a:lnTo>
                <a:lnTo>
                  <a:pt x="93" y="1198"/>
                </a:lnTo>
                <a:lnTo>
                  <a:pt x="85" y="1202"/>
                </a:lnTo>
                <a:lnTo>
                  <a:pt x="77" y="1204"/>
                </a:lnTo>
                <a:lnTo>
                  <a:pt x="71" y="1205"/>
                </a:lnTo>
                <a:lnTo>
                  <a:pt x="66" y="1205"/>
                </a:lnTo>
                <a:lnTo>
                  <a:pt x="62" y="1205"/>
                </a:lnTo>
                <a:lnTo>
                  <a:pt x="56" y="1205"/>
                </a:lnTo>
                <a:lnTo>
                  <a:pt x="52" y="1205"/>
                </a:lnTo>
                <a:lnTo>
                  <a:pt x="50" y="1204"/>
                </a:lnTo>
                <a:lnTo>
                  <a:pt x="46" y="1202"/>
                </a:lnTo>
                <a:lnTo>
                  <a:pt x="41" y="1198"/>
                </a:lnTo>
                <a:lnTo>
                  <a:pt x="37" y="1192"/>
                </a:lnTo>
                <a:lnTo>
                  <a:pt x="31" y="1184"/>
                </a:lnTo>
                <a:lnTo>
                  <a:pt x="29" y="1181"/>
                </a:lnTo>
                <a:lnTo>
                  <a:pt x="27" y="1175"/>
                </a:lnTo>
                <a:lnTo>
                  <a:pt x="25" y="1169"/>
                </a:lnTo>
                <a:lnTo>
                  <a:pt x="23" y="1163"/>
                </a:lnTo>
                <a:lnTo>
                  <a:pt x="20" y="1158"/>
                </a:lnTo>
                <a:lnTo>
                  <a:pt x="18" y="1150"/>
                </a:lnTo>
                <a:lnTo>
                  <a:pt x="16" y="1140"/>
                </a:lnTo>
                <a:lnTo>
                  <a:pt x="14" y="1133"/>
                </a:lnTo>
                <a:lnTo>
                  <a:pt x="12" y="1123"/>
                </a:lnTo>
                <a:lnTo>
                  <a:pt x="10" y="1111"/>
                </a:lnTo>
                <a:lnTo>
                  <a:pt x="6" y="1100"/>
                </a:lnTo>
                <a:lnTo>
                  <a:pt x="4" y="1088"/>
                </a:lnTo>
                <a:lnTo>
                  <a:pt x="2" y="1079"/>
                </a:lnTo>
                <a:lnTo>
                  <a:pt x="0" y="1069"/>
                </a:lnTo>
                <a:lnTo>
                  <a:pt x="0" y="1060"/>
                </a:lnTo>
                <a:lnTo>
                  <a:pt x="0" y="1050"/>
                </a:lnTo>
                <a:lnTo>
                  <a:pt x="0" y="1042"/>
                </a:lnTo>
                <a:lnTo>
                  <a:pt x="2" y="1033"/>
                </a:lnTo>
                <a:lnTo>
                  <a:pt x="4" y="1025"/>
                </a:lnTo>
                <a:lnTo>
                  <a:pt x="6" y="1017"/>
                </a:lnTo>
                <a:lnTo>
                  <a:pt x="10" y="1010"/>
                </a:lnTo>
                <a:lnTo>
                  <a:pt x="14" y="1002"/>
                </a:lnTo>
                <a:lnTo>
                  <a:pt x="18" y="996"/>
                </a:lnTo>
                <a:lnTo>
                  <a:pt x="23" y="989"/>
                </a:lnTo>
                <a:lnTo>
                  <a:pt x="29" y="983"/>
                </a:lnTo>
                <a:lnTo>
                  <a:pt x="37" y="977"/>
                </a:lnTo>
                <a:lnTo>
                  <a:pt x="45" y="971"/>
                </a:lnTo>
                <a:lnTo>
                  <a:pt x="54" y="966"/>
                </a:lnTo>
                <a:lnTo>
                  <a:pt x="62" y="962"/>
                </a:lnTo>
                <a:lnTo>
                  <a:pt x="73" y="958"/>
                </a:lnTo>
                <a:lnTo>
                  <a:pt x="83" y="950"/>
                </a:lnTo>
                <a:lnTo>
                  <a:pt x="94" y="943"/>
                </a:lnTo>
                <a:lnTo>
                  <a:pt x="106" y="933"/>
                </a:lnTo>
                <a:lnTo>
                  <a:pt x="117" y="921"/>
                </a:lnTo>
                <a:lnTo>
                  <a:pt x="131" y="910"/>
                </a:lnTo>
                <a:lnTo>
                  <a:pt x="144" y="895"/>
                </a:lnTo>
                <a:lnTo>
                  <a:pt x="158" y="879"/>
                </a:lnTo>
                <a:lnTo>
                  <a:pt x="171" y="860"/>
                </a:lnTo>
                <a:lnTo>
                  <a:pt x="185" y="841"/>
                </a:lnTo>
                <a:lnTo>
                  <a:pt x="200" y="822"/>
                </a:lnTo>
                <a:lnTo>
                  <a:pt x="215" y="799"/>
                </a:lnTo>
                <a:lnTo>
                  <a:pt x="231" y="774"/>
                </a:lnTo>
                <a:lnTo>
                  <a:pt x="246" y="749"/>
                </a:lnTo>
                <a:lnTo>
                  <a:pt x="261" y="722"/>
                </a:lnTo>
                <a:lnTo>
                  <a:pt x="292" y="666"/>
                </a:lnTo>
                <a:lnTo>
                  <a:pt x="323" y="610"/>
                </a:lnTo>
                <a:lnTo>
                  <a:pt x="352" y="559"/>
                </a:lnTo>
                <a:lnTo>
                  <a:pt x="379" y="507"/>
                </a:lnTo>
                <a:lnTo>
                  <a:pt x="404" y="457"/>
                </a:lnTo>
                <a:lnTo>
                  <a:pt x="417" y="432"/>
                </a:lnTo>
                <a:lnTo>
                  <a:pt x="428" y="407"/>
                </a:lnTo>
                <a:lnTo>
                  <a:pt x="438" y="382"/>
                </a:lnTo>
                <a:lnTo>
                  <a:pt x="450" y="359"/>
                </a:lnTo>
                <a:lnTo>
                  <a:pt x="459" y="336"/>
                </a:lnTo>
                <a:lnTo>
                  <a:pt x="469" y="313"/>
                </a:lnTo>
                <a:lnTo>
                  <a:pt x="478" y="290"/>
                </a:lnTo>
                <a:lnTo>
                  <a:pt x="486" y="269"/>
                </a:lnTo>
                <a:lnTo>
                  <a:pt x="492" y="248"/>
                </a:lnTo>
                <a:lnTo>
                  <a:pt x="498" y="229"/>
                </a:lnTo>
                <a:lnTo>
                  <a:pt x="503" y="209"/>
                </a:lnTo>
                <a:lnTo>
                  <a:pt x="509" y="192"/>
                </a:lnTo>
                <a:lnTo>
                  <a:pt x="513" y="175"/>
                </a:lnTo>
                <a:lnTo>
                  <a:pt x="515" y="159"/>
                </a:lnTo>
                <a:lnTo>
                  <a:pt x="519" y="144"/>
                </a:lnTo>
                <a:lnTo>
                  <a:pt x="521" y="131"/>
                </a:lnTo>
                <a:lnTo>
                  <a:pt x="521" y="117"/>
                </a:lnTo>
                <a:lnTo>
                  <a:pt x="523" y="106"/>
                </a:lnTo>
                <a:lnTo>
                  <a:pt x="523" y="94"/>
                </a:lnTo>
                <a:lnTo>
                  <a:pt x="521" y="85"/>
                </a:lnTo>
                <a:lnTo>
                  <a:pt x="521" y="75"/>
                </a:lnTo>
                <a:lnTo>
                  <a:pt x="519" y="67"/>
                </a:lnTo>
                <a:lnTo>
                  <a:pt x="513" y="52"/>
                </a:lnTo>
                <a:lnTo>
                  <a:pt x="511" y="40"/>
                </a:lnTo>
                <a:lnTo>
                  <a:pt x="509" y="27"/>
                </a:lnTo>
                <a:lnTo>
                  <a:pt x="511" y="17"/>
                </a:lnTo>
                <a:lnTo>
                  <a:pt x="511" y="14"/>
                </a:lnTo>
                <a:lnTo>
                  <a:pt x="513" y="10"/>
                </a:lnTo>
                <a:lnTo>
                  <a:pt x="513" y="6"/>
                </a:lnTo>
                <a:lnTo>
                  <a:pt x="517" y="4"/>
                </a:lnTo>
                <a:lnTo>
                  <a:pt x="519" y="2"/>
                </a:lnTo>
                <a:lnTo>
                  <a:pt x="523" y="0"/>
                </a:lnTo>
                <a:lnTo>
                  <a:pt x="526" y="0"/>
                </a:lnTo>
                <a:lnTo>
                  <a:pt x="530" y="0"/>
                </a:lnTo>
                <a:lnTo>
                  <a:pt x="534" y="0"/>
                </a:lnTo>
                <a:lnTo>
                  <a:pt x="540" y="0"/>
                </a:lnTo>
                <a:lnTo>
                  <a:pt x="546" y="2"/>
                </a:lnTo>
                <a:lnTo>
                  <a:pt x="551" y="4"/>
                </a:lnTo>
                <a:lnTo>
                  <a:pt x="557" y="6"/>
                </a:lnTo>
                <a:lnTo>
                  <a:pt x="563" y="10"/>
                </a:lnTo>
                <a:lnTo>
                  <a:pt x="571" y="14"/>
                </a:lnTo>
                <a:lnTo>
                  <a:pt x="578" y="17"/>
                </a:lnTo>
                <a:lnTo>
                  <a:pt x="586" y="23"/>
                </a:lnTo>
                <a:lnTo>
                  <a:pt x="594" y="27"/>
                </a:lnTo>
                <a:lnTo>
                  <a:pt x="601" y="33"/>
                </a:lnTo>
                <a:lnTo>
                  <a:pt x="611" y="38"/>
                </a:lnTo>
                <a:lnTo>
                  <a:pt x="620" y="46"/>
                </a:lnTo>
                <a:lnTo>
                  <a:pt x="630" y="52"/>
                </a:lnTo>
                <a:lnTo>
                  <a:pt x="642" y="60"/>
                </a:lnTo>
                <a:lnTo>
                  <a:pt x="653" y="67"/>
                </a:lnTo>
                <a:lnTo>
                  <a:pt x="663" y="77"/>
                </a:lnTo>
                <a:lnTo>
                  <a:pt x="674" y="86"/>
                </a:lnTo>
                <a:lnTo>
                  <a:pt x="682" y="96"/>
                </a:lnTo>
                <a:lnTo>
                  <a:pt x="691" y="106"/>
                </a:lnTo>
                <a:lnTo>
                  <a:pt x="699" y="115"/>
                </a:lnTo>
                <a:lnTo>
                  <a:pt x="705" y="123"/>
                </a:lnTo>
                <a:lnTo>
                  <a:pt x="713" y="133"/>
                </a:lnTo>
                <a:lnTo>
                  <a:pt x="718" y="140"/>
                </a:lnTo>
                <a:lnTo>
                  <a:pt x="722" y="150"/>
                </a:lnTo>
                <a:lnTo>
                  <a:pt x="726" y="157"/>
                </a:lnTo>
                <a:lnTo>
                  <a:pt x="730" y="165"/>
                </a:lnTo>
                <a:lnTo>
                  <a:pt x="734" y="173"/>
                </a:lnTo>
                <a:lnTo>
                  <a:pt x="736" y="181"/>
                </a:lnTo>
                <a:lnTo>
                  <a:pt x="736" y="188"/>
                </a:lnTo>
                <a:lnTo>
                  <a:pt x="738" y="196"/>
                </a:lnTo>
                <a:lnTo>
                  <a:pt x="738" y="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49"/>
          <p:cNvSpPr/>
          <p:nvPr/>
        </p:nvSpPr>
        <p:spPr>
          <a:xfrm>
            <a:off x="5627520" y="3290760"/>
            <a:ext cx="747720" cy="1047960"/>
          </a:xfrm>
          <a:custGeom>
            <a:avLst/>
            <a:gdLst/>
            <a:ahLst/>
            <a:rect l="l" t="t" r="r" b="b"/>
            <a:pathLst>
              <a:path w="942" h="1320">
                <a:moveTo>
                  <a:pt x="0" y="1144"/>
                </a:moveTo>
                <a:lnTo>
                  <a:pt x="2" y="1138"/>
                </a:lnTo>
                <a:lnTo>
                  <a:pt x="2" y="1132"/>
                </a:lnTo>
                <a:lnTo>
                  <a:pt x="3" y="1128"/>
                </a:lnTo>
                <a:lnTo>
                  <a:pt x="5" y="1123"/>
                </a:lnTo>
                <a:lnTo>
                  <a:pt x="7" y="1117"/>
                </a:lnTo>
                <a:lnTo>
                  <a:pt x="11" y="1113"/>
                </a:lnTo>
                <a:lnTo>
                  <a:pt x="15" y="1107"/>
                </a:lnTo>
                <a:lnTo>
                  <a:pt x="21" y="1101"/>
                </a:lnTo>
                <a:lnTo>
                  <a:pt x="27" y="1098"/>
                </a:lnTo>
                <a:lnTo>
                  <a:pt x="32" y="1092"/>
                </a:lnTo>
                <a:lnTo>
                  <a:pt x="40" y="1086"/>
                </a:lnTo>
                <a:lnTo>
                  <a:pt x="48" y="1082"/>
                </a:lnTo>
                <a:lnTo>
                  <a:pt x="55" y="1076"/>
                </a:lnTo>
                <a:lnTo>
                  <a:pt x="65" y="1071"/>
                </a:lnTo>
                <a:lnTo>
                  <a:pt x="75" y="1067"/>
                </a:lnTo>
                <a:lnTo>
                  <a:pt x="86" y="1061"/>
                </a:lnTo>
                <a:lnTo>
                  <a:pt x="96" y="1055"/>
                </a:lnTo>
                <a:lnTo>
                  <a:pt x="105" y="1048"/>
                </a:lnTo>
                <a:lnTo>
                  <a:pt x="117" y="1038"/>
                </a:lnTo>
                <a:lnTo>
                  <a:pt x="130" y="1027"/>
                </a:lnTo>
                <a:lnTo>
                  <a:pt x="144" y="1013"/>
                </a:lnTo>
                <a:lnTo>
                  <a:pt x="157" y="998"/>
                </a:lnTo>
                <a:lnTo>
                  <a:pt x="172" y="980"/>
                </a:lnTo>
                <a:lnTo>
                  <a:pt x="190" y="961"/>
                </a:lnTo>
                <a:lnTo>
                  <a:pt x="207" y="940"/>
                </a:lnTo>
                <a:lnTo>
                  <a:pt x="224" y="919"/>
                </a:lnTo>
                <a:lnTo>
                  <a:pt x="243" y="894"/>
                </a:lnTo>
                <a:lnTo>
                  <a:pt x="265" y="869"/>
                </a:lnTo>
                <a:lnTo>
                  <a:pt x="286" y="840"/>
                </a:lnTo>
                <a:lnTo>
                  <a:pt x="307" y="812"/>
                </a:lnTo>
                <a:lnTo>
                  <a:pt x="330" y="781"/>
                </a:lnTo>
                <a:lnTo>
                  <a:pt x="355" y="748"/>
                </a:lnTo>
                <a:lnTo>
                  <a:pt x="380" y="716"/>
                </a:lnTo>
                <a:lnTo>
                  <a:pt x="403" y="683"/>
                </a:lnTo>
                <a:lnTo>
                  <a:pt x="426" y="650"/>
                </a:lnTo>
                <a:lnTo>
                  <a:pt x="449" y="620"/>
                </a:lnTo>
                <a:lnTo>
                  <a:pt x="470" y="589"/>
                </a:lnTo>
                <a:lnTo>
                  <a:pt x="491" y="560"/>
                </a:lnTo>
                <a:lnTo>
                  <a:pt x="510" y="531"/>
                </a:lnTo>
                <a:lnTo>
                  <a:pt x="530" y="503"/>
                </a:lnTo>
                <a:lnTo>
                  <a:pt x="549" y="476"/>
                </a:lnTo>
                <a:lnTo>
                  <a:pt x="568" y="449"/>
                </a:lnTo>
                <a:lnTo>
                  <a:pt x="585" y="422"/>
                </a:lnTo>
                <a:lnTo>
                  <a:pt x="601" y="395"/>
                </a:lnTo>
                <a:lnTo>
                  <a:pt x="616" y="370"/>
                </a:lnTo>
                <a:lnTo>
                  <a:pt x="631" y="345"/>
                </a:lnTo>
                <a:lnTo>
                  <a:pt x="647" y="322"/>
                </a:lnTo>
                <a:lnTo>
                  <a:pt x="660" y="299"/>
                </a:lnTo>
                <a:lnTo>
                  <a:pt x="672" y="276"/>
                </a:lnTo>
                <a:lnTo>
                  <a:pt x="681" y="255"/>
                </a:lnTo>
                <a:lnTo>
                  <a:pt x="691" y="236"/>
                </a:lnTo>
                <a:lnTo>
                  <a:pt x="700" y="217"/>
                </a:lnTo>
                <a:lnTo>
                  <a:pt x="710" y="199"/>
                </a:lnTo>
                <a:lnTo>
                  <a:pt x="718" y="182"/>
                </a:lnTo>
                <a:lnTo>
                  <a:pt x="723" y="167"/>
                </a:lnTo>
                <a:lnTo>
                  <a:pt x="731" y="151"/>
                </a:lnTo>
                <a:lnTo>
                  <a:pt x="735" y="138"/>
                </a:lnTo>
                <a:lnTo>
                  <a:pt x="741" y="126"/>
                </a:lnTo>
                <a:lnTo>
                  <a:pt x="745" y="115"/>
                </a:lnTo>
                <a:lnTo>
                  <a:pt x="746" y="103"/>
                </a:lnTo>
                <a:lnTo>
                  <a:pt x="748" y="94"/>
                </a:lnTo>
                <a:lnTo>
                  <a:pt x="748" y="84"/>
                </a:lnTo>
                <a:lnTo>
                  <a:pt x="748" y="75"/>
                </a:lnTo>
                <a:lnTo>
                  <a:pt x="746" y="67"/>
                </a:lnTo>
                <a:lnTo>
                  <a:pt x="745" y="59"/>
                </a:lnTo>
                <a:lnTo>
                  <a:pt x="743" y="53"/>
                </a:lnTo>
                <a:lnTo>
                  <a:pt x="741" y="48"/>
                </a:lnTo>
                <a:lnTo>
                  <a:pt x="739" y="42"/>
                </a:lnTo>
                <a:lnTo>
                  <a:pt x="739" y="30"/>
                </a:lnTo>
                <a:lnTo>
                  <a:pt x="739" y="23"/>
                </a:lnTo>
                <a:lnTo>
                  <a:pt x="741" y="15"/>
                </a:lnTo>
                <a:lnTo>
                  <a:pt x="743" y="13"/>
                </a:lnTo>
                <a:lnTo>
                  <a:pt x="745" y="9"/>
                </a:lnTo>
                <a:lnTo>
                  <a:pt x="746" y="7"/>
                </a:lnTo>
                <a:lnTo>
                  <a:pt x="750" y="4"/>
                </a:lnTo>
                <a:lnTo>
                  <a:pt x="754" y="2"/>
                </a:lnTo>
                <a:lnTo>
                  <a:pt x="758" y="0"/>
                </a:lnTo>
                <a:lnTo>
                  <a:pt x="764" y="0"/>
                </a:lnTo>
                <a:lnTo>
                  <a:pt x="768" y="0"/>
                </a:lnTo>
                <a:lnTo>
                  <a:pt x="773" y="2"/>
                </a:lnTo>
                <a:lnTo>
                  <a:pt x="779" y="4"/>
                </a:lnTo>
                <a:lnTo>
                  <a:pt x="785" y="7"/>
                </a:lnTo>
                <a:lnTo>
                  <a:pt x="791" y="9"/>
                </a:lnTo>
                <a:lnTo>
                  <a:pt x="798" y="13"/>
                </a:lnTo>
                <a:lnTo>
                  <a:pt x="804" y="17"/>
                </a:lnTo>
                <a:lnTo>
                  <a:pt x="812" y="23"/>
                </a:lnTo>
                <a:lnTo>
                  <a:pt x="819" y="28"/>
                </a:lnTo>
                <a:lnTo>
                  <a:pt x="835" y="40"/>
                </a:lnTo>
                <a:lnTo>
                  <a:pt x="850" y="52"/>
                </a:lnTo>
                <a:lnTo>
                  <a:pt x="867" y="67"/>
                </a:lnTo>
                <a:lnTo>
                  <a:pt x="877" y="76"/>
                </a:lnTo>
                <a:lnTo>
                  <a:pt x="885" y="88"/>
                </a:lnTo>
                <a:lnTo>
                  <a:pt x="892" y="96"/>
                </a:lnTo>
                <a:lnTo>
                  <a:pt x="900" y="105"/>
                </a:lnTo>
                <a:lnTo>
                  <a:pt x="906" y="115"/>
                </a:lnTo>
                <a:lnTo>
                  <a:pt x="913" y="123"/>
                </a:lnTo>
                <a:lnTo>
                  <a:pt x="917" y="130"/>
                </a:lnTo>
                <a:lnTo>
                  <a:pt x="923" y="138"/>
                </a:lnTo>
                <a:lnTo>
                  <a:pt x="927" y="144"/>
                </a:lnTo>
                <a:lnTo>
                  <a:pt x="931" y="149"/>
                </a:lnTo>
                <a:lnTo>
                  <a:pt x="935" y="155"/>
                </a:lnTo>
                <a:lnTo>
                  <a:pt x="936" y="161"/>
                </a:lnTo>
                <a:lnTo>
                  <a:pt x="938" y="167"/>
                </a:lnTo>
                <a:lnTo>
                  <a:pt x="940" y="171"/>
                </a:lnTo>
                <a:lnTo>
                  <a:pt x="940" y="172"/>
                </a:lnTo>
                <a:lnTo>
                  <a:pt x="942" y="176"/>
                </a:lnTo>
                <a:lnTo>
                  <a:pt x="940" y="182"/>
                </a:lnTo>
                <a:lnTo>
                  <a:pt x="940" y="188"/>
                </a:lnTo>
                <a:lnTo>
                  <a:pt x="938" y="194"/>
                </a:lnTo>
                <a:lnTo>
                  <a:pt x="935" y="201"/>
                </a:lnTo>
                <a:lnTo>
                  <a:pt x="931" y="211"/>
                </a:lnTo>
                <a:lnTo>
                  <a:pt x="925" y="218"/>
                </a:lnTo>
                <a:lnTo>
                  <a:pt x="919" y="228"/>
                </a:lnTo>
                <a:lnTo>
                  <a:pt x="912" y="240"/>
                </a:lnTo>
                <a:lnTo>
                  <a:pt x="904" y="249"/>
                </a:lnTo>
                <a:lnTo>
                  <a:pt x="894" y="263"/>
                </a:lnTo>
                <a:lnTo>
                  <a:pt x="885" y="274"/>
                </a:lnTo>
                <a:lnTo>
                  <a:pt x="873" y="290"/>
                </a:lnTo>
                <a:lnTo>
                  <a:pt x="862" y="303"/>
                </a:lnTo>
                <a:lnTo>
                  <a:pt x="848" y="318"/>
                </a:lnTo>
                <a:lnTo>
                  <a:pt x="835" y="336"/>
                </a:lnTo>
                <a:lnTo>
                  <a:pt x="819" y="353"/>
                </a:lnTo>
                <a:lnTo>
                  <a:pt x="802" y="372"/>
                </a:lnTo>
                <a:lnTo>
                  <a:pt x="787" y="391"/>
                </a:lnTo>
                <a:lnTo>
                  <a:pt x="769" y="410"/>
                </a:lnTo>
                <a:lnTo>
                  <a:pt x="750" y="432"/>
                </a:lnTo>
                <a:lnTo>
                  <a:pt x="731" y="455"/>
                </a:lnTo>
                <a:lnTo>
                  <a:pt x="712" y="478"/>
                </a:lnTo>
                <a:lnTo>
                  <a:pt x="693" y="503"/>
                </a:lnTo>
                <a:lnTo>
                  <a:pt x="672" y="528"/>
                </a:lnTo>
                <a:lnTo>
                  <a:pt x="650" y="552"/>
                </a:lnTo>
                <a:lnTo>
                  <a:pt x="629" y="579"/>
                </a:lnTo>
                <a:lnTo>
                  <a:pt x="608" y="608"/>
                </a:lnTo>
                <a:lnTo>
                  <a:pt x="585" y="637"/>
                </a:lnTo>
                <a:lnTo>
                  <a:pt x="562" y="666"/>
                </a:lnTo>
                <a:lnTo>
                  <a:pt x="539" y="696"/>
                </a:lnTo>
                <a:lnTo>
                  <a:pt x="514" y="729"/>
                </a:lnTo>
                <a:lnTo>
                  <a:pt x="489" y="762"/>
                </a:lnTo>
                <a:lnTo>
                  <a:pt x="478" y="779"/>
                </a:lnTo>
                <a:lnTo>
                  <a:pt x="466" y="794"/>
                </a:lnTo>
                <a:lnTo>
                  <a:pt x="455" y="810"/>
                </a:lnTo>
                <a:lnTo>
                  <a:pt x="443" y="823"/>
                </a:lnTo>
                <a:lnTo>
                  <a:pt x="434" y="838"/>
                </a:lnTo>
                <a:lnTo>
                  <a:pt x="424" y="852"/>
                </a:lnTo>
                <a:lnTo>
                  <a:pt x="414" y="865"/>
                </a:lnTo>
                <a:lnTo>
                  <a:pt x="405" y="877"/>
                </a:lnTo>
                <a:lnTo>
                  <a:pt x="397" y="890"/>
                </a:lnTo>
                <a:lnTo>
                  <a:pt x="389" y="902"/>
                </a:lnTo>
                <a:lnTo>
                  <a:pt x="382" y="911"/>
                </a:lnTo>
                <a:lnTo>
                  <a:pt x="374" y="923"/>
                </a:lnTo>
                <a:lnTo>
                  <a:pt x="366" y="933"/>
                </a:lnTo>
                <a:lnTo>
                  <a:pt x="361" y="942"/>
                </a:lnTo>
                <a:lnTo>
                  <a:pt x="355" y="952"/>
                </a:lnTo>
                <a:lnTo>
                  <a:pt x="349" y="959"/>
                </a:lnTo>
                <a:lnTo>
                  <a:pt x="345" y="967"/>
                </a:lnTo>
                <a:lnTo>
                  <a:pt x="339" y="975"/>
                </a:lnTo>
                <a:lnTo>
                  <a:pt x="332" y="988"/>
                </a:lnTo>
                <a:lnTo>
                  <a:pt x="326" y="1002"/>
                </a:lnTo>
                <a:lnTo>
                  <a:pt x="320" y="1011"/>
                </a:lnTo>
                <a:lnTo>
                  <a:pt x="318" y="1019"/>
                </a:lnTo>
                <a:lnTo>
                  <a:pt x="316" y="1027"/>
                </a:lnTo>
                <a:lnTo>
                  <a:pt x="316" y="1030"/>
                </a:lnTo>
                <a:lnTo>
                  <a:pt x="318" y="1034"/>
                </a:lnTo>
                <a:lnTo>
                  <a:pt x="320" y="1036"/>
                </a:lnTo>
                <a:lnTo>
                  <a:pt x="326" y="1038"/>
                </a:lnTo>
                <a:lnTo>
                  <a:pt x="332" y="1038"/>
                </a:lnTo>
                <a:lnTo>
                  <a:pt x="339" y="1040"/>
                </a:lnTo>
                <a:lnTo>
                  <a:pt x="349" y="1040"/>
                </a:lnTo>
                <a:lnTo>
                  <a:pt x="359" y="1038"/>
                </a:lnTo>
                <a:lnTo>
                  <a:pt x="372" y="1036"/>
                </a:lnTo>
                <a:lnTo>
                  <a:pt x="386" y="1034"/>
                </a:lnTo>
                <a:lnTo>
                  <a:pt x="401" y="1032"/>
                </a:lnTo>
                <a:lnTo>
                  <a:pt x="418" y="1028"/>
                </a:lnTo>
                <a:lnTo>
                  <a:pt x="437" y="1025"/>
                </a:lnTo>
                <a:lnTo>
                  <a:pt x="458" y="1019"/>
                </a:lnTo>
                <a:lnTo>
                  <a:pt x="482" y="1013"/>
                </a:lnTo>
                <a:lnTo>
                  <a:pt x="506" y="1007"/>
                </a:lnTo>
                <a:lnTo>
                  <a:pt x="520" y="1004"/>
                </a:lnTo>
                <a:lnTo>
                  <a:pt x="533" y="1002"/>
                </a:lnTo>
                <a:lnTo>
                  <a:pt x="549" y="998"/>
                </a:lnTo>
                <a:lnTo>
                  <a:pt x="562" y="994"/>
                </a:lnTo>
                <a:lnTo>
                  <a:pt x="589" y="986"/>
                </a:lnTo>
                <a:lnTo>
                  <a:pt x="614" y="979"/>
                </a:lnTo>
                <a:lnTo>
                  <a:pt x="637" y="975"/>
                </a:lnTo>
                <a:lnTo>
                  <a:pt x="660" y="969"/>
                </a:lnTo>
                <a:lnTo>
                  <a:pt x="679" y="965"/>
                </a:lnTo>
                <a:lnTo>
                  <a:pt x="697" y="963"/>
                </a:lnTo>
                <a:lnTo>
                  <a:pt x="714" y="961"/>
                </a:lnTo>
                <a:lnTo>
                  <a:pt x="729" y="959"/>
                </a:lnTo>
                <a:lnTo>
                  <a:pt x="743" y="957"/>
                </a:lnTo>
                <a:lnTo>
                  <a:pt x="754" y="957"/>
                </a:lnTo>
                <a:lnTo>
                  <a:pt x="766" y="957"/>
                </a:lnTo>
                <a:lnTo>
                  <a:pt x="773" y="959"/>
                </a:lnTo>
                <a:lnTo>
                  <a:pt x="781" y="959"/>
                </a:lnTo>
                <a:lnTo>
                  <a:pt x="787" y="961"/>
                </a:lnTo>
                <a:lnTo>
                  <a:pt x="793" y="963"/>
                </a:lnTo>
                <a:lnTo>
                  <a:pt x="794" y="965"/>
                </a:lnTo>
                <a:lnTo>
                  <a:pt x="794" y="967"/>
                </a:lnTo>
                <a:lnTo>
                  <a:pt x="794" y="969"/>
                </a:lnTo>
                <a:lnTo>
                  <a:pt x="793" y="971"/>
                </a:lnTo>
                <a:lnTo>
                  <a:pt x="791" y="973"/>
                </a:lnTo>
                <a:lnTo>
                  <a:pt x="789" y="975"/>
                </a:lnTo>
                <a:lnTo>
                  <a:pt x="787" y="977"/>
                </a:lnTo>
                <a:lnTo>
                  <a:pt x="783" y="980"/>
                </a:lnTo>
                <a:lnTo>
                  <a:pt x="779" y="982"/>
                </a:lnTo>
                <a:lnTo>
                  <a:pt x="775" y="986"/>
                </a:lnTo>
                <a:lnTo>
                  <a:pt x="769" y="990"/>
                </a:lnTo>
                <a:lnTo>
                  <a:pt x="764" y="994"/>
                </a:lnTo>
                <a:lnTo>
                  <a:pt x="758" y="996"/>
                </a:lnTo>
                <a:lnTo>
                  <a:pt x="752" y="1000"/>
                </a:lnTo>
                <a:lnTo>
                  <a:pt x="745" y="1005"/>
                </a:lnTo>
                <a:lnTo>
                  <a:pt x="737" y="1009"/>
                </a:lnTo>
                <a:lnTo>
                  <a:pt x="729" y="1013"/>
                </a:lnTo>
                <a:lnTo>
                  <a:pt x="720" y="1017"/>
                </a:lnTo>
                <a:lnTo>
                  <a:pt x="712" y="1023"/>
                </a:lnTo>
                <a:lnTo>
                  <a:pt x="702" y="1027"/>
                </a:lnTo>
                <a:lnTo>
                  <a:pt x="691" y="1032"/>
                </a:lnTo>
                <a:lnTo>
                  <a:pt x="681" y="1038"/>
                </a:lnTo>
                <a:lnTo>
                  <a:pt x="670" y="1042"/>
                </a:lnTo>
                <a:lnTo>
                  <a:pt x="658" y="1048"/>
                </a:lnTo>
                <a:lnTo>
                  <a:pt x="645" y="1053"/>
                </a:lnTo>
                <a:lnTo>
                  <a:pt x="633" y="1059"/>
                </a:lnTo>
                <a:lnTo>
                  <a:pt x="618" y="1065"/>
                </a:lnTo>
                <a:lnTo>
                  <a:pt x="604" y="1071"/>
                </a:lnTo>
                <a:lnTo>
                  <a:pt x="591" y="1076"/>
                </a:lnTo>
                <a:lnTo>
                  <a:pt x="576" y="1082"/>
                </a:lnTo>
                <a:lnTo>
                  <a:pt x="558" y="1090"/>
                </a:lnTo>
                <a:lnTo>
                  <a:pt x="543" y="1096"/>
                </a:lnTo>
                <a:lnTo>
                  <a:pt x="526" y="1101"/>
                </a:lnTo>
                <a:lnTo>
                  <a:pt x="508" y="1109"/>
                </a:lnTo>
                <a:lnTo>
                  <a:pt x="493" y="1115"/>
                </a:lnTo>
                <a:lnTo>
                  <a:pt x="478" y="1121"/>
                </a:lnTo>
                <a:lnTo>
                  <a:pt x="460" y="1128"/>
                </a:lnTo>
                <a:lnTo>
                  <a:pt x="432" y="1140"/>
                </a:lnTo>
                <a:lnTo>
                  <a:pt x="405" y="1151"/>
                </a:lnTo>
                <a:lnTo>
                  <a:pt x="378" y="1163"/>
                </a:lnTo>
                <a:lnTo>
                  <a:pt x="355" y="1172"/>
                </a:lnTo>
                <a:lnTo>
                  <a:pt x="332" y="1184"/>
                </a:lnTo>
                <a:lnTo>
                  <a:pt x="313" y="1194"/>
                </a:lnTo>
                <a:lnTo>
                  <a:pt x="293" y="1205"/>
                </a:lnTo>
                <a:lnTo>
                  <a:pt x="276" y="1215"/>
                </a:lnTo>
                <a:lnTo>
                  <a:pt x="261" y="1222"/>
                </a:lnTo>
                <a:lnTo>
                  <a:pt x="247" y="1232"/>
                </a:lnTo>
                <a:lnTo>
                  <a:pt x="236" y="1242"/>
                </a:lnTo>
                <a:lnTo>
                  <a:pt x="224" y="1249"/>
                </a:lnTo>
                <a:lnTo>
                  <a:pt x="217" y="1257"/>
                </a:lnTo>
                <a:lnTo>
                  <a:pt x="209" y="1266"/>
                </a:lnTo>
                <a:lnTo>
                  <a:pt x="201" y="1272"/>
                </a:lnTo>
                <a:lnTo>
                  <a:pt x="195" y="1280"/>
                </a:lnTo>
                <a:lnTo>
                  <a:pt x="190" y="1286"/>
                </a:lnTo>
                <a:lnTo>
                  <a:pt x="184" y="1291"/>
                </a:lnTo>
                <a:lnTo>
                  <a:pt x="178" y="1297"/>
                </a:lnTo>
                <a:lnTo>
                  <a:pt x="172" y="1301"/>
                </a:lnTo>
                <a:lnTo>
                  <a:pt x="167" y="1305"/>
                </a:lnTo>
                <a:lnTo>
                  <a:pt x="161" y="1309"/>
                </a:lnTo>
                <a:lnTo>
                  <a:pt x="155" y="1311"/>
                </a:lnTo>
                <a:lnTo>
                  <a:pt x="151" y="1314"/>
                </a:lnTo>
                <a:lnTo>
                  <a:pt x="142" y="1316"/>
                </a:lnTo>
                <a:lnTo>
                  <a:pt x="132" y="1320"/>
                </a:lnTo>
                <a:lnTo>
                  <a:pt x="123" y="1320"/>
                </a:lnTo>
                <a:lnTo>
                  <a:pt x="117" y="1320"/>
                </a:lnTo>
                <a:lnTo>
                  <a:pt x="109" y="1318"/>
                </a:lnTo>
                <a:lnTo>
                  <a:pt x="103" y="1316"/>
                </a:lnTo>
                <a:lnTo>
                  <a:pt x="98" y="1314"/>
                </a:lnTo>
                <a:lnTo>
                  <a:pt x="92" y="1313"/>
                </a:lnTo>
                <a:lnTo>
                  <a:pt x="86" y="1309"/>
                </a:lnTo>
                <a:lnTo>
                  <a:pt x="80" y="1305"/>
                </a:lnTo>
                <a:lnTo>
                  <a:pt x="75" y="1301"/>
                </a:lnTo>
                <a:lnTo>
                  <a:pt x="71" y="1297"/>
                </a:lnTo>
                <a:lnTo>
                  <a:pt x="65" y="1291"/>
                </a:lnTo>
                <a:lnTo>
                  <a:pt x="55" y="1280"/>
                </a:lnTo>
                <a:lnTo>
                  <a:pt x="46" y="1266"/>
                </a:lnTo>
                <a:lnTo>
                  <a:pt x="38" y="1251"/>
                </a:lnTo>
                <a:lnTo>
                  <a:pt x="28" y="1236"/>
                </a:lnTo>
                <a:lnTo>
                  <a:pt x="21" y="1220"/>
                </a:lnTo>
                <a:lnTo>
                  <a:pt x="15" y="1207"/>
                </a:lnTo>
                <a:lnTo>
                  <a:pt x="9" y="1192"/>
                </a:lnTo>
                <a:lnTo>
                  <a:pt x="5" y="1178"/>
                </a:lnTo>
                <a:lnTo>
                  <a:pt x="3" y="1165"/>
                </a:lnTo>
                <a:lnTo>
                  <a:pt x="2" y="1153"/>
                </a:lnTo>
                <a:lnTo>
                  <a:pt x="0" y="11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150"/>
          <p:cNvSpPr/>
          <p:nvPr/>
        </p:nvSpPr>
        <p:spPr>
          <a:xfrm>
            <a:off x="6307200" y="3409920"/>
            <a:ext cx="1038240" cy="345960"/>
          </a:xfrm>
          <a:custGeom>
            <a:avLst/>
            <a:gdLst/>
            <a:ahLst/>
            <a:rect l="l" t="t" r="r" b="b"/>
            <a:pathLst>
              <a:path w="1307" h="436">
                <a:moveTo>
                  <a:pt x="562" y="354"/>
                </a:moveTo>
                <a:lnTo>
                  <a:pt x="528" y="363"/>
                </a:lnTo>
                <a:lnTo>
                  <a:pt x="497" y="373"/>
                </a:lnTo>
                <a:lnTo>
                  <a:pt x="466" y="382"/>
                </a:lnTo>
                <a:lnTo>
                  <a:pt x="436" y="390"/>
                </a:lnTo>
                <a:lnTo>
                  <a:pt x="407" y="398"/>
                </a:lnTo>
                <a:lnTo>
                  <a:pt x="380" y="403"/>
                </a:lnTo>
                <a:lnTo>
                  <a:pt x="355" y="409"/>
                </a:lnTo>
                <a:lnTo>
                  <a:pt x="330" y="415"/>
                </a:lnTo>
                <a:lnTo>
                  <a:pt x="307" y="421"/>
                </a:lnTo>
                <a:lnTo>
                  <a:pt x="284" y="425"/>
                </a:lnTo>
                <a:lnTo>
                  <a:pt x="263" y="428"/>
                </a:lnTo>
                <a:lnTo>
                  <a:pt x="242" y="430"/>
                </a:lnTo>
                <a:lnTo>
                  <a:pt x="223" y="432"/>
                </a:lnTo>
                <a:lnTo>
                  <a:pt x="205" y="434"/>
                </a:lnTo>
                <a:lnTo>
                  <a:pt x="188" y="436"/>
                </a:lnTo>
                <a:lnTo>
                  <a:pt x="171" y="436"/>
                </a:lnTo>
                <a:lnTo>
                  <a:pt x="155" y="436"/>
                </a:lnTo>
                <a:lnTo>
                  <a:pt x="140" y="434"/>
                </a:lnTo>
                <a:lnTo>
                  <a:pt x="125" y="434"/>
                </a:lnTo>
                <a:lnTo>
                  <a:pt x="111" y="432"/>
                </a:lnTo>
                <a:lnTo>
                  <a:pt x="98" y="432"/>
                </a:lnTo>
                <a:lnTo>
                  <a:pt x="86" y="430"/>
                </a:lnTo>
                <a:lnTo>
                  <a:pt x="73" y="428"/>
                </a:lnTo>
                <a:lnTo>
                  <a:pt x="63" y="425"/>
                </a:lnTo>
                <a:lnTo>
                  <a:pt x="52" y="423"/>
                </a:lnTo>
                <a:lnTo>
                  <a:pt x="42" y="421"/>
                </a:lnTo>
                <a:lnTo>
                  <a:pt x="32" y="417"/>
                </a:lnTo>
                <a:lnTo>
                  <a:pt x="25" y="413"/>
                </a:lnTo>
                <a:lnTo>
                  <a:pt x="17" y="409"/>
                </a:lnTo>
                <a:lnTo>
                  <a:pt x="11" y="405"/>
                </a:lnTo>
                <a:lnTo>
                  <a:pt x="6" y="400"/>
                </a:lnTo>
                <a:lnTo>
                  <a:pt x="0" y="396"/>
                </a:lnTo>
                <a:lnTo>
                  <a:pt x="63" y="371"/>
                </a:lnTo>
                <a:lnTo>
                  <a:pt x="127" y="348"/>
                </a:lnTo>
                <a:lnTo>
                  <a:pt x="186" y="325"/>
                </a:lnTo>
                <a:lnTo>
                  <a:pt x="246" y="302"/>
                </a:lnTo>
                <a:lnTo>
                  <a:pt x="301" y="281"/>
                </a:lnTo>
                <a:lnTo>
                  <a:pt x="357" y="261"/>
                </a:lnTo>
                <a:lnTo>
                  <a:pt x="409" y="240"/>
                </a:lnTo>
                <a:lnTo>
                  <a:pt x="461" y="223"/>
                </a:lnTo>
                <a:lnTo>
                  <a:pt x="509" y="204"/>
                </a:lnTo>
                <a:lnTo>
                  <a:pt x="557" y="187"/>
                </a:lnTo>
                <a:lnTo>
                  <a:pt x="601" y="169"/>
                </a:lnTo>
                <a:lnTo>
                  <a:pt x="645" y="154"/>
                </a:lnTo>
                <a:lnTo>
                  <a:pt x="687" y="139"/>
                </a:lnTo>
                <a:lnTo>
                  <a:pt x="726" y="125"/>
                </a:lnTo>
                <a:lnTo>
                  <a:pt x="764" y="112"/>
                </a:lnTo>
                <a:lnTo>
                  <a:pt x="800" y="98"/>
                </a:lnTo>
                <a:lnTo>
                  <a:pt x="833" y="87"/>
                </a:lnTo>
                <a:lnTo>
                  <a:pt x="866" y="75"/>
                </a:lnTo>
                <a:lnTo>
                  <a:pt x="896" y="66"/>
                </a:lnTo>
                <a:lnTo>
                  <a:pt x="925" y="56"/>
                </a:lnTo>
                <a:lnTo>
                  <a:pt x="952" y="46"/>
                </a:lnTo>
                <a:lnTo>
                  <a:pt x="977" y="39"/>
                </a:lnTo>
                <a:lnTo>
                  <a:pt x="1000" y="31"/>
                </a:lnTo>
                <a:lnTo>
                  <a:pt x="1021" y="25"/>
                </a:lnTo>
                <a:lnTo>
                  <a:pt x="1040" y="20"/>
                </a:lnTo>
                <a:lnTo>
                  <a:pt x="1058" y="14"/>
                </a:lnTo>
                <a:lnTo>
                  <a:pt x="1073" y="10"/>
                </a:lnTo>
                <a:lnTo>
                  <a:pt x="1086" y="6"/>
                </a:lnTo>
                <a:lnTo>
                  <a:pt x="1100" y="4"/>
                </a:lnTo>
                <a:lnTo>
                  <a:pt x="1109" y="2"/>
                </a:lnTo>
                <a:lnTo>
                  <a:pt x="1117" y="0"/>
                </a:lnTo>
                <a:lnTo>
                  <a:pt x="1125" y="0"/>
                </a:lnTo>
                <a:lnTo>
                  <a:pt x="1136" y="0"/>
                </a:lnTo>
                <a:lnTo>
                  <a:pt x="1146" y="0"/>
                </a:lnTo>
                <a:lnTo>
                  <a:pt x="1156" y="0"/>
                </a:lnTo>
                <a:lnTo>
                  <a:pt x="1165" y="0"/>
                </a:lnTo>
                <a:lnTo>
                  <a:pt x="1184" y="0"/>
                </a:lnTo>
                <a:lnTo>
                  <a:pt x="1202" y="2"/>
                </a:lnTo>
                <a:lnTo>
                  <a:pt x="1217" y="2"/>
                </a:lnTo>
                <a:lnTo>
                  <a:pt x="1230" y="6"/>
                </a:lnTo>
                <a:lnTo>
                  <a:pt x="1246" y="10"/>
                </a:lnTo>
                <a:lnTo>
                  <a:pt x="1259" y="14"/>
                </a:lnTo>
                <a:lnTo>
                  <a:pt x="1265" y="16"/>
                </a:lnTo>
                <a:lnTo>
                  <a:pt x="1271" y="20"/>
                </a:lnTo>
                <a:lnTo>
                  <a:pt x="1276" y="23"/>
                </a:lnTo>
                <a:lnTo>
                  <a:pt x="1282" y="25"/>
                </a:lnTo>
                <a:lnTo>
                  <a:pt x="1286" y="29"/>
                </a:lnTo>
                <a:lnTo>
                  <a:pt x="1290" y="33"/>
                </a:lnTo>
                <a:lnTo>
                  <a:pt x="1298" y="41"/>
                </a:lnTo>
                <a:lnTo>
                  <a:pt x="1301" y="48"/>
                </a:lnTo>
                <a:lnTo>
                  <a:pt x="1305" y="56"/>
                </a:lnTo>
                <a:lnTo>
                  <a:pt x="1307" y="62"/>
                </a:lnTo>
                <a:lnTo>
                  <a:pt x="1307" y="68"/>
                </a:lnTo>
                <a:lnTo>
                  <a:pt x="1305" y="71"/>
                </a:lnTo>
                <a:lnTo>
                  <a:pt x="1300" y="75"/>
                </a:lnTo>
                <a:lnTo>
                  <a:pt x="1294" y="79"/>
                </a:lnTo>
                <a:lnTo>
                  <a:pt x="1286" y="83"/>
                </a:lnTo>
                <a:lnTo>
                  <a:pt x="1278" y="89"/>
                </a:lnTo>
                <a:lnTo>
                  <a:pt x="1267" y="94"/>
                </a:lnTo>
                <a:lnTo>
                  <a:pt x="1255" y="100"/>
                </a:lnTo>
                <a:lnTo>
                  <a:pt x="1242" y="106"/>
                </a:lnTo>
                <a:lnTo>
                  <a:pt x="1227" y="114"/>
                </a:lnTo>
                <a:lnTo>
                  <a:pt x="1209" y="121"/>
                </a:lnTo>
                <a:lnTo>
                  <a:pt x="1192" y="129"/>
                </a:lnTo>
                <a:lnTo>
                  <a:pt x="1171" y="139"/>
                </a:lnTo>
                <a:lnTo>
                  <a:pt x="1150" y="148"/>
                </a:lnTo>
                <a:lnTo>
                  <a:pt x="1127" y="158"/>
                </a:lnTo>
                <a:lnTo>
                  <a:pt x="1102" y="167"/>
                </a:lnTo>
                <a:lnTo>
                  <a:pt x="1075" y="177"/>
                </a:lnTo>
                <a:lnTo>
                  <a:pt x="1015" y="202"/>
                </a:lnTo>
                <a:lnTo>
                  <a:pt x="954" y="227"/>
                </a:lnTo>
                <a:lnTo>
                  <a:pt x="893" y="248"/>
                </a:lnTo>
                <a:lnTo>
                  <a:pt x="827" y="271"/>
                </a:lnTo>
                <a:lnTo>
                  <a:pt x="764" y="292"/>
                </a:lnTo>
                <a:lnTo>
                  <a:pt x="697" y="313"/>
                </a:lnTo>
                <a:lnTo>
                  <a:pt x="630" y="332"/>
                </a:lnTo>
                <a:lnTo>
                  <a:pt x="562" y="35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51"/>
          <p:cNvSpPr/>
          <p:nvPr/>
        </p:nvSpPr>
        <p:spPr>
          <a:xfrm>
            <a:off x="6159600" y="3808440"/>
            <a:ext cx="506160" cy="1136520"/>
          </a:xfrm>
          <a:custGeom>
            <a:avLst/>
            <a:gdLst/>
            <a:ahLst/>
            <a:rect l="l" t="t" r="r" b="b"/>
            <a:pathLst>
              <a:path w="639" h="1432">
                <a:moveTo>
                  <a:pt x="174" y="1307"/>
                </a:moveTo>
                <a:lnTo>
                  <a:pt x="153" y="1325"/>
                </a:lnTo>
                <a:lnTo>
                  <a:pt x="136" y="1342"/>
                </a:lnTo>
                <a:lnTo>
                  <a:pt x="119" y="1355"/>
                </a:lnTo>
                <a:lnTo>
                  <a:pt x="103" y="1369"/>
                </a:lnTo>
                <a:lnTo>
                  <a:pt x="88" y="1382"/>
                </a:lnTo>
                <a:lnTo>
                  <a:pt x="75" y="1392"/>
                </a:lnTo>
                <a:lnTo>
                  <a:pt x="63" y="1401"/>
                </a:lnTo>
                <a:lnTo>
                  <a:pt x="51" y="1411"/>
                </a:lnTo>
                <a:lnTo>
                  <a:pt x="42" y="1417"/>
                </a:lnTo>
                <a:lnTo>
                  <a:pt x="34" y="1423"/>
                </a:lnTo>
                <a:lnTo>
                  <a:pt x="27" y="1428"/>
                </a:lnTo>
                <a:lnTo>
                  <a:pt x="19" y="1430"/>
                </a:lnTo>
                <a:lnTo>
                  <a:pt x="13" y="1432"/>
                </a:lnTo>
                <a:lnTo>
                  <a:pt x="9" y="1432"/>
                </a:lnTo>
                <a:lnTo>
                  <a:pt x="5" y="1432"/>
                </a:lnTo>
                <a:lnTo>
                  <a:pt x="3" y="1430"/>
                </a:lnTo>
                <a:lnTo>
                  <a:pt x="2" y="1426"/>
                </a:lnTo>
                <a:lnTo>
                  <a:pt x="0" y="1423"/>
                </a:lnTo>
                <a:lnTo>
                  <a:pt x="2" y="1417"/>
                </a:lnTo>
                <a:lnTo>
                  <a:pt x="3" y="1409"/>
                </a:lnTo>
                <a:lnTo>
                  <a:pt x="7" y="1401"/>
                </a:lnTo>
                <a:lnTo>
                  <a:pt x="11" y="1390"/>
                </a:lnTo>
                <a:lnTo>
                  <a:pt x="17" y="1378"/>
                </a:lnTo>
                <a:lnTo>
                  <a:pt x="25" y="1367"/>
                </a:lnTo>
                <a:lnTo>
                  <a:pt x="34" y="1352"/>
                </a:lnTo>
                <a:lnTo>
                  <a:pt x="44" y="1334"/>
                </a:lnTo>
                <a:lnTo>
                  <a:pt x="55" y="1317"/>
                </a:lnTo>
                <a:lnTo>
                  <a:pt x="69" y="1296"/>
                </a:lnTo>
                <a:lnTo>
                  <a:pt x="84" y="1275"/>
                </a:lnTo>
                <a:lnTo>
                  <a:pt x="99" y="1252"/>
                </a:lnTo>
                <a:lnTo>
                  <a:pt x="117" y="1227"/>
                </a:lnTo>
                <a:lnTo>
                  <a:pt x="126" y="1213"/>
                </a:lnTo>
                <a:lnTo>
                  <a:pt x="138" y="1200"/>
                </a:lnTo>
                <a:lnTo>
                  <a:pt x="155" y="1173"/>
                </a:lnTo>
                <a:lnTo>
                  <a:pt x="172" y="1146"/>
                </a:lnTo>
                <a:lnTo>
                  <a:pt x="190" y="1119"/>
                </a:lnTo>
                <a:lnTo>
                  <a:pt x="205" y="1092"/>
                </a:lnTo>
                <a:lnTo>
                  <a:pt x="222" y="1064"/>
                </a:lnTo>
                <a:lnTo>
                  <a:pt x="238" y="1035"/>
                </a:lnTo>
                <a:lnTo>
                  <a:pt x="253" y="1006"/>
                </a:lnTo>
                <a:lnTo>
                  <a:pt x="266" y="975"/>
                </a:lnTo>
                <a:lnTo>
                  <a:pt x="295" y="916"/>
                </a:lnTo>
                <a:lnTo>
                  <a:pt x="322" y="852"/>
                </a:lnTo>
                <a:lnTo>
                  <a:pt x="345" y="787"/>
                </a:lnTo>
                <a:lnTo>
                  <a:pt x="370" y="722"/>
                </a:lnTo>
                <a:lnTo>
                  <a:pt x="380" y="689"/>
                </a:lnTo>
                <a:lnTo>
                  <a:pt x="389" y="659"/>
                </a:lnTo>
                <a:lnTo>
                  <a:pt x="399" y="626"/>
                </a:lnTo>
                <a:lnTo>
                  <a:pt x="409" y="597"/>
                </a:lnTo>
                <a:lnTo>
                  <a:pt x="416" y="567"/>
                </a:lnTo>
                <a:lnTo>
                  <a:pt x="424" y="540"/>
                </a:lnTo>
                <a:lnTo>
                  <a:pt x="430" y="511"/>
                </a:lnTo>
                <a:lnTo>
                  <a:pt x="435" y="484"/>
                </a:lnTo>
                <a:lnTo>
                  <a:pt x="441" y="457"/>
                </a:lnTo>
                <a:lnTo>
                  <a:pt x="447" y="432"/>
                </a:lnTo>
                <a:lnTo>
                  <a:pt x="451" y="407"/>
                </a:lnTo>
                <a:lnTo>
                  <a:pt x="455" y="382"/>
                </a:lnTo>
                <a:lnTo>
                  <a:pt x="458" y="357"/>
                </a:lnTo>
                <a:lnTo>
                  <a:pt x="462" y="334"/>
                </a:lnTo>
                <a:lnTo>
                  <a:pt x="466" y="286"/>
                </a:lnTo>
                <a:lnTo>
                  <a:pt x="466" y="265"/>
                </a:lnTo>
                <a:lnTo>
                  <a:pt x="466" y="244"/>
                </a:lnTo>
                <a:lnTo>
                  <a:pt x="466" y="223"/>
                </a:lnTo>
                <a:lnTo>
                  <a:pt x="464" y="204"/>
                </a:lnTo>
                <a:lnTo>
                  <a:pt x="464" y="186"/>
                </a:lnTo>
                <a:lnTo>
                  <a:pt x="462" y="171"/>
                </a:lnTo>
                <a:lnTo>
                  <a:pt x="460" y="156"/>
                </a:lnTo>
                <a:lnTo>
                  <a:pt x="458" y="140"/>
                </a:lnTo>
                <a:lnTo>
                  <a:pt x="457" y="127"/>
                </a:lnTo>
                <a:lnTo>
                  <a:pt x="455" y="114"/>
                </a:lnTo>
                <a:lnTo>
                  <a:pt x="453" y="102"/>
                </a:lnTo>
                <a:lnTo>
                  <a:pt x="451" y="90"/>
                </a:lnTo>
                <a:lnTo>
                  <a:pt x="449" y="81"/>
                </a:lnTo>
                <a:lnTo>
                  <a:pt x="447" y="71"/>
                </a:lnTo>
                <a:lnTo>
                  <a:pt x="445" y="64"/>
                </a:lnTo>
                <a:lnTo>
                  <a:pt x="443" y="56"/>
                </a:lnTo>
                <a:lnTo>
                  <a:pt x="439" y="50"/>
                </a:lnTo>
                <a:lnTo>
                  <a:pt x="435" y="46"/>
                </a:lnTo>
                <a:lnTo>
                  <a:pt x="432" y="41"/>
                </a:lnTo>
                <a:lnTo>
                  <a:pt x="430" y="37"/>
                </a:lnTo>
                <a:lnTo>
                  <a:pt x="428" y="33"/>
                </a:lnTo>
                <a:lnTo>
                  <a:pt x="426" y="29"/>
                </a:lnTo>
                <a:lnTo>
                  <a:pt x="424" y="25"/>
                </a:lnTo>
                <a:lnTo>
                  <a:pt x="424" y="23"/>
                </a:lnTo>
                <a:lnTo>
                  <a:pt x="424" y="19"/>
                </a:lnTo>
                <a:lnTo>
                  <a:pt x="426" y="18"/>
                </a:lnTo>
                <a:lnTo>
                  <a:pt x="428" y="14"/>
                </a:lnTo>
                <a:lnTo>
                  <a:pt x="430" y="12"/>
                </a:lnTo>
                <a:lnTo>
                  <a:pt x="432" y="8"/>
                </a:lnTo>
                <a:lnTo>
                  <a:pt x="435" y="6"/>
                </a:lnTo>
                <a:lnTo>
                  <a:pt x="439" y="4"/>
                </a:lnTo>
                <a:lnTo>
                  <a:pt x="443" y="0"/>
                </a:lnTo>
                <a:lnTo>
                  <a:pt x="453" y="2"/>
                </a:lnTo>
                <a:lnTo>
                  <a:pt x="464" y="2"/>
                </a:lnTo>
                <a:lnTo>
                  <a:pt x="476" y="6"/>
                </a:lnTo>
                <a:lnTo>
                  <a:pt x="489" y="10"/>
                </a:lnTo>
                <a:lnTo>
                  <a:pt x="506" y="14"/>
                </a:lnTo>
                <a:lnTo>
                  <a:pt x="514" y="16"/>
                </a:lnTo>
                <a:lnTo>
                  <a:pt x="524" y="18"/>
                </a:lnTo>
                <a:lnTo>
                  <a:pt x="533" y="19"/>
                </a:lnTo>
                <a:lnTo>
                  <a:pt x="543" y="23"/>
                </a:lnTo>
                <a:lnTo>
                  <a:pt x="554" y="25"/>
                </a:lnTo>
                <a:lnTo>
                  <a:pt x="564" y="27"/>
                </a:lnTo>
                <a:lnTo>
                  <a:pt x="574" y="33"/>
                </a:lnTo>
                <a:lnTo>
                  <a:pt x="581" y="39"/>
                </a:lnTo>
                <a:lnTo>
                  <a:pt x="589" y="43"/>
                </a:lnTo>
                <a:lnTo>
                  <a:pt x="597" y="48"/>
                </a:lnTo>
                <a:lnTo>
                  <a:pt x="604" y="54"/>
                </a:lnTo>
                <a:lnTo>
                  <a:pt x="610" y="58"/>
                </a:lnTo>
                <a:lnTo>
                  <a:pt x="614" y="64"/>
                </a:lnTo>
                <a:lnTo>
                  <a:pt x="620" y="69"/>
                </a:lnTo>
                <a:lnTo>
                  <a:pt x="624" y="73"/>
                </a:lnTo>
                <a:lnTo>
                  <a:pt x="627" y="79"/>
                </a:lnTo>
                <a:lnTo>
                  <a:pt x="631" y="85"/>
                </a:lnTo>
                <a:lnTo>
                  <a:pt x="633" y="89"/>
                </a:lnTo>
                <a:lnTo>
                  <a:pt x="635" y="94"/>
                </a:lnTo>
                <a:lnTo>
                  <a:pt x="637" y="100"/>
                </a:lnTo>
                <a:lnTo>
                  <a:pt x="637" y="104"/>
                </a:lnTo>
                <a:lnTo>
                  <a:pt x="639" y="110"/>
                </a:lnTo>
                <a:lnTo>
                  <a:pt x="639" y="115"/>
                </a:lnTo>
                <a:lnTo>
                  <a:pt x="637" y="123"/>
                </a:lnTo>
                <a:lnTo>
                  <a:pt x="637" y="133"/>
                </a:lnTo>
                <a:lnTo>
                  <a:pt x="637" y="142"/>
                </a:lnTo>
                <a:lnTo>
                  <a:pt x="635" y="154"/>
                </a:lnTo>
                <a:lnTo>
                  <a:pt x="633" y="169"/>
                </a:lnTo>
                <a:lnTo>
                  <a:pt x="631" y="183"/>
                </a:lnTo>
                <a:lnTo>
                  <a:pt x="631" y="200"/>
                </a:lnTo>
                <a:lnTo>
                  <a:pt x="629" y="217"/>
                </a:lnTo>
                <a:lnTo>
                  <a:pt x="627" y="236"/>
                </a:lnTo>
                <a:lnTo>
                  <a:pt x="625" y="257"/>
                </a:lnTo>
                <a:lnTo>
                  <a:pt x="624" y="281"/>
                </a:lnTo>
                <a:lnTo>
                  <a:pt x="620" y="304"/>
                </a:lnTo>
                <a:lnTo>
                  <a:pt x="618" y="328"/>
                </a:lnTo>
                <a:lnTo>
                  <a:pt x="616" y="355"/>
                </a:lnTo>
                <a:lnTo>
                  <a:pt x="614" y="382"/>
                </a:lnTo>
                <a:lnTo>
                  <a:pt x="608" y="413"/>
                </a:lnTo>
                <a:lnTo>
                  <a:pt x="604" y="444"/>
                </a:lnTo>
                <a:lnTo>
                  <a:pt x="597" y="474"/>
                </a:lnTo>
                <a:lnTo>
                  <a:pt x="591" y="505"/>
                </a:lnTo>
                <a:lnTo>
                  <a:pt x="583" y="536"/>
                </a:lnTo>
                <a:lnTo>
                  <a:pt x="576" y="567"/>
                </a:lnTo>
                <a:lnTo>
                  <a:pt x="566" y="597"/>
                </a:lnTo>
                <a:lnTo>
                  <a:pt x="556" y="628"/>
                </a:lnTo>
                <a:lnTo>
                  <a:pt x="547" y="661"/>
                </a:lnTo>
                <a:lnTo>
                  <a:pt x="535" y="691"/>
                </a:lnTo>
                <a:lnTo>
                  <a:pt x="524" y="724"/>
                </a:lnTo>
                <a:lnTo>
                  <a:pt x="512" y="755"/>
                </a:lnTo>
                <a:lnTo>
                  <a:pt x="499" y="787"/>
                </a:lnTo>
                <a:lnTo>
                  <a:pt x="485" y="820"/>
                </a:lnTo>
                <a:lnTo>
                  <a:pt x="470" y="852"/>
                </a:lnTo>
                <a:lnTo>
                  <a:pt x="455" y="885"/>
                </a:lnTo>
                <a:lnTo>
                  <a:pt x="439" y="920"/>
                </a:lnTo>
                <a:lnTo>
                  <a:pt x="422" y="950"/>
                </a:lnTo>
                <a:lnTo>
                  <a:pt x="407" y="983"/>
                </a:lnTo>
                <a:lnTo>
                  <a:pt x="391" y="1014"/>
                </a:lnTo>
                <a:lnTo>
                  <a:pt x="374" y="1043"/>
                </a:lnTo>
                <a:lnTo>
                  <a:pt x="357" y="1071"/>
                </a:lnTo>
                <a:lnTo>
                  <a:pt x="341" y="1100"/>
                </a:lnTo>
                <a:lnTo>
                  <a:pt x="324" y="1127"/>
                </a:lnTo>
                <a:lnTo>
                  <a:pt x="307" y="1154"/>
                </a:lnTo>
                <a:lnTo>
                  <a:pt x="288" y="1179"/>
                </a:lnTo>
                <a:lnTo>
                  <a:pt x="270" y="1204"/>
                </a:lnTo>
                <a:lnTo>
                  <a:pt x="251" y="1227"/>
                </a:lnTo>
                <a:lnTo>
                  <a:pt x="232" y="1248"/>
                </a:lnTo>
                <a:lnTo>
                  <a:pt x="213" y="1269"/>
                </a:lnTo>
                <a:lnTo>
                  <a:pt x="194" y="1290"/>
                </a:lnTo>
                <a:lnTo>
                  <a:pt x="174" y="13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52"/>
          <p:cNvSpPr/>
          <p:nvPr/>
        </p:nvSpPr>
        <p:spPr>
          <a:xfrm>
            <a:off x="6229440" y="4024440"/>
            <a:ext cx="671400" cy="260280"/>
          </a:xfrm>
          <a:custGeom>
            <a:avLst/>
            <a:gdLst/>
            <a:ahLst/>
            <a:rect l="l" t="t" r="r" b="b"/>
            <a:pathLst>
              <a:path w="847" h="326">
                <a:moveTo>
                  <a:pt x="843" y="55"/>
                </a:moveTo>
                <a:lnTo>
                  <a:pt x="845" y="59"/>
                </a:lnTo>
                <a:lnTo>
                  <a:pt x="847" y="63"/>
                </a:lnTo>
                <a:lnTo>
                  <a:pt x="847" y="67"/>
                </a:lnTo>
                <a:lnTo>
                  <a:pt x="847" y="71"/>
                </a:lnTo>
                <a:lnTo>
                  <a:pt x="845" y="75"/>
                </a:lnTo>
                <a:lnTo>
                  <a:pt x="843" y="79"/>
                </a:lnTo>
                <a:lnTo>
                  <a:pt x="841" y="82"/>
                </a:lnTo>
                <a:lnTo>
                  <a:pt x="837" y="88"/>
                </a:lnTo>
                <a:lnTo>
                  <a:pt x="833" y="92"/>
                </a:lnTo>
                <a:lnTo>
                  <a:pt x="827" y="96"/>
                </a:lnTo>
                <a:lnTo>
                  <a:pt x="822" y="102"/>
                </a:lnTo>
                <a:lnTo>
                  <a:pt x="814" y="105"/>
                </a:lnTo>
                <a:lnTo>
                  <a:pt x="808" y="111"/>
                </a:lnTo>
                <a:lnTo>
                  <a:pt x="799" y="115"/>
                </a:lnTo>
                <a:lnTo>
                  <a:pt x="791" y="121"/>
                </a:lnTo>
                <a:lnTo>
                  <a:pt x="781" y="127"/>
                </a:lnTo>
                <a:lnTo>
                  <a:pt x="770" y="130"/>
                </a:lnTo>
                <a:lnTo>
                  <a:pt x="758" y="136"/>
                </a:lnTo>
                <a:lnTo>
                  <a:pt x="747" y="142"/>
                </a:lnTo>
                <a:lnTo>
                  <a:pt x="735" y="146"/>
                </a:lnTo>
                <a:lnTo>
                  <a:pt x="722" y="151"/>
                </a:lnTo>
                <a:lnTo>
                  <a:pt x="706" y="157"/>
                </a:lnTo>
                <a:lnTo>
                  <a:pt x="693" y="163"/>
                </a:lnTo>
                <a:lnTo>
                  <a:pt x="676" y="169"/>
                </a:lnTo>
                <a:lnTo>
                  <a:pt x="660" y="175"/>
                </a:lnTo>
                <a:lnTo>
                  <a:pt x="643" y="180"/>
                </a:lnTo>
                <a:lnTo>
                  <a:pt x="626" y="186"/>
                </a:lnTo>
                <a:lnTo>
                  <a:pt x="607" y="192"/>
                </a:lnTo>
                <a:lnTo>
                  <a:pt x="587" y="199"/>
                </a:lnTo>
                <a:lnTo>
                  <a:pt x="568" y="205"/>
                </a:lnTo>
                <a:lnTo>
                  <a:pt x="547" y="211"/>
                </a:lnTo>
                <a:lnTo>
                  <a:pt x="526" y="219"/>
                </a:lnTo>
                <a:lnTo>
                  <a:pt x="503" y="224"/>
                </a:lnTo>
                <a:lnTo>
                  <a:pt x="482" y="230"/>
                </a:lnTo>
                <a:lnTo>
                  <a:pt x="461" y="236"/>
                </a:lnTo>
                <a:lnTo>
                  <a:pt x="440" y="242"/>
                </a:lnTo>
                <a:lnTo>
                  <a:pt x="418" y="247"/>
                </a:lnTo>
                <a:lnTo>
                  <a:pt x="399" y="253"/>
                </a:lnTo>
                <a:lnTo>
                  <a:pt x="382" y="259"/>
                </a:lnTo>
                <a:lnTo>
                  <a:pt x="363" y="265"/>
                </a:lnTo>
                <a:lnTo>
                  <a:pt x="346" y="269"/>
                </a:lnTo>
                <a:lnTo>
                  <a:pt x="330" y="274"/>
                </a:lnTo>
                <a:lnTo>
                  <a:pt x="313" y="278"/>
                </a:lnTo>
                <a:lnTo>
                  <a:pt x="298" y="282"/>
                </a:lnTo>
                <a:lnTo>
                  <a:pt x="284" y="288"/>
                </a:lnTo>
                <a:lnTo>
                  <a:pt x="269" y="292"/>
                </a:lnTo>
                <a:lnTo>
                  <a:pt x="255" y="295"/>
                </a:lnTo>
                <a:lnTo>
                  <a:pt x="244" y="299"/>
                </a:lnTo>
                <a:lnTo>
                  <a:pt x="230" y="301"/>
                </a:lnTo>
                <a:lnTo>
                  <a:pt x="221" y="305"/>
                </a:lnTo>
                <a:lnTo>
                  <a:pt x="209" y="307"/>
                </a:lnTo>
                <a:lnTo>
                  <a:pt x="200" y="311"/>
                </a:lnTo>
                <a:lnTo>
                  <a:pt x="190" y="313"/>
                </a:lnTo>
                <a:lnTo>
                  <a:pt x="182" y="315"/>
                </a:lnTo>
                <a:lnTo>
                  <a:pt x="175" y="318"/>
                </a:lnTo>
                <a:lnTo>
                  <a:pt x="167" y="320"/>
                </a:lnTo>
                <a:lnTo>
                  <a:pt x="159" y="320"/>
                </a:lnTo>
                <a:lnTo>
                  <a:pt x="154" y="322"/>
                </a:lnTo>
                <a:lnTo>
                  <a:pt x="150" y="324"/>
                </a:lnTo>
                <a:lnTo>
                  <a:pt x="146" y="324"/>
                </a:lnTo>
                <a:lnTo>
                  <a:pt x="142" y="326"/>
                </a:lnTo>
                <a:lnTo>
                  <a:pt x="138" y="326"/>
                </a:lnTo>
                <a:lnTo>
                  <a:pt x="136" y="326"/>
                </a:lnTo>
                <a:lnTo>
                  <a:pt x="134" y="326"/>
                </a:lnTo>
                <a:lnTo>
                  <a:pt x="130" y="326"/>
                </a:lnTo>
                <a:lnTo>
                  <a:pt x="125" y="326"/>
                </a:lnTo>
                <a:lnTo>
                  <a:pt x="119" y="324"/>
                </a:lnTo>
                <a:lnTo>
                  <a:pt x="111" y="322"/>
                </a:lnTo>
                <a:lnTo>
                  <a:pt x="106" y="318"/>
                </a:lnTo>
                <a:lnTo>
                  <a:pt x="98" y="317"/>
                </a:lnTo>
                <a:lnTo>
                  <a:pt x="90" y="313"/>
                </a:lnTo>
                <a:lnTo>
                  <a:pt x="81" y="309"/>
                </a:lnTo>
                <a:lnTo>
                  <a:pt x="73" y="303"/>
                </a:lnTo>
                <a:lnTo>
                  <a:pt x="63" y="299"/>
                </a:lnTo>
                <a:lnTo>
                  <a:pt x="44" y="288"/>
                </a:lnTo>
                <a:lnTo>
                  <a:pt x="23" y="274"/>
                </a:lnTo>
                <a:lnTo>
                  <a:pt x="0" y="259"/>
                </a:lnTo>
                <a:lnTo>
                  <a:pt x="6" y="257"/>
                </a:lnTo>
                <a:lnTo>
                  <a:pt x="13" y="253"/>
                </a:lnTo>
                <a:lnTo>
                  <a:pt x="19" y="251"/>
                </a:lnTo>
                <a:lnTo>
                  <a:pt x="27" y="247"/>
                </a:lnTo>
                <a:lnTo>
                  <a:pt x="35" y="244"/>
                </a:lnTo>
                <a:lnTo>
                  <a:pt x="44" y="240"/>
                </a:lnTo>
                <a:lnTo>
                  <a:pt x="61" y="234"/>
                </a:lnTo>
                <a:lnTo>
                  <a:pt x="83" y="226"/>
                </a:lnTo>
                <a:lnTo>
                  <a:pt x="104" y="217"/>
                </a:lnTo>
                <a:lnTo>
                  <a:pt x="127" y="209"/>
                </a:lnTo>
                <a:lnTo>
                  <a:pt x="154" y="199"/>
                </a:lnTo>
                <a:lnTo>
                  <a:pt x="180" y="190"/>
                </a:lnTo>
                <a:lnTo>
                  <a:pt x="209" y="180"/>
                </a:lnTo>
                <a:lnTo>
                  <a:pt x="240" y="169"/>
                </a:lnTo>
                <a:lnTo>
                  <a:pt x="273" y="157"/>
                </a:lnTo>
                <a:lnTo>
                  <a:pt x="305" y="146"/>
                </a:lnTo>
                <a:lnTo>
                  <a:pt x="342" y="134"/>
                </a:lnTo>
                <a:lnTo>
                  <a:pt x="378" y="123"/>
                </a:lnTo>
                <a:lnTo>
                  <a:pt x="417" y="109"/>
                </a:lnTo>
                <a:lnTo>
                  <a:pt x="436" y="103"/>
                </a:lnTo>
                <a:lnTo>
                  <a:pt x="453" y="96"/>
                </a:lnTo>
                <a:lnTo>
                  <a:pt x="472" y="90"/>
                </a:lnTo>
                <a:lnTo>
                  <a:pt x="489" y="84"/>
                </a:lnTo>
                <a:lnTo>
                  <a:pt x="507" y="79"/>
                </a:lnTo>
                <a:lnTo>
                  <a:pt x="522" y="73"/>
                </a:lnTo>
                <a:lnTo>
                  <a:pt x="537" y="67"/>
                </a:lnTo>
                <a:lnTo>
                  <a:pt x="553" y="63"/>
                </a:lnTo>
                <a:lnTo>
                  <a:pt x="568" y="57"/>
                </a:lnTo>
                <a:lnTo>
                  <a:pt x="582" y="54"/>
                </a:lnTo>
                <a:lnTo>
                  <a:pt x="597" y="48"/>
                </a:lnTo>
                <a:lnTo>
                  <a:pt x="609" y="44"/>
                </a:lnTo>
                <a:lnTo>
                  <a:pt x="622" y="40"/>
                </a:lnTo>
                <a:lnTo>
                  <a:pt x="633" y="36"/>
                </a:lnTo>
                <a:lnTo>
                  <a:pt x="645" y="32"/>
                </a:lnTo>
                <a:lnTo>
                  <a:pt x="657" y="29"/>
                </a:lnTo>
                <a:lnTo>
                  <a:pt x="668" y="25"/>
                </a:lnTo>
                <a:lnTo>
                  <a:pt x="678" y="23"/>
                </a:lnTo>
                <a:lnTo>
                  <a:pt x="687" y="19"/>
                </a:lnTo>
                <a:lnTo>
                  <a:pt x="697" y="17"/>
                </a:lnTo>
                <a:lnTo>
                  <a:pt x="705" y="13"/>
                </a:lnTo>
                <a:lnTo>
                  <a:pt x="714" y="11"/>
                </a:lnTo>
                <a:lnTo>
                  <a:pt x="728" y="8"/>
                </a:lnTo>
                <a:lnTo>
                  <a:pt x="741" y="4"/>
                </a:lnTo>
                <a:lnTo>
                  <a:pt x="752" y="2"/>
                </a:lnTo>
                <a:lnTo>
                  <a:pt x="762" y="0"/>
                </a:lnTo>
                <a:lnTo>
                  <a:pt x="770" y="0"/>
                </a:lnTo>
                <a:lnTo>
                  <a:pt x="783" y="0"/>
                </a:lnTo>
                <a:lnTo>
                  <a:pt x="795" y="4"/>
                </a:lnTo>
                <a:lnTo>
                  <a:pt x="806" y="8"/>
                </a:lnTo>
                <a:lnTo>
                  <a:pt x="816" y="11"/>
                </a:lnTo>
                <a:lnTo>
                  <a:pt x="820" y="15"/>
                </a:lnTo>
                <a:lnTo>
                  <a:pt x="825" y="19"/>
                </a:lnTo>
                <a:lnTo>
                  <a:pt x="829" y="25"/>
                </a:lnTo>
                <a:lnTo>
                  <a:pt x="831" y="29"/>
                </a:lnTo>
                <a:lnTo>
                  <a:pt x="835" y="34"/>
                </a:lnTo>
                <a:lnTo>
                  <a:pt x="839" y="40"/>
                </a:lnTo>
                <a:lnTo>
                  <a:pt x="841" y="48"/>
                </a:lnTo>
                <a:lnTo>
                  <a:pt x="843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53"/>
          <p:cNvSpPr/>
          <p:nvPr/>
        </p:nvSpPr>
        <p:spPr>
          <a:xfrm>
            <a:off x="6637320" y="2709720"/>
            <a:ext cx="1109520" cy="2372040"/>
          </a:xfrm>
          <a:custGeom>
            <a:avLst/>
            <a:gdLst/>
            <a:ahLst/>
            <a:rect l="l" t="t" r="r" b="b"/>
            <a:pathLst>
              <a:path w="1398" h="2989">
                <a:moveTo>
                  <a:pt x="427" y="1793"/>
                </a:moveTo>
                <a:lnTo>
                  <a:pt x="400" y="1689"/>
                </a:lnTo>
                <a:lnTo>
                  <a:pt x="375" y="1586"/>
                </a:lnTo>
                <a:lnTo>
                  <a:pt x="350" y="1480"/>
                </a:lnTo>
                <a:lnTo>
                  <a:pt x="325" y="1373"/>
                </a:lnTo>
                <a:lnTo>
                  <a:pt x="313" y="1319"/>
                </a:lnTo>
                <a:lnTo>
                  <a:pt x="302" y="1263"/>
                </a:lnTo>
                <a:lnTo>
                  <a:pt x="288" y="1208"/>
                </a:lnTo>
                <a:lnTo>
                  <a:pt x="277" y="1152"/>
                </a:lnTo>
                <a:lnTo>
                  <a:pt x="265" y="1094"/>
                </a:lnTo>
                <a:lnTo>
                  <a:pt x="254" y="1039"/>
                </a:lnTo>
                <a:lnTo>
                  <a:pt x="242" y="979"/>
                </a:lnTo>
                <a:lnTo>
                  <a:pt x="233" y="922"/>
                </a:lnTo>
                <a:lnTo>
                  <a:pt x="227" y="895"/>
                </a:lnTo>
                <a:lnTo>
                  <a:pt x="221" y="866"/>
                </a:lnTo>
                <a:lnTo>
                  <a:pt x="215" y="839"/>
                </a:lnTo>
                <a:lnTo>
                  <a:pt x="210" y="812"/>
                </a:lnTo>
                <a:lnTo>
                  <a:pt x="204" y="787"/>
                </a:lnTo>
                <a:lnTo>
                  <a:pt x="200" y="762"/>
                </a:lnTo>
                <a:lnTo>
                  <a:pt x="194" y="737"/>
                </a:lnTo>
                <a:lnTo>
                  <a:pt x="189" y="712"/>
                </a:lnTo>
                <a:lnTo>
                  <a:pt x="185" y="689"/>
                </a:lnTo>
                <a:lnTo>
                  <a:pt x="179" y="665"/>
                </a:lnTo>
                <a:lnTo>
                  <a:pt x="175" y="641"/>
                </a:lnTo>
                <a:lnTo>
                  <a:pt x="169" y="620"/>
                </a:lnTo>
                <a:lnTo>
                  <a:pt x="166" y="597"/>
                </a:lnTo>
                <a:lnTo>
                  <a:pt x="162" y="576"/>
                </a:lnTo>
                <a:lnTo>
                  <a:pt x="156" y="555"/>
                </a:lnTo>
                <a:lnTo>
                  <a:pt x="152" y="536"/>
                </a:lnTo>
                <a:lnTo>
                  <a:pt x="148" y="515"/>
                </a:lnTo>
                <a:lnTo>
                  <a:pt x="144" y="496"/>
                </a:lnTo>
                <a:lnTo>
                  <a:pt x="141" y="478"/>
                </a:lnTo>
                <a:lnTo>
                  <a:pt x="137" y="459"/>
                </a:lnTo>
                <a:lnTo>
                  <a:pt x="135" y="442"/>
                </a:lnTo>
                <a:lnTo>
                  <a:pt x="131" y="425"/>
                </a:lnTo>
                <a:lnTo>
                  <a:pt x="127" y="407"/>
                </a:lnTo>
                <a:lnTo>
                  <a:pt x="125" y="392"/>
                </a:lnTo>
                <a:lnTo>
                  <a:pt x="123" y="377"/>
                </a:lnTo>
                <a:lnTo>
                  <a:pt x="119" y="361"/>
                </a:lnTo>
                <a:lnTo>
                  <a:pt x="118" y="346"/>
                </a:lnTo>
                <a:lnTo>
                  <a:pt x="116" y="332"/>
                </a:lnTo>
                <a:lnTo>
                  <a:pt x="114" y="319"/>
                </a:lnTo>
                <a:lnTo>
                  <a:pt x="112" y="306"/>
                </a:lnTo>
                <a:lnTo>
                  <a:pt x="110" y="294"/>
                </a:lnTo>
                <a:lnTo>
                  <a:pt x="110" y="283"/>
                </a:lnTo>
                <a:lnTo>
                  <a:pt x="104" y="260"/>
                </a:lnTo>
                <a:lnTo>
                  <a:pt x="100" y="238"/>
                </a:lnTo>
                <a:lnTo>
                  <a:pt x="96" y="219"/>
                </a:lnTo>
                <a:lnTo>
                  <a:pt x="91" y="200"/>
                </a:lnTo>
                <a:lnTo>
                  <a:pt x="87" y="183"/>
                </a:lnTo>
                <a:lnTo>
                  <a:pt x="83" y="167"/>
                </a:lnTo>
                <a:lnTo>
                  <a:pt x="77" y="152"/>
                </a:lnTo>
                <a:lnTo>
                  <a:pt x="73" y="139"/>
                </a:lnTo>
                <a:lnTo>
                  <a:pt x="68" y="127"/>
                </a:lnTo>
                <a:lnTo>
                  <a:pt x="64" y="116"/>
                </a:lnTo>
                <a:lnTo>
                  <a:pt x="60" y="106"/>
                </a:lnTo>
                <a:lnTo>
                  <a:pt x="54" y="98"/>
                </a:lnTo>
                <a:lnTo>
                  <a:pt x="50" y="91"/>
                </a:lnTo>
                <a:lnTo>
                  <a:pt x="45" y="85"/>
                </a:lnTo>
                <a:lnTo>
                  <a:pt x="41" y="81"/>
                </a:lnTo>
                <a:lnTo>
                  <a:pt x="37" y="77"/>
                </a:lnTo>
                <a:lnTo>
                  <a:pt x="27" y="73"/>
                </a:lnTo>
                <a:lnTo>
                  <a:pt x="20" y="68"/>
                </a:lnTo>
                <a:lnTo>
                  <a:pt x="14" y="62"/>
                </a:lnTo>
                <a:lnTo>
                  <a:pt x="8" y="56"/>
                </a:lnTo>
                <a:lnTo>
                  <a:pt x="4" y="48"/>
                </a:lnTo>
                <a:lnTo>
                  <a:pt x="2" y="41"/>
                </a:lnTo>
                <a:lnTo>
                  <a:pt x="0" y="33"/>
                </a:lnTo>
                <a:lnTo>
                  <a:pt x="0" y="23"/>
                </a:lnTo>
                <a:lnTo>
                  <a:pt x="0" y="18"/>
                </a:lnTo>
                <a:lnTo>
                  <a:pt x="2" y="14"/>
                </a:lnTo>
                <a:lnTo>
                  <a:pt x="4" y="10"/>
                </a:lnTo>
                <a:lnTo>
                  <a:pt x="8" y="8"/>
                </a:lnTo>
                <a:lnTo>
                  <a:pt x="14" y="4"/>
                </a:lnTo>
                <a:lnTo>
                  <a:pt x="20" y="2"/>
                </a:lnTo>
                <a:lnTo>
                  <a:pt x="27" y="2"/>
                </a:lnTo>
                <a:lnTo>
                  <a:pt x="35" y="0"/>
                </a:lnTo>
                <a:lnTo>
                  <a:pt x="45" y="0"/>
                </a:lnTo>
                <a:lnTo>
                  <a:pt x="54" y="0"/>
                </a:lnTo>
                <a:lnTo>
                  <a:pt x="66" y="0"/>
                </a:lnTo>
                <a:lnTo>
                  <a:pt x="77" y="2"/>
                </a:lnTo>
                <a:lnTo>
                  <a:pt x="91" y="4"/>
                </a:lnTo>
                <a:lnTo>
                  <a:pt x="104" y="4"/>
                </a:lnTo>
                <a:lnTo>
                  <a:pt x="119" y="6"/>
                </a:lnTo>
                <a:lnTo>
                  <a:pt x="135" y="10"/>
                </a:lnTo>
                <a:lnTo>
                  <a:pt x="150" y="14"/>
                </a:lnTo>
                <a:lnTo>
                  <a:pt x="164" y="20"/>
                </a:lnTo>
                <a:lnTo>
                  <a:pt x="179" y="25"/>
                </a:lnTo>
                <a:lnTo>
                  <a:pt x="191" y="29"/>
                </a:lnTo>
                <a:lnTo>
                  <a:pt x="204" y="35"/>
                </a:lnTo>
                <a:lnTo>
                  <a:pt x="215" y="39"/>
                </a:lnTo>
                <a:lnTo>
                  <a:pt x="225" y="45"/>
                </a:lnTo>
                <a:lnTo>
                  <a:pt x="235" y="48"/>
                </a:lnTo>
                <a:lnTo>
                  <a:pt x="244" y="54"/>
                </a:lnTo>
                <a:lnTo>
                  <a:pt x="252" y="58"/>
                </a:lnTo>
                <a:lnTo>
                  <a:pt x="258" y="62"/>
                </a:lnTo>
                <a:lnTo>
                  <a:pt x="265" y="66"/>
                </a:lnTo>
                <a:lnTo>
                  <a:pt x="269" y="69"/>
                </a:lnTo>
                <a:lnTo>
                  <a:pt x="275" y="71"/>
                </a:lnTo>
                <a:lnTo>
                  <a:pt x="277" y="75"/>
                </a:lnTo>
                <a:lnTo>
                  <a:pt x="281" y="77"/>
                </a:lnTo>
                <a:lnTo>
                  <a:pt x="281" y="83"/>
                </a:lnTo>
                <a:lnTo>
                  <a:pt x="281" y="91"/>
                </a:lnTo>
                <a:lnTo>
                  <a:pt x="281" y="98"/>
                </a:lnTo>
                <a:lnTo>
                  <a:pt x="281" y="108"/>
                </a:lnTo>
                <a:lnTo>
                  <a:pt x="281" y="119"/>
                </a:lnTo>
                <a:lnTo>
                  <a:pt x="281" y="131"/>
                </a:lnTo>
                <a:lnTo>
                  <a:pt x="281" y="144"/>
                </a:lnTo>
                <a:lnTo>
                  <a:pt x="281" y="160"/>
                </a:lnTo>
                <a:lnTo>
                  <a:pt x="277" y="175"/>
                </a:lnTo>
                <a:lnTo>
                  <a:pt x="273" y="192"/>
                </a:lnTo>
                <a:lnTo>
                  <a:pt x="273" y="212"/>
                </a:lnTo>
                <a:lnTo>
                  <a:pt x="271" y="231"/>
                </a:lnTo>
                <a:lnTo>
                  <a:pt x="273" y="252"/>
                </a:lnTo>
                <a:lnTo>
                  <a:pt x="273" y="275"/>
                </a:lnTo>
                <a:lnTo>
                  <a:pt x="277" y="298"/>
                </a:lnTo>
                <a:lnTo>
                  <a:pt x="281" y="323"/>
                </a:lnTo>
                <a:lnTo>
                  <a:pt x="283" y="336"/>
                </a:lnTo>
                <a:lnTo>
                  <a:pt x="285" y="352"/>
                </a:lnTo>
                <a:lnTo>
                  <a:pt x="288" y="367"/>
                </a:lnTo>
                <a:lnTo>
                  <a:pt x="290" y="384"/>
                </a:lnTo>
                <a:lnTo>
                  <a:pt x="292" y="403"/>
                </a:lnTo>
                <a:lnTo>
                  <a:pt x="296" y="423"/>
                </a:lnTo>
                <a:lnTo>
                  <a:pt x="298" y="444"/>
                </a:lnTo>
                <a:lnTo>
                  <a:pt x="302" y="465"/>
                </a:lnTo>
                <a:lnTo>
                  <a:pt x="306" y="490"/>
                </a:lnTo>
                <a:lnTo>
                  <a:pt x="310" y="515"/>
                </a:lnTo>
                <a:lnTo>
                  <a:pt x="313" y="540"/>
                </a:lnTo>
                <a:lnTo>
                  <a:pt x="319" y="569"/>
                </a:lnTo>
                <a:lnTo>
                  <a:pt x="323" y="597"/>
                </a:lnTo>
                <a:lnTo>
                  <a:pt x="329" y="626"/>
                </a:lnTo>
                <a:lnTo>
                  <a:pt x="334" y="657"/>
                </a:lnTo>
                <a:lnTo>
                  <a:pt x="342" y="689"/>
                </a:lnTo>
                <a:lnTo>
                  <a:pt x="346" y="724"/>
                </a:lnTo>
                <a:lnTo>
                  <a:pt x="352" y="759"/>
                </a:lnTo>
                <a:lnTo>
                  <a:pt x="358" y="793"/>
                </a:lnTo>
                <a:lnTo>
                  <a:pt x="363" y="828"/>
                </a:lnTo>
                <a:lnTo>
                  <a:pt x="375" y="899"/>
                </a:lnTo>
                <a:lnTo>
                  <a:pt x="390" y="974"/>
                </a:lnTo>
                <a:lnTo>
                  <a:pt x="406" y="1046"/>
                </a:lnTo>
                <a:lnTo>
                  <a:pt x="423" y="1123"/>
                </a:lnTo>
                <a:lnTo>
                  <a:pt x="432" y="1162"/>
                </a:lnTo>
                <a:lnTo>
                  <a:pt x="442" y="1200"/>
                </a:lnTo>
                <a:lnTo>
                  <a:pt x="454" y="1238"/>
                </a:lnTo>
                <a:lnTo>
                  <a:pt x="463" y="1277"/>
                </a:lnTo>
                <a:lnTo>
                  <a:pt x="475" y="1317"/>
                </a:lnTo>
                <a:lnTo>
                  <a:pt x="486" y="1355"/>
                </a:lnTo>
                <a:lnTo>
                  <a:pt x="496" y="1394"/>
                </a:lnTo>
                <a:lnTo>
                  <a:pt x="507" y="1432"/>
                </a:lnTo>
                <a:lnTo>
                  <a:pt x="517" y="1469"/>
                </a:lnTo>
                <a:lnTo>
                  <a:pt x="528" y="1503"/>
                </a:lnTo>
                <a:lnTo>
                  <a:pt x="538" y="1538"/>
                </a:lnTo>
                <a:lnTo>
                  <a:pt x="548" y="1572"/>
                </a:lnTo>
                <a:lnTo>
                  <a:pt x="557" y="1605"/>
                </a:lnTo>
                <a:lnTo>
                  <a:pt x="567" y="1636"/>
                </a:lnTo>
                <a:lnTo>
                  <a:pt x="576" y="1666"/>
                </a:lnTo>
                <a:lnTo>
                  <a:pt x="586" y="1697"/>
                </a:lnTo>
                <a:lnTo>
                  <a:pt x="596" y="1726"/>
                </a:lnTo>
                <a:lnTo>
                  <a:pt x="605" y="1755"/>
                </a:lnTo>
                <a:lnTo>
                  <a:pt x="615" y="1782"/>
                </a:lnTo>
                <a:lnTo>
                  <a:pt x="622" y="1807"/>
                </a:lnTo>
                <a:lnTo>
                  <a:pt x="630" y="1833"/>
                </a:lnTo>
                <a:lnTo>
                  <a:pt x="638" y="1858"/>
                </a:lnTo>
                <a:lnTo>
                  <a:pt x="647" y="1885"/>
                </a:lnTo>
                <a:lnTo>
                  <a:pt x="657" y="1912"/>
                </a:lnTo>
                <a:lnTo>
                  <a:pt x="669" y="1939"/>
                </a:lnTo>
                <a:lnTo>
                  <a:pt x="680" y="1966"/>
                </a:lnTo>
                <a:lnTo>
                  <a:pt x="692" y="1993"/>
                </a:lnTo>
                <a:lnTo>
                  <a:pt x="705" y="2022"/>
                </a:lnTo>
                <a:lnTo>
                  <a:pt x="718" y="2048"/>
                </a:lnTo>
                <a:lnTo>
                  <a:pt x="732" y="2077"/>
                </a:lnTo>
                <a:lnTo>
                  <a:pt x="747" y="2106"/>
                </a:lnTo>
                <a:lnTo>
                  <a:pt x="763" y="2137"/>
                </a:lnTo>
                <a:lnTo>
                  <a:pt x="778" y="2165"/>
                </a:lnTo>
                <a:lnTo>
                  <a:pt x="795" y="2196"/>
                </a:lnTo>
                <a:lnTo>
                  <a:pt x="813" y="2225"/>
                </a:lnTo>
                <a:lnTo>
                  <a:pt x="832" y="2256"/>
                </a:lnTo>
                <a:lnTo>
                  <a:pt x="849" y="2288"/>
                </a:lnTo>
                <a:lnTo>
                  <a:pt x="866" y="2319"/>
                </a:lnTo>
                <a:lnTo>
                  <a:pt x="884" y="2350"/>
                </a:lnTo>
                <a:lnTo>
                  <a:pt x="901" y="2377"/>
                </a:lnTo>
                <a:lnTo>
                  <a:pt x="918" y="2402"/>
                </a:lnTo>
                <a:lnTo>
                  <a:pt x="933" y="2427"/>
                </a:lnTo>
                <a:lnTo>
                  <a:pt x="951" y="2450"/>
                </a:lnTo>
                <a:lnTo>
                  <a:pt x="966" y="2471"/>
                </a:lnTo>
                <a:lnTo>
                  <a:pt x="981" y="2490"/>
                </a:lnTo>
                <a:lnTo>
                  <a:pt x="997" y="2509"/>
                </a:lnTo>
                <a:lnTo>
                  <a:pt x="1010" y="2524"/>
                </a:lnTo>
                <a:lnTo>
                  <a:pt x="1026" y="2540"/>
                </a:lnTo>
                <a:lnTo>
                  <a:pt x="1039" y="2553"/>
                </a:lnTo>
                <a:lnTo>
                  <a:pt x="1051" y="2565"/>
                </a:lnTo>
                <a:lnTo>
                  <a:pt x="1064" y="2574"/>
                </a:lnTo>
                <a:lnTo>
                  <a:pt x="1076" y="2584"/>
                </a:lnTo>
                <a:lnTo>
                  <a:pt x="1087" y="2590"/>
                </a:lnTo>
                <a:lnTo>
                  <a:pt x="1097" y="2597"/>
                </a:lnTo>
                <a:lnTo>
                  <a:pt x="1108" y="2603"/>
                </a:lnTo>
                <a:lnTo>
                  <a:pt x="1118" y="2609"/>
                </a:lnTo>
                <a:lnTo>
                  <a:pt x="1127" y="2613"/>
                </a:lnTo>
                <a:lnTo>
                  <a:pt x="1137" y="2618"/>
                </a:lnTo>
                <a:lnTo>
                  <a:pt x="1147" y="2620"/>
                </a:lnTo>
                <a:lnTo>
                  <a:pt x="1154" y="2624"/>
                </a:lnTo>
                <a:lnTo>
                  <a:pt x="1162" y="2626"/>
                </a:lnTo>
                <a:lnTo>
                  <a:pt x="1170" y="2628"/>
                </a:lnTo>
                <a:lnTo>
                  <a:pt x="1175" y="2628"/>
                </a:lnTo>
                <a:lnTo>
                  <a:pt x="1181" y="2628"/>
                </a:lnTo>
                <a:lnTo>
                  <a:pt x="1187" y="2628"/>
                </a:lnTo>
                <a:lnTo>
                  <a:pt x="1191" y="2628"/>
                </a:lnTo>
                <a:lnTo>
                  <a:pt x="1195" y="2626"/>
                </a:lnTo>
                <a:lnTo>
                  <a:pt x="1196" y="2624"/>
                </a:lnTo>
                <a:lnTo>
                  <a:pt x="1200" y="2620"/>
                </a:lnTo>
                <a:lnTo>
                  <a:pt x="1202" y="2617"/>
                </a:lnTo>
                <a:lnTo>
                  <a:pt x="1204" y="2611"/>
                </a:lnTo>
                <a:lnTo>
                  <a:pt x="1206" y="2603"/>
                </a:lnTo>
                <a:lnTo>
                  <a:pt x="1210" y="2595"/>
                </a:lnTo>
                <a:lnTo>
                  <a:pt x="1212" y="2586"/>
                </a:lnTo>
                <a:lnTo>
                  <a:pt x="1214" y="2574"/>
                </a:lnTo>
                <a:lnTo>
                  <a:pt x="1218" y="2563"/>
                </a:lnTo>
                <a:lnTo>
                  <a:pt x="1219" y="2549"/>
                </a:lnTo>
                <a:lnTo>
                  <a:pt x="1223" y="2534"/>
                </a:lnTo>
                <a:lnTo>
                  <a:pt x="1227" y="2519"/>
                </a:lnTo>
                <a:lnTo>
                  <a:pt x="1231" y="2501"/>
                </a:lnTo>
                <a:lnTo>
                  <a:pt x="1233" y="2482"/>
                </a:lnTo>
                <a:lnTo>
                  <a:pt x="1237" y="2463"/>
                </a:lnTo>
                <a:lnTo>
                  <a:pt x="1243" y="2442"/>
                </a:lnTo>
                <a:lnTo>
                  <a:pt x="1246" y="2419"/>
                </a:lnTo>
                <a:lnTo>
                  <a:pt x="1250" y="2400"/>
                </a:lnTo>
                <a:lnTo>
                  <a:pt x="1256" y="2380"/>
                </a:lnTo>
                <a:lnTo>
                  <a:pt x="1260" y="2363"/>
                </a:lnTo>
                <a:lnTo>
                  <a:pt x="1264" y="2348"/>
                </a:lnTo>
                <a:lnTo>
                  <a:pt x="1269" y="2332"/>
                </a:lnTo>
                <a:lnTo>
                  <a:pt x="1273" y="2319"/>
                </a:lnTo>
                <a:lnTo>
                  <a:pt x="1277" y="2308"/>
                </a:lnTo>
                <a:lnTo>
                  <a:pt x="1281" y="2298"/>
                </a:lnTo>
                <a:lnTo>
                  <a:pt x="1285" y="2288"/>
                </a:lnTo>
                <a:lnTo>
                  <a:pt x="1289" y="2279"/>
                </a:lnTo>
                <a:lnTo>
                  <a:pt x="1292" y="2273"/>
                </a:lnTo>
                <a:lnTo>
                  <a:pt x="1296" y="2267"/>
                </a:lnTo>
                <a:lnTo>
                  <a:pt x="1300" y="2261"/>
                </a:lnTo>
                <a:lnTo>
                  <a:pt x="1302" y="2260"/>
                </a:lnTo>
                <a:lnTo>
                  <a:pt x="1304" y="2258"/>
                </a:lnTo>
                <a:lnTo>
                  <a:pt x="1308" y="2256"/>
                </a:lnTo>
                <a:lnTo>
                  <a:pt x="1310" y="2258"/>
                </a:lnTo>
                <a:lnTo>
                  <a:pt x="1312" y="2260"/>
                </a:lnTo>
                <a:lnTo>
                  <a:pt x="1314" y="2265"/>
                </a:lnTo>
                <a:lnTo>
                  <a:pt x="1315" y="2271"/>
                </a:lnTo>
                <a:lnTo>
                  <a:pt x="1319" y="2281"/>
                </a:lnTo>
                <a:lnTo>
                  <a:pt x="1321" y="2290"/>
                </a:lnTo>
                <a:lnTo>
                  <a:pt x="1323" y="2304"/>
                </a:lnTo>
                <a:lnTo>
                  <a:pt x="1325" y="2317"/>
                </a:lnTo>
                <a:lnTo>
                  <a:pt x="1325" y="2334"/>
                </a:lnTo>
                <a:lnTo>
                  <a:pt x="1327" y="2352"/>
                </a:lnTo>
                <a:lnTo>
                  <a:pt x="1329" y="2373"/>
                </a:lnTo>
                <a:lnTo>
                  <a:pt x="1329" y="2394"/>
                </a:lnTo>
                <a:lnTo>
                  <a:pt x="1331" y="2419"/>
                </a:lnTo>
                <a:lnTo>
                  <a:pt x="1331" y="2444"/>
                </a:lnTo>
                <a:lnTo>
                  <a:pt x="1331" y="2471"/>
                </a:lnTo>
                <a:lnTo>
                  <a:pt x="1333" y="2501"/>
                </a:lnTo>
                <a:lnTo>
                  <a:pt x="1333" y="2534"/>
                </a:lnTo>
                <a:lnTo>
                  <a:pt x="1333" y="2565"/>
                </a:lnTo>
                <a:lnTo>
                  <a:pt x="1333" y="2594"/>
                </a:lnTo>
                <a:lnTo>
                  <a:pt x="1335" y="2622"/>
                </a:lnTo>
                <a:lnTo>
                  <a:pt x="1337" y="2647"/>
                </a:lnTo>
                <a:lnTo>
                  <a:pt x="1339" y="2672"/>
                </a:lnTo>
                <a:lnTo>
                  <a:pt x="1340" y="2695"/>
                </a:lnTo>
                <a:lnTo>
                  <a:pt x="1342" y="2716"/>
                </a:lnTo>
                <a:lnTo>
                  <a:pt x="1346" y="2737"/>
                </a:lnTo>
                <a:lnTo>
                  <a:pt x="1350" y="2757"/>
                </a:lnTo>
                <a:lnTo>
                  <a:pt x="1354" y="2774"/>
                </a:lnTo>
                <a:lnTo>
                  <a:pt x="1358" y="2789"/>
                </a:lnTo>
                <a:lnTo>
                  <a:pt x="1363" y="2805"/>
                </a:lnTo>
                <a:lnTo>
                  <a:pt x="1367" y="2818"/>
                </a:lnTo>
                <a:lnTo>
                  <a:pt x="1375" y="2832"/>
                </a:lnTo>
                <a:lnTo>
                  <a:pt x="1381" y="2841"/>
                </a:lnTo>
                <a:lnTo>
                  <a:pt x="1385" y="2853"/>
                </a:lnTo>
                <a:lnTo>
                  <a:pt x="1388" y="2862"/>
                </a:lnTo>
                <a:lnTo>
                  <a:pt x="1392" y="2872"/>
                </a:lnTo>
                <a:lnTo>
                  <a:pt x="1394" y="2879"/>
                </a:lnTo>
                <a:lnTo>
                  <a:pt x="1396" y="2889"/>
                </a:lnTo>
                <a:lnTo>
                  <a:pt x="1396" y="2899"/>
                </a:lnTo>
                <a:lnTo>
                  <a:pt x="1398" y="2906"/>
                </a:lnTo>
                <a:lnTo>
                  <a:pt x="1396" y="2914"/>
                </a:lnTo>
                <a:lnTo>
                  <a:pt x="1396" y="2924"/>
                </a:lnTo>
                <a:lnTo>
                  <a:pt x="1394" y="2931"/>
                </a:lnTo>
                <a:lnTo>
                  <a:pt x="1392" y="2939"/>
                </a:lnTo>
                <a:lnTo>
                  <a:pt x="1388" y="2947"/>
                </a:lnTo>
                <a:lnTo>
                  <a:pt x="1385" y="2954"/>
                </a:lnTo>
                <a:lnTo>
                  <a:pt x="1381" y="2962"/>
                </a:lnTo>
                <a:lnTo>
                  <a:pt x="1375" y="2970"/>
                </a:lnTo>
                <a:lnTo>
                  <a:pt x="1369" y="2977"/>
                </a:lnTo>
                <a:lnTo>
                  <a:pt x="1362" y="2983"/>
                </a:lnTo>
                <a:lnTo>
                  <a:pt x="1354" y="2985"/>
                </a:lnTo>
                <a:lnTo>
                  <a:pt x="1344" y="2987"/>
                </a:lnTo>
                <a:lnTo>
                  <a:pt x="1335" y="2989"/>
                </a:lnTo>
                <a:lnTo>
                  <a:pt x="1323" y="2989"/>
                </a:lnTo>
                <a:lnTo>
                  <a:pt x="1312" y="2987"/>
                </a:lnTo>
                <a:lnTo>
                  <a:pt x="1300" y="2983"/>
                </a:lnTo>
                <a:lnTo>
                  <a:pt x="1287" y="2979"/>
                </a:lnTo>
                <a:lnTo>
                  <a:pt x="1271" y="2975"/>
                </a:lnTo>
                <a:lnTo>
                  <a:pt x="1256" y="2970"/>
                </a:lnTo>
                <a:lnTo>
                  <a:pt x="1241" y="2962"/>
                </a:lnTo>
                <a:lnTo>
                  <a:pt x="1223" y="2954"/>
                </a:lnTo>
                <a:lnTo>
                  <a:pt x="1206" y="2945"/>
                </a:lnTo>
                <a:lnTo>
                  <a:pt x="1189" y="2933"/>
                </a:lnTo>
                <a:lnTo>
                  <a:pt x="1168" y="2922"/>
                </a:lnTo>
                <a:lnTo>
                  <a:pt x="1148" y="2910"/>
                </a:lnTo>
                <a:lnTo>
                  <a:pt x="1125" y="2897"/>
                </a:lnTo>
                <a:lnTo>
                  <a:pt x="1102" y="2879"/>
                </a:lnTo>
                <a:lnTo>
                  <a:pt x="1079" y="2862"/>
                </a:lnTo>
                <a:lnTo>
                  <a:pt x="1054" y="2843"/>
                </a:lnTo>
                <a:lnTo>
                  <a:pt x="1031" y="2822"/>
                </a:lnTo>
                <a:lnTo>
                  <a:pt x="1006" y="2801"/>
                </a:lnTo>
                <a:lnTo>
                  <a:pt x="981" y="2776"/>
                </a:lnTo>
                <a:lnTo>
                  <a:pt x="956" y="2749"/>
                </a:lnTo>
                <a:lnTo>
                  <a:pt x="932" y="2722"/>
                </a:lnTo>
                <a:lnTo>
                  <a:pt x="907" y="2693"/>
                </a:lnTo>
                <a:lnTo>
                  <a:pt x="882" y="2663"/>
                </a:lnTo>
                <a:lnTo>
                  <a:pt x="857" y="2630"/>
                </a:lnTo>
                <a:lnTo>
                  <a:pt x="832" y="2597"/>
                </a:lnTo>
                <a:lnTo>
                  <a:pt x="807" y="2563"/>
                </a:lnTo>
                <a:lnTo>
                  <a:pt x="782" y="2526"/>
                </a:lnTo>
                <a:lnTo>
                  <a:pt x="757" y="2488"/>
                </a:lnTo>
                <a:lnTo>
                  <a:pt x="732" y="2450"/>
                </a:lnTo>
                <a:lnTo>
                  <a:pt x="709" y="2409"/>
                </a:lnTo>
                <a:lnTo>
                  <a:pt x="686" y="2369"/>
                </a:lnTo>
                <a:lnTo>
                  <a:pt x="661" y="2329"/>
                </a:lnTo>
                <a:lnTo>
                  <a:pt x="640" y="2288"/>
                </a:lnTo>
                <a:lnTo>
                  <a:pt x="617" y="2246"/>
                </a:lnTo>
                <a:lnTo>
                  <a:pt x="596" y="2204"/>
                </a:lnTo>
                <a:lnTo>
                  <a:pt x="574" y="2160"/>
                </a:lnTo>
                <a:lnTo>
                  <a:pt x="553" y="2117"/>
                </a:lnTo>
                <a:lnTo>
                  <a:pt x="534" y="2073"/>
                </a:lnTo>
                <a:lnTo>
                  <a:pt x="515" y="2027"/>
                </a:lnTo>
                <a:lnTo>
                  <a:pt x="496" y="1983"/>
                </a:lnTo>
                <a:lnTo>
                  <a:pt x="478" y="1935"/>
                </a:lnTo>
                <a:lnTo>
                  <a:pt x="461" y="1889"/>
                </a:lnTo>
                <a:lnTo>
                  <a:pt x="444" y="1841"/>
                </a:lnTo>
                <a:lnTo>
                  <a:pt x="427" y="17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7053120" y="2998800"/>
            <a:ext cx="338400" cy="245880"/>
          </a:xfrm>
          <a:custGeom>
            <a:avLst/>
            <a:gdLst/>
            <a:ahLst/>
            <a:rect l="l" t="t" r="r" b="b"/>
            <a:pathLst>
              <a:path w="426" h="311">
                <a:moveTo>
                  <a:pt x="0" y="0"/>
                </a:moveTo>
                <a:lnTo>
                  <a:pt x="21" y="0"/>
                </a:lnTo>
                <a:lnTo>
                  <a:pt x="40" y="0"/>
                </a:lnTo>
                <a:lnTo>
                  <a:pt x="59" y="2"/>
                </a:lnTo>
                <a:lnTo>
                  <a:pt x="78" y="4"/>
                </a:lnTo>
                <a:lnTo>
                  <a:pt x="115" y="6"/>
                </a:lnTo>
                <a:lnTo>
                  <a:pt x="132" y="10"/>
                </a:lnTo>
                <a:lnTo>
                  <a:pt x="149" y="12"/>
                </a:lnTo>
                <a:lnTo>
                  <a:pt x="167" y="16"/>
                </a:lnTo>
                <a:lnTo>
                  <a:pt x="184" y="19"/>
                </a:lnTo>
                <a:lnTo>
                  <a:pt x="201" y="23"/>
                </a:lnTo>
                <a:lnTo>
                  <a:pt x="216" y="29"/>
                </a:lnTo>
                <a:lnTo>
                  <a:pt x="234" y="35"/>
                </a:lnTo>
                <a:lnTo>
                  <a:pt x="249" y="40"/>
                </a:lnTo>
                <a:lnTo>
                  <a:pt x="264" y="48"/>
                </a:lnTo>
                <a:lnTo>
                  <a:pt x="282" y="56"/>
                </a:lnTo>
                <a:lnTo>
                  <a:pt x="295" y="63"/>
                </a:lnTo>
                <a:lnTo>
                  <a:pt x="307" y="71"/>
                </a:lnTo>
                <a:lnTo>
                  <a:pt x="320" y="79"/>
                </a:lnTo>
                <a:lnTo>
                  <a:pt x="332" y="87"/>
                </a:lnTo>
                <a:lnTo>
                  <a:pt x="343" y="94"/>
                </a:lnTo>
                <a:lnTo>
                  <a:pt x="353" y="102"/>
                </a:lnTo>
                <a:lnTo>
                  <a:pt x="362" y="110"/>
                </a:lnTo>
                <a:lnTo>
                  <a:pt x="372" y="119"/>
                </a:lnTo>
                <a:lnTo>
                  <a:pt x="380" y="127"/>
                </a:lnTo>
                <a:lnTo>
                  <a:pt x="387" y="135"/>
                </a:lnTo>
                <a:lnTo>
                  <a:pt x="393" y="144"/>
                </a:lnTo>
                <a:lnTo>
                  <a:pt x="401" y="154"/>
                </a:lnTo>
                <a:lnTo>
                  <a:pt x="405" y="161"/>
                </a:lnTo>
                <a:lnTo>
                  <a:pt x="410" y="171"/>
                </a:lnTo>
                <a:lnTo>
                  <a:pt x="412" y="181"/>
                </a:lnTo>
                <a:lnTo>
                  <a:pt x="416" y="192"/>
                </a:lnTo>
                <a:lnTo>
                  <a:pt x="418" y="204"/>
                </a:lnTo>
                <a:lnTo>
                  <a:pt x="420" y="215"/>
                </a:lnTo>
                <a:lnTo>
                  <a:pt x="422" y="225"/>
                </a:lnTo>
                <a:lnTo>
                  <a:pt x="422" y="234"/>
                </a:lnTo>
                <a:lnTo>
                  <a:pt x="424" y="244"/>
                </a:lnTo>
                <a:lnTo>
                  <a:pt x="424" y="252"/>
                </a:lnTo>
                <a:lnTo>
                  <a:pt x="424" y="259"/>
                </a:lnTo>
                <a:lnTo>
                  <a:pt x="426" y="267"/>
                </a:lnTo>
                <a:lnTo>
                  <a:pt x="424" y="273"/>
                </a:lnTo>
                <a:lnTo>
                  <a:pt x="424" y="278"/>
                </a:lnTo>
                <a:lnTo>
                  <a:pt x="424" y="282"/>
                </a:lnTo>
                <a:lnTo>
                  <a:pt x="422" y="286"/>
                </a:lnTo>
                <a:lnTo>
                  <a:pt x="420" y="294"/>
                </a:lnTo>
                <a:lnTo>
                  <a:pt x="416" y="300"/>
                </a:lnTo>
                <a:lnTo>
                  <a:pt x="410" y="305"/>
                </a:lnTo>
                <a:lnTo>
                  <a:pt x="405" y="307"/>
                </a:lnTo>
                <a:lnTo>
                  <a:pt x="397" y="309"/>
                </a:lnTo>
                <a:lnTo>
                  <a:pt x="387" y="311"/>
                </a:lnTo>
                <a:lnTo>
                  <a:pt x="378" y="309"/>
                </a:lnTo>
                <a:lnTo>
                  <a:pt x="368" y="307"/>
                </a:lnTo>
                <a:lnTo>
                  <a:pt x="355" y="305"/>
                </a:lnTo>
                <a:lnTo>
                  <a:pt x="343" y="300"/>
                </a:lnTo>
                <a:lnTo>
                  <a:pt x="335" y="298"/>
                </a:lnTo>
                <a:lnTo>
                  <a:pt x="328" y="294"/>
                </a:lnTo>
                <a:lnTo>
                  <a:pt x="318" y="290"/>
                </a:lnTo>
                <a:lnTo>
                  <a:pt x="311" y="284"/>
                </a:lnTo>
                <a:lnTo>
                  <a:pt x="301" y="278"/>
                </a:lnTo>
                <a:lnTo>
                  <a:pt x="289" y="273"/>
                </a:lnTo>
                <a:lnTo>
                  <a:pt x="280" y="265"/>
                </a:lnTo>
                <a:lnTo>
                  <a:pt x="266" y="257"/>
                </a:lnTo>
                <a:lnTo>
                  <a:pt x="255" y="250"/>
                </a:lnTo>
                <a:lnTo>
                  <a:pt x="241" y="240"/>
                </a:lnTo>
                <a:lnTo>
                  <a:pt x="228" y="229"/>
                </a:lnTo>
                <a:lnTo>
                  <a:pt x="213" y="219"/>
                </a:lnTo>
                <a:lnTo>
                  <a:pt x="197" y="206"/>
                </a:lnTo>
                <a:lnTo>
                  <a:pt x="182" y="192"/>
                </a:lnTo>
                <a:lnTo>
                  <a:pt x="165" y="179"/>
                </a:lnTo>
                <a:lnTo>
                  <a:pt x="147" y="163"/>
                </a:lnTo>
                <a:lnTo>
                  <a:pt x="128" y="148"/>
                </a:lnTo>
                <a:lnTo>
                  <a:pt x="113" y="135"/>
                </a:lnTo>
                <a:lnTo>
                  <a:pt x="97" y="121"/>
                </a:lnTo>
                <a:lnTo>
                  <a:pt x="82" y="108"/>
                </a:lnTo>
                <a:lnTo>
                  <a:pt x="71" y="94"/>
                </a:lnTo>
                <a:lnTo>
                  <a:pt x="57" y="83"/>
                </a:lnTo>
                <a:lnTo>
                  <a:pt x="48" y="71"/>
                </a:lnTo>
                <a:lnTo>
                  <a:pt x="38" y="62"/>
                </a:lnTo>
                <a:lnTo>
                  <a:pt x="28" y="52"/>
                </a:lnTo>
                <a:lnTo>
                  <a:pt x="21" y="42"/>
                </a:lnTo>
                <a:lnTo>
                  <a:pt x="15" y="35"/>
                </a:lnTo>
                <a:lnTo>
                  <a:pt x="9" y="25"/>
                </a:lnTo>
                <a:lnTo>
                  <a:pt x="5" y="19"/>
                </a:lnTo>
                <a:lnTo>
                  <a:pt x="1" y="12"/>
                </a:lnTo>
                <a:lnTo>
                  <a:pt x="1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55"/>
          <p:cNvSpPr/>
          <p:nvPr/>
        </p:nvSpPr>
        <p:spPr>
          <a:xfrm>
            <a:off x="6673680" y="3745080"/>
            <a:ext cx="797040" cy="963360"/>
          </a:xfrm>
          <a:custGeom>
            <a:avLst/>
            <a:gdLst/>
            <a:ahLst/>
            <a:rect l="l" t="t" r="r" b="b"/>
            <a:pathLst>
              <a:path w="1004" h="1215">
                <a:moveTo>
                  <a:pt x="564" y="625"/>
                </a:moveTo>
                <a:lnTo>
                  <a:pt x="579" y="602"/>
                </a:lnTo>
                <a:lnTo>
                  <a:pt x="595" y="579"/>
                </a:lnTo>
                <a:lnTo>
                  <a:pt x="623" y="535"/>
                </a:lnTo>
                <a:lnTo>
                  <a:pt x="650" y="493"/>
                </a:lnTo>
                <a:lnTo>
                  <a:pt x="675" y="451"/>
                </a:lnTo>
                <a:lnTo>
                  <a:pt x="698" y="408"/>
                </a:lnTo>
                <a:lnTo>
                  <a:pt x="719" y="366"/>
                </a:lnTo>
                <a:lnTo>
                  <a:pt x="741" y="326"/>
                </a:lnTo>
                <a:lnTo>
                  <a:pt x="760" y="286"/>
                </a:lnTo>
                <a:lnTo>
                  <a:pt x="766" y="265"/>
                </a:lnTo>
                <a:lnTo>
                  <a:pt x="771" y="245"/>
                </a:lnTo>
                <a:lnTo>
                  <a:pt x="777" y="228"/>
                </a:lnTo>
                <a:lnTo>
                  <a:pt x="783" y="211"/>
                </a:lnTo>
                <a:lnTo>
                  <a:pt x="787" y="195"/>
                </a:lnTo>
                <a:lnTo>
                  <a:pt x="790" y="180"/>
                </a:lnTo>
                <a:lnTo>
                  <a:pt x="792" y="167"/>
                </a:lnTo>
                <a:lnTo>
                  <a:pt x="796" y="153"/>
                </a:lnTo>
                <a:lnTo>
                  <a:pt x="798" y="142"/>
                </a:lnTo>
                <a:lnTo>
                  <a:pt x="800" y="132"/>
                </a:lnTo>
                <a:lnTo>
                  <a:pt x="800" y="123"/>
                </a:lnTo>
                <a:lnTo>
                  <a:pt x="800" y="115"/>
                </a:lnTo>
                <a:lnTo>
                  <a:pt x="800" y="107"/>
                </a:lnTo>
                <a:lnTo>
                  <a:pt x="800" y="101"/>
                </a:lnTo>
                <a:lnTo>
                  <a:pt x="798" y="98"/>
                </a:lnTo>
                <a:lnTo>
                  <a:pt x="796" y="94"/>
                </a:lnTo>
                <a:lnTo>
                  <a:pt x="792" y="88"/>
                </a:lnTo>
                <a:lnTo>
                  <a:pt x="787" y="82"/>
                </a:lnTo>
                <a:lnTo>
                  <a:pt x="783" y="75"/>
                </a:lnTo>
                <a:lnTo>
                  <a:pt x="781" y="65"/>
                </a:lnTo>
                <a:lnTo>
                  <a:pt x="779" y="57"/>
                </a:lnTo>
                <a:lnTo>
                  <a:pt x="779" y="46"/>
                </a:lnTo>
                <a:lnTo>
                  <a:pt x="779" y="42"/>
                </a:lnTo>
                <a:lnTo>
                  <a:pt x="781" y="36"/>
                </a:lnTo>
                <a:lnTo>
                  <a:pt x="781" y="32"/>
                </a:lnTo>
                <a:lnTo>
                  <a:pt x="785" y="27"/>
                </a:lnTo>
                <a:lnTo>
                  <a:pt x="785" y="21"/>
                </a:lnTo>
                <a:lnTo>
                  <a:pt x="787" y="17"/>
                </a:lnTo>
                <a:lnTo>
                  <a:pt x="790" y="11"/>
                </a:lnTo>
                <a:lnTo>
                  <a:pt x="794" y="7"/>
                </a:lnTo>
                <a:lnTo>
                  <a:pt x="802" y="4"/>
                </a:lnTo>
                <a:lnTo>
                  <a:pt x="806" y="4"/>
                </a:lnTo>
                <a:lnTo>
                  <a:pt x="810" y="2"/>
                </a:lnTo>
                <a:lnTo>
                  <a:pt x="813" y="0"/>
                </a:lnTo>
                <a:lnTo>
                  <a:pt x="819" y="0"/>
                </a:lnTo>
                <a:lnTo>
                  <a:pt x="825" y="0"/>
                </a:lnTo>
                <a:lnTo>
                  <a:pt x="833" y="0"/>
                </a:lnTo>
                <a:lnTo>
                  <a:pt x="842" y="4"/>
                </a:lnTo>
                <a:lnTo>
                  <a:pt x="854" y="9"/>
                </a:lnTo>
                <a:lnTo>
                  <a:pt x="865" y="15"/>
                </a:lnTo>
                <a:lnTo>
                  <a:pt x="879" y="21"/>
                </a:lnTo>
                <a:lnTo>
                  <a:pt x="892" y="28"/>
                </a:lnTo>
                <a:lnTo>
                  <a:pt x="908" y="36"/>
                </a:lnTo>
                <a:lnTo>
                  <a:pt x="925" y="44"/>
                </a:lnTo>
                <a:lnTo>
                  <a:pt x="942" y="53"/>
                </a:lnTo>
                <a:lnTo>
                  <a:pt x="956" y="69"/>
                </a:lnTo>
                <a:lnTo>
                  <a:pt x="967" y="82"/>
                </a:lnTo>
                <a:lnTo>
                  <a:pt x="979" y="94"/>
                </a:lnTo>
                <a:lnTo>
                  <a:pt x="986" y="107"/>
                </a:lnTo>
                <a:lnTo>
                  <a:pt x="994" y="117"/>
                </a:lnTo>
                <a:lnTo>
                  <a:pt x="998" y="123"/>
                </a:lnTo>
                <a:lnTo>
                  <a:pt x="1000" y="128"/>
                </a:lnTo>
                <a:lnTo>
                  <a:pt x="1002" y="134"/>
                </a:lnTo>
                <a:lnTo>
                  <a:pt x="1004" y="138"/>
                </a:lnTo>
                <a:lnTo>
                  <a:pt x="1004" y="144"/>
                </a:lnTo>
                <a:lnTo>
                  <a:pt x="1004" y="149"/>
                </a:lnTo>
                <a:lnTo>
                  <a:pt x="1004" y="157"/>
                </a:lnTo>
                <a:lnTo>
                  <a:pt x="1004" y="165"/>
                </a:lnTo>
                <a:lnTo>
                  <a:pt x="1002" y="174"/>
                </a:lnTo>
                <a:lnTo>
                  <a:pt x="1000" y="184"/>
                </a:lnTo>
                <a:lnTo>
                  <a:pt x="996" y="195"/>
                </a:lnTo>
                <a:lnTo>
                  <a:pt x="992" y="207"/>
                </a:lnTo>
                <a:lnTo>
                  <a:pt x="988" y="218"/>
                </a:lnTo>
                <a:lnTo>
                  <a:pt x="984" y="232"/>
                </a:lnTo>
                <a:lnTo>
                  <a:pt x="979" y="245"/>
                </a:lnTo>
                <a:lnTo>
                  <a:pt x="971" y="261"/>
                </a:lnTo>
                <a:lnTo>
                  <a:pt x="965" y="276"/>
                </a:lnTo>
                <a:lnTo>
                  <a:pt x="957" y="291"/>
                </a:lnTo>
                <a:lnTo>
                  <a:pt x="948" y="309"/>
                </a:lnTo>
                <a:lnTo>
                  <a:pt x="938" y="328"/>
                </a:lnTo>
                <a:lnTo>
                  <a:pt x="929" y="347"/>
                </a:lnTo>
                <a:lnTo>
                  <a:pt x="917" y="366"/>
                </a:lnTo>
                <a:lnTo>
                  <a:pt x="906" y="389"/>
                </a:lnTo>
                <a:lnTo>
                  <a:pt x="894" y="414"/>
                </a:lnTo>
                <a:lnTo>
                  <a:pt x="881" y="437"/>
                </a:lnTo>
                <a:lnTo>
                  <a:pt x="865" y="462"/>
                </a:lnTo>
                <a:lnTo>
                  <a:pt x="850" y="485"/>
                </a:lnTo>
                <a:lnTo>
                  <a:pt x="835" y="510"/>
                </a:lnTo>
                <a:lnTo>
                  <a:pt x="817" y="537"/>
                </a:lnTo>
                <a:lnTo>
                  <a:pt x="798" y="562"/>
                </a:lnTo>
                <a:lnTo>
                  <a:pt x="779" y="589"/>
                </a:lnTo>
                <a:lnTo>
                  <a:pt x="760" y="616"/>
                </a:lnTo>
                <a:lnTo>
                  <a:pt x="739" y="643"/>
                </a:lnTo>
                <a:lnTo>
                  <a:pt x="718" y="671"/>
                </a:lnTo>
                <a:lnTo>
                  <a:pt x="696" y="698"/>
                </a:lnTo>
                <a:lnTo>
                  <a:pt x="673" y="729"/>
                </a:lnTo>
                <a:lnTo>
                  <a:pt x="648" y="758"/>
                </a:lnTo>
                <a:lnTo>
                  <a:pt x="625" y="789"/>
                </a:lnTo>
                <a:lnTo>
                  <a:pt x="600" y="819"/>
                </a:lnTo>
                <a:lnTo>
                  <a:pt x="574" y="848"/>
                </a:lnTo>
                <a:lnTo>
                  <a:pt x="549" y="875"/>
                </a:lnTo>
                <a:lnTo>
                  <a:pt x="522" y="902"/>
                </a:lnTo>
                <a:lnTo>
                  <a:pt x="497" y="927"/>
                </a:lnTo>
                <a:lnTo>
                  <a:pt x="470" y="950"/>
                </a:lnTo>
                <a:lnTo>
                  <a:pt x="443" y="973"/>
                </a:lnTo>
                <a:lnTo>
                  <a:pt x="418" y="994"/>
                </a:lnTo>
                <a:lnTo>
                  <a:pt x="391" y="1015"/>
                </a:lnTo>
                <a:lnTo>
                  <a:pt x="364" y="1034"/>
                </a:lnTo>
                <a:lnTo>
                  <a:pt x="337" y="1053"/>
                </a:lnTo>
                <a:lnTo>
                  <a:pt x="312" y="1071"/>
                </a:lnTo>
                <a:lnTo>
                  <a:pt x="286" y="1086"/>
                </a:lnTo>
                <a:lnTo>
                  <a:pt x="261" y="1101"/>
                </a:lnTo>
                <a:lnTo>
                  <a:pt x="234" y="1117"/>
                </a:lnTo>
                <a:lnTo>
                  <a:pt x="209" y="1130"/>
                </a:lnTo>
                <a:lnTo>
                  <a:pt x="184" y="1142"/>
                </a:lnTo>
                <a:lnTo>
                  <a:pt x="163" y="1153"/>
                </a:lnTo>
                <a:lnTo>
                  <a:pt x="140" y="1163"/>
                </a:lnTo>
                <a:lnTo>
                  <a:pt x="120" y="1172"/>
                </a:lnTo>
                <a:lnTo>
                  <a:pt x="101" y="1182"/>
                </a:lnTo>
                <a:lnTo>
                  <a:pt x="84" y="1190"/>
                </a:lnTo>
                <a:lnTo>
                  <a:pt x="69" y="1195"/>
                </a:lnTo>
                <a:lnTo>
                  <a:pt x="55" y="1201"/>
                </a:lnTo>
                <a:lnTo>
                  <a:pt x="44" y="1205"/>
                </a:lnTo>
                <a:lnTo>
                  <a:pt x="32" y="1209"/>
                </a:lnTo>
                <a:lnTo>
                  <a:pt x="23" y="1213"/>
                </a:lnTo>
                <a:lnTo>
                  <a:pt x="15" y="1213"/>
                </a:lnTo>
                <a:lnTo>
                  <a:pt x="9" y="1215"/>
                </a:lnTo>
                <a:lnTo>
                  <a:pt x="5" y="1215"/>
                </a:lnTo>
                <a:lnTo>
                  <a:pt x="1" y="1213"/>
                </a:lnTo>
                <a:lnTo>
                  <a:pt x="1" y="1211"/>
                </a:lnTo>
                <a:lnTo>
                  <a:pt x="0" y="1209"/>
                </a:lnTo>
                <a:lnTo>
                  <a:pt x="0" y="1205"/>
                </a:lnTo>
                <a:lnTo>
                  <a:pt x="0" y="1201"/>
                </a:lnTo>
                <a:lnTo>
                  <a:pt x="1" y="1197"/>
                </a:lnTo>
                <a:lnTo>
                  <a:pt x="3" y="1194"/>
                </a:lnTo>
                <a:lnTo>
                  <a:pt x="7" y="1190"/>
                </a:lnTo>
                <a:lnTo>
                  <a:pt x="13" y="1184"/>
                </a:lnTo>
                <a:lnTo>
                  <a:pt x="19" y="1178"/>
                </a:lnTo>
                <a:lnTo>
                  <a:pt x="24" y="1172"/>
                </a:lnTo>
                <a:lnTo>
                  <a:pt x="34" y="1167"/>
                </a:lnTo>
                <a:lnTo>
                  <a:pt x="42" y="1159"/>
                </a:lnTo>
                <a:lnTo>
                  <a:pt x="51" y="1151"/>
                </a:lnTo>
                <a:lnTo>
                  <a:pt x="63" y="1144"/>
                </a:lnTo>
                <a:lnTo>
                  <a:pt x="74" y="1134"/>
                </a:lnTo>
                <a:lnTo>
                  <a:pt x="86" y="1126"/>
                </a:lnTo>
                <a:lnTo>
                  <a:pt x="99" y="1115"/>
                </a:lnTo>
                <a:lnTo>
                  <a:pt x="126" y="1094"/>
                </a:lnTo>
                <a:lnTo>
                  <a:pt x="155" y="1073"/>
                </a:lnTo>
                <a:lnTo>
                  <a:pt x="182" y="1048"/>
                </a:lnTo>
                <a:lnTo>
                  <a:pt x="211" y="1025"/>
                </a:lnTo>
                <a:lnTo>
                  <a:pt x="239" y="998"/>
                </a:lnTo>
                <a:lnTo>
                  <a:pt x="270" y="971"/>
                </a:lnTo>
                <a:lnTo>
                  <a:pt x="301" y="942"/>
                </a:lnTo>
                <a:lnTo>
                  <a:pt x="332" y="911"/>
                </a:lnTo>
                <a:lnTo>
                  <a:pt x="359" y="881"/>
                </a:lnTo>
                <a:lnTo>
                  <a:pt x="387" y="848"/>
                </a:lnTo>
                <a:lnTo>
                  <a:pt x="414" y="813"/>
                </a:lnTo>
                <a:lnTo>
                  <a:pt x="443" y="779"/>
                </a:lnTo>
                <a:lnTo>
                  <a:pt x="472" y="742"/>
                </a:lnTo>
                <a:lnTo>
                  <a:pt x="502" y="704"/>
                </a:lnTo>
                <a:lnTo>
                  <a:pt x="533" y="666"/>
                </a:lnTo>
                <a:lnTo>
                  <a:pt x="564" y="6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" name="组合 8"/>
          <p:cNvGrpSpPr/>
          <p:nvPr/>
        </p:nvGrpSpPr>
        <p:grpSpPr>
          <a:xfrm>
            <a:off x="1400040" y="3975120"/>
            <a:ext cx="2635560" cy="1571760"/>
            <a:chOff x="1400040" y="3975120"/>
            <a:chExt cx="2635560" cy="1571760"/>
          </a:xfrm>
        </p:grpSpPr>
        <p:pic>
          <p:nvPicPr>
            <p:cNvPr id="10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6355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矩形 2"/>
            <p:cNvSpPr/>
            <p:nvPr/>
          </p:nvSpPr>
          <p:spPr>
            <a:xfrm>
              <a:off x="1441440" y="4587840"/>
              <a:ext cx="256932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上窄下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7"/>
          <p:cNvSpPr/>
          <p:nvPr/>
        </p:nvSpPr>
        <p:spPr>
          <a:xfrm>
            <a:off x="5526000" y="3216240"/>
            <a:ext cx="893880" cy="1201680"/>
          </a:xfrm>
          <a:custGeom>
            <a:avLst/>
            <a:gdLst/>
            <a:ahLst/>
            <a:rect l="l" t="t" r="r" b="b"/>
            <a:pathLst>
              <a:path w="1127" h="1515">
                <a:moveTo>
                  <a:pt x="211" y="1390"/>
                </a:moveTo>
                <a:lnTo>
                  <a:pt x="186" y="1407"/>
                </a:lnTo>
                <a:lnTo>
                  <a:pt x="163" y="1423"/>
                </a:lnTo>
                <a:lnTo>
                  <a:pt x="142" y="1438"/>
                </a:lnTo>
                <a:lnTo>
                  <a:pt x="123" y="1451"/>
                </a:lnTo>
                <a:lnTo>
                  <a:pt x="105" y="1463"/>
                </a:lnTo>
                <a:lnTo>
                  <a:pt x="88" y="1474"/>
                </a:lnTo>
                <a:lnTo>
                  <a:pt x="75" y="1484"/>
                </a:lnTo>
                <a:lnTo>
                  <a:pt x="61" y="1492"/>
                </a:lnTo>
                <a:lnTo>
                  <a:pt x="48" y="1499"/>
                </a:lnTo>
                <a:lnTo>
                  <a:pt x="38" y="1505"/>
                </a:lnTo>
                <a:lnTo>
                  <a:pt x="28" y="1509"/>
                </a:lnTo>
                <a:lnTo>
                  <a:pt x="21" y="1513"/>
                </a:lnTo>
                <a:lnTo>
                  <a:pt x="15" y="1515"/>
                </a:lnTo>
                <a:lnTo>
                  <a:pt x="9" y="1515"/>
                </a:lnTo>
                <a:lnTo>
                  <a:pt x="5" y="1515"/>
                </a:lnTo>
                <a:lnTo>
                  <a:pt x="2" y="1513"/>
                </a:lnTo>
                <a:lnTo>
                  <a:pt x="0" y="1509"/>
                </a:lnTo>
                <a:lnTo>
                  <a:pt x="0" y="1505"/>
                </a:lnTo>
                <a:lnTo>
                  <a:pt x="2" y="1499"/>
                </a:lnTo>
                <a:lnTo>
                  <a:pt x="4" y="1492"/>
                </a:lnTo>
                <a:lnTo>
                  <a:pt x="9" y="1484"/>
                </a:lnTo>
                <a:lnTo>
                  <a:pt x="15" y="1474"/>
                </a:lnTo>
                <a:lnTo>
                  <a:pt x="21" y="1463"/>
                </a:lnTo>
                <a:lnTo>
                  <a:pt x="30" y="1451"/>
                </a:lnTo>
                <a:lnTo>
                  <a:pt x="40" y="1438"/>
                </a:lnTo>
                <a:lnTo>
                  <a:pt x="52" y="1423"/>
                </a:lnTo>
                <a:lnTo>
                  <a:pt x="63" y="1407"/>
                </a:lnTo>
                <a:lnTo>
                  <a:pt x="78" y="1390"/>
                </a:lnTo>
                <a:lnTo>
                  <a:pt x="94" y="1371"/>
                </a:lnTo>
                <a:lnTo>
                  <a:pt x="111" y="1352"/>
                </a:lnTo>
                <a:lnTo>
                  <a:pt x="128" y="1330"/>
                </a:lnTo>
                <a:lnTo>
                  <a:pt x="149" y="1307"/>
                </a:lnTo>
                <a:lnTo>
                  <a:pt x="169" y="1284"/>
                </a:lnTo>
                <a:lnTo>
                  <a:pt x="190" y="1259"/>
                </a:lnTo>
                <a:lnTo>
                  <a:pt x="211" y="1234"/>
                </a:lnTo>
                <a:lnTo>
                  <a:pt x="230" y="1210"/>
                </a:lnTo>
                <a:lnTo>
                  <a:pt x="251" y="1185"/>
                </a:lnTo>
                <a:lnTo>
                  <a:pt x="272" y="1158"/>
                </a:lnTo>
                <a:lnTo>
                  <a:pt x="293" y="1131"/>
                </a:lnTo>
                <a:lnTo>
                  <a:pt x="315" y="1104"/>
                </a:lnTo>
                <a:lnTo>
                  <a:pt x="334" y="1075"/>
                </a:lnTo>
                <a:lnTo>
                  <a:pt x="355" y="1046"/>
                </a:lnTo>
                <a:lnTo>
                  <a:pt x="376" y="1016"/>
                </a:lnTo>
                <a:lnTo>
                  <a:pt x="397" y="987"/>
                </a:lnTo>
                <a:lnTo>
                  <a:pt x="418" y="956"/>
                </a:lnTo>
                <a:lnTo>
                  <a:pt x="437" y="924"/>
                </a:lnTo>
                <a:lnTo>
                  <a:pt x="459" y="891"/>
                </a:lnTo>
                <a:lnTo>
                  <a:pt x="480" y="858"/>
                </a:lnTo>
                <a:lnTo>
                  <a:pt x="499" y="826"/>
                </a:lnTo>
                <a:lnTo>
                  <a:pt x="518" y="793"/>
                </a:lnTo>
                <a:lnTo>
                  <a:pt x="537" y="762"/>
                </a:lnTo>
                <a:lnTo>
                  <a:pt x="556" y="732"/>
                </a:lnTo>
                <a:lnTo>
                  <a:pt x="574" y="703"/>
                </a:lnTo>
                <a:lnTo>
                  <a:pt x="591" y="674"/>
                </a:lnTo>
                <a:lnTo>
                  <a:pt x="608" y="647"/>
                </a:lnTo>
                <a:lnTo>
                  <a:pt x="624" y="620"/>
                </a:lnTo>
                <a:lnTo>
                  <a:pt x="639" y="593"/>
                </a:lnTo>
                <a:lnTo>
                  <a:pt x="652" y="568"/>
                </a:lnTo>
                <a:lnTo>
                  <a:pt x="668" y="542"/>
                </a:lnTo>
                <a:lnTo>
                  <a:pt x="679" y="517"/>
                </a:lnTo>
                <a:lnTo>
                  <a:pt x="693" y="494"/>
                </a:lnTo>
                <a:lnTo>
                  <a:pt x="702" y="469"/>
                </a:lnTo>
                <a:lnTo>
                  <a:pt x="714" y="446"/>
                </a:lnTo>
                <a:lnTo>
                  <a:pt x="723" y="423"/>
                </a:lnTo>
                <a:lnTo>
                  <a:pt x="731" y="403"/>
                </a:lnTo>
                <a:lnTo>
                  <a:pt x="741" y="384"/>
                </a:lnTo>
                <a:lnTo>
                  <a:pt x="748" y="365"/>
                </a:lnTo>
                <a:lnTo>
                  <a:pt x="754" y="348"/>
                </a:lnTo>
                <a:lnTo>
                  <a:pt x="762" y="332"/>
                </a:lnTo>
                <a:lnTo>
                  <a:pt x="768" y="317"/>
                </a:lnTo>
                <a:lnTo>
                  <a:pt x="771" y="304"/>
                </a:lnTo>
                <a:lnTo>
                  <a:pt x="775" y="292"/>
                </a:lnTo>
                <a:lnTo>
                  <a:pt x="779" y="281"/>
                </a:lnTo>
                <a:lnTo>
                  <a:pt x="783" y="269"/>
                </a:lnTo>
                <a:lnTo>
                  <a:pt x="785" y="259"/>
                </a:lnTo>
                <a:lnTo>
                  <a:pt x="787" y="252"/>
                </a:lnTo>
                <a:lnTo>
                  <a:pt x="787" y="246"/>
                </a:lnTo>
                <a:lnTo>
                  <a:pt x="787" y="240"/>
                </a:lnTo>
                <a:lnTo>
                  <a:pt x="787" y="234"/>
                </a:lnTo>
                <a:lnTo>
                  <a:pt x="785" y="233"/>
                </a:lnTo>
                <a:lnTo>
                  <a:pt x="783" y="231"/>
                </a:lnTo>
                <a:lnTo>
                  <a:pt x="781" y="231"/>
                </a:lnTo>
                <a:lnTo>
                  <a:pt x="779" y="229"/>
                </a:lnTo>
                <a:lnTo>
                  <a:pt x="775" y="229"/>
                </a:lnTo>
                <a:lnTo>
                  <a:pt x="771" y="229"/>
                </a:lnTo>
                <a:lnTo>
                  <a:pt x="768" y="229"/>
                </a:lnTo>
                <a:lnTo>
                  <a:pt x="760" y="231"/>
                </a:lnTo>
                <a:lnTo>
                  <a:pt x="748" y="234"/>
                </a:lnTo>
                <a:lnTo>
                  <a:pt x="735" y="238"/>
                </a:lnTo>
                <a:lnTo>
                  <a:pt x="722" y="242"/>
                </a:lnTo>
                <a:lnTo>
                  <a:pt x="704" y="248"/>
                </a:lnTo>
                <a:lnTo>
                  <a:pt x="687" y="256"/>
                </a:lnTo>
                <a:lnTo>
                  <a:pt x="666" y="263"/>
                </a:lnTo>
                <a:lnTo>
                  <a:pt x="645" y="271"/>
                </a:lnTo>
                <a:lnTo>
                  <a:pt x="622" y="281"/>
                </a:lnTo>
                <a:lnTo>
                  <a:pt x="599" y="292"/>
                </a:lnTo>
                <a:lnTo>
                  <a:pt x="572" y="304"/>
                </a:lnTo>
                <a:lnTo>
                  <a:pt x="545" y="315"/>
                </a:lnTo>
                <a:lnTo>
                  <a:pt x="516" y="327"/>
                </a:lnTo>
                <a:lnTo>
                  <a:pt x="485" y="340"/>
                </a:lnTo>
                <a:lnTo>
                  <a:pt x="459" y="352"/>
                </a:lnTo>
                <a:lnTo>
                  <a:pt x="432" y="363"/>
                </a:lnTo>
                <a:lnTo>
                  <a:pt x="409" y="373"/>
                </a:lnTo>
                <a:lnTo>
                  <a:pt x="386" y="382"/>
                </a:lnTo>
                <a:lnTo>
                  <a:pt x="363" y="392"/>
                </a:lnTo>
                <a:lnTo>
                  <a:pt x="343" y="400"/>
                </a:lnTo>
                <a:lnTo>
                  <a:pt x="324" y="407"/>
                </a:lnTo>
                <a:lnTo>
                  <a:pt x="307" y="415"/>
                </a:lnTo>
                <a:lnTo>
                  <a:pt x="291" y="421"/>
                </a:lnTo>
                <a:lnTo>
                  <a:pt x="278" y="424"/>
                </a:lnTo>
                <a:lnTo>
                  <a:pt x="267" y="428"/>
                </a:lnTo>
                <a:lnTo>
                  <a:pt x="255" y="432"/>
                </a:lnTo>
                <a:lnTo>
                  <a:pt x="247" y="434"/>
                </a:lnTo>
                <a:lnTo>
                  <a:pt x="240" y="436"/>
                </a:lnTo>
                <a:lnTo>
                  <a:pt x="234" y="436"/>
                </a:lnTo>
                <a:lnTo>
                  <a:pt x="220" y="436"/>
                </a:lnTo>
                <a:lnTo>
                  <a:pt x="207" y="434"/>
                </a:lnTo>
                <a:lnTo>
                  <a:pt x="192" y="430"/>
                </a:lnTo>
                <a:lnTo>
                  <a:pt x="178" y="426"/>
                </a:lnTo>
                <a:lnTo>
                  <a:pt x="163" y="421"/>
                </a:lnTo>
                <a:lnTo>
                  <a:pt x="146" y="413"/>
                </a:lnTo>
                <a:lnTo>
                  <a:pt x="130" y="405"/>
                </a:lnTo>
                <a:lnTo>
                  <a:pt x="113" y="396"/>
                </a:lnTo>
                <a:lnTo>
                  <a:pt x="101" y="392"/>
                </a:lnTo>
                <a:lnTo>
                  <a:pt x="90" y="390"/>
                </a:lnTo>
                <a:lnTo>
                  <a:pt x="82" y="386"/>
                </a:lnTo>
                <a:lnTo>
                  <a:pt x="73" y="382"/>
                </a:lnTo>
                <a:lnTo>
                  <a:pt x="65" y="378"/>
                </a:lnTo>
                <a:lnTo>
                  <a:pt x="57" y="375"/>
                </a:lnTo>
                <a:lnTo>
                  <a:pt x="52" y="373"/>
                </a:lnTo>
                <a:lnTo>
                  <a:pt x="46" y="369"/>
                </a:lnTo>
                <a:lnTo>
                  <a:pt x="42" y="365"/>
                </a:lnTo>
                <a:lnTo>
                  <a:pt x="36" y="361"/>
                </a:lnTo>
                <a:lnTo>
                  <a:pt x="34" y="357"/>
                </a:lnTo>
                <a:lnTo>
                  <a:pt x="30" y="353"/>
                </a:lnTo>
                <a:lnTo>
                  <a:pt x="28" y="350"/>
                </a:lnTo>
                <a:lnTo>
                  <a:pt x="27" y="346"/>
                </a:lnTo>
                <a:lnTo>
                  <a:pt x="27" y="344"/>
                </a:lnTo>
                <a:lnTo>
                  <a:pt x="27" y="340"/>
                </a:lnTo>
                <a:lnTo>
                  <a:pt x="25" y="338"/>
                </a:lnTo>
                <a:lnTo>
                  <a:pt x="23" y="336"/>
                </a:lnTo>
                <a:lnTo>
                  <a:pt x="23" y="332"/>
                </a:lnTo>
                <a:lnTo>
                  <a:pt x="25" y="330"/>
                </a:lnTo>
                <a:lnTo>
                  <a:pt x="25" y="328"/>
                </a:lnTo>
                <a:lnTo>
                  <a:pt x="28" y="325"/>
                </a:lnTo>
                <a:lnTo>
                  <a:pt x="30" y="323"/>
                </a:lnTo>
                <a:lnTo>
                  <a:pt x="36" y="321"/>
                </a:lnTo>
                <a:lnTo>
                  <a:pt x="40" y="317"/>
                </a:lnTo>
                <a:lnTo>
                  <a:pt x="46" y="315"/>
                </a:lnTo>
                <a:lnTo>
                  <a:pt x="53" y="313"/>
                </a:lnTo>
                <a:lnTo>
                  <a:pt x="61" y="309"/>
                </a:lnTo>
                <a:lnTo>
                  <a:pt x="69" y="307"/>
                </a:lnTo>
                <a:lnTo>
                  <a:pt x="78" y="305"/>
                </a:lnTo>
                <a:lnTo>
                  <a:pt x="88" y="302"/>
                </a:lnTo>
                <a:lnTo>
                  <a:pt x="100" y="300"/>
                </a:lnTo>
                <a:lnTo>
                  <a:pt x="119" y="296"/>
                </a:lnTo>
                <a:lnTo>
                  <a:pt x="138" y="292"/>
                </a:lnTo>
                <a:lnTo>
                  <a:pt x="159" y="288"/>
                </a:lnTo>
                <a:lnTo>
                  <a:pt x="180" y="286"/>
                </a:lnTo>
                <a:lnTo>
                  <a:pt x="203" y="284"/>
                </a:lnTo>
                <a:lnTo>
                  <a:pt x="226" y="281"/>
                </a:lnTo>
                <a:lnTo>
                  <a:pt x="247" y="277"/>
                </a:lnTo>
                <a:lnTo>
                  <a:pt x="270" y="273"/>
                </a:lnTo>
                <a:lnTo>
                  <a:pt x="282" y="271"/>
                </a:lnTo>
                <a:lnTo>
                  <a:pt x="295" y="267"/>
                </a:lnTo>
                <a:lnTo>
                  <a:pt x="309" y="263"/>
                </a:lnTo>
                <a:lnTo>
                  <a:pt x="322" y="259"/>
                </a:lnTo>
                <a:lnTo>
                  <a:pt x="338" y="256"/>
                </a:lnTo>
                <a:lnTo>
                  <a:pt x="353" y="252"/>
                </a:lnTo>
                <a:lnTo>
                  <a:pt x="370" y="248"/>
                </a:lnTo>
                <a:lnTo>
                  <a:pt x="387" y="242"/>
                </a:lnTo>
                <a:lnTo>
                  <a:pt x="405" y="236"/>
                </a:lnTo>
                <a:lnTo>
                  <a:pt x="422" y="231"/>
                </a:lnTo>
                <a:lnTo>
                  <a:pt x="441" y="225"/>
                </a:lnTo>
                <a:lnTo>
                  <a:pt x="460" y="219"/>
                </a:lnTo>
                <a:lnTo>
                  <a:pt x="499" y="206"/>
                </a:lnTo>
                <a:lnTo>
                  <a:pt x="539" y="190"/>
                </a:lnTo>
                <a:lnTo>
                  <a:pt x="560" y="183"/>
                </a:lnTo>
                <a:lnTo>
                  <a:pt x="579" y="175"/>
                </a:lnTo>
                <a:lnTo>
                  <a:pt x="597" y="167"/>
                </a:lnTo>
                <a:lnTo>
                  <a:pt x="616" y="160"/>
                </a:lnTo>
                <a:lnTo>
                  <a:pt x="631" y="152"/>
                </a:lnTo>
                <a:lnTo>
                  <a:pt x="649" y="144"/>
                </a:lnTo>
                <a:lnTo>
                  <a:pt x="664" y="137"/>
                </a:lnTo>
                <a:lnTo>
                  <a:pt x="677" y="129"/>
                </a:lnTo>
                <a:lnTo>
                  <a:pt x="691" y="121"/>
                </a:lnTo>
                <a:lnTo>
                  <a:pt x="702" y="114"/>
                </a:lnTo>
                <a:lnTo>
                  <a:pt x="714" y="108"/>
                </a:lnTo>
                <a:lnTo>
                  <a:pt x="725" y="100"/>
                </a:lnTo>
                <a:lnTo>
                  <a:pt x="735" y="92"/>
                </a:lnTo>
                <a:lnTo>
                  <a:pt x="745" y="85"/>
                </a:lnTo>
                <a:lnTo>
                  <a:pt x="752" y="77"/>
                </a:lnTo>
                <a:lnTo>
                  <a:pt x="760" y="69"/>
                </a:lnTo>
                <a:lnTo>
                  <a:pt x="766" y="62"/>
                </a:lnTo>
                <a:lnTo>
                  <a:pt x="773" y="54"/>
                </a:lnTo>
                <a:lnTo>
                  <a:pt x="779" y="48"/>
                </a:lnTo>
                <a:lnTo>
                  <a:pt x="787" y="43"/>
                </a:lnTo>
                <a:lnTo>
                  <a:pt x="793" y="37"/>
                </a:lnTo>
                <a:lnTo>
                  <a:pt x="800" y="33"/>
                </a:lnTo>
                <a:lnTo>
                  <a:pt x="814" y="23"/>
                </a:lnTo>
                <a:lnTo>
                  <a:pt x="825" y="18"/>
                </a:lnTo>
                <a:lnTo>
                  <a:pt x="837" y="12"/>
                </a:lnTo>
                <a:lnTo>
                  <a:pt x="848" y="6"/>
                </a:lnTo>
                <a:lnTo>
                  <a:pt x="858" y="0"/>
                </a:lnTo>
                <a:lnTo>
                  <a:pt x="862" y="0"/>
                </a:lnTo>
                <a:lnTo>
                  <a:pt x="867" y="0"/>
                </a:lnTo>
                <a:lnTo>
                  <a:pt x="873" y="2"/>
                </a:lnTo>
                <a:lnTo>
                  <a:pt x="881" y="2"/>
                </a:lnTo>
                <a:lnTo>
                  <a:pt x="889" y="4"/>
                </a:lnTo>
                <a:lnTo>
                  <a:pt x="896" y="6"/>
                </a:lnTo>
                <a:lnTo>
                  <a:pt x="904" y="10"/>
                </a:lnTo>
                <a:lnTo>
                  <a:pt x="913" y="12"/>
                </a:lnTo>
                <a:lnTo>
                  <a:pt x="925" y="16"/>
                </a:lnTo>
                <a:lnTo>
                  <a:pt x="935" y="19"/>
                </a:lnTo>
                <a:lnTo>
                  <a:pt x="946" y="23"/>
                </a:lnTo>
                <a:lnTo>
                  <a:pt x="960" y="29"/>
                </a:lnTo>
                <a:lnTo>
                  <a:pt x="971" y="35"/>
                </a:lnTo>
                <a:lnTo>
                  <a:pt x="986" y="41"/>
                </a:lnTo>
                <a:lnTo>
                  <a:pt x="1000" y="48"/>
                </a:lnTo>
                <a:lnTo>
                  <a:pt x="1017" y="56"/>
                </a:lnTo>
                <a:lnTo>
                  <a:pt x="1029" y="62"/>
                </a:lnTo>
                <a:lnTo>
                  <a:pt x="1042" y="69"/>
                </a:lnTo>
                <a:lnTo>
                  <a:pt x="1054" y="77"/>
                </a:lnTo>
                <a:lnTo>
                  <a:pt x="1065" y="83"/>
                </a:lnTo>
                <a:lnTo>
                  <a:pt x="1075" y="90"/>
                </a:lnTo>
                <a:lnTo>
                  <a:pt x="1082" y="96"/>
                </a:lnTo>
                <a:lnTo>
                  <a:pt x="1092" y="102"/>
                </a:lnTo>
                <a:lnTo>
                  <a:pt x="1100" y="108"/>
                </a:lnTo>
                <a:lnTo>
                  <a:pt x="1105" y="114"/>
                </a:lnTo>
                <a:lnTo>
                  <a:pt x="1111" y="119"/>
                </a:lnTo>
                <a:lnTo>
                  <a:pt x="1115" y="125"/>
                </a:lnTo>
                <a:lnTo>
                  <a:pt x="1119" y="129"/>
                </a:lnTo>
                <a:lnTo>
                  <a:pt x="1123" y="135"/>
                </a:lnTo>
                <a:lnTo>
                  <a:pt x="1125" y="140"/>
                </a:lnTo>
                <a:lnTo>
                  <a:pt x="1127" y="144"/>
                </a:lnTo>
                <a:lnTo>
                  <a:pt x="1127" y="150"/>
                </a:lnTo>
                <a:lnTo>
                  <a:pt x="1123" y="160"/>
                </a:lnTo>
                <a:lnTo>
                  <a:pt x="1117" y="171"/>
                </a:lnTo>
                <a:lnTo>
                  <a:pt x="1111" y="181"/>
                </a:lnTo>
                <a:lnTo>
                  <a:pt x="1105" y="188"/>
                </a:lnTo>
                <a:lnTo>
                  <a:pt x="1098" y="198"/>
                </a:lnTo>
                <a:lnTo>
                  <a:pt x="1088" y="206"/>
                </a:lnTo>
                <a:lnTo>
                  <a:pt x="1082" y="209"/>
                </a:lnTo>
                <a:lnTo>
                  <a:pt x="1079" y="211"/>
                </a:lnTo>
                <a:lnTo>
                  <a:pt x="1071" y="215"/>
                </a:lnTo>
                <a:lnTo>
                  <a:pt x="1065" y="219"/>
                </a:lnTo>
                <a:lnTo>
                  <a:pt x="1057" y="221"/>
                </a:lnTo>
                <a:lnTo>
                  <a:pt x="1050" y="227"/>
                </a:lnTo>
                <a:lnTo>
                  <a:pt x="1042" y="234"/>
                </a:lnTo>
                <a:lnTo>
                  <a:pt x="1033" y="244"/>
                </a:lnTo>
                <a:lnTo>
                  <a:pt x="1023" y="254"/>
                </a:lnTo>
                <a:lnTo>
                  <a:pt x="1013" y="267"/>
                </a:lnTo>
                <a:lnTo>
                  <a:pt x="1002" y="282"/>
                </a:lnTo>
                <a:lnTo>
                  <a:pt x="992" y="298"/>
                </a:lnTo>
                <a:lnTo>
                  <a:pt x="979" y="317"/>
                </a:lnTo>
                <a:lnTo>
                  <a:pt x="967" y="336"/>
                </a:lnTo>
                <a:lnTo>
                  <a:pt x="954" y="357"/>
                </a:lnTo>
                <a:lnTo>
                  <a:pt x="940" y="380"/>
                </a:lnTo>
                <a:lnTo>
                  <a:pt x="927" y="405"/>
                </a:lnTo>
                <a:lnTo>
                  <a:pt x="912" y="432"/>
                </a:lnTo>
                <a:lnTo>
                  <a:pt x="898" y="461"/>
                </a:lnTo>
                <a:lnTo>
                  <a:pt x="883" y="492"/>
                </a:lnTo>
                <a:lnTo>
                  <a:pt x="865" y="522"/>
                </a:lnTo>
                <a:lnTo>
                  <a:pt x="848" y="553"/>
                </a:lnTo>
                <a:lnTo>
                  <a:pt x="831" y="582"/>
                </a:lnTo>
                <a:lnTo>
                  <a:pt x="814" y="613"/>
                </a:lnTo>
                <a:lnTo>
                  <a:pt x="796" y="643"/>
                </a:lnTo>
                <a:lnTo>
                  <a:pt x="777" y="674"/>
                </a:lnTo>
                <a:lnTo>
                  <a:pt x="739" y="735"/>
                </a:lnTo>
                <a:lnTo>
                  <a:pt x="698" y="797"/>
                </a:lnTo>
                <a:lnTo>
                  <a:pt x="658" y="858"/>
                </a:lnTo>
                <a:lnTo>
                  <a:pt x="576" y="981"/>
                </a:lnTo>
                <a:lnTo>
                  <a:pt x="556" y="1012"/>
                </a:lnTo>
                <a:lnTo>
                  <a:pt x="535" y="1041"/>
                </a:lnTo>
                <a:lnTo>
                  <a:pt x="514" y="1069"/>
                </a:lnTo>
                <a:lnTo>
                  <a:pt x="491" y="1098"/>
                </a:lnTo>
                <a:lnTo>
                  <a:pt x="470" y="1127"/>
                </a:lnTo>
                <a:lnTo>
                  <a:pt x="447" y="1154"/>
                </a:lnTo>
                <a:lnTo>
                  <a:pt x="426" y="1179"/>
                </a:lnTo>
                <a:lnTo>
                  <a:pt x="403" y="1206"/>
                </a:lnTo>
                <a:lnTo>
                  <a:pt x="380" y="1231"/>
                </a:lnTo>
                <a:lnTo>
                  <a:pt x="355" y="1256"/>
                </a:lnTo>
                <a:lnTo>
                  <a:pt x="332" y="1279"/>
                </a:lnTo>
                <a:lnTo>
                  <a:pt x="309" y="1302"/>
                </a:lnTo>
                <a:lnTo>
                  <a:pt x="284" y="1325"/>
                </a:lnTo>
                <a:lnTo>
                  <a:pt x="259" y="1346"/>
                </a:lnTo>
                <a:lnTo>
                  <a:pt x="234" y="1369"/>
                </a:lnTo>
                <a:lnTo>
                  <a:pt x="211" y="13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8"/>
          <p:cNvSpPr/>
          <p:nvPr/>
        </p:nvSpPr>
        <p:spPr>
          <a:xfrm>
            <a:off x="6603840" y="2852640"/>
            <a:ext cx="263520" cy="709560"/>
          </a:xfrm>
          <a:custGeom>
            <a:avLst/>
            <a:gdLst/>
            <a:ahLst/>
            <a:rect l="l" t="t" r="r" b="b"/>
            <a:pathLst>
              <a:path w="330" h="894">
                <a:moveTo>
                  <a:pt x="48" y="132"/>
                </a:moveTo>
                <a:lnTo>
                  <a:pt x="42" y="122"/>
                </a:lnTo>
                <a:lnTo>
                  <a:pt x="36" y="111"/>
                </a:lnTo>
                <a:lnTo>
                  <a:pt x="31" y="103"/>
                </a:lnTo>
                <a:lnTo>
                  <a:pt x="25" y="94"/>
                </a:lnTo>
                <a:lnTo>
                  <a:pt x="21" y="84"/>
                </a:lnTo>
                <a:lnTo>
                  <a:pt x="17" y="76"/>
                </a:lnTo>
                <a:lnTo>
                  <a:pt x="9" y="59"/>
                </a:lnTo>
                <a:lnTo>
                  <a:pt x="6" y="46"/>
                </a:lnTo>
                <a:lnTo>
                  <a:pt x="2" y="32"/>
                </a:lnTo>
                <a:lnTo>
                  <a:pt x="0" y="21"/>
                </a:lnTo>
                <a:lnTo>
                  <a:pt x="0" y="9"/>
                </a:lnTo>
                <a:lnTo>
                  <a:pt x="0" y="7"/>
                </a:lnTo>
                <a:lnTo>
                  <a:pt x="4" y="5"/>
                </a:lnTo>
                <a:lnTo>
                  <a:pt x="8" y="3"/>
                </a:lnTo>
                <a:lnTo>
                  <a:pt x="13" y="1"/>
                </a:lnTo>
                <a:lnTo>
                  <a:pt x="21" y="1"/>
                </a:lnTo>
                <a:lnTo>
                  <a:pt x="31" y="0"/>
                </a:lnTo>
                <a:lnTo>
                  <a:pt x="42" y="0"/>
                </a:lnTo>
                <a:lnTo>
                  <a:pt x="56" y="0"/>
                </a:lnTo>
                <a:lnTo>
                  <a:pt x="71" y="1"/>
                </a:lnTo>
                <a:lnTo>
                  <a:pt x="88" y="3"/>
                </a:lnTo>
                <a:lnTo>
                  <a:pt x="107" y="5"/>
                </a:lnTo>
                <a:lnTo>
                  <a:pt x="117" y="5"/>
                </a:lnTo>
                <a:lnTo>
                  <a:pt x="128" y="7"/>
                </a:lnTo>
                <a:lnTo>
                  <a:pt x="140" y="9"/>
                </a:lnTo>
                <a:lnTo>
                  <a:pt x="152" y="9"/>
                </a:lnTo>
                <a:lnTo>
                  <a:pt x="163" y="11"/>
                </a:lnTo>
                <a:lnTo>
                  <a:pt x="176" y="13"/>
                </a:lnTo>
                <a:lnTo>
                  <a:pt x="190" y="15"/>
                </a:lnTo>
                <a:lnTo>
                  <a:pt x="203" y="17"/>
                </a:lnTo>
                <a:lnTo>
                  <a:pt x="217" y="21"/>
                </a:lnTo>
                <a:lnTo>
                  <a:pt x="232" y="23"/>
                </a:lnTo>
                <a:lnTo>
                  <a:pt x="255" y="241"/>
                </a:lnTo>
                <a:lnTo>
                  <a:pt x="280" y="458"/>
                </a:lnTo>
                <a:lnTo>
                  <a:pt x="305" y="677"/>
                </a:lnTo>
                <a:lnTo>
                  <a:pt x="330" y="894"/>
                </a:lnTo>
                <a:lnTo>
                  <a:pt x="232" y="894"/>
                </a:lnTo>
                <a:lnTo>
                  <a:pt x="224" y="852"/>
                </a:lnTo>
                <a:lnTo>
                  <a:pt x="217" y="810"/>
                </a:lnTo>
                <a:lnTo>
                  <a:pt x="209" y="769"/>
                </a:lnTo>
                <a:lnTo>
                  <a:pt x="201" y="731"/>
                </a:lnTo>
                <a:lnTo>
                  <a:pt x="194" y="692"/>
                </a:lnTo>
                <a:lnTo>
                  <a:pt x="186" y="656"/>
                </a:lnTo>
                <a:lnTo>
                  <a:pt x="180" y="620"/>
                </a:lnTo>
                <a:lnTo>
                  <a:pt x="173" y="585"/>
                </a:lnTo>
                <a:lnTo>
                  <a:pt x="167" y="552"/>
                </a:lnTo>
                <a:lnTo>
                  <a:pt x="159" y="520"/>
                </a:lnTo>
                <a:lnTo>
                  <a:pt x="153" y="489"/>
                </a:lnTo>
                <a:lnTo>
                  <a:pt x="146" y="460"/>
                </a:lnTo>
                <a:lnTo>
                  <a:pt x="140" y="431"/>
                </a:lnTo>
                <a:lnTo>
                  <a:pt x="134" y="405"/>
                </a:lnTo>
                <a:lnTo>
                  <a:pt x="128" y="380"/>
                </a:lnTo>
                <a:lnTo>
                  <a:pt x="123" y="355"/>
                </a:lnTo>
                <a:lnTo>
                  <a:pt x="117" y="332"/>
                </a:lnTo>
                <a:lnTo>
                  <a:pt x="111" y="309"/>
                </a:lnTo>
                <a:lnTo>
                  <a:pt x="105" y="289"/>
                </a:lnTo>
                <a:lnTo>
                  <a:pt x="100" y="268"/>
                </a:lnTo>
                <a:lnTo>
                  <a:pt x="96" y="251"/>
                </a:lnTo>
                <a:lnTo>
                  <a:pt x="90" y="234"/>
                </a:lnTo>
                <a:lnTo>
                  <a:pt x="84" y="218"/>
                </a:lnTo>
                <a:lnTo>
                  <a:pt x="81" y="203"/>
                </a:lnTo>
                <a:lnTo>
                  <a:pt x="77" y="190"/>
                </a:lnTo>
                <a:lnTo>
                  <a:pt x="71" y="178"/>
                </a:lnTo>
                <a:lnTo>
                  <a:pt x="67" y="167"/>
                </a:lnTo>
                <a:lnTo>
                  <a:pt x="63" y="157"/>
                </a:lnTo>
                <a:lnTo>
                  <a:pt x="59" y="149"/>
                </a:lnTo>
                <a:lnTo>
                  <a:pt x="56" y="142"/>
                </a:lnTo>
                <a:lnTo>
                  <a:pt x="52" y="136"/>
                </a:lnTo>
                <a:lnTo>
                  <a:pt x="48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6702480" y="2741760"/>
            <a:ext cx="901800" cy="726840"/>
          </a:xfrm>
          <a:custGeom>
            <a:avLst/>
            <a:gdLst/>
            <a:ahLst/>
            <a:rect l="l" t="t" r="r" b="b"/>
            <a:pathLst>
              <a:path w="1136" h="918">
                <a:moveTo>
                  <a:pt x="890" y="640"/>
                </a:moveTo>
                <a:lnTo>
                  <a:pt x="885" y="659"/>
                </a:lnTo>
                <a:lnTo>
                  <a:pt x="877" y="678"/>
                </a:lnTo>
                <a:lnTo>
                  <a:pt x="871" y="695"/>
                </a:lnTo>
                <a:lnTo>
                  <a:pt x="866" y="713"/>
                </a:lnTo>
                <a:lnTo>
                  <a:pt x="860" y="728"/>
                </a:lnTo>
                <a:lnTo>
                  <a:pt x="852" y="743"/>
                </a:lnTo>
                <a:lnTo>
                  <a:pt x="846" y="759"/>
                </a:lnTo>
                <a:lnTo>
                  <a:pt x="841" y="772"/>
                </a:lnTo>
                <a:lnTo>
                  <a:pt x="835" y="787"/>
                </a:lnTo>
                <a:lnTo>
                  <a:pt x="831" y="799"/>
                </a:lnTo>
                <a:lnTo>
                  <a:pt x="825" y="812"/>
                </a:lnTo>
                <a:lnTo>
                  <a:pt x="819" y="824"/>
                </a:lnTo>
                <a:lnTo>
                  <a:pt x="816" y="835"/>
                </a:lnTo>
                <a:lnTo>
                  <a:pt x="810" y="845"/>
                </a:lnTo>
                <a:lnTo>
                  <a:pt x="806" y="855"/>
                </a:lnTo>
                <a:lnTo>
                  <a:pt x="802" y="864"/>
                </a:lnTo>
                <a:lnTo>
                  <a:pt x="796" y="872"/>
                </a:lnTo>
                <a:lnTo>
                  <a:pt x="793" y="880"/>
                </a:lnTo>
                <a:lnTo>
                  <a:pt x="789" y="887"/>
                </a:lnTo>
                <a:lnTo>
                  <a:pt x="785" y="893"/>
                </a:lnTo>
                <a:lnTo>
                  <a:pt x="781" y="899"/>
                </a:lnTo>
                <a:lnTo>
                  <a:pt x="779" y="903"/>
                </a:lnTo>
                <a:lnTo>
                  <a:pt x="775" y="906"/>
                </a:lnTo>
                <a:lnTo>
                  <a:pt x="773" y="910"/>
                </a:lnTo>
                <a:lnTo>
                  <a:pt x="770" y="914"/>
                </a:lnTo>
                <a:lnTo>
                  <a:pt x="768" y="916"/>
                </a:lnTo>
                <a:lnTo>
                  <a:pt x="766" y="916"/>
                </a:lnTo>
                <a:lnTo>
                  <a:pt x="764" y="918"/>
                </a:lnTo>
                <a:lnTo>
                  <a:pt x="762" y="918"/>
                </a:lnTo>
                <a:lnTo>
                  <a:pt x="760" y="916"/>
                </a:lnTo>
                <a:lnTo>
                  <a:pt x="758" y="914"/>
                </a:lnTo>
                <a:lnTo>
                  <a:pt x="756" y="912"/>
                </a:lnTo>
                <a:lnTo>
                  <a:pt x="748" y="906"/>
                </a:lnTo>
                <a:lnTo>
                  <a:pt x="741" y="901"/>
                </a:lnTo>
                <a:lnTo>
                  <a:pt x="735" y="891"/>
                </a:lnTo>
                <a:lnTo>
                  <a:pt x="729" y="881"/>
                </a:lnTo>
                <a:lnTo>
                  <a:pt x="725" y="872"/>
                </a:lnTo>
                <a:lnTo>
                  <a:pt x="722" y="858"/>
                </a:lnTo>
                <a:lnTo>
                  <a:pt x="722" y="845"/>
                </a:lnTo>
                <a:lnTo>
                  <a:pt x="720" y="832"/>
                </a:lnTo>
                <a:lnTo>
                  <a:pt x="720" y="822"/>
                </a:lnTo>
                <a:lnTo>
                  <a:pt x="722" y="814"/>
                </a:lnTo>
                <a:lnTo>
                  <a:pt x="722" y="803"/>
                </a:lnTo>
                <a:lnTo>
                  <a:pt x="723" y="793"/>
                </a:lnTo>
                <a:lnTo>
                  <a:pt x="723" y="780"/>
                </a:lnTo>
                <a:lnTo>
                  <a:pt x="725" y="768"/>
                </a:lnTo>
                <a:lnTo>
                  <a:pt x="727" y="755"/>
                </a:lnTo>
                <a:lnTo>
                  <a:pt x="731" y="739"/>
                </a:lnTo>
                <a:lnTo>
                  <a:pt x="733" y="724"/>
                </a:lnTo>
                <a:lnTo>
                  <a:pt x="737" y="707"/>
                </a:lnTo>
                <a:lnTo>
                  <a:pt x="741" y="689"/>
                </a:lnTo>
                <a:lnTo>
                  <a:pt x="747" y="670"/>
                </a:lnTo>
                <a:lnTo>
                  <a:pt x="750" y="651"/>
                </a:lnTo>
                <a:lnTo>
                  <a:pt x="756" y="630"/>
                </a:lnTo>
                <a:lnTo>
                  <a:pt x="762" y="609"/>
                </a:lnTo>
                <a:lnTo>
                  <a:pt x="770" y="586"/>
                </a:lnTo>
                <a:lnTo>
                  <a:pt x="775" y="563"/>
                </a:lnTo>
                <a:lnTo>
                  <a:pt x="781" y="542"/>
                </a:lnTo>
                <a:lnTo>
                  <a:pt x="787" y="521"/>
                </a:lnTo>
                <a:lnTo>
                  <a:pt x="791" y="499"/>
                </a:lnTo>
                <a:lnTo>
                  <a:pt x="796" y="478"/>
                </a:lnTo>
                <a:lnTo>
                  <a:pt x="800" y="459"/>
                </a:lnTo>
                <a:lnTo>
                  <a:pt x="804" y="440"/>
                </a:lnTo>
                <a:lnTo>
                  <a:pt x="806" y="423"/>
                </a:lnTo>
                <a:lnTo>
                  <a:pt x="810" y="405"/>
                </a:lnTo>
                <a:lnTo>
                  <a:pt x="812" y="388"/>
                </a:lnTo>
                <a:lnTo>
                  <a:pt x="814" y="371"/>
                </a:lnTo>
                <a:lnTo>
                  <a:pt x="816" y="356"/>
                </a:lnTo>
                <a:lnTo>
                  <a:pt x="816" y="340"/>
                </a:lnTo>
                <a:lnTo>
                  <a:pt x="818" y="327"/>
                </a:lnTo>
                <a:lnTo>
                  <a:pt x="818" y="313"/>
                </a:lnTo>
                <a:lnTo>
                  <a:pt x="818" y="300"/>
                </a:lnTo>
                <a:lnTo>
                  <a:pt x="818" y="288"/>
                </a:lnTo>
                <a:lnTo>
                  <a:pt x="818" y="275"/>
                </a:lnTo>
                <a:lnTo>
                  <a:pt x="818" y="265"/>
                </a:lnTo>
                <a:lnTo>
                  <a:pt x="818" y="254"/>
                </a:lnTo>
                <a:lnTo>
                  <a:pt x="818" y="244"/>
                </a:lnTo>
                <a:lnTo>
                  <a:pt x="818" y="235"/>
                </a:lnTo>
                <a:lnTo>
                  <a:pt x="816" y="227"/>
                </a:lnTo>
                <a:lnTo>
                  <a:pt x="816" y="217"/>
                </a:lnTo>
                <a:lnTo>
                  <a:pt x="816" y="212"/>
                </a:lnTo>
                <a:lnTo>
                  <a:pt x="814" y="204"/>
                </a:lnTo>
                <a:lnTo>
                  <a:pt x="814" y="198"/>
                </a:lnTo>
                <a:lnTo>
                  <a:pt x="812" y="192"/>
                </a:lnTo>
                <a:lnTo>
                  <a:pt x="812" y="189"/>
                </a:lnTo>
                <a:lnTo>
                  <a:pt x="810" y="183"/>
                </a:lnTo>
                <a:lnTo>
                  <a:pt x="808" y="181"/>
                </a:lnTo>
                <a:lnTo>
                  <a:pt x="806" y="177"/>
                </a:lnTo>
                <a:lnTo>
                  <a:pt x="800" y="173"/>
                </a:lnTo>
                <a:lnTo>
                  <a:pt x="795" y="169"/>
                </a:lnTo>
                <a:lnTo>
                  <a:pt x="787" y="167"/>
                </a:lnTo>
                <a:lnTo>
                  <a:pt x="781" y="165"/>
                </a:lnTo>
                <a:lnTo>
                  <a:pt x="773" y="164"/>
                </a:lnTo>
                <a:lnTo>
                  <a:pt x="768" y="164"/>
                </a:lnTo>
                <a:lnTo>
                  <a:pt x="762" y="164"/>
                </a:lnTo>
                <a:lnTo>
                  <a:pt x="756" y="164"/>
                </a:lnTo>
                <a:lnTo>
                  <a:pt x="750" y="164"/>
                </a:lnTo>
                <a:lnTo>
                  <a:pt x="745" y="164"/>
                </a:lnTo>
                <a:lnTo>
                  <a:pt x="735" y="165"/>
                </a:lnTo>
                <a:lnTo>
                  <a:pt x="725" y="165"/>
                </a:lnTo>
                <a:lnTo>
                  <a:pt x="712" y="167"/>
                </a:lnTo>
                <a:lnTo>
                  <a:pt x="699" y="169"/>
                </a:lnTo>
                <a:lnTo>
                  <a:pt x="683" y="173"/>
                </a:lnTo>
                <a:lnTo>
                  <a:pt x="664" y="175"/>
                </a:lnTo>
                <a:lnTo>
                  <a:pt x="645" y="179"/>
                </a:lnTo>
                <a:lnTo>
                  <a:pt x="626" y="183"/>
                </a:lnTo>
                <a:lnTo>
                  <a:pt x="603" y="187"/>
                </a:lnTo>
                <a:lnTo>
                  <a:pt x="578" y="192"/>
                </a:lnTo>
                <a:lnTo>
                  <a:pt x="551" y="198"/>
                </a:lnTo>
                <a:lnTo>
                  <a:pt x="524" y="204"/>
                </a:lnTo>
                <a:lnTo>
                  <a:pt x="495" y="212"/>
                </a:lnTo>
                <a:lnTo>
                  <a:pt x="462" y="219"/>
                </a:lnTo>
                <a:lnTo>
                  <a:pt x="430" y="225"/>
                </a:lnTo>
                <a:lnTo>
                  <a:pt x="395" y="233"/>
                </a:lnTo>
                <a:lnTo>
                  <a:pt x="364" y="237"/>
                </a:lnTo>
                <a:lnTo>
                  <a:pt x="332" y="242"/>
                </a:lnTo>
                <a:lnTo>
                  <a:pt x="301" y="246"/>
                </a:lnTo>
                <a:lnTo>
                  <a:pt x="270" y="248"/>
                </a:lnTo>
                <a:lnTo>
                  <a:pt x="242" y="250"/>
                </a:lnTo>
                <a:lnTo>
                  <a:pt x="213" y="252"/>
                </a:lnTo>
                <a:lnTo>
                  <a:pt x="184" y="252"/>
                </a:lnTo>
                <a:lnTo>
                  <a:pt x="157" y="250"/>
                </a:lnTo>
                <a:lnTo>
                  <a:pt x="128" y="250"/>
                </a:lnTo>
                <a:lnTo>
                  <a:pt x="101" y="248"/>
                </a:lnTo>
                <a:lnTo>
                  <a:pt x="77" y="244"/>
                </a:lnTo>
                <a:lnTo>
                  <a:pt x="50" y="240"/>
                </a:lnTo>
                <a:lnTo>
                  <a:pt x="25" y="237"/>
                </a:lnTo>
                <a:lnTo>
                  <a:pt x="0" y="233"/>
                </a:lnTo>
                <a:lnTo>
                  <a:pt x="0" y="198"/>
                </a:lnTo>
                <a:lnTo>
                  <a:pt x="0" y="164"/>
                </a:lnTo>
                <a:lnTo>
                  <a:pt x="19" y="164"/>
                </a:lnTo>
                <a:lnTo>
                  <a:pt x="42" y="164"/>
                </a:lnTo>
                <a:lnTo>
                  <a:pt x="63" y="162"/>
                </a:lnTo>
                <a:lnTo>
                  <a:pt x="86" y="162"/>
                </a:lnTo>
                <a:lnTo>
                  <a:pt x="109" y="160"/>
                </a:lnTo>
                <a:lnTo>
                  <a:pt x="132" y="158"/>
                </a:lnTo>
                <a:lnTo>
                  <a:pt x="157" y="156"/>
                </a:lnTo>
                <a:lnTo>
                  <a:pt x="182" y="152"/>
                </a:lnTo>
                <a:lnTo>
                  <a:pt x="207" y="148"/>
                </a:lnTo>
                <a:lnTo>
                  <a:pt x="234" y="144"/>
                </a:lnTo>
                <a:lnTo>
                  <a:pt x="261" y="141"/>
                </a:lnTo>
                <a:lnTo>
                  <a:pt x="288" y="135"/>
                </a:lnTo>
                <a:lnTo>
                  <a:pt x="315" y="129"/>
                </a:lnTo>
                <a:lnTo>
                  <a:pt x="343" y="123"/>
                </a:lnTo>
                <a:lnTo>
                  <a:pt x="372" y="116"/>
                </a:lnTo>
                <a:lnTo>
                  <a:pt x="403" y="110"/>
                </a:lnTo>
                <a:lnTo>
                  <a:pt x="432" y="104"/>
                </a:lnTo>
                <a:lnTo>
                  <a:pt x="459" y="98"/>
                </a:lnTo>
                <a:lnTo>
                  <a:pt x="485" y="94"/>
                </a:lnTo>
                <a:lnTo>
                  <a:pt x="510" y="89"/>
                </a:lnTo>
                <a:lnTo>
                  <a:pt x="533" y="83"/>
                </a:lnTo>
                <a:lnTo>
                  <a:pt x="556" y="79"/>
                </a:lnTo>
                <a:lnTo>
                  <a:pt x="578" y="73"/>
                </a:lnTo>
                <a:lnTo>
                  <a:pt x="597" y="68"/>
                </a:lnTo>
                <a:lnTo>
                  <a:pt x="616" y="64"/>
                </a:lnTo>
                <a:lnTo>
                  <a:pt x="635" y="58"/>
                </a:lnTo>
                <a:lnTo>
                  <a:pt x="651" y="52"/>
                </a:lnTo>
                <a:lnTo>
                  <a:pt x="668" y="48"/>
                </a:lnTo>
                <a:lnTo>
                  <a:pt x="681" y="43"/>
                </a:lnTo>
                <a:lnTo>
                  <a:pt x="695" y="37"/>
                </a:lnTo>
                <a:lnTo>
                  <a:pt x="708" y="33"/>
                </a:lnTo>
                <a:lnTo>
                  <a:pt x="720" y="27"/>
                </a:lnTo>
                <a:lnTo>
                  <a:pt x="737" y="22"/>
                </a:lnTo>
                <a:lnTo>
                  <a:pt x="754" y="18"/>
                </a:lnTo>
                <a:lnTo>
                  <a:pt x="770" y="12"/>
                </a:lnTo>
                <a:lnTo>
                  <a:pt x="785" y="8"/>
                </a:lnTo>
                <a:lnTo>
                  <a:pt x="800" y="4"/>
                </a:lnTo>
                <a:lnTo>
                  <a:pt x="814" y="2"/>
                </a:lnTo>
                <a:lnTo>
                  <a:pt x="829" y="0"/>
                </a:lnTo>
                <a:lnTo>
                  <a:pt x="843" y="0"/>
                </a:lnTo>
                <a:lnTo>
                  <a:pt x="846" y="2"/>
                </a:lnTo>
                <a:lnTo>
                  <a:pt x="852" y="6"/>
                </a:lnTo>
                <a:lnTo>
                  <a:pt x="860" y="10"/>
                </a:lnTo>
                <a:lnTo>
                  <a:pt x="867" y="14"/>
                </a:lnTo>
                <a:lnTo>
                  <a:pt x="875" y="18"/>
                </a:lnTo>
                <a:lnTo>
                  <a:pt x="885" y="22"/>
                </a:lnTo>
                <a:lnTo>
                  <a:pt x="894" y="27"/>
                </a:lnTo>
                <a:lnTo>
                  <a:pt x="906" y="33"/>
                </a:lnTo>
                <a:lnTo>
                  <a:pt x="915" y="39"/>
                </a:lnTo>
                <a:lnTo>
                  <a:pt x="929" y="45"/>
                </a:lnTo>
                <a:lnTo>
                  <a:pt x="940" y="52"/>
                </a:lnTo>
                <a:lnTo>
                  <a:pt x="954" y="60"/>
                </a:lnTo>
                <a:lnTo>
                  <a:pt x="967" y="68"/>
                </a:lnTo>
                <a:lnTo>
                  <a:pt x="983" y="75"/>
                </a:lnTo>
                <a:lnTo>
                  <a:pt x="998" y="85"/>
                </a:lnTo>
                <a:lnTo>
                  <a:pt x="1013" y="96"/>
                </a:lnTo>
                <a:lnTo>
                  <a:pt x="1029" y="108"/>
                </a:lnTo>
                <a:lnTo>
                  <a:pt x="1042" y="119"/>
                </a:lnTo>
                <a:lnTo>
                  <a:pt x="1056" y="131"/>
                </a:lnTo>
                <a:lnTo>
                  <a:pt x="1069" y="142"/>
                </a:lnTo>
                <a:lnTo>
                  <a:pt x="1079" y="152"/>
                </a:lnTo>
                <a:lnTo>
                  <a:pt x="1088" y="162"/>
                </a:lnTo>
                <a:lnTo>
                  <a:pt x="1098" y="171"/>
                </a:lnTo>
                <a:lnTo>
                  <a:pt x="1106" y="179"/>
                </a:lnTo>
                <a:lnTo>
                  <a:pt x="1113" y="187"/>
                </a:lnTo>
                <a:lnTo>
                  <a:pt x="1119" y="194"/>
                </a:lnTo>
                <a:lnTo>
                  <a:pt x="1125" y="202"/>
                </a:lnTo>
                <a:lnTo>
                  <a:pt x="1129" y="208"/>
                </a:lnTo>
                <a:lnTo>
                  <a:pt x="1130" y="215"/>
                </a:lnTo>
                <a:lnTo>
                  <a:pt x="1134" y="221"/>
                </a:lnTo>
                <a:lnTo>
                  <a:pt x="1134" y="227"/>
                </a:lnTo>
                <a:lnTo>
                  <a:pt x="1136" y="233"/>
                </a:lnTo>
                <a:lnTo>
                  <a:pt x="1134" y="237"/>
                </a:lnTo>
                <a:lnTo>
                  <a:pt x="1134" y="242"/>
                </a:lnTo>
                <a:lnTo>
                  <a:pt x="1132" y="246"/>
                </a:lnTo>
                <a:lnTo>
                  <a:pt x="1130" y="252"/>
                </a:lnTo>
                <a:lnTo>
                  <a:pt x="1129" y="258"/>
                </a:lnTo>
                <a:lnTo>
                  <a:pt x="1125" y="261"/>
                </a:lnTo>
                <a:lnTo>
                  <a:pt x="1119" y="271"/>
                </a:lnTo>
                <a:lnTo>
                  <a:pt x="1109" y="279"/>
                </a:lnTo>
                <a:lnTo>
                  <a:pt x="1100" y="286"/>
                </a:lnTo>
                <a:lnTo>
                  <a:pt x="1088" y="294"/>
                </a:lnTo>
                <a:lnTo>
                  <a:pt x="1075" y="300"/>
                </a:lnTo>
                <a:lnTo>
                  <a:pt x="1071" y="302"/>
                </a:lnTo>
                <a:lnTo>
                  <a:pt x="1067" y="304"/>
                </a:lnTo>
                <a:lnTo>
                  <a:pt x="1063" y="308"/>
                </a:lnTo>
                <a:lnTo>
                  <a:pt x="1059" y="309"/>
                </a:lnTo>
                <a:lnTo>
                  <a:pt x="1056" y="313"/>
                </a:lnTo>
                <a:lnTo>
                  <a:pt x="1052" y="319"/>
                </a:lnTo>
                <a:lnTo>
                  <a:pt x="1046" y="325"/>
                </a:lnTo>
                <a:lnTo>
                  <a:pt x="1042" y="331"/>
                </a:lnTo>
                <a:lnTo>
                  <a:pt x="1038" y="336"/>
                </a:lnTo>
                <a:lnTo>
                  <a:pt x="1033" y="344"/>
                </a:lnTo>
                <a:lnTo>
                  <a:pt x="1027" y="352"/>
                </a:lnTo>
                <a:lnTo>
                  <a:pt x="1023" y="359"/>
                </a:lnTo>
                <a:lnTo>
                  <a:pt x="1017" y="369"/>
                </a:lnTo>
                <a:lnTo>
                  <a:pt x="1011" y="379"/>
                </a:lnTo>
                <a:lnTo>
                  <a:pt x="1006" y="388"/>
                </a:lnTo>
                <a:lnTo>
                  <a:pt x="1000" y="398"/>
                </a:lnTo>
                <a:lnTo>
                  <a:pt x="994" y="409"/>
                </a:lnTo>
                <a:lnTo>
                  <a:pt x="988" y="421"/>
                </a:lnTo>
                <a:lnTo>
                  <a:pt x="983" y="434"/>
                </a:lnTo>
                <a:lnTo>
                  <a:pt x="977" y="446"/>
                </a:lnTo>
                <a:lnTo>
                  <a:pt x="969" y="459"/>
                </a:lnTo>
                <a:lnTo>
                  <a:pt x="963" y="473"/>
                </a:lnTo>
                <a:lnTo>
                  <a:pt x="958" y="488"/>
                </a:lnTo>
                <a:lnTo>
                  <a:pt x="950" y="503"/>
                </a:lnTo>
                <a:lnTo>
                  <a:pt x="942" y="519"/>
                </a:lnTo>
                <a:lnTo>
                  <a:pt x="937" y="534"/>
                </a:lnTo>
                <a:lnTo>
                  <a:pt x="929" y="551"/>
                </a:lnTo>
                <a:lnTo>
                  <a:pt x="921" y="567"/>
                </a:lnTo>
                <a:lnTo>
                  <a:pt x="914" y="584"/>
                </a:lnTo>
                <a:lnTo>
                  <a:pt x="906" y="603"/>
                </a:lnTo>
                <a:lnTo>
                  <a:pt x="898" y="620"/>
                </a:lnTo>
                <a:lnTo>
                  <a:pt x="890" y="6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0"/>
          <p:cNvSpPr/>
          <p:nvPr/>
        </p:nvSpPr>
        <p:spPr>
          <a:xfrm>
            <a:off x="6759720" y="3076560"/>
            <a:ext cx="465120" cy="150840"/>
          </a:xfrm>
          <a:custGeom>
            <a:avLst/>
            <a:gdLst/>
            <a:ahLst/>
            <a:rect l="l" t="t" r="r" b="b"/>
            <a:pathLst>
              <a:path w="585" h="190">
                <a:moveTo>
                  <a:pt x="0" y="109"/>
                </a:moveTo>
                <a:lnTo>
                  <a:pt x="7" y="107"/>
                </a:lnTo>
                <a:lnTo>
                  <a:pt x="15" y="107"/>
                </a:lnTo>
                <a:lnTo>
                  <a:pt x="23" y="107"/>
                </a:lnTo>
                <a:lnTo>
                  <a:pt x="34" y="105"/>
                </a:lnTo>
                <a:lnTo>
                  <a:pt x="44" y="103"/>
                </a:lnTo>
                <a:lnTo>
                  <a:pt x="55" y="101"/>
                </a:lnTo>
                <a:lnTo>
                  <a:pt x="67" y="99"/>
                </a:lnTo>
                <a:lnTo>
                  <a:pt x="80" y="96"/>
                </a:lnTo>
                <a:lnTo>
                  <a:pt x="94" y="94"/>
                </a:lnTo>
                <a:lnTo>
                  <a:pt x="107" y="90"/>
                </a:lnTo>
                <a:lnTo>
                  <a:pt x="123" y="84"/>
                </a:lnTo>
                <a:lnTo>
                  <a:pt x="138" y="80"/>
                </a:lnTo>
                <a:lnTo>
                  <a:pt x="155" y="75"/>
                </a:lnTo>
                <a:lnTo>
                  <a:pt x="172" y="69"/>
                </a:lnTo>
                <a:lnTo>
                  <a:pt x="190" y="61"/>
                </a:lnTo>
                <a:lnTo>
                  <a:pt x="207" y="53"/>
                </a:lnTo>
                <a:lnTo>
                  <a:pt x="224" y="46"/>
                </a:lnTo>
                <a:lnTo>
                  <a:pt x="243" y="40"/>
                </a:lnTo>
                <a:lnTo>
                  <a:pt x="261" y="34"/>
                </a:lnTo>
                <a:lnTo>
                  <a:pt x="278" y="28"/>
                </a:lnTo>
                <a:lnTo>
                  <a:pt x="295" y="23"/>
                </a:lnTo>
                <a:lnTo>
                  <a:pt x="313" y="19"/>
                </a:lnTo>
                <a:lnTo>
                  <a:pt x="330" y="15"/>
                </a:lnTo>
                <a:lnTo>
                  <a:pt x="345" y="11"/>
                </a:lnTo>
                <a:lnTo>
                  <a:pt x="363" y="7"/>
                </a:lnTo>
                <a:lnTo>
                  <a:pt x="378" y="5"/>
                </a:lnTo>
                <a:lnTo>
                  <a:pt x="411" y="2"/>
                </a:lnTo>
                <a:lnTo>
                  <a:pt x="443" y="0"/>
                </a:lnTo>
                <a:lnTo>
                  <a:pt x="476" y="0"/>
                </a:lnTo>
                <a:lnTo>
                  <a:pt x="489" y="0"/>
                </a:lnTo>
                <a:lnTo>
                  <a:pt x="501" y="0"/>
                </a:lnTo>
                <a:lnTo>
                  <a:pt x="514" y="2"/>
                </a:lnTo>
                <a:lnTo>
                  <a:pt x="524" y="2"/>
                </a:lnTo>
                <a:lnTo>
                  <a:pt x="533" y="4"/>
                </a:lnTo>
                <a:lnTo>
                  <a:pt x="543" y="5"/>
                </a:lnTo>
                <a:lnTo>
                  <a:pt x="551" y="7"/>
                </a:lnTo>
                <a:lnTo>
                  <a:pt x="558" y="9"/>
                </a:lnTo>
                <a:lnTo>
                  <a:pt x="564" y="13"/>
                </a:lnTo>
                <a:lnTo>
                  <a:pt x="570" y="15"/>
                </a:lnTo>
                <a:lnTo>
                  <a:pt x="576" y="19"/>
                </a:lnTo>
                <a:lnTo>
                  <a:pt x="579" y="23"/>
                </a:lnTo>
                <a:lnTo>
                  <a:pt x="581" y="27"/>
                </a:lnTo>
                <a:lnTo>
                  <a:pt x="583" y="30"/>
                </a:lnTo>
                <a:lnTo>
                  <a:pt x="585" y="34"/>
                </a:lnTo>
                <a:lnTo>
                  <a:pt x="585" y="40"/>
                </a:lnTo>
                <a:lnTo>
                  <a:pt x="585" y="42"/>
                </a:lnTo>
                <a:lnTo>
                  <a:pt x="585" y="46"/>
                </a:lnTo>
                <a:lnTo>
                  <a:pt x="583" y="48"/>
                </a:lnTo>
                <a:lnTo>
                  <a:pt x="581" y="50"/>
                </a:lnTo>
                <a:lnTo>
                  <a:pt x="579" y="53"/>
                </a:lnTo>
                <a:lnTo>
                  <a:pt x="578" y="55"/>
                </a:lnTo>
                <a:lnTo>
                  <a:pt x="574" y="57"/>
                </a:lnTo>
                <a:lnTo>
                  <a:pt x="570" y="61"/>
                </a:lnTo>
                <a:lnTo>
                  <a:pt x="566" y="63"/>
                </a:lnTo>
                <a:lnTo>
                  <a:pt x="560" y="65"/>
                </a:lnTo>
                <a:lnTo>
                  <a:pt x="551" y="71"/>
                </a:lnTo>
                <a:lnTo>
                  <a:pt x="537" y="76"/>
                </a:lnTo>
                <a:lnTo>
                  <a:pt x="524" y="82"/>
                </a:lnTo>
                <a:lnTo>
                  <a:pt x="507" y="88"/>
                </a:lnTo>
                <a:lnTo>
                  <a:pt x="489" y="94"/>
                </a:lnTo>
                <a:lnTo>
                  <a:pt x="468" y="99"/>
                </a:lnTo>
                <a:lnTo>
                  <a:pt x="447" y="107"/>
                </a:lnTo>
                <a:lnTo>
                  <a:pt x="422" y="113"/>
                </a:lnTo>
                <a:lnTo>
                  <a:pt x="397" y="121"/>
                </a:lnTo>
                <a:lnTo>
                  <a:pt x="370" y="128"/>
                </a:lnTo>
                <a:lnTo>
                  <a:pt x="341" y="136"/>
                </a:lnTo>
                <a:lnTo>
                  <a:pt x="313" y="144"/>
                </a:lnTo>
                <a:lnTo>
                  <a:pt x="284" y="149"/>
                </a:lnTo>
                <a:lnTo>
                  <a:pt x="257" y="155"/>
                </a:lnTo>
                <a:lnTo>
                  <a:pt x="230" y="161"/>
                </a:lnTo>
                <a:lnTo>
                  <a:pt x="203" y="167"/>
                </a:lnTo>
                <a:lnTo>
                  <a:pt x="180" y="171"/>
                </a:lnTo>
                <a:lnTo>
                  <a:pt x="155" y="174"/>
                </a:lnTo>
                <a:lnTo>
                  <a:pt x="134" y="178"/>
                </a:lnTo>
                <a:lnTo>
                  <a:pt x="113" y="182"/>
                </a:lnTo>
                <a:lnTo>
                  <a:pt x="92" y="184"/>
                </a:lnTo>
                <a:lnTo>
                  <a:pt x="75" y="186"/>
                </a:lnTo>
                <a:lnTo>
                  <a:pt x="55" y="188"/>
                </a:lnTo>
                <a:lnTo>
                  <a:pt x="40" y="188"/>
                </a:lnTo>
                <a:lnTo>
                  <a:pt x="25" y="190"/>
                </a:lnTo>
                <a:lnTo>
                  <a:pt x="11" y="190"/>
                </a:lnTo>
                <a:lnTo>
                  <a:pt x="0" y="190"/>
                </a:lnTo>
                <a:lnTo>
                  <a:pt x="0" y="149"/>
                </a:lnTo>
                <a:lnTo>
                  <a:pt x="0" y="1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41"/>
          <p:cNvSpPr/>
          <p:nvPr/>
        </p:nvSpPr>
        <p:spPr>
          <a:xfrm>
            <a:off x="6469200" y="3508200"/>
            <a:ext cx="428400" cy="432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428" y="299"/>
                </a:moveTo>
                <a:lnTo>
                  <a:pt x="405" y="324"/>
                </a:lnTo>
                <a:lnTo>
                  <a:pt x="382" y="347"/>
                </a:lnTo>
                <a:lnTo>
                  <a:pt x="357" y="370"/>
                </a:lnTo>
                <a:lnTo>
                  <a:pt x="332" y="389"/>
                </a:lnTo>
                <a:lnTo>
                  <a:pt x="307" y="411"/>
                </a:lnTo>
                <a:lnTo>
                  <a:pt x="280" y="428"/>
                </a:lnTo>
                <a:lnTo>
                  <a:pt x="265" y="437"/>
                </a:lnTo>
                <a:lnTo>
                  <a:pt x="250" y="445"/>
                </a:lnTo>
                <a:lnTo>
                  <a:pt x="234" y="455"/>
                </a:lnTo>
                <a:lnTo>
                  <a:pt x="219" y="462"/>
                </a:lnTo>
                <a:lnTo>
                  <a:pt x="204" y="472"/>
                </a:lnTo>
                <a:lnTo>
                  <a:pt x="188" y="482"/>
                </a:lnTo>
                <a:lnTo>
                  <a:pt x="173" y="489"/>
                </a:lnTo>
                <a:lnTo>
                  <a:pt x="157" y="499"/>
                </a:lnTo>
                <a:lnTo>
                  <a:pt x="144" y="505"/>
                </a:lnTo>
                <a:lnTo>
                  <a:pt x="129" y="512"/>
                </a:lnTo>
                <a:lnTo>
                  <a:pt x="115" y="518"/>
                </a:lnTo>
                <a:lnTo>
                  <a:pt x="100" y="524"/>
                </a:lnTo>
                <a:lnTo>
                  <a:pt x="86" y="528"/>
                </a:lnTo>
                <a:lnTo>
                  <a:pt x="73" y="531"/>
                </a:lnTo>
                <a:lnTo>
                  <a:pt x="60" y="535"/>
                </a:lnTo>
                <a:lnTo>
                  <a:pt x="48" y="539"/>
                </a:lnTo>
                <a:lnTo>
                  <a:pt x="35" y="541"/>
                </a:lnTo>
                <a:lnTo>
                  <a:pt x="23" y="543"/>
                </a:lnTo>
                <a:lnTo>
                  <a:pt x="12" y="543"/>
                </a:lnTo>
                <a:lnTo>
                  <a:pt x="0" y="543"/>
                </a:lnTo>
                <a:lnTo>
                  <a:pt x="33" y="510"/>
                </a:lnTo>
                <a:lnTo>
                  <a:pt x="65" y="476"/>
                </a:lnTo>
                <a:lnTo>
                  <a:pt x="98" y="441"/>
                </a:lnTo>
                <a:lnTo>
                  <a:pt x="131" y="409"/>
                </a:lnTo>
                <a:lnTo>
                  <a:pt x="161" y="374"/>
                </a:lnTo>
                <a:lnTo>
                  <a:pt x="190" y="340"/>
                </a:lnTo>
                <a:lnTo>
                  <a:pt x="221" y="305"/>
                </a:lnTo>
                <a:lnTo>
                  <a:pt x="248" y="270"/>
                </a:lnTo>
                <a:lnTo>
                  <a:pt x="276" y="236"/>
                </a:lnTo>
                <a:lnTo>
                  <a:pt x="303" y="203"/>
                </a:lnTo>
                <a:lnTo>
                  <a:pt x="330" y="169"/>
                </a:lnTo>
                <a:lnTo>
                  <a:pt x="355" y="134"/>
                </a:lnTo>
                <a:lnTo>
                  <a:pt x="380" y="100"/>
                </a:lnTo>
                <a:lnTo>
                  <a:pt x="405" y="67"/>
                </a:lnTo>
                <a:lnTo>
                  <a:pt x="428" y="32"/>
                </a:lnTo>
                <a:lnTo>
                  <a:pt x="451" y="0"/>
                </a:lnTo>
                <a:lnTo>
                  <a:pt x="463" y="17"/>
                </a:lnTo>
                <a:lnTo>
                  <a:pt x="472" y="34"/>
                </a:lnTo>
                <a:lnTo>
                  <a:pt x="484" y="50"/>
                </a:lnTo>
                <a:lnTo>
                  <a:pt x="491" y="65"/>
                </a:lnTo>
                <a:lnTo>
                  <a:pt x="501" y="80"/>
                </a:lnTo>
                <a:lnTo>
                  <a:pt x="509" y="94"/>
                </a:lnTo>
                <a:lnTo>
                  <a:pt x="515" y="107"/>
                </a:lnTo>
                <a:lnTo>
                  <a:pt x="522" y="119"/>
                </a:lnTo>
                <a:lnTo>
                  <a:pt x="526" y="128"/>
                </a:lnTo>
                <a:lnTo>
                  <a:pt x="532" y="140"/>
                </a:lnTo>
                <a:lnTo>
                  <a:pt x="536" y="148"/>
                </a:lnTo>
                <a:lnTo>
                  <a:pt x="538" y="155"/>
                </a:lnTo>
                <a:lnTo>
                  <a:pt x="539" y="163"/>
                </a:lnTo>
                <a:lnTo>
                  <a:pt x="539" y="169"/>
                </a:lnTo>
                <a:lnTo>
                  <a:pt x="539" y="173"/>
                </a:lnTo>
                <a:lnTo>
                  <a:pt x="538" y="176"/>
                </a:lnTo>
                <a:lnTo>
                  <a:pt x="534" y="178"/>
                </a:lnTo>
                <a:lnTo>
                  <a:pt x="532" y="182"/>
                </a:lnTo>
                <a:lnTo>
                  <a:pt x="528" y="186"/>
                </a:lnTo>
                <a:lnTo>
                  <a:pt x="524" y="192"/>
                </a:lnTo>
                <a:lnTo>
                  <a:pt x="518" y="197"/>
                </a:lnTo>
                <a:lnTo>
                  <a:pt x="513" y="203"/>
                </a:lnTo>
                <a:lnTo>
                  <a:pt x="507" y="209"/>
                </a:lnTo>
                <a:lnTo>
                  <a:pt x="501" y="217"/>
                </a:lnTo>
                <a:lnTo>
                  <a:pt x="493" y="224"/>
                </a:lnTo>
                <a:lnTo>
                  <a:pt x="486" y="234"/>
                </a:lnTo>
                <a:lnTo>
                  <a:pt x="476" y="242"/>
                </a:lnTo>
                <a:lnTo>
                  <a:pt x="468" y="253"/>
                </a:lnTo>
                <a:lnTo>
                  <a:pt x="459" y="263"/>
                </a:lnTo>
                <a:lnTo>
                  <a:pt x="449" y="274"/>
                </a:lnTo>
                <a:lnTo>
                  <a:pt x="438" y="286"/>
                </a:lnTo>
                <a:lnTo>
                  <a:pt x="428" y="2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42"/>
          <p:cNvSpPr/>
          <p:nvPr/>
        </p:nvSpPr>
        <p:spPr>
          <a:xfrm>
            <a:off x="6689880" y="3805200"/>
            <a:ext cx="449280" cy="547560"/>
          </a:xfrm>
          <a:custGeom>
            <a:avLst/>
            <a:gdLst/>
            <a:ahLst/>
            <a:rect l="l" t="t" r="r" b="b"/>
            <a:pathLst>
              <a:path w="567" h="691">
                <a:moveTo>
                  <a:pt x="321" y="213"/>
                </a:moveTo>
                <a:lnTo>
                  <a:pt x="327" y="200"/>
                </a:lnTo>
                <a:lnTo>
                  <a:pt x="332" y="188"/>
                </a:lnTo>
                <a:lnTo>
                  <a:pt x="338" y="175"/>
                </a:lnTo>
                <a:lnTo>
                  <a:pt x="344" y="163"/>
                </a:lnTo>
                <a:lnTo>
                  <a:pt x="348" y="154"/>
                </a:lnTo>
                <a:lnTo>
                  <a:pt x="352" y="142"/>
                </a:lnTo>
                <a:lnTo>
                  <a:pt x="354" y="133"/>
                </a:lnTo>
                <a:lnTo>
                  <a:pt x="357" y="123"/>
                </a:lnTo>
                <a:lnTo>
                  <a:pt x="359" y="113"/>
                </a:lnTo>
                <a:lnTo>
                  <a:pt x="359" y="104"/>
                </a:lnTo>
                <a:lnTo>
                  <a:pt x="361" y="96"/>
                </a:lnTo>
                <a:lnTo>
                  <a:pt x="361" y="88"/>
                </a:lnTo>
                <a:lnTo>
                  <a:pt x="361" y="81"/>
                </a:lnTo>
                <a:lnTo>
                  <a:pt x="361" y="75"/>
                </a:lnTo>
                <a:lnTo>
                  <a:pt x="359" y="67"/>
                </a:lnTo>
                <a:lnTo>
                  <a:pt x="357" y="64"/>
                </a:lnTo>
                <a:lnTo>
                  <a:pt x="354" y="58"/>
                </a:lnTo>
                <a:lnTo>
                  <a:pt x="350" y="50"/>
                </a:lnTo>
                <a:lnTo>
                  <a:pt x="348" y="42"/>
                </a:lnTo>
                <a:lnTo>
                  <a:pt x="348" y="35"/>
                </a:lnTo>
                <a:lnTo>
                  <a:pt x="348" y="29"/>
                </a:lnTo>
                <a:lnTo>
                  <a:pt x="350" y="21"/>
                </a:lnTo>
                <a:lnTo>
                  <a:pt x="354" y="14"/>
                </a:lnTo>
                <a:lnTo>
                  <a:pt x="357" y="8"/>
                </a:lnTo>
                <a:lnTo>
                  <a:pt x="359" y="6"/>
                </a:lnTo>
                <a:lnTo>
                  <a:pt x="363" y="4"/>
                </a:lnTo>
                <a:lnTo>
                  <a:pt x="367" y="2"/>
                </a:lnTo>
                <a:lnTo>
                  <a:pt x="371" y="0"/>
                </a:lnTo>
                <a:lnTo>
                  <a:pt x="377" y="0"/>
                </a:lnTo>
                <a:lnTo>
                  <a:pt x="382" y="0"/>
                </a:lnTo>
                <a:lnTo>
                  <a:pt x="388" y="0"/>
                </a:lnTo>
                <a:lnTo>
                  <a:pt x="396" y="0"/>
                </a:lnTo>
                <a:lnTo>
                  <a:pt x="404" y="2"/>
                </a:lnTo>
                <a:lnTo>
                  <a:pt x="411" y="4"/>
                </a:lnTo>
                <a:lnTo>
                  <a:pt x="421" y="8"/>
                </a:lnTo>
                <a:lnTo>
                  <a:pt x="430" y="12"/>
                </a:lnTo>
                <a:lnTo>
                  <a:pt x="442" y="16"/>
                </a:lnTo>
                <a:lnTo>
                  <a:pt x="453" y="21"/>
                </a:lnTo>
                <a:lnTo>
                  <a:pt x="465" y="27"/>
                </a:lnTo>
                <a:lnTo>
                  <a:pt x="478" y="35"/>
                </a:lnTo>
                <a:lnTo>
                  <a:pt x="490" y="42"/>
                </a:lnTo>
                <a:lnTo>
                  <a:pt x="501" y="50"/>
                </a:lnTo>
                <a:lnTo>
                  <a:pt x="511" y="58"/>
                </a:lnTo>
                <a:lnTo>
                  <a:pt x="521" y="65"/>
                </a:lnTo>
                <a:lnTo>
                  <a:pt x="528" y="73"/>
                </a:lnTo>
                <a:lnTo>
                  <a:pt x="536" y="81"/>
                </a:lnTo>
                <a:lnTo>
                  <a:pt x="544" y="88"/>
                </a:lnTo>
                <a:lnTo>
                  <a:pt x="549" y="96"/>
                </a:lnTo>
                <a:lnTo>
                  <a:pt x="555" y="102"/>
                </a:lnTo>
                <a:lnTo>
                  <a:pt x="559" y="110"/>
                </a:lnTo>
                <a:lnTo>
                  <a:pt x="563" y="115"/>
                </a:lnTo>
                <a:lnTo>
                  <a:pt x="565" y="121"/>
                </a:lnTo>
                <a:lnTo>
                  <a:pt x="567" y="127"/>
                </a:lnTo>
                <a:lnTo>
                  <a:pt x="567" y="133"/>
                </a:lnTo>
                <a:lnTo>
                  <a:pt x="567" y="138"/>
                </a:lnTo>
                <a:lnTo>
                  <a:pt x="565" y="144"/>
                </a:lnTo>
                <a:lnTo>
                  <a:pt x="563" y="152"/>
                </a:lnTo>
                <a:lnTo>
                  <a:pt x="559" y="159"/>
                </a:lnTo>
                <a:lnTo>
                  <a:pt x="555" y="169"/>
                </a:lnTo>
                <a:lnTo>
                  <a:pt x="549" y="177"/>
                </a:lnTo>
                <a:lnTo>
                  <a:pt x="544" y="186"/>
                </a:lnTo>
                <a:lnTo>
                  <a:pt x="536" y="196"/>
                </a:lnTo>
                <a:lnTo>
                  <a:pt x="530" y="207"/>
                </a:lnTo>
                <a:lnTo>
                  <a:pt x="523" y="217"/>
                </a:lnTo>
                <a:lnTo>
                  <a:pt x="513" y="229"/>
                </a:lnTo>
                <a:lnTo>
                  <a:pt x="505" y="240"/>
                </a:lnTo>
                <a:lnTo>
                  <a:pt x="496" y="252"/>
                </a:lnTo>
                <a:lnTo>
                  <a:pt x="486" y="265"/>
                </a:lnTo>
                <a:lnTo>
                  <a:pt x="475" y="278"/>
                </a:lnTo>
                <a:lnTo>
                  <a:pt x="465" y="292"/>
                </a:lnTo>
                <a:lnTo>
                  <a:pt x="453" y="305"/>
                </a:lnTo>
                <a:lnTo>
                  <a:pt x="442" y="321"/>
                </a:lnTo>
                <a:lnTo>
                  <a:pt x="415" y="357"/>
                </a:lnTo>
                <a:lnTo>
                  <a:pt x="384" y="390"/>
                </a:lnTo>
                <a:lnTo>
                  <a:pt x="354" y="424"/>
                </a:lnTo>
                <a:lnTo>
                  <a:pt x="321" y="455"/>
                </a:lnTo>
                <a:lnTo>
                  <a:pt x="288" y="488"/>
                </a:lnTo>
                <a:lnTo>
                  <a:pt x="252" y="518"/>
                </a:lnTo>
                <a:lnTo>
                  <a:pt x="233" y="534"/>
                </a:lnTo>
                <a:lnTo>
                  <a:pt x="213" y="549"/>
                </a:lnTo>
                <a:lnTo>
                  <a:pt x="194" y="564"/>
                </a:lnTo>
                <a:lnTo>
                  <a:pt x="173" y="580"/>
                </a:lnTo>
                <a:lnTo>
                  <a:pt x="154" y="595"/>
                </a:lnTo>
                <a:lnTo>
                  <a:pt x="135" y="609"/>
                </a:lnTo>
                <a:lnTo>
                  <a:pt x="117" y="622"/>
                </a:lnTo>
                <a:lnTo>
                  <a:pt x="102" y="634"/>
                </a:lnTo>
                <a:lnTo>
                  <a:pt x="89" y="645"/>
                </a:lnTo>
                <a:lnTo>
                  <a:pt x="75" y="655"/>
                </a:lnTo>
                <a:lnTo>
                  <a:pt x="62" y="662"/>
                </a:lnTo>
                <a:lnTo>
                  <a:pt x="52" y="670"/>
                </a:lnTo>
                <a:lnTo>
                  <a:pt x="43" y="678"/>
                </a:lnTo>
                <a:lnTo>
                  <a:pt x="33" y="682"/>
                </a:lnTo>
                <a:lnTo>
                  <a:pt x="25" y="687"/>
                </a:lnTo>
                <a:lnTo>
                  <a:pt x="20" y="689"/>
                </a:lnTo>
                <a:lnTo>
                  <a:pt x="14" y="691"/>
                </a:lnTo>
                <a:lnTo>
                  <a:pt x="8" y="691"/>
                </a:lnTo>
                <a:lnTo>
                  <a:pt x="4" y="691"/>
                </a:lnTo>
                <a:lnTo>
                  <a:pt x="2" y="689"/>
                </a:lnTo>
                <a:lnTo>
                  <a:pt x="0" y="685"/>
                </a:lnTo>
                <a:lnTo>
                  <a:pt x="0" y="682"/>
                </a:lnTo>
                <a:lnTo>
                  <a:pt x="2" y="678"/>
                </a:lnTo>
                <a:lnTo>
                  <a:pt x="4" y="670"/>
                </a:lnTo>
                <a:lnTo>
                  <a:pt x="8" y="664"/>
                </a:lnTo>
                <a:lnTo>
                  <a:pt x="14" y="655"/>
                </a:lnTo>
                <a:lnTo>
                  <a:pt x="21" y="645"/>
                </a:lnTo>
                <a:lnTo>
                  <a:pt x="29" y="635"/>
                </a:lnTo>
                <a:lnTo>
                  <a:pt x="39" y="622"/>
                </a:lnTo>
                <a:lnTo>
                  <a:pt x="48" y="609"/>
                </a:lnTo>
                <a:lnTo>
                  <a:pt x="60" y="595"/>
                </a:lnTo>
                <a:lnTo>
                  <a:pt x="73" y="578"/>
                </a:lnTo>
                <a:lnTo>
                  <a:pt x="89" y="561"/>
                </a:lnTo>
                <a:lnTo>
                  <a:pt x="104" y="541"/>
                </a:lnTo>
                <a:lnTo>
                  <a:pt x="119" y="520"/>
                </a:lnTo>
                <a:lnTo>
                  <a:pt x="137" y="499"/>
                </a:lnTo>
                <a:lnTo>
                  <a:pt x="154" y="476"/>
                </a:lnTo>
                <a:lnTo>
                  <a:pt x="171" y="453"/>
                </a:lnTo>
                <a:lnTo>
                  <a:pt x="189" y="432"/>
                </a:lnTo>
                <a:lnTo>
                  <a:pt x="204" y="411"/>
                </a:lnTo>
                <a:lnTo>
                  <a:pt x="217" y="392"/>
                </a:lnTo>
                <a:lnTo>
                  <a:pt x="231" y="373"/>
                </a:lnTo>
                <a:lnTo>
                  <a:pt x="244" y="353"/>
                </a:lnTo>
                <a:lnTo>
                  <a:pt x="256" y="334"/>
                </a:lnTo>
                <a:lnTo>
                  <a:pt x="267" y="317"/>
                </a:lnTo>
                <a:lnTo>
                  <a:pt x="277" y="300"/>
                </a:lnTo>
                <a:lnTo>
                  <a:pt x="286" y="284"/>
                </a:lnTo>
                <a:lnTo>
                  <a:pt x="296" y="269"/>
                </a:lnTo>
                <a:lnTo>
                  <a:pt x="304" y="254"/>
                </a:lnTo>
                <a:lnTo>
                  <a:pt x="309" y="240"/>
                </a:lnTo>
                <a:lnTo>
                  <a:pt x="315" y="225"/>
                </a:lnTo>
                <a:lnTo>
                  <a:pt x="321" y="2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43"/>
          <p:cNvSpPr/>
          <p:nvPr/>
        </p:nvSpPr>
        <p:spPr>
          <a:xfrm>
            <a:off x="6469200" y="4027320"/>
            <a:ext cx="882360" cy="663840"/>
          </a:xfrm>
          <a:custGeom>
            <a:avLst/>
            <a:gdLst/>
            <a:ahLst/>
            <a:rect l="l" t="t" r="r" b="b"/>
            <a:pathLst>
              <a:path w="1112" h="837">
                <a:moveTo>
                  <a:pt x="196" y="382"/>
                </a:moveTo>
                <a:lnTo>
                  <a:pt x="190" y="407"/>
                </a:lnTo>
                <a:lnTo>
                  <a:pt x="186" y="430"/>
                </a:lnTo>
                <a:lnTo>
                  <a:pt x="184" y="451"/>
                </a:lnTo>
                <a:lnTo>
                  <a:pt x="180" y="471"/>
                </a:lnTo>
                <a:lnTo>
                  <a:pt x="179" y="490"/>
                </a:lnTo>
                <a:lnTo>
                  <a:pt x="177" y="507"/>
                </a:lnTo>
                <a:lnTo>
                  <a:pt x="177" y="522"/>
                </a:lnTo>
                <a:lnTo>
                  <a:pt x="175" y="536"/>
                </a:lnTo>
                <a:lnTo>
                  <a:pt x="175" y="549"/>
                </a:lnTo>
                <a:lnTo>
                  <a:pt x="175" y="561"/>
                </a:lnTo>
                <a:lnTo>
                  <a:pt x="175" y="570"/>
                </a:lnTo>
                <a:lnTo>
                  <a:pt x="177" y="578"/>
                </a:lnTo>
                <a:lnTo>
                  <a:pt x="177" y="586"/>
                </a:lnTo>
                <a:lnTo>
                  <a:pt x="179" y="592"/>
                </a:lnTo>
                <a:lnTo>
                  <a:pt x="180" y="597"/>
                </a:lnTo>
                <a:lnTo>
                  <a:pt x="182" y="599"/>
                </a:lnTo>
                <a:lnTo>
                  <a:pt x="184" y="601"/>
                </a:lnTo>
                <a:lnTo>
                  <a:pt x="186" y="601"/>
                </a:lnTo>
                <a:lnTo>
                  <a:pt x="188" y="603"/>
                </a:lnTo>
                <a:lnTo>
                  <a:pt x="192" y="603"/>
                </a:lnTo>
                <a:lnTo>
                  <a:pt x="196" y="603"/>
                </a:lnTo>
                <a:lnTo>
                  <a:pt x="200" y="603"/>
                </a:lnTo>
                <a:lnTo>
                  <a:pt x="205" y="603"/>
                </a:lnTo>
                <a:lnTo>
                  <a:pt x="211" y="603"/>
                </a:lnTo>
                <a:lnTo>
                  <a:pt x="217" y="601"/>
                </a:lnTo>
                <a:lnTo>
                  <a:pt x="225" y="601"/>
                </a:lnTo>
                <a:lnTo>
                  <a:pt x="230" y="599"/>
                </a:lnTo>
                <a:lnTo>
                  <a:pt x="240" y="599"/>
                </a:lnTo>
                <a:lnTo>
                  <a:pt x="248" y="597"/>
                </a:lnTo>
                <a:lnTo>
                  <a:pt x="257" y="595"/>
                </a:lnTo>
                <a:lnTo>
                  <a:pt x="267" y="593"/>
                </a:lnTo>
                <a:lnTo>
                  <a:pt x="278" y="592"/>
                </a:lnTo>
                <a:lnTo>
                  <a:pt x="288" y="590"/>
                </a:lnTo>
                <a:lnTo>
                  <a:pt x="301" y="586"/>
                </a:lnTo>
                <a:lnTo>
                  <a:pt x="313" y="584"/>
                </a:lnTo>
                <a:lnTo>
                  <a:pt x="326" y="580"/>
                </a:lnTo>
                <a:lnTo>
                  <a:pt x="340" y="578"/>
                </a:lnTo>
                <a:lnTo>
                  <a:pt x="355" y="574"/>
                </a:lnTo>
                <a:lnTo>
                  <a:pt x="371" y="570"/>
                </a:lnTo>
                <a:lnTo>
                  <a:pt x="386" y="567"/>
                </a:lnTo>
                <a:lnTo>
                  <a:pt x="401" y="563"/>
                </a:lnTo>
                <a:lnTo>
                  <a:pt x="419" y="559"/>
                </a:lnTo>
                <a:lnTo>
                  <a:pt x="438" y="555"/>
                </a:lnTo>
                <a:lnTo>
                  <a:pt x="455" y="551"/>
                </a:lnTo>
                <a:lnTo>
                  <a:pt x="474" y="546"/>
                </a:lnTo>
                <a:lnTo>
                  <a:pt x="495" y="542"/>
                </a:lnTo>
                <a:lnTo>
                  <a:pt x="516" y="536"/>
                </a:lnTo>
                <a:lnTo>
                  <a:pt x="538" y="532"/>
                </a:lnTo>
                <a:lnTo>
                  <a:pt x="559" y="528"/>
                </a:lnTo>
                <a:lnTo>
                  <a:pt x="580" y="524"/>
                </a:lnTo>
                <a:lnTo>
                  <a:pt x="599" y="521"/>
                </a:lnTo>
                <a:lnTo>
                  <a:pt x="620" y="517"/>
                </a:lnTo>
                <a:lnTo>
                  <a:pt x="639" y="513"/>
                </a:lnTo>
                <a:lnTo>
                  <a:pt x="657" y="509"/>
                </a:lnTo>
                <a:lnTo>
                  <a:pt x="676" y="507"/>
                </a:lnTo>
                <a:lnTo>
                  <a:pt x="693" y="503"/>
                </a:lnTo>
                <a:lnTo>
                  <a:pt x="710" y="499"/>
                </a:lnTo>
                <a:lnTo>
                  <a:pt x="726" y="498"/>
                </a:lnTo>
                <a:lnTo>
                  <a:pt x="743" y="494"/>
                </a:lnTo>
                <a:lnTo>
                  <a:pt x="758" y="492"/>
                </a:lnTo>
                <a:lnTo>
                  <a:pt x="772" y="490"/>
                </a:lnTo>
                <a:lnTo>
                  <a:pt x="787" y="486"/>
                </a:lnTo>
                <a:lnTo>
                  <a:pt x="801" y="484"/>
                </a:lnTo>
                <a:lnTo>
                  <a:pt x="814" y="482"/>
                </a:lnTo>
                <a:lnTo>
                  <a:pt x="826" y="480"/>
                </a:lnTo>
                <a:lnTo>
                  <a:pt x="839" y="478"/>
                </a:lnTo>
                <a:lnTo>
                  <a:pt x="850" y="476"/>
                </a:lnTo>
                <a:lnTo>
                  <a:pt x="860" y="474"/>
                </a:lnTo>
                <a:lnTo>
                  <a:pt x="872" y="473"/>
                </a:lnTo>
                <a:lnTo>
                  <a:pt x="881" y="471"/>
                </a:lnTo>
                <a:lnTo>
                  <a:pt x="891" y="469"/>
                </a:lnTo>
                <a:lnTo>
                  <a:pt x="900" y="469"/>
                </a:lnTo>
                <a:lnTo>
                  <a:pt x="908" y="467"/>
                </a:lnTo>
                <a:lnTo>
                  <a:pt x="916" y="467"/>
                </a:lnTo>
                <a:lnTo>
                  <a:pt x="923" y="465"/>
                </a:lnTo>
                <a:lnTo>
                  <a:pt x="931" y="465"/>
                </a:lnTo>
                <a:lnTo>
                  <a:pt x="937" y="465"/>
                </a:lnTo>
                <a:lnTo>
                  <a:pt x="943" y="463"/>
                </a:lnTo>
                <a:lnTo>
                  <a:pt x="948" y="463"/>
                </a:lnTo>
                <a:lnTo>
                  <a:pt x="952" y="463"/>
                </a:lnTo>
                <a:lnTo>
                  <a:pt x="966" y="465"/>
                </a:lnTo>
                <a:lnTo>
                  <a:pt x="981" y="465"/>
                </a:lnTo>
                <a:lnTo>
                  <a:pt x="994" y="469"/>
                </a:lnTo>
                <a:lnTo>
                  <a:pt x="1008" y="473"/>
                </a:lnTo>
                <a:lnTo>
                  <a:pt x="1021" y="476"/>
                </a:lnTo>
                <a:lnTo>
                  <a:pt x="1035" y="480"/>
                </a:lnTo>
                <a:lnTo>
                  <a:pt x="1064" y="492"/>
                </a:lnTo>
                <a:lnTo>
                  <a:pt x="1069" y="496"/>
                </a:lnTo>
                <a:lnTo>
                  <a:pt x="1075" y="501"/>
                </a:lnTo>
                <a:lnTo>
                  <a:pt x="1081" y="507"/>
                </a:lnTo>
                <a:lnTo>
                  <a:pt x="1087" y="511"/>
                </a:lnTo>
                <a:lnTo>
                  <a:pt x="1090" y="517"/>
                </a:lnTo>
                <a:lnTo>
                  <a:pt x="1094" y="521"/>
                </a:lnTo>
                <a:lnTo>
                  <a:pt x="1100" y="532"/>
                </a:lnTo>
                <a:lnTo>
                  <a:pt x="1106" y="542"/>
                </a:lnTo>
                <a:lnTo>
                  <a:pt x="1110" y="551"/>
                </a:lnTo>
                <a:lnTo>
                  <a:pt x="1112" y="563"/>
                </a:lnTo>
                <a:lnTo>
                  <a:pt x="1112" y="572"/>
                </a:lnTo>
                <a:lnTo>
                  <a:pt x="1112" y="578"/>
                </a:lnTo>
                <a:lnTo>
                  <a:pt x="1110" y="582"/>
                </a:lnTo>
                <a:lnTo>
                  <a:pt x="1106" y="586"/>
                </a:lnTo>
                <a:lnTo>
                  <a:pt x="1100" y="590"/>
                </a:lnTo>
                <a:lnTo>
                  <a:pt x="1094" y="593"/>
                </a:lnTo>
                <a:lnTo>
                  <a:pt x="1087" y="597"/>
                </a:lnTo>
                <a:lnTo>
                  <a:pt x="1077" y="601"/>
                </a:lnTo>
                <a:lnTo>
                  <a:pt x="1065" y="603"/>
                </a:lnTo>
                <a:lnTo>
                  <a:pt x="1054" y="605"/>
                </a:lnTo>
                <a:lnTo>
                  <a:pt x="1041" y="607"/>
                </a:lnTo>
                <a:lnTo>
                  <a:pt x="1025" y="609"/>
                </a:lnTo>
                <a:lnTo>
                  <a:pt x="1008" y="611"/>
                </a:lnTo>
                <a:lnTo>
                  <a:pt x="991" y="613"/>
                </a:lnTo>
                <a:lnTo>
                  <a:pt x="971" y="613"/>
                </a:lnTo>
                <a:lnTo>
                  <a:pt x="950" y="613"/>
                </a:lnTo>
                <a:lnTo>
                  <a:pt x="929" y="613"/>
                </a:lnTo>
                <a:lnTo>
                  <a:pt x="881" y="615"/>
                </a:lnTo>
                <a:lnTo>
                  <a:pt x="835" y="617"/>
                </a:lnTo>
                <a:lnTo>
                  <a:pt x="785" y="618"/>
                </a:lnTo>
                <a:lnTo>
                  <a:pt x="735" y="624"/>
                </a:lnTo>
                <a:lnTo>
                  <a:pt x="685" y="630"/>
                </a:lnTo>
                <a:lnTo>
                  <a:pt x="634" y="636"/>
                </a:lnTo>
                <a:lnTo>
                  <a:pt x="580" y="645"/>
                </a:lnTo>
                <a:lnTo>
                  <a:pt x="526" y="655"/>
                </a:lnTo>
                <a:lnTo>
                  <a:pt x="499" y="663"/>
                </a:lnTo>
                <a:lnTo>
                  <a:pt x="472" y="668"/>
                </a:lnTo>
                <a:lnTo>
                  <a:pt x="447" y="676"/>
                </a:lnTo>
                <a:lnTo>
                  <a:pt x="424" y="684"/>
                </a:lnTo>
                <a:lnTo>
                  <a:pt x="401" y="689"/>
                </a:lnTo>
                <a:lnTo>
                  <a:pt x="380" y="695"/>
                </a:lnTo>
                <a:lnTo>
                  <a:pt x="359" y="703"/>
                </a:lnTo>
                <a:lnTo>
                  <a:pt x="340" y="709"/>
                </a:lnTo>
                <a:lnTo>
                  <a:pt x="323" y="714"/>
                </a:lnTo>
                <a:lnTo>
                  <a:pt x="305" y="722"/>
                </a:lnTo>
                <a:lnTo>
                  <a:pt x="288" y="728"/>
                </a:lnTo>
                <a:lnTo>
                  <a:pt x="273" y="734"/>
                </a:lnTo>
                <a:lnTo>
                  <a:pt x="257" y="741"/>
                </a:lnTo>
                <a:lnTo>
                  <a:pt x="244" y="749"/>
                </a:lnTo>
                <a:lnTo>
                  <a:pt x="230" y="755"/>
                </a:lnTo>
                <a:lnTo>
                  <a:pt x="219" y="762"/>
                </a:lnTo>
                <a:lnTo>
                  <a:pt x="209" y="770"/>
                </a:lnTo>
                <a:lnTo>
                  <a:pt x="198" y="778"/>
                </a:lnTo>
                <a:lnTo>
                  <a:pt x="188" y="785"/>
                </a:lnTo>
                <a:lnTo>
                  <a:pt x="180" y="791"/>
                </a:lnTo>
                <a:lnTo>
                  <a:pt x="173" y="797"/>
                </a:lnTo>
                <a:lnTo>
                  <a:pt x="165" y="803"/>
                </a:lnTo>
                <a:lnTo>
                  <a:pt x="157" y="808"/>
                </a:lnTo>
                <a:lnTo>
                  <a:pt x="152" y="812"/>
                </a:lnTo>
                <a:lnTo>
                  <a:pt x="148" y="816"/>
                </a:lnTo>
                <a:lnTo>
                  <a:pt x="142" y="820"/>
                </a:lnTo>
                <a:lnTo>
                  <a:pt x="138" y="824"/>
                </a:lnTo>
                <a:lnTo>
                  <a:pt x="134" y="826"/>
                </a:lnTo>
                <a:lnTo>
                  <a:pt x="131" y="828"/>
                </a:lnTo>
                <a:lnTo>
                  <a:pt x="127" y="830"/>
                </a:lnTo>
                <a:lnTo>
                  <a:pt x="125" y="832"/>
                </a:lnTo>
                <a:lnTo>
                  <a:pt x="123" y="832"/>
                </a:lnTo>
                <a:lnTo>
                  <a:pt x="119" y="833"/>
                </a:lnTo>
                <a:lnTo>
                  <a:pt x="117" y="835"/>
                </a:lnTo>
                <a:lnTo>
                  <a:pt x="113" y="835"/>
                </a:lnTo>
                <a:lnTo>
                  <a:pt x="109" y="837"/>
                </a:lnTo>
                <a:lnTo>
                  <a:pt x="108" y="835"/>
                </a:lnTo>
                <a:lnTo>
                  <a:pt x="102" y="835"/>
                </a:lnTo>
                <a:lnTo>
                  <a:pt x="98" y="833"/>
                </a:lnTo>
                <a:lnTo>
                  <a:pt x="94" y="832"/>
                </a:lnTo>
                <a:lnTo>
                  <a:pt x="88" y="828"/>
                </a:lnTo>
                <a:lnTo>
                  <a:pt x="84" y="826"/>
                </a:lnTo>
                <a:lnTo>
                  <a:pt x="79" y="820"/>
                </a:lnTo>
                <a:lnTo>
                  <a:pt x="73" y="816"/>
                </a:lnTo>
                <a:lnTo>
                  <a:pt x="67" y="810"/>
                </a:lnTo>
                <a:lnTo>
                  <a:pt x="61" y="805"/>
                </a:lnTo>
                <a:lnTo>
                  <a:pt x="56" y="797"/>
                </a:lnTo>
                <a:lnTo>
                  <a:pt x="48" y="791"/>
                </a:lnTo>
                <a:lnTo>
                  <a:pt x="42" y="784"/>
                </a:lnTo>
                <a:lnTo>
                  <a:pt x="36" y="776"/>
                </a:lnTo>
                <a:lnTo>
                  <a:pt x="31" y="768"/>
                </a:lnTo>
                <a:lnTo>
                  <a:pt x="25" y="762"/>
                </a:lnTo>
                <a:lnTo>
                  <a:pt x="21" y="755"/>
                </a:lnTo>
                <a:lnTo>
                  <a:pt x="17" y="749"/>
                </a:lnTo>
                <a:lnTo>
                  <a:pt x="10" y="737"/>
                </a:lnTo>
                <a:lnTo>
                  <a:pt x="6" y="726"/>
                </a:lnTo>
                <a:lnTo>
                  <a:pt x="2" y="716"/>
                </a:lnTo>
                <a:lnTo>
                  <a:pt x="0" y="705"/>
                </a:lnTo>
                <a:lnTo>
                  <a:pt x="0" y="695"/>
                </a:lnTo>
                <a:lnTo>
                  <a:pt x="0" y="689"/>
                </a:lnTo>
                <a:lnTo>
                  <a:pt x="2" y="682"/>
                </a:lnTo>
                <a:lnTo>
                  <a:pt x="6" y="674"/>
                </a:lnTo>
                <a:lnTo>
                  <a:pt x="10" y="666"/>
                </a:lnTo>
                <a:lnTo>
                  <a:pt x="17" y="657"/>
                </a:lnTo>
                <a:lnTo>
                  <a:pt x="21" y="653"/>
                </a:lnTo>
                <a:lnTo>
                  <a:pt x="25" y="647"/>
                </a:lnTo>
                <a:lnTo>
                  <a:pt x="31" y="641"/>
                </a:lnTo>
                <a:lnTo>
                  <a:pt x="36" y="638"/>
                </a:lnTo>
                <a:lnTo>
                  <a:pt x="42" y="632"/>
                </a:lnTo>
                <a:lnTo>
                  <a:pt x="48" y="628"/>
                </a:lnTo>
                <a:lnTo>
                  <a:pt x="52" y="620"/>
                </a:lnTo>
                <a:lnTo>
                  <a:pt x="58" y="613"/>
                </a:lnTo>
                <a:lnTo>
                  <a:pt x="61" y="605"/>
                </a:lnTo>
                <a:lnTo>
                  <a:pt x="65" y="593"/>
                </a:lnTo>
                <a:lnTo>
                  <a:pt x="67" y="582"/>
                </a:lnTo>
                <a:lnTo>
                  <a:pt x="71" y="569"/>
                </a:lnTo>
                <a:lnTo>
                  <a:pt x="75" y="553"/>
                </a:lnTo>
                <a:lnTo>
                  <a:pt x="77" y="536"/>
                </a:lnTo>
                <a:lnTo>
                  <a:pt x="81" y="519"/>
                </a:lnTo>
                <a:lnTo>
                  <a:pt x="83" y="499"/>
                </a:lnTo>
                <a:lnTo>
                  <a:pt x="84" y="478"/>
                </a:lnTo>
                <a:lnTo>
                  <a:pt x="88" y="457"/>
                </a:lnTo>
                <a:lnTo>
                  <a:pt x="90" y="432"/>
                </a:lnTo>
                <a:lnTo>
                  <a:pt x="92" y="407"/>
                </a:lnTo>
                <a:lnTo>
                  <a:pt x="96" y="382"/>
                </a:lnTo>
                <a:lnTo>
                  <a:pt x="98" y="355"/>
                </a:lnTo>
                <a:lnTo>
                  <a:pt x="98" y="327"/>
                </a:lnTo>
                <a:lnTo>
                  <a:pt x="96" y="302"/>
                </a:lnTo>
                <a:lnTo>
                  <a:pt x="96" y="277"/>
                </a:lnTo>
                <a:lnTo>
                  <a:pt x="96" y="252"/>
                </a:lnTo>
                <a:lnTo>
                  <a:pt x="94" y="231"/>
                </a:lnTo>
                <a:lnTo>
                  <a:pt x="92" y="210"/>
                </a:lnTo>
                <a:lnTo>
                  <a:pt x="90" y="190"/>
                </a:lnTo>
                <a:lnTo>
                  <a:pt x="88" y="173"/>
                </a:lnTo>
                <a:lnTo>
                  <a:pt x="86" y="156"/>
                </a:lnTo>
                <a:lnTo>
                  <a:pt x="83" y="141"/>
                </a:lnTo>
                <a:lnTo>
                  <a:pt x="81" y="127"/>
                </a:lnTo>
                <a:lnTo>
                  <a:pt x="77" y="116"/>
                </a:lnTo>
                <a:lnTo>
                  <a:pt x="73" y="104"/>
                </a:lnTo>
                <a:lnTo>
                  <a:pt x="69" y="96"/>
                </a:lnTo>
                <a:lnTo>
                  <a:pt x="65" y="89"/>
                </a:lnTo>
                <a:lnTo>
                  <a:pt x="61" y="83"/>
                </a:lnTo>
                <a:lnTo>
                  <a:pt x="56" y="79"/>
                </a:lnTo>
                <a:lnTo>
                  <a:pt x="52" y="77"/>
                </a:lnTo>
                <a:lnTo>
                  <a:pt x="50" y="73"/>
                </a:lnTo>
                <a:lnTo>
                  <a:pt x="46" y="69"/>
                </a:lnTo>
                <a:lnTo>
                  <a:pt x="44" y="66"/>
                </a:lnTo>
                <a:lnTo>
                  <a:pt x="42" y="62"/>
                </a:lnTo>
                <a:lnTo>
                  <a:pt x="40" y="54"/>
                </a:lnTo>
                <a:lnTo>
                  <a:pt x="40" y="48"/>
                </a:lnTo>
                <a:lnTo>
                  <a:pt x="42" y="41"/>
                </a:lnTo>
                <a:lnTo>
                  <a:pt x="44" y="33"/>
                </a:lnTo>
                <a:lnTo>
                  <a:pt x="48" y="27"/>
                </a:lnTo>
                <a:lnTo>
                  <a:pt x="58" y="18"/>
                </a:lnTo>
                <a:lnTo>
                  <a:pt x="63" y="14"/>
                </a:lnTo>
                <a:lnTo>
                  <a:pt x="67" y="10"/>
                </a:lnTo>
                <a:lnTo>
                  <a:pt x="75" y="6"/>
                </a:lnTo>
                <a:lnTo>
                  <a:pt x="81" y="2"/>
                </a:lnTo>
                <a:lnTo>
                  <a:pt x="88" y="0"/>
                </a:lnTo>
                <a:lnTo>
                  <a:pt x="98" y="0"/>
                </a:lnTo>
                <a:lnTo>
                  <a:pt x="115" y="0"/>
                </a:lnTo>
                <a:lnTo>
                  <a:pt x="125" y="0"/>
                </a:lnTo>
                <a:lnTo>
                  <a:pt x="136" y="2"/>
                </a:lnTo>
                <a:lnTo>
                  <a:pt x="146" y="4"/>
                </a:lnTo>
                <a:lnTo>
                  <a:pt x="157" y="6"/>
                </a:lnTo>
                <a:lnTo>
                  <a:pt x="169" y="10"/>
                </a:lnTo>
                <a:lnTo>
                  <a:pt x="182" y="14"/>
                </a:lnTo>
                <a:lnTo>
                  <a:pt x="190" y="18"/>
                </a:lnTo>
                <a:lnTo>
                  <a:pt x="196" y="22"/>
                </a:lnTo>
                <a:lnTo>
                  <a:pt x="202" y="25"/>
                </a:lnTo>
                <a:lnTo>
                  <a:pt x="205" y="29"/>
                </a:lnTo>
                <a:lnTo>
                  <a:pt x="211" y="35"/>
                </a:lnTo>
                <a:lnTo>
                  <a:pt x="215" y="39"/>
                </a:lnTo>
                <a:lnTo>
                  <a:pt x="223" y="52"/>
                </a:lnTo>
                <a:lnTo>
                  <a:pt x="228" y="66"/>
                </a:lnTo>
                <a:lnTo>
                  <a:pt x="234" y="79"/>
                </a:lnTo>
                <a:lnTo>
                  <a:pt x="240" y="94"/>
                </a:lnTo>
                <a:lnTo>
                  <a:pt x="244" y="110"/>
                </a:lnTo>
                <a:lnTo>
                  <a:pt x="244" y="117"/>
                </a:lnTo>
                <a:lnTo>
                  <a:pt x="244" y="127"/>
                </a:lnTo>
                <a:lnTo>
                  <a:pt x="242" y="139"/>
                </a:lnTo>
                <a:lnTo>
                  <a:pt x="242" y="150"/>
                </a:lnTo>
                <a:lnTo>
                  <a:pt x="240" y="164"/>
                </a:lnTo>
                <a:lnTo>
                  <a:pt x="238" y="177"/>
                </a:lnTo>
                <a:lnTo>
                  <a:pt x="236" y="192"/>
                </a:lnTo>
                <a:lnTo>
                  <a:pt x="232" y="210"/>
                </a:lnTo>
                <a:lnTo>
                  <a:pt x="230" y="227"/>
                </a:lnTo>
                <a:lnTo>
                  <a:pt x="227" y="246"/>
                </a:lnTo>
                <a:lnTo>
                  <a:pt x="223" y="267"/>
                </a:lnTo>
                <a:lnTo>
                  <a:pt x="217" y="288"/>
                </a:lnTo>
                <a:lnTo>
                  <a:pt x="213" y="309"/>
                </a:lnTo>
                <a:lnTo>
                  <a:pt x="207" y="332"/>
                </a:lnTo>
                <a:lnTo>
                  <a:pt x="202" y="357"/>
                </a:lnTo>
                <a:lnTo>
                  <a:pt x="196" y="3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44"/>
          <p:cNvSpPr/>
          <p:nvPr/>
        </p:nvSpPr>
        <p:spPr>
          <a:xfrm>
            <a:off x="6078600" y="2698920"/>
            <a:ext cx="293760" cy="312480"/>
          </a:xfrm>
          <a:custGeom>
            <a:avLst/>
            <a:gdLst/>
            <a:ahLst/>
            <a:rect l="l" t="t" r="r" b="b"/>
            <a:pathLst>
              <a:path w="368" h="393">
                <a:moveTo>
                  <a:pt x="270" y="80"/>
                </a:moveTo>
                <a:lnTo>
                  <a:pt x="282" y="88"/>
                </a:lnTo>
                <a:lnTo>
                  <a:pt x="291" y="98"/>
                </a:lnTo>
                <a:lnTo>
                  <a:pt x="303" y="107"/>
                </a:lnTo>
                <a:lnTo>
                  <a:pt x="311" y="117"/>
                </a:lnTo>
                <a:lnTo>
                  <a:pt x="320" y="126"/>
                </a:lnTo>
                <a:lnTo>
                  <a:pt x="328" y="136"/>
                </a:lnTo>
                <a:lnTo>
                  <a:pt x="336" y="147"/>
                </a:lnTo>
                <a:lnTo>
                  <a:pt x="341" y="159"/>
                </a:lnTo>
                <a:lnTo>
                  <a:pt x="349" y="171"/>
                </a:lnTo>
                <a:lnTo>
                  <a:pt x="353" y="182"/>
                </a:lnTo>
                <a:lnTo>
                  <a:pt x="359" y="195"/>
                </a:lnTo>
                <a:lnTo>
                  <a:pt x="362" y="207"/>
                </a:lnTo>
                <a:lnTo>
                  <a:pt x="364" y="218"/>
                </a:lnTo>
                <a:lnTo>
                  <a:pt x="366" y="232"/>
                </a:lnTo>
                <a:lnTo>
                  <a:pt x="368" y="245"/>
                </a:lnTo>
                <a:lnTo>
                  <a:pt x="368" y="257"/>
                </a:lnTo>
                <a:lnTo>
                  <a:pt x="368" y="270"/>
                </a:lnTo>
                <a:lnTo>
                  <a:pt x="368" y="282"/>
                </a:lnTo>
                <a:lnTo>
                  <a:pt x="368" y="293"/>
                </a:lnTo>
                <a:lnTo>
                  <a:pt x="368" y="303"/>
                </a:lnTo>
                <a:lnTo>
                  <a:pt x="368" y="313"/>
                </a:lnTo>
                <a:lnTo>
                  <a:pt x="368" y="322"/>
                </a:lnTo>
                <a:lnTo>
                  <a:pt x="366" y="332"/>
                </a:lnTo>
                <a:lnTo>
                  <a:pt x="366" y="339"/>
                </a:lnTo>
                <a:lnTo>
                  <a:pt x="366" y="347"/>
                </a:lnTo>
                <a:lnTo>
                  <a:pt x="364" y="353"/>
                </a:lnTo>
                <a:lnTo>
                  <a:pt x="364" y="359"/>
                </a:lnTo>
                <a:lnTo>
                  <a:pt x="362" y="364"/>
                </a:lnTo>
                <a:lnTo>
                  <a:pt x="362" y="370"/>
                </a:lnTo>
                <a:lnTo>
                  <a:pt x="360" y="374"/>
                </a:lnTo>
                <a:lnTo>
                  <a:pt x="359" y="378"/>
                </a:lnTo>
                <a:lnTo>
                  <a:pt x="357" y="380"/>
                </a:lnTo>
                <a:lnTo>
                  <a:pt x="351" y="385"/>
                </a:lnTo>
                <a:lnTo>
                  <a:pt x="345" y="387"/>
                </a:lnTo>
                <a:lnTo>
                  <a:pt x="337" y="391"/>
                </a:lnTo>
                <a:lnTo>
                  <a:pt x="332" y="391"/>
                </a:lnTo>
                <a:lnTo>
                  <a:pt x="324" y="393"/>
                </a:lnTo>
                <a:lnTo>
                  <a:pt x="318" y="393"/>
                </a:lnTo>
                <a:lnTo>
                  <a:pt x="312" y="393"/>
                </a:lnTo>
                <a:lnTo>
                  <a:pt x="307" y="393"/>
                </a:lnTo>
                <a:lnTo>
                  <a:pt x="303" y="393"/>
                </a:lnTo>
                <a:lnTo>
                  <a:pt x="297" y="391"/>
                </a:lnTo>
                <a:lnTo>
                  <a:pt x="289" y="387"/>
                </a:lnTo>
                <a:lnTo>
                  <a:pt x="282" y="384"/>
                </a:lnTo>
                <a:lnTo>
                  <a:pt x="274" y="378"/>
                </a:lnTo>
                <a:lnTo>
                  <a:pt x="264" y="370"/>
                </a:lnTo>
                <a:lnTo>
                  <a:pt x="253" y="362"/>
                </a:lnTo>
                <a:lnTo>
                  <a:pt x="243" y="351"/>
                </a:lnTo>
                <a:lnTo>
                  <a:pt x="230" y="339"/>
                </a:lnTo>
                <a:lnTo>
                  <a:pt x="218" y="326"/>
                </a:lnTo>
                <a:lnTo>
                  <a:pt x="205" y="313"/>
                </a:lnTo>
                <a:lnTo>
                  <a:pt x="190" y="297"/>
                </a:lnTo>
                <a:lnTo>
                  <a:pt x="174" y="278"/>
                </a:lnTo>
                <a:lnTo>
                  <a:pt x="159" y="259"/>
                </a:lnTo>
                <a:lnTo>
                  <a:pt x="142" y="240"/>
                </a:lnTo>
                <a:lnTo>
                  <a:pt x="124" y="217"/>
                </a:lnTo>
                <a:lnTo>
                  <a:pt x="107" y="194"/>
                </a:lnTo>
                <a:lnTo>
                  <a:pt x="90" y="172"/>
                </a:lnTo>
                <a:lnTo>
                  <a:pt x="76" y="153"/>
                </a:lnTo>
                <a:lnTo>
                  <a:pt x="63" y="134"/>
                </a:lnTo>
                <a:lnTo>
                  <a:pt x="49" y="117"/>
                </a:lnTo>
                <a:lnTo>
                  <a:pt x="40" y="101"/>
                </a:lnTo>
                <a:lnTo>
                  <a:pt x="30" y="86"/>
                </a:lnTo>
                <a:lnTo>
                  <a:pt x="23" y="73"/>
                </a:lnTo>
                <a:lnTo>
                  <a:pt x="15" y="61"/>
                </a:lnTo>
                <a:lnTo>
                  <a:pt x="9" y="50"/>
                </a:lnTo>
                <a:lnTo>
                  <a:pt x="5" y="40"/>
                </a:lnTo>
                <a:lnTo>
                  <a:pt x="1" y="32"/>
                </a:lnTo>
                <a:lnTo>
                  <a:pt x="0" y="27"/>
                </a:lnTo>
                <a:lnTo>
                  <a:pt x="0" y="21"/>
                </a:lnTo>
                <a:lnTo>
                  <a:pt x="0" y="15"/>
                </a:lnTo>
                <a:lnTo>
                  <a:pt x="1" y="13"/>
                </a:lnTo>
                <a:lnTo>
                  <a:pt x="7" y="7"/>
                </a:lnTo>
                <a:lnTo>
                  <a:pt x="13" y="4"/>
                </a:lnTo>
                <a:lnTo>
                  <a:pt x="17" y="4"/>
                </a:lnTo>
                <a:lnTo>
                  <a:pt x="21" y="2"/>
                </a:lnTo>
                <a:lnTo>
                  <a:pt x="26" y="2"/>
                </a:lnTo>
                <a:lnTo>
                  <a:pt x="32" y="0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9" y="0"/>
                </a:lnTo>
                <a:lnTo>
                  <a:pt x="69" y="0"/>
                </a:lnTo>
                <a:lnTo>
                  <a:pt x="78" y="0"/>
                </a:lnTo>
                <a:lnTo>
                  <a:pt x="88" y="0"/>
                </a:lnTo>
                <a:lnTo>
                  <a:pt x="99" y="0"/>
                </a:lnTo>
                <a:lnTo>
                  <a:pt x="122" y="5"/>
                </a:lnTo>
                <a:lnTo>
                  <a:pt x="144" y="11"/>
                </a:lnTo>
                <a:lnTo>
                  <a:pt x="165" y="19"/>
                </a:lnTo>
                <a:lnTo>
                  <a:pt x="186" y="28"/>
                </a:lnTo>
                <a:lnTo>
                  <a:pt x="205" y="40"/>
                </a:lnTo>
                <a:lnTo>
                  <a:pt x="226" y="52"/>
                </a:lnTo>
                <a:lnTo>
                  <a:pt x="247" y="65"/>
                </a:lnTo>
                <a:lnTo>
                  <a:pt x="270" y="8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45"/>
          <p:cNvSpPr/>
          <p:nvPr/>
        </p:nvSpPr>
        <p:spPr>
          <a:xfrm>
            <a:off x="6808680" y="3351240"/>
            <a:ext cx="514440" cy="135000"/>
          </a:xfrm>
          <a:custGeom>
            <a:avLst/>
            <a:gdLst/>
            <a:ahLst/>
            <a:rect l="l" t="t" r="r" b="b"/>
            <a:pathLst>
              <a:path w="647" h="171">
                <a:moveTo>
                  <a:pt x="647" y="8"/>
                </a:moveTo>
                <a:lnTo>
                  <a:pt x="647" y="50"/>
                </a:lnTo>
                <a:lnTo>
                  <a:pt x="647" y="90"/>
                </a:lnTo>
                <a:lnTo>
                  <a:pt x="482" y="110"/>
                </a:lnTo>
                <a:lnTo>
                  <a:pt x="317" y="131"/>
                </a:lnTo>
                <a:lnTo>
                  <a:pt x="277" y="140"/>
                </a:lnTo>
                <a:lnTo>
                  <a:pt x="236" y="148"/>
                </a:lnTo>
                <a:lnTo>
                  <a:pt x="198" y="156"/>
                </a:lnTo>
                <a:lnTo>
                  <a:pt x="158" y="161"/>
                </a:lnTo>
                <a:lnTo>
                  <a:pt x="119" y="165"/>
                </a:lnTo>
                <a:lnTo>
                  <a:pt x="79" y="169"/>
                </a:lnTo>
                <a:lnTo>
                  <a:pt x="40" y="171"/>
                </a:lnTo>
                <a:lnTo>
                  <a:pt x="0" y="171"/>
                </a:lnTo>
                <a:lnTo>
                  <a:pt x="0" y="77"/>
                </a:lnTo>
                <a:lnTo>
                  <a:pt x="12" y="77"/>
                </a:lnTo>
                <a:lnTo>
                  <a:pt x="23" y="75"/>
                </a:lnTo>
                <a:lnTo>
                  <a:pt x="37" y="75"/>
                </a:lnTo>
                <a:lnTo>
                  <a:pt x="50" y="73"/>
                </a:lnTo>
                <a:lnTo>
                  <a:pt x="77" y="69"/>
                </a:lnTo>
                <a:lnTo>
                  <a:pt x="92" y="67"/>
                </a:lnTo>
                <a:lnTo>
                  <a:pt x="106" y="65"/>
                </a:lnTo>
                <a:lnTo>
                  <a:pt x="121" y="62"/>
                </a:lnTo>
                <a:lnTo>
                  <a:pt x="136" y="58"/>
                </a:lnTo>
                <a:lnTo>
                  <a:pt x="152" y="54"/>
                </a:lnTo>
                <a:lnTo>
                  <a:pt x="167" y="48"/>
                </a:lnTo>
                <a:lnTo>
                  <a:pt x="184" y="42"/>
                </a:lnTo>
                <a:lnTo>
                  <a:pt x="200" y="37"/>
                </a:lnTo>
                <a:lnTo>
                  <a:pt x="215" y="29"/>
                </a:lnTo>
                <a:lnTo>
                  <a:pt x="232" y="21"/>
                </a:lnTo>
                <a:lnTo>
                  <a:pt x="248" y="17"/>
                </a:lnTo>
                <a:lnTo>
                  <a:pt x="267" y="14"/>
                </a:lnTo>
                <a:lnTo>
                  <a:pt x="286" y="10"/>
                </a:lnTo>
                <a:lnTo>
                  <a:pt x="307" y="6"/>
                </a:lnTo>
                <a:lnTo>
                  <a:pt x="328" y="4"/>
                </a:lnTo>
                <a:lnTo>
                  <a:pt x="351" y="2"/>
                </a:lnTo>
                <a:lnTo>
                  <a:pt x="376" y="0"/>
                </a:lnTo>
                <a:lnTo>
                  <a:pt x="403" y="0"/>
                </a:lnTo>
                <a:lnTo>
                  <a:pt x="430" y="0"/>
                </a:lnTo>
                <a:lnTo>
                  <a:pt x="457" y="0"/>
                </a:lnTo>
                <a:lnTo>
                  <a:pt x="486" y="0"/>
                </a:lnTo>
                <a:lnTo>
                  <a:pt x="517" y="0"/>
                </a:lnTo>
                <a:lnTo>
                  <a:pt x="547" y="2"/>
                </a:lnTo>
                <a:lnTo>
                  <a:pt x="580" y="4"/>
                </a:lnTo>
                <a:lnTo>
                  <a:pt x="613" y="6"/>
                </a:lnTo>
                <a:lnTo>
                  <a:pt x="647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46"/>
          <p:cNvSpPr/>
          <p:nvPr/>
        </p:nvSpPr>
        <p:spPr>
          <a:xfrm>
            <a:off x="6137280" y="3908520"/>
            <a:ext cx="312840" cy="204840"/>
          </a:xfrm>
          <a:custGeom>
            <a:avLst/>
            <a:gdLst/>
            <a:ahLst/>
            <a:rect l="l" t="t" r="r" b="b"/>
            <a:pathLst>
              <a:path w="393" h="259">
                <a:moveTo>
                  <a:pt x="1" y="0"/>
                </a:moveTo>
                <a:lnTo>
                  <a:pt x="34" y="0"/>
                </a:lnTo>
                <a:lnTo>
                  <a:pt x="63" y="2"/>
                </a:lnTo>
                <a:lnTo>
                  <a:pt x="92" y="2"/>
                </a:lnTo>
                <a:lnTo>
                  <a:pt x="119" y="5"/>
                </a:lnTo>
                <a:lnTo>
                  <a:pt x="143" y="7"/>
                </a:lnTo>
                <a:lnTo>
                  <a:pt x="168" y="11"/>
                </a:lnTo>
                <a:lnTo>
                  <a:pt x="191" y="15"/>
                </a:lnTo>
                <a:lnTo>
                  <a:pt x="213" y="19"/>
                </a:lnTo>
                <a:lnTo>
                  <a:pt x="232" y="23"/>
                </a:lnTo>
                <a:lnTo>
                  <a:pt x="251" y="28"/>
                </a:lnTo>
                <a:lnTo>
                  <a:pt x="268" y="34"/>
                </a:lnTo>
                <a:lnTo>
                  <a:pt x="284" y="40"/>
                </a:lnTo>
                <a:lnTo>
                  <a:pt x="299" y="46"/>
                </a:lnTo>
                <a:lnTo>
                  <a:pt x="311" y="53"/>
                </a:lnTo>
                <a:lnTo>
                  <a:pt x="322" y="61"/>
                </a:lnTo>
                <a:lnTo>
                  <a:pt x="332" y="69"/>
                </a:lnTo>
                <a:lnTo>
                  <a:pt x="345" y="88"/>
                </a:lnTo>
                <a:lnTo>
                  <a:pt x="357" y="107"/>
                </a:lnTo>
                <a:lnTo>
                  <a:pt x="368" y="124"/>
                </a:lnTo>
                <a:lnTo>
                  <a:pt x="376" y="142"/>
                </a:lnTo>
                <a:lnTo>
                  <a:pt x="383" y="157"/>
                </a:lnTo>
                <a:lnTo>
                  <a:pt x="385" y="165"/>
                </a:lnTo>
                <a:lnTo>
                  <a:pt x="389" y="172"/>
                </a:lnTo>
                <a:lnTo>
                  <a:pt x="391" y="182"/>
                </a:lnTo>
                <a:lnTo>
                  <a:pt x="391" y="190"/>
                </a:lnTo>
                <a:lnTo>
                  <a:pt x="393" y="197"/>
                </a:lnTo>
                <a:lnTo>
                  <a:pt x="393" y="205"/>
                </a:lnTo>
                <a:lnTo>
                  <a:pt x="393" y="211"/>
                </a:lnTo>
                <a:lnTo>
                  <a:pt x="393" y="218"/>
                </a:lnTo>
                <a:lnTo>
                  <a:pt x="391" y="224"/>
                </a:lnTo>
                <a:lnTo>
                  <a:pt x="391" y="230"/>
                </a:lnTo>
                <a:lnTo>
                  <a:pt x="389" y="234"/>
                </a:lnTo>
                <a:lnTo>
                  <a:pt x="387" y="240"/>
                </a:lnTo>
                <a:lnTo>
                  <a:pt x="385" y="243"/>
                </a:lnTo>
                <a:lnTo>
                  <a:pt x="382" y="247"/>
                </a:lnTo>
                <a:lnTo>
                  <a:pt x="376" y="251"/>
                </a:lnTo>
                <a:lnTo>
                  <a:pt x="372" y="253"/>
                </a:lnTo>
                <a:lnTo>
                  <a:pt x="368" y="255"/>
                </a:lnTo>
                <a:lnTo>
                  <a:pt x="362" y="257"/>
                </a:lnTo>
                <a:lnTo>
                  <a:pt x="357" y="257"/>
                </a:lnTo>
                <a:lnTo>
                  <a:pt x="351" y="259"/>
                </a:lnTo>
                <a:lnTo>
                  <a:pt x="345" y="259"/>
                </a:lnTo>
                <a:lnTo>
                  <a:pt x="337" y="259"/>
                </a:lnTo>
                <a:lnTo>
                  <a:pt x="330" y="257"/>
                </a:lnTo>
                <a:lnTo>
                  <a:pt x="320" y="255"/>
                </a:lnTo>
                <a:lnTo>
                  <a:pt x="312" y="251"/>
                </a:lnTo>
                <a:lnTo>
                  <a:pt x="301" y="247"/>
                </a:lnTo>
                <a:lnTo>
                  <a:pt x="291" y="242"/>
                </a:lnTo>
                <a:lnTo>
                  <a:pt x="280" y="236"/>
                </a:lnTo>
                <a:lnTo>
                  <a:pt x="268" y="230"/>
                </a:lnTo>
                <a:lnTo>
                  <a:pt x="255" y="222"/>
                </a:lnTo>
                <a:lnTo>
                  <a:pt x="241" y="215"/>
                </a:lnTo>
                <a:lnTo>
                  <a:pt x="226" y="205"/>
                </a:lnTo>
                <a:lnTo>
                  <a:pt x="211" y="195"/>
                </a:lnTo>
                <a:lnTo>
                  <a:pt x="193" y="186"/>
                </a:lnTo>
                <a:lnTo>
                  <a:pt x="176" y="174"/>
                </a:lnTo>
                <a:lnTo>
                  <a:pt x="157" y="163"/>
                </a:lnTo>
                <a:lnTo>
                  <a:pt x="136" y="149"/>
                </a:lnTo>
                <a:lnTo>
                  <a:pt x="117" y="136"/>
                </a:lnTo>
                <a:lnTo>
                  <a:pt x="99" y="124"/>
                </a:lnTo>
                <a:lnTo>
                  <a:pt x="82" y="113"/>
                </a:lnTo>
                <a:lnTo>
                  <a:pt x="67" y="103"/>
                </a:lnTo>
                <a:lnTo>
                  <a:pt x="55" y="92"/>
                </a:lnTo>
                <a:lnTo>
                  <a:pt x="42" y="82"/>
                </a:lnTo>
                <a:lnTo>
                  <a:pt x="32" y="73"/>
                </a:lnTo>
                <a:lnTo>
                  <a:pt x="24" y="63"/>
                </a:lnTo>
                <a:lnTo>
                  <a:pt x="17" y="55"/>
                </a:lnTo>
                <a:lnTo>
                  <a:pt x="11" y="48"/>
                </a:lnTo>
                <a:lnTo>
                  <a:pt x="5" y="38"/>
                </a:lnTo>
                <a:lnTo>
                  <a:pt x="3" y="30"/>
                </a:lnTo>
                <a:lnTo>
                  <a:pt x="1" y="23"/>
                </a:lnTo>
                <a:lnTo>
                  <a:pt x="0" y="15"/>
                </a:lnTo>
                <a:lnTo>
                  <a:pt x="0" y="7"/>
                </a:lnTo>
                <a:lnTo>
                  <a:pt x="1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47"/>
          <p:cNvSpPr/>
          <p:nvPr/>
        </p:nvSpPr>
        <p:spPr>
          <a:xfrm>
            <a:off x="6235560" y="3551400"/>
            <a:ext cx="282600" cy="392040"/>
          </a:xfrm>
          <a:custGeom>
            <a:avLst/>
            <a:gdLst/>
            <a:ahLst/>
            <a:rect l="l" t="t" r="r" b="b"/>
            <a:pathLst>
              <a:path w="355" h="493">
                <a:moveTo>
                  <a:pt x="208" y="353"/>
                </a:moveTo>
                <a:lnTo>
                  <a:pt x="190" y="374"/>
                </a:lnTo>
                <a:lnTo>
                  <a:pt x="173" y="391"/>
                </a:lnTo>
                <a:lnTo>
                  <a:pt x="156" y="408"/>
                </a:lnTo>
                <a:lnTo>
                  <a:pt x="140" y="424"/>
                </a:lnTo>
                <a:lnTo>
                  <a:pt x="125" y="437"/>
                </a:lnTo>
                <a:lnTo>
                  <a:pt x="110" y="449"/>
                </a:lnTo>
                <a:lnTo>
                  <a:pt x="94" y="458"/>
                </a:lnTo>
                <a:lnTo>
                  <a:pt x="81" y="468"/>
                </a:lnTo>
                <a:lnTo>
                  <a:pt x="69" y="476"/>
                </a:lnTo>
                <a:lnTo>
                  <a:pt x="56" y="481"/>
                </a:lnTo>
                <a:lnTo>
                  <a:pt x="44" y="487"/>
                </a:lnTo>
                <a:lnTo>
                  <a:pt x="35" y="489"/>
                </a:lnTo>
                <a:lnTo>
                  <a:pt x="25" y="491"/>
                </a:lnTo>
                <a:lnTo>
                  <a:pt x="16" y="493"/>
                </a:lnTo>
                <a:lnTo>
                  <a:pt x="8" y="491"/>
                </a:lnTo>
                <a:lnTo>
                  <a:pt x="0" y="489"/>
                </a:lnTo>
                <a:lnTo>
                  <a:pt x="14" y="462"/>
                </a:lnTo>
                <a:lnTo>
                  <a:pt x="27" y="435"/>
                </a:lnTo>
                <a:lnTo>
                  <a:pt x="39" y="410"/>
                </a:lnTo>
                <a:lnTo>
                  <a:pt x="50" y="387"/>
                </a:lnTo>
                <a:lnTo>
                  <a:pt x="62" y="364"/>
                </a:lnTo>
                <a:lnTo>
                  <a:pt x="71" y="343"/>
                </a:lnTo>
                <a:lnTo>
                  <a:pt x="83" y="324"/>
                </a:lnTo>
                <a:lnTo>
                  <a:pt x="92" y="305"/>
                </a:lnTo>
                <a:lnTo>
                  <a:pt x="100" y="286"/>
                </a:lnTo>
                <a:lnTo>
                  <a:pt x="110" y="270"/>
                </a:lnTo>
                <a:lnTo>
                  <a:pt x="117" y="253"/>
                </a:lnTo>
                <a:lnTo>
                  <a:pt x="123" y="239"/>
                </a:lnTo>
                <a:lnTo>
                  <a:pt x="131" y="226"/>
                </a:lnTo>
                <a:lnTo>
                  <a:pt x="137" y="213"/>
                </a:lnTo>
                <a:lnTo>
                  <a:pt x="142" y="201"/>
                </a:lnTo>
                <a:lnTo>
                  <a:pt x="146" y="190"/>
                </a:lnTo>
                <a:lnTo>
                  <a:pt x="150" y="180"/>
                </a:lnTo>
                <a:lnTo>
                  <a:pt x="154" y="170"/>
                </a:lnTo>
                <a:lnTo>
                  <a:pt x="158" y="161"/>
                </a:lnTo>
                <a:lnTo>
                  <a:pt x="160" y="151"/>
                </a:lnTo>
                <a:lnTo>
                  <a:pt x="163" y="142"/>
                </a:lnTo>
                <a:lnTo>
                  <a:pt x="163" y="134"/>
                </a:lnTo>
                <a:lnTo>
                  <a:pt x="167" y="117"/>
                </a:lnTo>
                <a:lnTo>
                  <a:pt x="167" y="101"/>
                </a:lnTo>
                <a:lnTo>
                  <a:pt x="165" y="84"/>
                </a:lnTo>
                <a:lnTo>
                  <a:pt x="163" y="69"/>
                </a:lnTo>
                <a:lnTo>
                  <a:pt x="160" y="53"/>
                </a:lnTo>
                <a:lnTo>
                  <a:pt x="154" y="44"/>
                </a:lnTo>
                <a:lnTo>
                  <a:pt x="152" y="36"/>
                </a:lnTo>
                <a:lnTo>
                  <a:pt x="150" y="28"/>
                </a:lnTo>
                <a:lnTo>
                  <a:pt x="152" y="23"/>
                </a:lnTo>
                <a:lnTo>
                  <a:pt x="154" y="15"/>
                </a:lnTo>
                <a:lnTo>
                  <a:pt x="156" y="13"/>
                </a:lnTo>
                <a:lnTo>
                  <a:pt x="158" y="9"/>
                </a:lnTo>
                <a:lnTo>
                  <a:pt x="160" y="7"/>
                </a:lnTo>
                <a:lnTo>
                  <a:pt x="163" y="5"/>
                </a:lnTo>
                <a:lnTo>
                  <a:pt x="167" y="1"/>
                </a:lnTo>
                <a:lnTo>
                  <a:pt x="171" y="0"/>
                </a:lnTo>
                <a:lnTo>
                  <a:pt x="181" y="0"/>
                </a:lnTo>
                <a:lnTo>
                  <a:pt x="192" y="1"/>
                </a:lnTo>
                <a:lnTo>
                  <a:pt x="204" y="5"/>
                </a:lnTo>
                <a:lnTo>
                  <a:pt x="217" y="9"/>
                </a:lnTo>
                <a:lnTo>
                  <a:pt x="231" y="15"/>
                </a:lnTo>
                <a:lnTo>
                  <a:pt x="246" y="23"/>
                </a:lnTo>
                <a:lnTo>
                  <a:pt x="263" y="30"/>
                </a:lnTo>
                <a:lnTo>
                  <a:pt x="281" y="40"/>
                </a:lnTo>
                <a:lnTo>
                  <a:pt x="290" y="46"/>
                </a:lnTo>
                <a:lnTo>
                  <a:pt x="298" y="51"/>
                </a:lnTo>
                <a:lnTo>
                  <a:pt x="306" y="55"/>
                </a:lnTo>
                <a:lnTo>
                  <a:pt x="313" y="61"/>
                </a:lnTo>
                <a:lnTo>
                  <a:pt x="319" y="67"/>
                </a:lnTo>
                <a:lnTo>
                  <a:pt x="327" y="72"/>
                </a:lnTo>
                <a:lnTo>
                  <a:pt x="330" y="78"/>
                </a:lnTo>
                <a:lnTo>
                  <a:pt x="336" y="82"/>
                </a:lnTo>
                <a:lnTo>
                  <a:pt x="340" y="88"/>
                </a:lnTo>
                <a:lnTo>
                  <a:pt x="344" y="96"/>
                </a:lnTo>
                <a:lnTo>
                  <a:pt x="348" y="101"/>
                </a:lnTo>
                <a:lnTo>
                  <a:pt x="350" y="107"/>
                </a:lnTo>
                <a:lnTo>
                  <a:pt x="352" y="115"/>
                </a:lnTo>
                <a:lnTo>
                  <a:pt x="354" y="120"/>
                </a:lnTo>
                <a:lnTo>
                  <a:pt x="354" y="128"/>
                </a:lnTo>
                <a:lnTo>
                  <a:pt x="355" y="136"/>
                </a:lnTo>
                <a:lnTo>
                  <a:pt x="354" y="143"/>
                </a:lnTo>
                <a:lnTo>
                  <a:pt x="352" y="151"/>
                </a:lnTo>
                <a:lnTo>
                  <a:pt x="350" y="161"/>
                </a:lnTo>
                <a:lnTo>
                  <a:pt x="346" y="172"/>
                </a:lnTo>
                <a:lnTo>
                  <a:pt x="340" y="182"/>
                </a:lnTo>
                <a:lnTo>
                  <a:pt x="334" y="193"/>
                </a:lnTo>
                <a:lnTo>
                  <a:pt x="327" y="205"/>
                </a:lnTo>
                <a:lnTo>
                  <a:pt x="317" y="218"/>
                </a:lnTo>
                <a:lnTo>
                  <a:pt x="307" y="232"/>
                </a:lnTo>
                <a:lnTo>
                  <a:pt x="296" y="247"/>
                </a:lnTo>
                <a:lnTo>
                  <a:pt x="284" y="263"/>
                </a:lnTo>
                <a:lnTo>
                  <a:pt x="271" y="280"/>
                </a:lnTo>
                <a:lnTo>
                  <a:pt x="258" y="295"/>
                </a:lnTo>
                <a:lnTo>
                  <a:pt x="242" y="314"/>
                </a:lnTo>
                <a:lnTo>
                  <a:pt x="225" y="334"/>
                </a:lnTo>
                <a:lnTo>
                  <a:pt x="208" y="3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48"/>
          <p:cNvSpPr/>
          <p:nvPr/>
        </p:nvSpPr>
        <p:spPr>
          <a:xfrm>
            <a:off x="6018120" y="3649680"/>
            <a:ext cx="142920" cy="1330200"/>
          </a:xfrm>
          <a:custGeom>
            <a:avLst/>
            <a:gdLst/>
            <a:ahLst/>
            <a:rect l="l" t="t" r="r" b="b"/>
            <a:pathLst>
              <a:path w="180" h="1676">
                <a:moveTo>
                  <a:pt x="176" y="286"/>
                </a:moveTo>
                <a:lnTo>
                  <a:pt x="176" y="306"/>
                </a:lnTo>
                <a:lnTo>
                  <a:pt x="176" y="325"/>
                </a:lnTo>
                <a:lnTo>
                  <a:pt x="176" y="346"/>
                </a:lnTo>
                <a:lnTo>
                  <a:pt x="176" y="371"/>
                </a:lnTo>
                <a:lnTo>
                  <a:pt x="176" y="396"/>
                </a:lnTo>
                <a:lnTo>
                  <a:pt x="176" y="421"/>
                </a:lnTo>
                <a:lnTo>
                  <a:pt x="176" y="450"/>
                </a:lnTo>
                <a:lnTo>
                  <a:pt x="176" y="478"/>
                </a:lnTo>
                <a:lnTo>
                  <a:pt x="176" y="509"/>
                </a:lnTo>
                <a:lnTo>
                  <a:pt x="176" y="542"/>
                </a:lnTo>
                <a:lnTo>
                  <a:pt x="176" y="574"/>
                </a:lnTo>
                <a:lnTo>
                  <a:pt x="176" y="609"/>
                </a:lnTo>
                <a:lnTo>
                  <a:pt x="176" y="645"/>
                </a:lnTo>
                <a:lnTo>
                  <a:pt x="176" y="684"/>
                </a:lnTo>
                <a:lnTo>
                  <a:pt x="176" y="722"/>
                </a:lnTo>
                <a:lnTo>
                  <a:pt x="176" y="762"/>
                </a:lnTo>
                <a:lnTo>
                  <a:pt x="176" y="843"/>
                </a:lnTo>
                <a:lnTo>
                  <a:pt x="174" y="924"/>
                </a:lnTo>
                <a:lnTo>
                  <a:pt x="173" y="1002"/>
                </a:lnTo>
                <a:lnTo>
                  <a:pt x="169" y="1081"/>
                </a:lnTo>
                <a:lnTo>
                  <a:pt x="165" y="1158"/>
                </a:lnTo>
                <a:lnTo>
                  <a:pt x="161" y="1235"/>
                </a:lnTo>
                <a:lnTo>
                  <a:pt x="151" y="1388"/>
                </a:lnTo>
                <a:lnTo>
                  <a:pt x="150" y="1409"/>
                </a:lnTo>
                <a:lnTo>
                  <a:pt x="148" y="1428"/>
                </a:lnTo>
                <a:lnTo>
                  <a:pt x="146" y="1446"/>
                </a:lnTo>
                <a:lnTo>
                  <a:pt x="144" y="1465"/>
                </a:lnTo>
                <a:lnTo>
                  <a:pt x="140" y="1480"/>
                </a:lnTo>
                <a:lnTo>
                  <a:pt x="138" y="1498"/>
                </a:lnTo>
                <a:lnTo>
                  <a:pt x="136" y="1513"/>
                </a:lnTo>
                <a:lnTo>
                  <a:pt x="134" y="1526"/>
                </a:lnTo>
                <a:lnTo>
                  <a:pt x="132" y="1542"/>
                </a:lnTo>
                <a:lnTo>
                  <a:pt x="128" y="1555"/>
                </a:lnTo>
                <a:lnTo>
                  <a:pt x="126" y="1567"/>
                </a:lnTo>
                <a:lnTo>
                  <a:pt x="125" y="1578"/>
                </a:lnTo>
                <a:lnTo>
                  <a:pt x="123" y="1590"/>
                </a:lnTo>
                <a:lnTo>
                  <a:pt x="121" y="1599"/>
                </a:lnTo>
                <a:lnTo>
                  <a:pt x="117" y="1609"/>
                </a:lnTo>
                <a:lnTo>
                  <a:pt x="115" y="1618"/>
                </a:lnTo>
                <a:lnTo>
                  <a:pt x="113" y="1626"/>
                </a:lnTo>
                <a:lnTo>
                  <a:pt x="111" y="1634"/>
                </a:lnTo>
                <a:lnTo>
                  <a:pt x="109" y="1641"/>
                </a:lnTo>
                <a:lnTo>
                  <a:pt x="105" y="1647"/>
                </a:lnTo>
                <a:lnTo>
                  <a:pt x="103" y="1653"/>
                </a:lnTo>
                <a:lnTo>
                  <a:pt x="102" y="1659"/>
                </a:lnTo>
                <a:lnTo>
                  <a:pt x="100" y="1663"/>
                </a:lnTo>
                <a:lnTo>
                  <a:pt x="98" y="1666"/>
                </a:lnTo>
                <a:lnTo>
                  <a:pt x="94" y="1670"/>
                </a:lnTo>
                <a:lnTo>
                  <a:pt x="92" y="1672"/>
                </a:lnTo>
                <a:lnTo>
                  <a:pt x="90" y="1674"/>
                </a:lnTo>
                <a:lnTo>
                  <a:pt x="88" y="1676"/>
                </a:lnTo>
                <a:lnTo>
                  <a:pt x="86" y="1676"/>
                </a:lnTo>
                <a:lnTo>
                  <a:pt x="82" y="1676"/>
                </a:lnTo>
                <a:lnTo>
                  <a:pt x="80" y="1676"/>
                </a:lnTo>
                <a:lnTo>
                  <a:pt x="78" y="1674"/>
                </a:lnTo>
                <a:lnTo>
                  <a:pt x="71" y="1665"/>
                </a:lnTo>
                <a:lnTo>
                  <a:pt x="63" y="1651"/>
                </a:lnTo>
                <a:lnTo>
                  <a:pt x="55" y="1638"/>
                </a:lnTo>
                <a:lnTo>
                  <a:pt x="50" y="1624"/>
                </a:lnTo>
                <a:lnTo>
                  <a:pt x="44" y="1607"/>
                </a:lnTo>
                <a:lnTo>
                  <a:pt x="38" y="1590"/>
                </a:lnTo>
                <a:lnTo>
                  <a:pt x="34" y="1572"/>
                </a:lnTo>
                <a:lnTo>
                  <a:pt x="30" y="1553"/>
                </a:lnTo>
                <a:lnTo>
                  <a:pt x="25" y="1538"/>
                </a:lnTo>
                <a:lnTo>
                  <a:pt x="21" y="1522"/>
                </a:lnTo>
                <a:lnTo>
                  <a:pt x="17" y="1507"/>
                </a:lnTo>
                <a:lnTo>
                  <a:pt x="13" y="1494"/>
                </a:lnTo>
                <a:lnTo>
                  <a:pt x="9" y="1482"/>
                </a:lnTo>
                <a:lnTo>
                  <a:pt x="7" y="1473"/>
                </a:lnTo>
                <a:lnTo>
                  <a:pt x="6" y="1467"/>
                </a:lnTo>
                <a:lnTo>
                  <a:pt x="6" y="1463"/>
                </a:lnTo>
                <a:lnTo>
                  <a:pt x="6" y="1459"/>
                </a:lnTo>
                <a:lnTo>
                  <a:pt x="6" y="1457"/>
                </a:lnTo>
                <a:lnTo>
                  <a:pt x="4" y="1453"/>
                </a:lnTo>
                <a:lnTo>
                  <a:pt x="2" y="1450"/>
                </a:lnTo>
                <a:lnTo>
                  <a:pt x="2" y="1444"/>
                </a:lnTo>
                <a:lnTo>
                  <a:pt x="0" y="1436"/>
                </a:lnTo>
                <a:lnTo>
                  <a:pt x="0" y="1428"/>
                </a:lnTo>
                <a:lnTo>
                  <a:pt x="0" y="1419"/>
                </a:lnTo>
                <a:lnTo>
                  <a:pt x="2" y="1407"/>
                </a:lnTo>
                <a:lnTo>
                  <a:pt x="2" y="1396"/>
                </a:lnTo>
                <a:lnTo>
                  <a:pt x="4" y="1382"/>
                </a:lnTo>
                <a:lnTo>
                  <a:pt x="6" y="1367"/>
                </a:lnTo>
                <a:lnTo>
                  <a:pt x="7" y="1352"/>
                </a:lnTo>
                <a:lnTo>
                  <a:pt x="9" y="1334"/>
                </a:lnTo>
                <a:lnTo>
                  <a:pt x="11" y="1315"/>
                </a:lnTo>
                <a:lnTo>
                  <a:pt x="13" y="1296"/>
                </a:lnTo>
                <a:lnTo>
                  <a:pt x="15" y="1275"/>
                </a:lnTo>
                <a:lnTo>
                  <a:pt x="17" y="1254"/>
                </a:lnTo>
                <a:lnTo>
                  <a:pt x="19" y="1229"/>
                </a:lnTo>
                <a:lnTo>
                  <a:pt x="23" y="1204"/>
                </a:lnTo>
                <a:lnTo>
                  <a:pt x="25" y="1179"/>
                </a:lnTo>
                <a:lnTo>
                  <a:pt x="27" y="1150"/>
                </a:lnTo>
                <a:lnTo>
                  <a:pt x="29" y="1121"/>
                </a:lnTo>
                <a:lnTo>
                  <a:pt x="30" y="1093"/>
                </a:lnTo>
                <a:lnTo>
                  <a:pt x="34" y="1060"/>
                </a:lnTo>
                <a:lnTo>
                  <a:pt x="36" y="1027"/>
                </a:lnTo>
                <a:lnTo>
                  <a:pt x="38" y="995"/>
                </a:lnTo>
                <a:lnTo>
                  <a:pt x="40" y="958"/>
                </a:lnTo>
                <a:lnTo>
                  <a:pt x="42" y="922"/>
                </a:lnTo>
                <a:lnTo>
                  <a:pt x="46" y="885"/>
                </a:lnTo>
                <a:lnTo>
                  <a:pt x="48" y="847"/>
                </a:lnTo>
                <a:lnTo>
                  <a:pt x="50" y="807"/>
                </a:lnTo>
                <a:lnTo>
                  <a:pt x="52" y="764"/>
                </a:lnTo>
                <a:lnTo>
                  <a:pt x="54" y="722"/>
                </a:lnTo>
                <a:lnTo>
                  <a:pt x="55" y="680"/>
                </a:lnTo>
                <a:lnTo>
                  <a:pt x="57" y="638"/>
                </a:lnTo>
                <a:lnTo>
                  <a:pt x="59" y="599"/>
                </a:lnTo>
                <a:lnTo>
                  <a:pt x="61" y="561"/>
                </a:lnTo>
                <a:lnTo>
                  <a:pt x="61" y="524"/>
                </a:lnTo>
                <a:lnTo>
                  <a:pt x="63" y="490"/>
                </a:lnTo>
                <a:lnTo>
                  <a:pt x="63" y="457"/>
                </a:lnTo>
                <a:lnTo>
                  <a:pt x="63" y="425"/>
                </a:lnTo>
                <a:lnTo>
                  <a:pt x="63" y="396"/>
                </a:lnTo>
                <a:lnTo>
                  <a:pt x="63" y="367"/>
                </a:lnTo>
                <a:lnTo>
                  <a:pt x="61" y="340"/>
                </a:lnTo>
                <a:lnTo>
                  <a:pt x="61" y="315"/>
                </a:lnTo>
                <a:lnTo>
                  <a:pt x="59" y="292"/>
                </a:lnTo>
                <a:lnTo>
                  <a:pt x="57" y="271"/>
                </a:lnTo>
                <a:lnTo>
                  <a:pt x="55" y="250"/>
                </a:lnTo>
                <a:lnTo>
                  <a:pt x="54" y="231"/>
                </a:lnTo>
                <a:lnTo>
                  <a:pt x="52" y="215"/>
                </a:lnTo>
                <a:lnTo>
                  <a:pt x="52" y="200"/>
                </a:lnTo>
                <a:lnTo>
                  <a:pt x="52" y="185"/>
                </a:lnTo>
                <a:lnTo>
                  <a:pt x="52" y="171"/>
                </a:lnTo>
                <a:lnTo>
                  <a:pt x="54" y="156"/>
                </a:lnTo>
                <a:lnTo>
                  <a:pt x="55" y="141"/>
                </a:lnTo>
                <a:lnTo>
                  <a:pt x="59" y="125"/>
                </a:lnTo>
                <a:lnTo>
                  <a:pt x="63" y="110"/>
                </a:lnTo>
                <a:lnTo>
                  <a:pt x="69" y="96"/>
                </a:lnTo>
                <a:lnTo>
                  <a:pt x="75" y="81"/>
                </a:lnTo>
                <a:lnTo>
                  <a:pt x="80" y="68"/>
                </a:lnTo>
                <a:lnTo>
                  <a:pt x="88" y="54"/>
                </a:lnTo>
                <a:lnTo>
                  <a:pt x="98" y="41"/>
                </a:lnTo>
                <a:lnTo>
                  <a:pt x="107" y="25"/>
                </a:lnTo>
                <a:lnTo>
                  <a:pt x="117" y="14"/>
                </a:lnTo>
                <a:lnTo>
                  <a:pt x="128" y="0"/>
                </a:lnTo>
                <a:lnTo>
                  <a:pt x="140" y="35"/>
                </a:lnTo>
                <a:lnTo>
                  <a:pt x="151" y="71"/>
                </a:lnTo>
                <a:lnTo>
                  <a:pt x="157" y="89"/>
                </a:lnTo>
                <a:lnTo>
                  <a:pt x="161" y="108"/>
                </a:lnTo>
                <a:lnTo>
                  <a:pt x="167" y="125"/>
                </a:lnTo>
                <a:lnTo>
                  <a:pt x="171" y="142"/>
                </a:lnTo>
                <a:lnTo>
                  <a:pt x="173" y="162"/>
                </a:lnTo>
                <a:lnTo>
                  <a:pt x="176" y="179"/>
                </a:lnTo>
                <a:lnTo>
                  <a:pt x="178" y="196"/>
                </a:lnTo>
                <a:lnTo>
                  <a:pt x="178" y="213"/>
                </a:lnTo>
                <a:lnTo>
                  <a:pt x="180" y="233"/>
                </a:lnTo>
                <a:lnTo>
                  <a:pt x="178" y="250"/>
                </a:lnTo>
                <a:lnTo>
                  <a:pt x="178" y="267"/>
                </a:lnTo>
                <a:lnTo>
                  <a:pt x="176" y="2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49"/>
          <p:cNvSpPr/>
          <p:nvPr/>
        </p:nvSpPr>
        <p:spPr>
          <a:xfrm>
            <a:off x="7012080" y="4027320"/>
            <a:ext cx="382320" cy="273240"/>
          </a:xfrm>
          <a:custGeom>
            <a:avLst/>
            <a:gdLst/>
            <a:ahLst/>
            <a:rect l="l" t="t" r="r" b="b"/>
            <a:pathLst>
              <a:path w="482" h="346">
                <a:moveTo>
                  <a:pt x="0" y="27"/>
                </a:moveTo>
                <a:lnTo>
                  <a:pt x="0" y="25"/>
                </a:lnTo>
                <a:lnTo>
                  <a:pt x="2" y="23"/>
                </a:lnTo>
                <a:lnTo>
                  <a:pt x="4" y="20"/>
                </a:lnTo>
                <a:lnTo>
                  <a:pt x="6" y="18"/>
                </a:lnTo>
                <a:lnTo>
                  <a:pt x="8" y="16"/>
                </a:lnTo>
                <a:lnTo>
                  <a:pt x="12" y="14"/>
                </a:lnTo>
                <a:lnTo>
                  <a:pt x="16" y="12"/>
                </a:lnTo>
                <a:lnTo>
                  <a:pt x="20" y="10"/>
                </a:lnTo>
                <a:lnTo>
                  <a:pt x="23" y="8"/>
                </a:lnTo>
                <a:lnTo>
                  <a:pt x="29" y="6"/>
                </a:lnTo>
                <a:lnTo>
                  <a:pt x="35" y="4"/>
                </a:lnTo>
                <a:lnTo>
                  <a:pt x="43" y="2"/>
                </a:lnTo>
                <a:lnTo>
                  <a:pt x="48" y="2"/>
                </a:lnTo>
                <a:lnTo>
                  <a:pt x="56" y="0"/>
                </a:lnTo>
                <a:lnTo>
                  <a:pt x="66" y="0"/>
                </a:lnTo>
                <a:lnTo>
                  <a:pt x="73" y="0"/>
                </a:lnTo>
                <a:lnTo>
                  <a:pt x="81" y="0"/>
                </a:lnTo>
                <a:lnTo>
                  <a:pt x="89" y="0"/>
                </a:lnTo>
                <a:lnTo>
                  <a:pt x="98" y="2"/>
                </a:lnTo>
                <a:lnTo>
                  <a:pt x="108" y="2"/>
                </a:lnTo>
                <a:lnTo>
                  <a:pt x="119" y="4"/>
                </a:lnTo>
                <a:lnTo>
                  <a:pt x="131" y="6"/>
                </a:lnTo>
                <a:lnTo>
                  <a:pt x="143" y="10"/>
                </a:lnTo>
                <a:lnTo>
                  <a:pt x="156" y="12"/>
                </a:lnTo>
                <a:lnTo>
                  <a:pt x="169" y="16"/>
                </a:lnTo>
                <a:lnTo>
                  <a:pt x="183" y="20"/>
                </a:lnTo>
                <a:lnTo>
                  <a:pt x="198" y="23"/>
                </a:lnTo>
                <a:lnTo>
                  <a:pt x="214" y="29"/>
                </a:lnTo>
                <a:lnTo>
                  <a:pt x="229" y="35"/>
                </a:lnTo>
                <a:lnTo>
                  <a:pt x="246" y="41"/>
                </a:lnTo>
                <a:lnTo>
                  <a:pt x="263" y="48"/>
                </a:lnTo>
                <a:lnTo>
                  <a:pt x="283" y="56"/>
                </a:lnTo>
                <a:lnTo>
                  <a:pt x="300" y="64"/>
                </a:lnTo>
                <a:lnTo>
                  <a:pt x="317" y="71"/>
                </a:lnTo>
                <a:lnTo>
                  <a:pt x="333" y="79"/>
                </a:lnTo>
                <a:lnTo>
                  <a:pt x="348" y="89"/>
                </a:lnTo>
                <a:lnTo>
                  <a:pt x="363" y="98"/>
                </a:lnTo>
                <a:lnTo>
                  <a:pt x="377" y="108"/>
                </a:lnTo>
                <a:lnTo>
                  <a:pt x="390" y="117"/>
                </a:lnTo>
                <a:lnTo>
                  <a:pt x="402" y="127"/>
                </a:lnTo>
                <a:lnTo>
                  <a:pt x="413" y="137"/>
                </a:lnTo>
                <a:lnTo>
                  <a:pt x="423" y="148"/>
                </a:lnTo>
                <a:lnTo>
                  <a:pt x="432" y="158"/>
                </a:lnTo>
                <a:lnTo>
                  <a:pt x="440" y="169"/>
                </a:lnTo>
                <a:lnTo>
                  <a:pt x="448" y="181"/>
                </a:lnTo>
                <a:lnTo>
                  <a:pt x="455" y="194"/>
                </a:lnTo>
                <a:lnTo>
                  <a:pt x="461" y="206"/>
                </a:lnTo>
                <a:lnTo>
                  <a:pt x="465" y="219"/>
                </a:lnTo>
                <a:lnTo>
                  <a:pt x="467" y="231"/>
                </a:lnTo>
                <a:lnTo>
                  <a:pt x="471" y="242"/>
                </a:lnTo>
                <a:lnTo>
                  <a:pt x="473" y="254"/>
                </a:lnTo>
                <a:lnTo>
                  <a:pt x="475" y="263"/>
                </a:lnTo>
                <a:lnTo>
                  <a:pt x="477" y="275"/>
                </a:lnTo>
                <a:lnTo>
                  <a:pt x="478" y="283"/>
                </a:lnTo>
                <a:lnTo>
                  <a:pt x="478" y="292"/>
                </a:lnTo>
                <a:lnTo>
                  <a:pt x="480" y="300"/>
                </a:lnTo>
                <a:lnTo>
                  <a:pt x="482" y="308"/>
                </a:lnTo>
                <a:lnTo>
                  <a:pt x="482" y="313"/>
                </a:lnTo>
                <a:lnTo>
                  <a:pt x="482" y="321"/>
                </a:lnTo>
                <a:lnTo>
                  <a:pt x="482" y="325"/>
                </a:lnTo>
                <a:lnTo>
                  <a:pt x="482" y="331"/>
                </a:lnTo>
                <a:lnTo>
                  <a:pt x="480" y="334"/>
                </a:lnTo>
                <a:lnTo>
                  <a:pt x="480" y="338"/>
                </a:lnTo>
                <a:lnTo>
                  <a:pt x="478" y="342"/>
                </a:lnTo>
                <a:lnTo>
                  <a:pt x="475" y="344"/>
                </a:lnTo>
                <a:lnTo>
                  <a:pt x="471" y="344"/>
                </a:lnTo>
                <a:lnTo>
                  <a:pt x="465" y="346"/>
                </a:lnTo>
                <a:lnTo>
                  <a:pt x="459" y="346"/>
                </a:lnTo>
                <a:lnTo>
                  <a:pt x="452" y="346"/>
                </a:lnTo>
                <a:lnTo>
                  <a:pt x="444" y="344"/>
                </a:lnTo>
                <a:lnTo>
                  <a:pt x="436" y="342"/>
                </a:lnTo>
                <a:lnTo>
                  <a:pt x="425" y="340"/>
                </a:lnTo>
                <a:lnTo>
                  <a:pt x="415" y="336"/>
                </a:lnTo>
                <a:lnTo>
                  <a:pt x="404" y="332"/>
                </a:lnTo>
                <a:lnTo>
                  <a:pt x="390" y="327"/>
                </a:lnTo>
                <a:lnTo>
                  <a:pt x="377" y="321"/>
                </a:lnTo>
                <a:lnTo>
                  <a:pt x="363" y="313"/>
                </a:lnTo>
                <a:lnTo>
                  <a:pt x="350" y="306"/>
                </a:lnTo>
                <a:lnTo>
                  <a:pt x="334" y="296"/>
                </a:lnTo>
                <a:lnTo>
                  <a:pt x="319" y="286"/>
                </a:lnTo>
                <a:lnTo>
                  <a:pt x="300" y="277"/>
                </a:lnTo>
                <a:lnTo>
                  <a:pt x="283" y="265"/>
                </a:lnTo>
                <a:lnTo>
                  <a:pt x="265" y="256"/>
                </a:lnTo>
                <a:lnTo>
                  <a:pt x="250" y="246"/>
                </a:lnTo>
                <a:lnTo>
                  <a:pt x="235" y="235"/>
                </a:lnTo>
                <a:lnTo>
                  <a:pt x="217" y="225"/>
                </a:lnTo>
                <a:lnTo>
                  <a:pt x="189" y="206"/>
                </a:lnTo>
                <a:lnTo>
                  <a:pt x="162" y="185"/>
                </a:lnTo>
                <a:lnTo>
                  <a:pt x="135" y="164"/>
                </a:lnTo>
                <a:lnTo>
                  <a:pt x="110" y="144"/>
                </a:lnTo>
                <a:lnTo>
                  <a:pt x="87" y="123"/>
                </a:lnTo>
                <a:lnTo>
                  <a:pt x="75" y="114"/>
                </a:lnTo>
                <a:lnTo>
                  <a:pt x="66" y="104"/>
                </a:lnTo>
                <a:lnTo>
                  <a:pt x="56" y="94"/>
                </a:lnTo>
                <a:lnTo>
                  <a:pt x="48" y="87"/>
                </a:lnTo>
                <a:lnTo>
                  <a:pt x="39" y="79"/>
                </a:lnTo>
                <a:lnTo>
                  <a:pt x="33" y="71"/>
                </a:lnTo>
                <a:lnTo>
                  <a:pt x="27" y="66"/>
                </a:lnTo>
                <a:lnTo>
                  <a:pt x="22" y="60"/>
                </a:lnTo>
                <a:lnTo>
                  <a:pt x="16" y="54"/>
                </a:lnTo>
                <a:lnTo>
                  <a:pt x="12" y="50"/>
                </a:lnTo>
                <a:lnTo>
                  <a:pt x="8" y="45"/>
                </a:lnTo>
                <a:lnTo>
                  <a:pt x="6" y="41"/>
                </a:lnTo>
                <a:lnTo>
                  <a:pt x="4" y="37"/>
                </a:lnTo>
                <a:lnTo>
                  <a:pt x="2" y="33"/>
                </a:lnTo>
                <a:lnTo>
                  <a:pt x="0" y="31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50"/>
          <p:cNvSpPr/>
          <p:nvPr/>
        </p:nvSpPr>
        <p:spPr>
          <a:xfrm>
            <a:off x="6691320" y="3600360"/>
            <a:ext cx="1096920" cy="1519200"/>
          </a:xfrm>
          <a:custGeom>
            <a:avLst/>
            <a:gdLst/>
            <a:ahLst/>
            <a:rect l="l" t="t" r="r" b="b"/>
            <a:pathLst>
              <a:path w="1383" h="1914">
                <a:moveTo>
                  <a:pt x="795" y="1518"/>
                </a:moveTo>
                <a:lnTo>
                  <a:pt x="812" y="1526"/>
                </a:lnTo>
                <a:lnTo>
                  <a:pt x="830" y="1532"/>
                </a:lnTo>
                <a:lnTo>
                  <a:pt x="847" y="1535"/>
                </a:lnTo>
                <a:lnTo>
                  <a:pt x="862" y="1539"/>
                </a:lnTo>
                <a:lnTo>
                  <a:pt x="876" y="1541"/>
                </a:lnTo>
                <a:lnTo>
                  <a:pt x="891" y="1541"/>
                </a:lnTo>
                <a:lnTo>
                  <a:pt x="903" y="1541"/>
                </a:lnTo>
                <a:lnTo>
                  <a:pt x="916" y="1541"/>
                </a:lnTo>
                <a:lnTo>
                  <a:pt x="928" y="1537"/>
                </a:lnTo>
                <a:lnTo>
                  <a:pt x="939" y="1534"/>
                </a:lnTo>
                <a:lnTo>
                  <a:pt x="949" y="1530"/>
                </a:lnTo>
                <a:lnTo>
                  <a:pt x="958" y="1524"/>
                </a:lnTo>
                <a:lnTo>
                  <a:pt x="968" y="1518"/>
                </a:lnTo>
                <a:lnTo>
                  <a:pt x="976" y="1509"/>
                </a:lnTo>
                <a:lnTo>
                  <a:pt x="983" y="1501"/>
                </a:lnTo>
                <a:lnTo>
                  <a:pt x="991" y="1491"/>
                </a:lnTo>
                <a:lnTo>
                  <a:pt x="993" y="1486"/>
                </a:lnTo>
                <a:lnTo>
                  <a:pt x="995" y="1480"/>
                </a:lnTo>
                <a:lnTo>
                  <a:pt x="997" y="1472"/>
                </a:lnTo>
                <a:lnTo>
                  <a:pt x="1000" y="1464"/>
                </a:lnTo>
                <a:lnTo>
                  <a:pt x="1002" y="1457"/>
                </a:lnTo>
                <a:lnTo>
                  <a:pt x="1004" y="1449"/>
                </a:lnTo>
                <a:lnTo>
                  <a:pt x="1006" y="1440"/>
                </a:lnTo>
                <a:lnTo>
                  <a:pt x="1008" y="1430"/>
                </a:lnTo>
                <a:lnTo>
                  <a:pt x="1012" y="1418"/>
                </a:lnTo>
                <a:lnTo>
                  <a:pt x="1014" y="1407"/>
                </a:lnTo>
                <a:lnTo>
                  <a:pt x="1016" y="1395"/>
                </a:lnTo>
                <a:lnTo>
                  <a:pt x="1018" y="1382"/>
                </a:lnTo>
                <a:lnTo>
                  <a:pt x="1022" y="1370"/>
                </a:lnTo>
                <a:lnTo>
                  <a:pt x="1024" y="1355"/>
                </a:lnTo>
                <a:lnTo>
                  <a:pt x="1025" y="1342"/>
                </a:lnTo>
                <a:lnTo>
                  <a:pt x="1029" y="1326"/>
                </a:lnTo>
                <a:lnTo>
                  <a:pt x="1031" y="1309"/>
                </a:lnTo>
                <a:lnTo>
                  <a:pt x="1035" y="1294"/>
                </a:lnTo>
                <a:lnTo>
                  <a:pt x="1037" y="1276"/>
                </a:lnTo>
                <a:lnTo>
                  <a:pt x="1039" y="1257"/>
                </a:lnTo>
                <a:lnTo>
                  <a:pt x="1043" y="1240"/>
                </a:lnTo>
                <a:lnTo>
                  <a:pt x="1045" y="1219"/>
                </a:lnTo>
                <a:lnTo>
                  <a:pt x="1048" y="1200"/>
                </a:lnTo>
                <a:lnTo>
                  <a:pt x="1050" y="1178"/>
                </a:lnTo>
                <a:lnTo>
                  <a:pt x="1054" y="1157"/>
                </a:lnTo>
                <a:lnTo>
                  <a:pt x="1056" y="1134"/>
                </a:lnTo>
                <a:lnTo>
                  <a:pt x="1060" y="1111"/>
                </a:lnTo>
                <a:lnTo>
                  <a:pt x="1064" y="1088"/>
                </a:lnTo>
                <a:lnTo>
                  <a:pt x="1066" y="1063"/>
                </a:lnTo>
                <a:lnTo>
                  <a:pt x="1070" y="1038"/>
                </a:lnTo>
                <a:lnTo>
                  <a:pt x="1073" y="1013"/>
                </a:lnTo>
                <a:lnTo>
                  <a:pt x="1077" y="987"/>
                </a:lnTo>
                <a:lnTo>
                  <a:pt x="1079" y="962"/>
                </a:lnTo>
                <a:lnTo>
                  <a:pt x="1083" y="937"/>
                </a:lnTo>
                <a:lnTo>
                  <a:pt x="1085" y="914"/>
                </a:lnTo>
                <a:lnTo>
                  <a:pt x="1089" y="889"/>
                </a:lnTo>
                <a:lnTo>
                  <a:pt x="1091" y="866"/>
                </a:lnTo>
                <a:lnTo>
                  <a:pt x="1095" y="845"/>
                </a:lnTo>
                <a:lnTo>
                  <a:pt x="1096" y="821"/>
                </a:lnTo>
                <a:lnTo>
                  <a:pt x="1098" y="800"/>
                </a:lnTo>
                <a:lnTo>
                  <a:pt x="1100" y="779"/>
                </a:lnTo>
                <a:lnTo>
                  <a:pt x="1104" y="760"/>
                </a:lnTo>
                <a:lnTo>
                  <a:pt x="1106" y="739"/>
                </a:lnTo>
                <a:lnTo>
                  <a:pt x="1108" y="720"/>
                </a:lnTo>
                <a:lnTo>
                  <a:pt x="1110" y="701"/>
                </a:lnTo>
                <a:lnTo>
                  <a:pt x="1110" y="683"/>
                </a:lnTo>
                <a:lnTo>
                  <a:pt x="1112" y="666"/>
                </a:lnTo>
                <a:lnTo>
                  <a:pt x="1114" y="649"/>
                </a:lnTo>
                <a:lnTo>
                  <a:pt x="1116" y="631"/>
                </a:lnTo>
                <a:lnTo>
                  <a:pt x="1116" y="616"/>
                </a:lnTo>
                <a:lnTo>
                  <a:pt x="1118" y="599"/>
                </a:lnTo>
                <a:lnTo>
                  <a:pt x="1120" y="585"/>
                </a:lnTo>
                <a:lnTo>
                  <a:pt x="1120" y="570"/>
                </a:lnTo>
                <a:lnTo>
                  <a:pt x="1121" y="557"/>
                </a:lnTo>
                <a:lnTo>
                  <a:pt x="1121" y="543"/>
                </a:lnTo>
                <a:lnTo>
                  <a:pt x="1121" y="530"/>
                </a:lnTo>
                <a:lnTo>
                  <a:pt x="1123" y="516"/>
                </a:lnTo>
                <a:lnTo>
                  <a:pt x="1123" y="505"/>
                </a:lnTo>
                <a:lnTo>
                  <a:pt x="1123" y="493"/>
                </a:lnTo>
                <a:lnTo>
                  <a:pt x="1123" y="482"/>
                </a:lnTo>
                <a:lnTo>
                  <a:pt x="1125" y="472"/>
                </a:lnTo>
                <a:lnTo>
                  <a:pt x="1125" y="461"/>
                </a:lnTo>
                <a:lnTo>
                  <a:pt x="1125" y="451"/>
                </a:lnTo>
                <a:lnTo>
                  <a:pt x="1125" y="443"/>
                </a:lnTo>
                <a:lnTo>
                  <a:pt x="1125" y="428"/>
                </a:lnTo>
                <a:lnTo>
                  <a:pt x="1123" y="413"/>
                </a:lnTo>
                <a:lnTo>
                  <a:pt x="1123" y="399"/>
                </a:lnTo>
                <a:lnTo>
                  <a:pt x="1123" y="386"/>
                </a:lnTo>
                <a:lnTo>
                  <a:pt x="1121" y="372"/>
                </a:lnTo>
                <a:lnTo>
                  <a:pt x="1120" y="361"/>
                </a:lnTo>
                <a:lnTo>
                  <a:pt x="1120" y="349"/>
                </a:lnTo>
                <a:lnTo>
                  <a:pt x="1118" y="338"/>
                </a:lnTo>
                <a:lnTo>
                  <a:pt x="1116" y="328"/>
                </a:lnTo>
                <a:lnTo>
                  <a:pt x="1114" y="319"/>
                </a:lnTo>
                <a:lnTo>
                  <a:pt x="1110" y="299"/>
                </a:lnTo>
                <a:lnTo>
                  <a:pt x="1104" y="282"/>
                </a:lnTo>
                <a:lnTo>
                  <a:pt x="1100" y="265"/>
                </a:lnTo>
                <a:lnTo>
                  <a:pt x="1096" y="257"/>
                </a:lnTo>
                <a:lnTo>
                  <a:pt x="1091" y="251"/>
                </a:lnTo>
                <a:lnTo>
                  <a:pt x="1085" y="246"/>
                </a:lnTo>
                <a:lnTo>
                  <a:pt x="1079" y="240"/>
                </a:lnTo>
                <a:lnTo>
                  <a:pt x="1075" y="234"/>
                </a:lnTo>
                <a:lnTo>
                  <a:pt x="1068" y="230"/>
                </a:lnTo>
                <a:lnTo>
                  <a:pt x="1062" y="226"/>
                </a:lnTo>
                <a:lnTo>
                  <a:pt x="1056" y="223"/>
                </a:lnTo>
                <a:lnTo>
                  <a:pt x="1050" y="219"/>
                </a:lnTo>
                <a:lnTo>
                  <a:pt x="1043" y="217"/>
                </a:lnTo>
                <a:lnTo>
                  <a:pt x="1029" y="213"/>
                </a:lnTo>
                <a:lnTo>
                  <a:pt x="1016" y="211"/>
                </a:lnTo>
                <a:lnTo>
                  <a:pt x="1002" y="211"/>
                </a:lnTo>
                <a:lnTo>
                  <a:pt x="999" y="211"/>
                </a:lnTo>
                <a:lnTo>
                  <a:pt x="993" y="211"/>
                </a:lnTo>
                <a:lnTo>
                  <a:pt x="987" y="211"/>
                </a:lnTo>
                <a:lnTo>
                  <a:pt x="979" y="211"/>
                </a:lnTo>
                <a:lnTo>
                  <a:pt x="972" y="211"/>
                </a:lnTo>
                <a:lnTo>
                  <a:pt x="964" y="213"/>
                </a:lnTo>
                <a:lnTo>
                  <a:pt x="954" y="213"/>
                </a:lnTo>
                <a:lnTo>
                  <a:pt x="945" y="213"/>
                </a:lnTo>
                <a:lnTo>
                  <a:pt x="935" y="215"/>
                </a:lnTo>
                <a:lnTo>
                  <a:pt x="926" y="215"/>
                </a:lnTo>
                <a:lnTo>
                  <a:pt x="914" y="215"/>
                </a:lnTo>
                <a:lnTo>
                  <a:pt x="903" y="217"/>
                </a:lnTo>
                <a:lnTo>
                  <a:pt x="889" y="219"/>
                </a:lnTo>
                <a:lnTo>
                  <a:pt x="876" y="219"/>
                </a:lnTo>
                <a:lnTo>
                  <a:pt x="862" y="221"/>
                </a:lnTo>
                <a:lnTo>
                  <a:pt x="849" y="223"/>
                </a:lnTo>
                <a:lnTo>
                  <a:pt x="833" y="225"/>
                </a:lnTo>
                <a:lnTo>
                  <a:pt x="818" y="226"/>
                </a:lnTo>
                <a:lnTo>
                  <a:pt x="803" y="228"/>
                </a:lnTo>
                <a:lnTo>
                  <a:pt x="785" y="230"/>
                </a:lnTo>
                <a:lnTo>
                  <a:pt x="768" y="232"/>
                </a:lnTo>
                <a:lnTo>
                  <a:pt x="749" y="234"/>
                </a:lnTo>
                <a:lnTo>
                  <a:pt x="732" y="236"/>
                </a:lnTo>
                <a:lnTo>
                  <a:pt x="713" y="240"/>
                </a:lnTo>
                <a:lnTo>
                  <a:pt x="693" y="242"/>
                </a:lnTo>
                <a:lnTo>
                  <a:pt x="672" y="246"/>
                </a:lnTo>
                <a:lnTo>
                  <a:pt x="651" y="248"/>
                </a:lnTo>
                <a:lnTo>
                  <a:pt x="630" y="251"/>
                </a:lnTo>
                <a:lnTo>
                  <a:pt x="607" y="255"/>
                </a:lnTo>
                <a:lnTo>
                  <a:pt x="586" y="257"/>
                </a:lnTo>
                <a:lnTo>
                  <a:pt x="563" y="261"/>
                </a:lnTo>
                <a:lnTo>
                  <a:pt x="538" y="265"/>
                </a:lnTo>
                <a:lnTo>
                  <a:pt x="515" y="269"/>
                </a:lnTo>
                <a:lnTo>
                  <a:pt x="492" y="273"/>
                </a:lnTo>
                <a:lnTo>
                  <a:pt x="469" y="276"/>
                </a:lnTo>
                <a:lnTo>
                  <a:pt x="448" y="278"/>
                </a:lnTo>
                <a:lnTo>
                  <a:pt x="426" y="282"/>
                </a:lnTo>
                <a:lnTo>
                  <a:pt x="405" y="284"/>
                </a:lnTo>
                <a:lnTo>
                  <a:pt x="386" y="288"/>
                </a:lnTo>
                <a:lnTo>
                  <a:pt x="367" y="290"/>
                </a:lnTo>
                <a:lnTo>
                  <a:pt x="348" y="292"/>
                </a:lnTo>
                <a:lnTo>
                  <a:pt x="330" y="294"/>
                </a:lnTo>
                <a:lnTo>
                  <a:pt x="313" y="294"/>
                </a:lnTo>
                <a:lnTo>
                  <a:pt x="296" y="296"/>
                </a:lnTo>
                <a:lnTo>
                  <a:pt x="281" y="297"/>
                </a:lnTo>
                <a:lnTo>
                  <a:pt x="265" y="297"/>
                </a:lnTo>
                <a:lnTo>
                  <a:pt x="250" y="299"/>
                </a:lnTo>
                <a:lnTo>
                  <a:pt x="236" y="299"/>
                </a:lnTo>
                <a:lnTo>
                  <a:pt x="223" y="299"/>
                </a:lnTo>
                <a:lnTo>
                  <a:pt x="210" y="301"/>
                </a:lnTo>
                <a:lnTo>
                  <a:pt x="198" y="301"/>
                </a:lnTo>
                <a:lnTo>
                  <a:pt x="187" y="301"/>
                </a:lnTo>
                <a:lnTo>
                  <a:pt x="175" y="301"/>
                </a:lnTo>
                <a:lnTo>
                  <a:pt x="165" y="301"/>
                </a:lnTo>
                <a:lnTo>
                  <a:pt x="156" y="299"/>
                </a:lnTo>
                <a:lnTo>
                  <a:pt x="146" y="299"/>
                </a:lnTo>
                <a:lnTo>
                  <a:pt x="139" y="299"/>
                </a:lnTo>
                <a:lnTo>
                  <a:pt x="131" y="299"/>
                </a:lnTo>
                <a:lnTo>
                  <a:pt x="123" y="297"/>
                </a:lnTo>
                <a:lnTo>
                  <a:pt x="117" y="297"/>
                </a:lnTo>
                <a:lnTo>
                  <a:pt x="112" y="296"/>
                </a:lnTo>
                <a:lnTo>
                  <a:pt x="106" y="296"/>
                </a:lnTo>
                <a:lnTo>
                  <a:pt x="102" y="294"/>
                </a:lnTo>
                <a:lnTo>
                  <a:pt x="98" y="292"/>
                </a:lnTo>
                <a:lnTo>
                  <a:pt x="91" y="290"/>
                </a:lnTo>
                <a:lnTo>
                  <a:pt x="85" y="286"/>
                </a:lnTo>
                <a:lnTo>
                  <a:pt x="77" y="282"/>
                </a:lnTo>
                <a:lnTo>
                  <a:pt x="71" y="278"/>
                </a:lnTo>
                <a:lnTo>
                  <a:pt x="64" y="273"/>
                </a:lnTo>
                <a:lnTo>
                  <a:pt x="58" y="267"/>
                </a:lnTo>
                <a:lnTo>
                  <a:pt x="44" y="255"/>
                </a:lnTo>
                <a:lnTo>
                  <a:pt x="33" y="242"/>
                </a:lnTo>
                <a:lnTo>
                  <a:pt x="21" y="226"/>
                </a:lnTo>
                <a:lnTo>
                  <a:pt x="10" y="213"/>
                </a:lnTo>
                <a:lnTo>
                  <a:pt x="0" y="198"/>
                </a:lnTo>
                <a:lnTo>
                  <a:pt x="43" y="196"/>
                </a:lnTo>
                <a:lnTo>
                  <a:pt x="85" y="196"/>
                </a:lnTo>
                <a:lnTo>
                  <a:pt x="129" y="192"/>
                </a:lnTo>
                <a:lnTo>
                  <a:pt x="175" y="188"/>
                </a:lnTo>
                <a:lnTo>
                  <a:pt x="221" y="184"/>
                </a:lnTo>
                <a:lnTo>
                  <a:pt x="269" y="180"/>
                </a:lnTo>
                <a:lnTo>
                  <a:pt x="317" y="175"/>
                </a:lnTo>
                <a:lnTo>
                  <a:pt x="367" y="171"/>
                </a:lnTo>
                <a:lnTo>
                  <a:pt x="417" y="165"/>
                </a:lnTo>
                <a:lnTo>
                  <a:pt x="469" y="157"/>
                </a:lnTo>
                <a:lnTo>
                  <a:pt x="519" y="150"/>
                </a:lnTo>
                <a:lnTo>
                  <a:pt x="569" y="140"/>
                </a:lnTo>
                <a:lnTo>
                  <a:pt x="618" y="132"/>
                </a:lnTo>
                <a:lnTo>
                  <a:pt x="670" y="123"/>
                </a:lnTo>
                <a:lnTo>
                  <a:pt x="770" y="102"/>
                </a:lnTo>
                <a:lnTo>
                  <a:pt x="795" y="96"/>
                </a:lnTo>
                <a:lnTo>
                  <a:pt x="818" y="92"/>
                </a:lnTo>
                <a:lnTo>
                  <a:pt x="841" y="86"/>
                </a:lnTo>
                <a:lnTo>
                  <a:pt x="862" y="81"/>
                </a:lnTo>
                <a:lnTo>
                  <a:pt x="881" y="77"/>
                </a:lnTo>
                <a:lnTo>
                  <a:pt x="901" y="71"/>
                </a:lnTo>
                <a:lnTo>
                  <a:pt x="920" y="65"/>
                </a:lnTo>
                <a:lnTo>
                  <a:pt x="935" y="61"/>
                </a:lnTo>
                <a:lnTo>
                  <a:pt x="951" y="56"/>
                </a:lnTo>
                <a:lnTo>
                  <a:pt x="966" y="52"/>
                </a:lnTo>
                <a:lnTo>
                  <a:pt x="979" y="46"/>
                </a:lnTo>
                <a:lnTo>
                  <a:pt x="991" y="40"/>
                </a:lnTo>
                <a:lnTo>
                  <a:pt x="1002" y="36"/>
                </a:lnTo>
                <a:lnTo>
                  <a:pt x="1012" y="31"/>
                </a:lnTo>
                <a:lnTo>
                  <a:pt x="1020" y="25"/>
                </a:lnTo>
                <a:lnTo>
                  <a:pt x="1027" y="21"/>
                </a:lnTo>
                <a:lnTo>
                  <a:pt x="1037" y="15"/>
                </a:lnTo>
                <a:lnTo>
                  <a:pt x="1045" y="10"/>
                </a:lnTo>
                <a:lnTo>
                  <a:pt x="1054" y="6"/>
                </a:lnTo>
                <a:lnTo>
                  <a:pt x="1064" y="4"/>
                </a:lnTo>
                <a:lnTo>
                  <a:pt x="1073" y="2"/>
                </a:lnTo>
                <a:lnTo>
                  <a:pt x="1077" y="0"/>
                </a:lnTo>
                <a:lnTo>
                  <a:pt x="1083" y="2"/>
                </a:lnTo>
                <a:lnTo>
                  <a:pt x="1087" y="2"/>
                </a:lnTo>
                <a:lnTo>
                  <a:pt x="1091" y="2"/>
                </a:lnTo>
                <a:lnTo>
                  <a:pt x="1096" y="4"/>
                </a:lnTo>
                <a:lnTo>
                  <a:pt x="1100" y="8"/>
                </a:lnTo>
                <a:lnTo>
                  <a:pt x="1106" y="10"/>
                </a:lnTo>
                <a:lnTo>
                  <a:pt x="1110" y="11"/>
                </a:lnTo>
                <a:lnTo>
                  <a:pt x="1118" y="15"/>
                </a:lnTo>
                <a:lnTo>
                  <a:pt x="1123" y="19"/>
                </a:lnTo>
                <a:lnTo>
                  <a:pt x="1131" y="23"/>
                </a:lnTo>
                <a:lnTo>
                  <a:pt x="1139" y="27"/>
                </a:lnTo>
                <a:lnTo>
                  <a:pt x="1148" y="33"/>
                </a:lnTo>
                <a:lnTo>
                  <a:pt x="1158" y="36"/>
                </a:lnTo>
                <a:lnTo>
                  <a:pt x="1168" y="42"/>
                </a:lnTo>
                <a:lnTo>
                  <a:pt x="1179" y="48"/>
                </a:lnTo>
                <a:lnTo>
                  <a:pt x="1191" y="54"/>
                </a:lnTo>
                <a:lnTo>
                  <a:pt x="1202" y="59"/>
                </a:lnTo>
                <a:lnTo>
                  <a:pt x="1215" y="67"/>
                </a:lnTo>
                <a:lnTo>
                  <a:pt x="1229" y="73"/>
                </a:lnTo>
                <a:lnTo>
                  <a:pt x="1244" y="81"/>
                </a:lnTo>
                <a:lnTo>
                  <a:pt x="1260" y="88"/>
                </a:lnTo>
                <a:lnTo>
                  <a:pt x="1275" y="98"/>
                </a:lnTo>
                <a:lnTo>
                  <a:pt x="1288" y="107"/>
                </a:lnTo>
                <a:lnTo>
                  <a:pt x="1302" y="117"/>
                </a:lnTo>
                <a:lnTo>
                  <a:pt x="1315" y="127"/>
                </a:lnTo>
                <a:lnTo>
                  <a:pt x="1325" y="136"/>
                </a:lnTo>
                <a:lnTo>
                  <a:pt x="1336" y="144"/>
                </a:lnTo>
                <a:lnTo>
                  <a:pt x="1344" y="152"/>
                </a:lnTo>
                <a:lnTo>
                  <a:pt x="1352" y="159"/>
                </a:lnTo>
                <a:lnTo>
                  <a:pt x="1359" y="167"/>
                </a:lnTo>
                <a:lnTo>
                  <a:pt x="1365" y="175"/>
                </a:lnTo>
                <a:lnTo>
                  <a:pt x="1371" y="180"/>
                </a:lnTo>
                <a:lnTo>
                  <a:pt x="1375" y="188"/>
                </a:lnTo>
                <a:lnTo>
                  <a:pt x="1377" y="194"/>
                </a:lnTo>
                <a:lnTo>
                  <a:pt x="1381" y="200"/>
                </a:lnTo>
                <a:lnTo>
                  <a:pt x="1381" y="205"/>
                </a:lnTo>
                <a:lnTo>
                  <a:pt x="1383" y="211"/>
                </a:lnTo>
                <a:lnTo>
                  <a:pt x="1381" y="221"/>
                </a:lnTo>
                <a:lnTo>
                  <a:pt x="1379" y="230"/>
                </a:lnTo>
                <a:lnTo>
                  <a:pt x="1377" y="240"/>
                </a:lnTo>
                <a:lnTo>
                  <a:pt x="1375" y="249"/>
                </a:lnTo>
                <a:lnTo>
                  <a:pt x="1371" y="259"/>
                </a:lnTo>
                <a:lnTo>
                  <a:pt x="1367" y="267"/>
                </a:lnTo>
                <a:lnTo>
                  <a:pt x="1361" y="273"/>
                </a:lnTo>
                <a:lnTo>
                  <a:pt x="1358" y="278"/>
                </a:lnTo>
                <a:lnTo>
                  <a:pt x="1352" y="284"/>
                </a:lnTo>
                <a:lnTo>
                  <a:pt x="1348" y="290"/>
                </a:lnTo>
                <a:lnTo>
                  <a:pt x="1344" y="297"/>
                </a:lnTo>
                <a:lnTo>
                  <a:pt x="1342" y="303"/>
                </a:lnTo>
                <a:lnTo>
                  <a:pt x="1338" y="313"/>
                </a:lnTo>
                <a:lnTo>
                  <a:pt x="1335" y="321"/>
                </a:lnTo>
                <a:lnTo>
                  <a:pt x="1333" y="328"/>
                </a:lnTo>
                <a:lnTo>
                  <a:pt x="1331" y="338"/>
                </a:lnTo>
                <a:lnTo>
                  <a:pt x="1325" y="359"/>
                </a:lnTo>
                <a:lnTo>
                  <a:pt x="1323" y="380"/>
                </a:lnTo>
                <a:lnTo>
                  <a:pt x="1321" y="403"/>
                </a:lnTo>
                <a:lnTo>
                  <a:pt x="1321" y="428"/>
                </a:lnTo>
                <a:lnTo>
                  <a:pt x="1317" y="459"/>
                </a:lnTo>
                <a:lnTo>
                  <a:pt x="1313" y="489"/>
                </a:lnTo>
                <a:lnTo>
                  <a:pt x="1311" y="522"/>
                </a:lnTo>
                <a:lnTo>
                  <a:pt x="1310" y="553"/>
                </a:lnTo>
                <a:lnTo>
                  <a:pt x="1310" y="585"/>
                </a:lnTo>
                <a:lnTo>
                  <a:pt x="1308" y="618"/>
                </a:lnTo>
                <a:lnTo>
                  <a:pt x="1308" y="653"/>
                </a:lnTo>
                <a:lnTo>
                  <a:pt x="1308" y="687"/>
                </a:lnTo>
                <a:lnTo>
                  <a:pt x="1306" y="706"/>
                </a:lnTo>
                <a:lnTo>
                  <a:pt x="1304" y="726"/>
                </a:lnTo>
                <a:lnTo>
                  <a:pt x="1302" y="747"/>
                </a:lnTo>
                <a:lnTo>
                  <a:pt x="1298" y="770"/>
                </a:lnTo>
                <a:lnTo>
                  <a:pt x="1296" y="793"/>
                </a:lnTo>
                <a:lnTo>
                  <a:pt x="1292" y="820"/>
                </a:lnTo>
                <a:lnTo>
                  <a:pt x="1290" y="846"/>
                </a:lnTo>
                <a:lnTo>
                  <a:pt x="1287" y="875"/>
                </a:lnTo>
                <a:lnTo>
                  <a:pt x="1283" y="904"/>
                </a:lnTo>
                <a:lnTo>
                  <a:pt x="1279" y="937"/>
                </a:lnTo>
                <a:lnTo>
                  <a:pt x="1275" y="969"/>
                </a:lnTo>
                <a:lnTo>
                  <a:pt x="1271" y="1006"/>
                </a:lnTo>
                <a:lnTo>
                  <a:pt x="1265" y="1042"/>
                </a:lnTo>
                <a:lnTo>
                  <a:pt x="1260" y="1081"/>
                </a:lnTo>
                <a:lnTo>
                  <a:pt x="1254" y="1121"/>
                </a:lnTo>
                <a:lnTo>
                  <a:pt x="1250" y="1142"/>
                </a:lnTo>
                <a:lnTo>
                  <a:pt x="1248" y="1165"/>
                </a:lnTo>
                <a:lnTo>
                  <a:pt x="1240" y="1207"/>
                </a:lnTo>
                <a:lnTo>
                  <a:pt x="1235" y="1248"/>
                </a:lnTo>
                <a:lnTo>
                  <a:pt x="1227" y="1288"/>
                </a:lnTo>
                <a:lnTo>
                  <a:pt x="1221" y="1324"/>
                </a:lnTo>
                <a:lnTo>
                  <a:pt x="1215" y="1361"/>
                </a:lnTo>
                <a:lnTo>
                  <a:pt x="1210" y="1395"/>
                </a:lnTo>
                <a:lnTo>
                  <a:pt x="1204" y="1428"/>
                </a:lnTo>
                <a:lnTo>
                  <a:pt x="1198" y="1461"/>
                </a:lnTo>
                <a:lnTo>
                  <a:pt x="1192" y="1489"/>
                </a:lnTo>
                <a:lnTo>
                  <a:pt x="1187" y="1518"/>
                </a:lnTo>
                <a:lnTo>
                  <a:pt x="1181" y="1545"/>
                </a:lnTo>
                <a:lnTo>
                  <a:pt x="1175" y="1570"/>
                </a:lnTo>
                <a:lnTo>
                  <a:pt x="1169" y="1593"/>
                </a:lnTo>
                <a:lnTo>
                  <a:pt x="1162" y="1614"/>
                </a:lnTo>
                <a:lnTo>
                  <a:pt x="1156" y="1635"/>
                </a:lnTo>
                <a:lnTo>
                  <a:pt x="1150" y="1654"/>
                </a:lnTo>
                <a:lnTo>
                  <a:pt x="1143" y="1672"/>
                </a:lnTo>
                <a:lnTo>
                  <a:pt x="1135" y="1689"/>
                </a:lnTo>
                <a:lnTo>
                  <a:pt x="1127" y="1704"/>
                </a:lnTo>
                <a:lnTo>
                  <a:pt x="1120" y="1720"/>
                </a:lnTo>
                <a:lnTo>
                  <a:pt x="1112" y="1735"/>
                </a:lnTo>
                <a:lnTo>
                  <a:pt x="1104" y="1750"/>
                </a:lnTo>
                <a:lnTo>
                  <a:pt x="1096" y="1764"/>
                </a:lnTo>
                <a:lnTo>
                  <a:pt x="1089" y="1777"/>
                </a:lnTo>
                <a:lnTo>
                  <a:pt x="1081" y="1789"/>
                </a:lnTo>
                <a:lnTo>
                  <a:pt x="1072" y="1800"/>
                </a:lnTo>
                <a:lnTo>
                  <a:pt x="1064" y="1812"/>
                </a:lnTo>
                <a:lnTo>
                  <a:pt x="1056" y="1823"/>
                </a:lnTo>
                <a:lnTo>
                  <a:pt x="1048" y="1833"/>
                </a:lnTo>
                <a:lnTo>
                  <a:pt x="1041" y="1843"/>
                </a:lnTo>
                <a:lnTo>
                  <a:pt x="1035" y="1850"/>
                </a:lnTo>
                <a:lnTo>
                  <a:pt x="1027" y="1858"/>
                </a:lnTo>
                <a:lnTo>
                  <a:pt x="1020" y="1866"/>
                </a:lnTo>
                <a:lnTo>
                  <a:pt x="1014" y="1873"/>
                </a:lnTo>
                <a:lnTo>
                  <a:pt x="1006" y="1879"/>
                </a:lnTo>
                <a:lnTo>
                  <a:pt x="1000" y="1885"/>
                </a:lnTo>
                <a:lnTo>
                  <a:pt x="995" y="1889"/>
                </a:lnTo>
                <a:lnTo>
                  <a:pt x="987" y="1894"/>
                </a:lnTo>
                <a:lnTo>
                  <a:pt x="981" y="1898"/>
                </a:lnTo>
                <a:lnTo>
                  <a:pt x="976" y="1900"/>
                </a:lnTo>
                <a:lnTo>
                  <a:pt x="964" y="1906"/>
                </a:lnTo>
                <a:lnTo>
                  <a:pt x="954" y="1910"/>
                </a:lnTo>
                <a:lnTo>
                  <a:pt x="951" y="1912"/>
                </a:lnTo>
                <a:lnTo>
                  <a:pt x="947" y="1912"/>
                </a:lnTo>
                <a:lnTo>
                  <a:pt x="945" y="1912"/>
                </a:lnTo>
                <a:lnTo>
                  <a:pt x="941" y="1914"/>
                </a:lnTo>
                <a:lnTo>
                  <a:pt x="937" y="1912"/>
                </a:lnTo>
                <a:lnTo>
                  <a:pt x="933" y="1912"/>
                </a:lnTo>
                <a:lnTo>
                  <a:pt x="928" y="1910"/>
                </a:lnTo>
                <a:lnTo>
                  <a:pt x="924" y="1908"/>
                </a:lnTo>
                <a:lnTo>
                  <a:pt x="920" y="1904"/>
                </a:lnTo>
                <a:lnTo>
                  <a:pt x="914" y="1902"/>
                </a:lnTo>
                <a:lnTo>
                  <a:pt x="910" y="1896"/>
                </a:lnTo>
                <a:lnTo>
                  <a:pt x="906" y="1892"/>
                </a:lnTo>
                <a:lnTo>
                  <a:pt x="903" y="1887"/>
                </a:lnTo>
                <a:lnTo>
                  <a:pt x="899" y="1881"/>
                </a:lnTo>
                <a:lnTo>
                  <a:pt x="895" y="1873"/>
                </a:lnTo>
                <a:lnTo>
                  <a:pt x="891" y="1868"/>
                </a:lnTo>
                <a:lnTo>
                  <a:pt x="889" y="1858"/>
                </a:lnTo>
                <a:lnTo>
                  <a:pt x="885" y="1850"/>
                </a:lnTo>
                <a:lnTo>
                  <a:pt x="883" y="1841"/>
                </a:lnTo>
                <a:lnTo>
                  <a:pt x="881" y="1831"/>
                </a:lnTo>
                <a:lnTo>
                  <a:pt x="878" y="1818"/>
                </a:lnTo>
                <a:lnTo>
                  <a:pt x="874" y="1806"/>
                </a:lnTo>
                <a:lnTo>
                  <a:pt x="870" y="1793"/>
                </a:lnTo>
                <a:lnTo>
                  <a:pt x="864" y="1779"/>
                </a:lnTo>
                <a:lnTo>
                  <a:pt x="858" y="1768"/>
                </a:lnTo>
                <a:lnTo>
                  <a:pt x="853" y="1754"/>
                </a:lnTo>
                <a:lnTo>
                  <a:pt x="845" y="1743"/>
                </a:lnTo>
                <a:lnTo>
                  <a:pt x="835" y="1729"/>
                </a:lnTo>
                <a:lnTo>
                  <a:pt x="828" y="1716"/>
                </a:lnTo>
                <a:lnTo>
                  <a:pt x="818" y="1704"/>
                </a:lnTo>
                <a:lnTo>
                  <a:pt x="807" y="1691"/>
                </a:lnTo>
                <a:lnTo>
                  <a:pt x="797" y="1678"/>
                </a:lnTo>
                <a:lnTo>
                  <a:pt x="784" y="1666"/>
                </a:lnTo>
                <a:lnTo>
                  <a:pt x="772" y="1653"/>
                </a:lnTo>
                <a:lnTo>
                  <a:pt x="759" y="1639"/>
                </a:lnTo>
                <a:lnTo>
                  <a:pt x="747" y="1628"/>
                </a:lnTo>
                <a:lnTo>
                  <a:pt x="734" y="1614"/>
                </a:lnTo>
                <a:lnTo>
                  <a:pt x="720" y="1603"/>
                </a:lnTo>
                <a:lnTo>
                  <a:pt x="709" y="1589"/>
                </a:lnTo>
                <a:lnTo>
                  <a:pt x="699" y="1578"/>
                </a:lnTo>
                <a:lnTo>
                  <a:pt x="689" y="1568"/>
                </a:lnTo>
                <a:lnTo>
                  <a:pt x="680" y="1557"/>
                </a:lnTo>
                <a:lnTo>
                  <a:pt x="672" y="1547"/>
                </a:lnTo>
                <a:lnTo>
                  <a:pt x="665" y="1537"/>
                </a:lnTo>
                <a:lnTo>
                  <a:pt x="659" y="1530"/>
                </a:lnTo>
                <a:lnTo>
                  <a:pt x="655" y="1522"/>
                </a:lnTo>
                <a:lnTo>
                  <a:pt x="651" y="1514"/>
                </a:lnTo>
                <a:lnTo>
                  <a:pt x="649" y="1509"/>
                </a:lnTo>
                <a:lnTo>
                  <a:pt x="647" y="1503"/>
                </a:lnTo>
                <a:lnTo>
                  <a:pt x="645" y="1497"/>
                </a:lnTo>
                <a:lnTo>
                  <a:pt x="647" y="1493"/>
                </a:lnTo>
                <a:lnTo>
                  <a:pt x="649" y="1491"/>
                </a:lnTo>
                <a:lnTo>
                  <a:pt x="649" y="1488"/>
                </a:lnTo>
                <a:lnTo>
                  <a:pt x="651" y="1486"/>
                </a:lnTo>
                <a:lnTo>
                  <a:pt x="653" y="1486"/>
                </a:lnTo>
                <a:lnTo>
                  <a:pt x="657" y="1484"/>
                </a:lnTo>
                <a:lnTo>
                  <a:pt x="663" y="1482"/>
                </a:lnTo>
                <a:lnTo>
                  <a:pt x="668" y="1482"/>
                </a:lnTo>
                <a:lnTo>
                  <a:pt x="676" y="1484"/>
                </a:lnTo>
                <a:lnTo>
                  <a:pt x="686" y="1484"/>
                </a:lnTo>
                <a:lnTo>
                  <a:pt x="695" y="1486"/>
                </a:lnTo>
                <a:lnTo>
                  <a:pt x="707" y="1488"/>
                </a:lnTo>
                <a:lnTo>
                  <a:pt x="718" y="1491"/>
                </a:lnTo>
                <a:lnTo>
                  <a:pt x="732" y="1493"/>
                </a:lnTo>
                <a:lnTo>
                  <a:pt x="745" y="1499"/>
                </a:lnTo>
                <a:lnTo>
                  <a:pt x="761" y="1505"/>
                </a:lnTo>
                <a:lnTo>
                  <a:pt x="778" y="1511"/>
                </a:lnTo>
                <a:lnTo>
                  <a:pt x="795" y="15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颖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7" name="组合 8"/>
          <p:cNvGrpSpPr/>
          <p:nvPr/>
        </p:nvGrpSpPr>
        <p:grpSpPr>
          <a:xfrm>
            <a:off x="1258920" y="3975120"/>
            <a:ext cx="2587680" cy="1571760"/>
            <a:chOff x="1258920" y="3975120"/>
            <a:chExt cx="2587680" cy="1571760"/>
          </a:xfrm>
        </p:grpSpPr>
        <p:pic>
          <p:nvPicPr>
            <p:cNvPr id="128" name="图示 4" descr=""/>
            <p:cNvPicPr/>
            <p:nvPr/>
          </p:nvPicPr>
          <p:blipFill>
            <a:blip r:embed="rId1"/>
            <a:stretch/>
          </p:blipFill>
          <p:spPr>
            <a:xfrm>
              <a:off x="1258920" y="3975120"/>
              <a:ext cx="25876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矩形 2"/>
            <p:cNvSpPr/>
            <p:nvPr/>
          </p:nvSpPr>
          <p:spPr>
            <a:xfrm>
              <a:off x="1299240" y="4587840"/>
              <a:ext cx="252252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起笔高于右部；“页”最末一点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矩形 3"/>
          <p:cNvSpPr/>
          <p:nvPr/>
        </p:nvSpPr>
        <p:spPr>
          <a:xfrm>
            <a:off x="2108160" y="1868400"/>
            <a:ext cx="128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ǐ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9"/>
          <p:cNvSpPr/>
          <p:nvPr/>
        </p:nvSpPr>
        <p:spPr>
          <a:xfrm>
            <a:off x="5872320" y="2862360"/>
            <a:ext cx="726840" cy="711000"/>
          </a:xfrm>
          <a:custGeom>
            <a:avLst/>
            <a:gdLst/>
            <a:ahLst/>
            <a:rect l="l" t="t" r="r" b="b"/>
            <a:pathLst>
              <a:path w="915" h="896">
                <a:moveTo>
                  <a:pt x="802" y="864"/>
                </a:moveTo>
                <a:lnTo>
                  <a:pt x="787" y="869"/>
                </a:lnTo>
                <a:lnTo>
                  <a:pt x="770" y="873"/>
                </a:lnTo>
                <a:lnTo>
                  <a:pt x="750" y="877"/>
                </a:lnTo>
                <a:lnTo>
                  <a:pt x="731" y="881"/>
                </a:lnTo>
                <a:lnTo>
                  <a:pt x="712" y="885"/>
                </a:lnTo>
                <a:lnTo>
                  <a:pt x="691" y="889"/>
                </a:lnTo>
                <a:lnTo>
                  <a:pt x="670" y="891"/>
                </a:lnTo>
                <a:lnTo>
                  <a:pt x="647" y="892"/>
                </a:lnTo>
                <a:lnTo>
                  <a:pt x="624" y="894"/>
                </a:lnTo>
                <a:lnTo>
                  <a:pt x="599" y="896"/>
                </a:lnTo>
                <a:lnTo>
                  <a:pt x="574" y="896"/>
                </a:lnTo>
                <a:lnTo>
                  <a:pt x="549" y="896"/>
                </a:lnTo>
                <a:lnTo>
                  <a:pt x="522" y="896"/>
                </a:lnTo>
                <a:lnTo>
                  <a:pt x="493" y="894"/>
                </a:lnTo>
                <a:lnTo>
                  <a:pt x="466" y="892"/>
                </a:lnTo>
                <a:lnTo>
                  <a:pt x="435" y="891"/>
                </a:lnTo>
                <a:lnTo>
                  <a:pt x="407" y="889"/>
                </a:lnTo>
                <a:lnTo>
                  <a:pt x="378" y="885"/>
                </a:lnTo>
                <a:lnTo>
                  <a:pt x="351" y="881"/>
                </a:lnTo>
                <a:lnTo>
                  <a:pt x="326" y="877"/>
                </a:lnTo>
                <a:lnTo>
                  <a:pt x="301" y="873"/>
                </a:lnTo>
                <a:lnTo>
                  <a:pt x="278" y="869"/>
                </a:lnTo>
                <a:lnTo>
                  <a:pt x="257" y="864"/>
                </a:lnTo>
                <a:lnTo>
                  <a:pt x="238" y="858"/>
                </a:lnTo>
                <a:lnTo>
                  <a:pt x="219" y="850"/>
                </a:lnTo>
                <a:lnTo>
                  <a:pt x="201" y="843"/>
                </a:lnTo>
                <a:lnTo>
                  <a:pt x="186" y="835"/>
                </a:lnTo>
                <a:lnTo>
                  <a:pt x="171" y="825"/>
                </a:lnTo>
                <a:lnTo>
                  <a:pt x="159" y="816"/>
                </a:lnTo>
                <a:lnTo>
                  <a:pt x="148" y="806"/>
                </a:lnTo>
                <a:lnTo>
                  <a:pt x="138" y="795"/>
                </a:lnTo>
                <a:lnTo>
                  <a:pt x="130" y="783"/>
                </a:lnTo>
                <a:lnTo>
                  <a:pt x="121" y="772"/>
                </a:lnTo>
                <a:lnTo>
                  <a:pt x="113" y="760"/>
                </a:lnTo>
                <a:lnTo>
                  <a:pt x="105" y="747"/>
                </a:lnTo>
                <a:lnTo>
                  <a:pt x="98" y="733"/>
                </a:lnTo>
                <a:lnTo>
                  <a:pt x="92" y="718"/>
                </a:lnTo>
                <a:lnTo>
                  <a:pt x="86" y="702"/>
                </a:lnTo>
                <a:lnTo>
                  <a:pt x="80" y="685"/>
                </a:lnTo>
                <a:lnTo>
                  <a:pt x="76" y="668"/>
                </a:lnTo>
                <a:lnTo>
                  <a:pt x="71" y="649"/>
                </a:lnTo>
                <a:lnTo>
                  <a:pt x="67" y="630"/>
                </a:lnTo>
                <a:lnTo>
                  <a:pt x="65" y="608"/>
                </a:lnTo>
                <a:lnTo>
                  <a:pt x="61" y="585"/>
                </a:lnTo>
                <a:lnTo>
                  <a:pt x="59" y="560"/>
                </a:lnTo>
                <a:lnTo>
                  <a:pt x="57" y="535"/>
                </a:lnTo>
                <a:lnTo>
                  <a:pt x="57" y="511"/>
                </a:lnTo>
                <a:lnTo>
                  <a:pt x="57" y="484"/>
                </a:lnTo>
                <a:lnTo>
                  <a:pt x="57" y="455"/>
                </a:lnTo>
                <a:lnTo>
                  <a:pt x="57" y="430"/>
                </a:lnTo>
                <a:lnTo>
                  <a:pt x="57" y="405"/>
                </a:lnTo>
                <a:lnTo>
                  <a:pt x="57" y="380"/>
                </a:lnTo>
                <a:lnTo>
                  <a:pt x="57" y="357"/>
                </a:lnTo>
                <a:lnTo>
                  <a:pt x="57" y="336"/>
                </a:lnTo>
                <a:lnTo>
                  <a:pt x="57" y="317"/>
                </a:lnTo>
                <a:lnTo>
                  <a:pt x="57" y="297"/>
                </a:lnTo>
                <a:lnTo>
                  <a:pt x="57" y="280"/>
                </a:lnTo>
                <a:lnTo>
                  <a:pt x="57" y="263"/>
                </a:lnTo>
                <a:lnTo>
                  <a:pt x="57" y="248"/>
                </a:lnTo>
                <a:lnTo>
                  <a:pt x="57" y="232"/>
                </a:lnTo>
                <a:lnTo>
                  <a:pt x="57" y="219"/>
                </a:lnTo>
                <a:lnTo>
                  <a:pt x="57" y="205"/>
                </a:lnTo>
                <a:lnTo>
                  <a:pt x="57" y="194"/>
                </a:lnTo>
                <a:lnTo>
                  <a:pt x="57" y="184"/>
                </a:lnTo>
                <a:lnTo>
                  <a:pt x="55" y="163"/>
                </a:lnTo>
                <a:lnTo>
                  <a:pt x="55" y="146"/>
                </a:lnTo>
                <a:lnTo>
                  <a:pt x="52" y="129"/>
                </a:lnTo>
                <a:lnTo>
                  <a:pt x="48" y="113"/>
                </a:lnTo>
                <a:lnTo>
                  <a:pt x="46" y="107"/>
                </a:lnTo>
                <a:lnTo>
                  <a:pt x="42" y="100"/>
                </a:lnTo>
                <a:lnTo>
                  <a:pt x="40" y="94"/>
                </a:lnTo>
                <a:lnTo>
                  <a:pt x="36" y="88"/>
                </a:lnTo>
                <a:lnTo>
                  <a:pt x="32" y="84"/>
                </a:lnTo>
                <a:lnTo>
                  <a:pt x="28" y="81"/>
                </a:lnTo>
                <a:lnTo>
                  <a:pt x="25" y="77"/>
                </a:lnTo>
                <a:lnTo>
                  <a:pt x="21" y="75"/>
                </a:lnTo>
                <a:lnTo>
                  <a:pt x="17" y="71"/>
                </a:lnTo>
                <a:lnTo>
                  <a:pt x="13" y="69"/>
                </a:lnTo>
                <a:lnTo>
                  <a:pt x="9" y="65"/>
                </a:lnTo>
                <a:lnTo>
                  <a:pt x="7" y="61"/>
                </a:lnTo>
                <a:lnTo>
                  <a:pt x="4" y="58"/>
                </a:lnTo>
                <a:lnTo>
                  <a:pt x="2" y="54"/>
                </a:lnTo>
                <a:lnTo>
                  <a:pt x="0" y="46"/>
                </a:lnTo>
                <a:lnTo>
                  <a:pt x="0" y="40"/>
                </a:lnTo>
                <a:lnTo>
                  <a:pt x="2" y="33"/>
                </a:lnTo>
                <a:lnTo>
                  <a:pt x="4" y="25"/>
                </a:lnTo>
                <a:lnTo>
                  <a:pt x="9" y="19"/>
                </a:lnTo>
                <a:lnTo>
                  <a:pt x="13" y="15"/>
                </a:lnTo>
                <a:lnTo>
                  <a:pt x="21" y="10"/>
                </a:lnTo>
                <a:lnTo>
                  <a:pt x="28" y="6"/>
                </a:lnTo>
                <a:lnTo>
                  <a:pt x="38" y="2"/>
                </a:lnTo>
                <a:lnTo>
                  <a:pt x="48" y="0"/>
                </a:lnTo>
                <a:lnTo>
                  <a:pt x="55" y="0"/>
                </a:lnTo>
                <a:lnTo>
                  <a:pt x="61" y="0"/>
                </a:lnTo>
                <a:lnTo>
                  <a:pt x="69" y="2"/>
                </a:lnTo>
                <a:lnTo>
                  <a:pt x="76" y="2"/>
                </a:lnTo>
                <a:lnTo>
                  <a:pt x="84" y="4"/>
                </a:lnTo>
                <a:lnTo>
                  <a:pt x="94" y="6"/>
                </a:lnTo>
                <a:lnTo>
                  <a:pt x="111" y="11"/>
                </a:lnTo>
                <a:lnTo>
                  <a:pt x="128" y="19"/>
                </a:lnTo>
                <a:lnTo>
                  <a:pt x="144" y="25"/>
                </a:lnTo>
                <a:lnTo>
                  <a:pt x="159" y="33"/>
                </a:lnTo>
                <a:lnTo>
                  <a:pt x="174" y="40"/>
                </a:lnTo>
                <a:lnTo>
                  <a:pt x="188" y="48"/>
                </a:lnTo>
                <a:lnTo>
                  <a:pt x="203" y="56"/>
                </a:lnTo>
                <a:lnTo>
                  <a:pt x="217" y="61"/>
                </a:lnTo>
                <a:lnTo>
                  <a:pt x="224" y="71"/>
                </a:lnTo>
                <a:lnTo>
                  <a:pt x="232" y="81"/>
                </a:lnTo>
                <a:lnTo>
                  <a:pt x="238" y="92"/>
                </a:lnTo>
                <a:lnTo>
                  <a:pt x="242" y="104"/>
                </a:lnTo>
                <a:lnTo>
                  <a:pt x="244" y="115"/>
                </a:lnTo>
                <a:lnTo>
                  <a:pt x="245" y="121"/>
                </a:lnTo>
                <a:lnTo>
                  <a:pt x="245" y="129"/>
                </a:lnTo>
                <a:lnTo>
                  <a:pt x="245" y="134"/>
                </a:lnTo>
                <a:lnTo>
                  <a:pt x="244" y="142"/>
                </a:lnTo>
                <a:lnTo>
                  <a:pt x="242" y="148"/>
                </a:lnTo>
                <a:lnTo>
                  <a:pt x="240" y="155"/>
                </a:lnTo>
                <a:lnTo>
                  <a:pt x="222" y="217"/>
                </a:lnTo>
                <a:lnTo>
                  <a:pt x="203" y="278"/>
                </a:lnTo>
                <a:lnTo>
                  <a:pt x="201" y="286"/>
                </a:lnTo>
                <a:lnTo>
                  <a:pt x="199" y="296"/>
                </a:lnTo>
                <a:lnTo>
                  <a:pt x="197" y="305"/>
                </a:lnTo>
                <a:lnTo>
                  <a:pt x="197" y="315"/>
                </a:lnTo>
                <a:lnTo>
                  <a:pt x="196" y="324"/>
                </a:lnTo>
                <a:lnTo>
                  <a:pt x="194" y="336"/>
                </a:lnTo>
                <a:lnTo>
                  <a:pt x="194" y="347"/>
                </a:lnTo>
                <a:lnTo>
                  <a:pt x="192" y="361"/>
                </a:lnTo>
                <a:lnTo>
                  <a:pt x="190" y="372"/>
                </a:lnTo>
                <a:lnTo>
                  <a:pt x="190" y="388"/>
                </a:lnTo>
                <a:lnTo>
                  <a:pt x="188" y="401"/>
                </a:lnTo>
                <a:lnTo>
                  <a:pt x="186" y="416"/>
                </a:lnTo>
                <a:lnTo>
                  <a:pt x="184" y="432"/>
                </a:lnTo>
                <a:lnTo>
                  <a:pt x="184" y="449"/>
                </a:lnTo>
                <a:lnTo>
                  <a:pt x="182" y="464"/>
                </a:lnTo>
                <a:lnTo>
                  <a:pt x="180" y="484"/>
                </a:lnTo>
                <a:lnTo>
                  <a:pt x="176" y="501"/>
                </a:lnTo>
                <a:lnTo>
                  <a:pt x="176" y="516"/>
                </a:lnTo>
                <a:lnTo>
                  <a:pt x="174" y="534"/>
                </a:lnTo>
                <a:lnTo>
                  <a:pt x="174" y="549"/>
                </a:lnTo>
                <a:lnTo>
                  <a:pt x="174" y="564"/>
                </a:lnTo>
                <a:lnTo>
                  <a:pt x="176" y="578"/>
                </a:lnTo>
                <a:lnTo>
                  <a:pt x="178" y="591"/>
                </a:lnTo>
                <a:lnTo>
                  <a:pt x="180" y="605"/>
                </a:lnTo>
                <a:lnTo>
                  <a:pt x="182" y="618"/>
                </a:lnTo>
                <a:lnTo>
                  <a:pt x="186" y="630"/>
                </a:lnTo>
                <a:lnTo>
                  <a:pt x="190" y="641"/>
                </a:lnTo>
                <a:lnTo>
                  <a:pt x="194" y="651"/>
                </a:lnTo>
                <a:lnTo>
                  <a:pt x="197" y="660"/>
                </a:lnTo>
                <a:lnTo>
                  <a:pt x="203" y="670"/>
                </a:lnTo>
                <a:lnTo>
                  <a:pt x="209" y="679"/>
                </a:lnTo>
                <a:lnTo>
                  <a:pt x="217" y="687"/>
                </a:lnTo>
                <a:lnTo>
                  <a:pt x="224" y="695"/>
                </a:lnTo>
                <a:lnTo>
                  <a:pt x="232" y="701"/>
                </a:lnTo>
                <a:lnTo>
                  <a:pt x="240" y="706"/>
                </a:lnTo>
                <a:lnTo>
                  <a:pt x="251" y="712"/>
                </a:lnTo>
                <a:lnTo>
                  <a:pt x="261" y="718"/>
                </a:lnTo>
                <a:lnTo>
                  <a:pt x="272" y="722"/>
                </a:lnTo>
                <a:lnTo>
                  <a:pt x="286" y="726"/>
                </a:lnTo>
                <a:lnTo>
                  <a:pt x="299" y="729"/>
                </a:lnTo>
                <a:lnTo>
                  <a:pt x="315" y="733"/>
                </a:lnTo>
                <a:lnTo>
                  <a:pt x="330" y="735"/>
                </a:lnTo>
                <a:lnTo>
                  <a:pt x="347" y="737"/>
                </a:lnTo>
                <a:lnTo>
                  <a:pt x="366" y="739"/>
                </a:lnTo>
                <a:lnTo>
                  <a:pt x="384" y="741"/>
                </a:lnTo>
                <a:lnTo>
                  <a:pt x="405" y="741"/>
                </a:lnTo>
                <a:lnTo>
                  <a:pt x="426" y="741"/>
                </a:lnTo>
                <a:lnTo>
                  <a:pt x="449" y="741"/>
                </a:lnTo>
                <a:lnTo>
                  <a:pt x="468" y="741"/>
                </a:lnTo>
                <a:lnTo>
                  <a:pt x="487" y="741"/>
                </a:lnTo>
                <a:lnTo>
                  <a:pt x="507" y="741"/>
                </a:lnTo>
                <a:lnTo>
                  <a:pt x="526" y="739"/>
                </a:lnTo>
                <a:lnTo>
                  <a:pt x="543" y="737"/>
                </a:lnTo>
                <a:lnTo>
                  <a:pt x="560" y="737"/>
                </a:lnTo>
                <a:lnTo>
                  <a:pt x="578" y="735"/>
                </a:lnTo>
                <a:lnTo>
                  <a:pt x="593" y="733"/>
                </a:lnTo>
                <a:lnTo>
                  <a:pt x="608" y="731"/>
                </a:lnTo>
                <a:lnTo>
                  <a:pt x="624" y="729"/>
                </a:lnTo>
                <a:lnTo>
                  <a:pt x="637" y="727"/>
                </a:lnTo>
                <a:lnTo>
                  <a:pt x="649" y="724"/>
                </a:lnTo>
                <a:lnTo>
                  <a:pt x="662" y="722"/>
                </a:lnTo>
                <a:lnTo>
                  <a:pt x="674" y="720"/>
                </a:lnTo>
                <a:lnTo>
                  <a:pt x="683" y="716"/>
                </a:lnTo>
                <a:lnTo>
                  <a:pt x="693" y="714"/>
                </a:lnTo>
                <a:lnTo>
                  <a:pt x="700" y="710"/>
                </a:lnTo>
                <a:lnTo>
                  <a:pt x="706" y="706"/>
                </a:lnTo>
                <a:lnTo>
                  <a:pt x="714" y="702"/>
                </a:lnTo>
                <a:lnTo>
                  <a:pt x="720" y="697"/>
                </a:lnTo>
                <a:lnTo>
                  <a:pt x="727" y="689"/>
                </a:lnTo>
                <a:lnTo>
                  <a:pt x="733" y="681"/>
                </a:lnTo>
                <a:lnTo>
                  <a:pt x="741" y="674"/>
                </a:lnTo>
                <a:lnTo>
                  <a:pt x="746" y="662"/>
                </a:lnTo>
                <a:lnTo>
                  <a:pt x="752" y="653"/>
                </a:lnTo>
                <a:lnTo>
                  <a:pt x="758" y="641"/>
                </a:lnTo>
                <a:lnTo>
                  <a:pt x="764" y="628"/>
                </a:lnTo>
                <a:lnTo>
                  <a:pt x="770" y="614"/>
                </a:lnTo>
                <a:lnTo>
                  <a:pt x="775" y="601"/>
                </a:lnTo>
                <a:lnTo>
                  <a:pt x="781" y="585"/>
                </a:lnTo>
                <a:lnTo>
                  <a:pt x="785" y="568"/>
                </a:lnTo>
                <a:lnTo>
                  <a:pt x="791" y="551"/>
                </a:lnTo>
                <a:lnTo>
                  <a:pt x="794" y="535"/>
                </a:lnTo>
                <a:lnTo>
                  <a:pt x="800" y="522"/>
                </a:lnTo>
                <a:lnTo>
                  <a:pt x="804" y="509"/>
                </a:lnTo>
                <a:lnTo>
                  <a:pt x="808" y="497"/>
                </a:lnTo>
                <a:lnTo>
                  <a:pt x="814" y="486"/>
                </a:lnTo>
                <a:lnTo>
                  <a:pt x="818" y="476"/>
                </a:lnTo>
                <a:lnTo>
                  <a:pt x="821" y="466"/>
                </a:lnTo>
                <a:lnTo>
                  <a:pt x="825" y="457"/>
                </a:lnTo>
                <a:lnTo>
                  <a:pt x="829" y="449"/>
                </a:lnTo>
                <a:lnTo>
                  <a:pt x="833" y="441"/>
                </a:lnTo>
                <a:lnTo>
                  <a:pt x="837" y="436"/>
                </a:lnTo>
                <a:lnTo>
                  <a:pt x="841" y="430"/>
                </a:lnTo>
                <a:lnTo>
                  <a:pt x="842" y="426"/>
                </a:lnTo>
                <a:lnTo>
                  <a:pt x="846" y="420"/>
                </a:lnTo>
                <a:lnTo>
                  <a:pt x="848" y="418"/>
                </a:lnTo>
                <a:lnTo>
                  <a:pt x="852" y="415"/>
                </a:lnTo>
                <a:lnTo>
                  <a:pt x="854" y="415"/>
                </a:lnTo>
                <a:lnTo>
                  <a:pt x="856" y="416"/>
                </a:lnTo>
                <a:lnTo>
                  <a:pt x="858" y="418"/>
                </a:lnTo>
                <a:lnTo>
                  <a:pt x="860" y="422"/>
                </a:lnTo>
                <a:lnTo>
                  <a:pt x="864" y="426"/>
                </a:lnTo>
                <a:lnTo>
                  <a:pt x="866" y="432"/>
                </a:lnTo>
                <a:lnTo>
                  <a:pt x="867" y="440"/>
                </a:lnTo>
                <a:lnTo>
                  <a:pt x="869" y="447"/>
                </a:lnTo>
                <a:lnTo>
                  <a:pt x="871" y="455"/>
                </a:lnTo>
                <a:lnTo>
                  <a:pt x="875" y="466"/>
                </a:lnTo>
                <a:lnTo>
                  <a:pt x="877" y="478"/>
                </a:lnTo>
                <a:lnTo>
                  <a:pt x="879" y="489"/>
                </a:lnTo>
                <a:lnTo>
                  <a:pt x="881" y="503"/>
                </a:lnTo>
                <a:lnTo>
                  <a:pt x="883" y="518"/>
                </a:lnTo>
                <a:lnTo>
                  <a:pt x="887" y="534"/>
                </a:lnTo>
                <a:lnTo>
                  <a:pt x="889" y="551"/>
                </a:lnTo>
                <a:lnTo>
                  <a:pt x="889" y="568"/>
                </a:lnTo>
                <a:lnTo>
                  <a:pt x="889" y="585"/>
                </a:lnTo>
                <a:lnTo>
                  <a:pt x="889" y="601"/>
                </a:lnTo>
                <a:lnTo>
                  <a:pt x="890" y="618"/>
                </a:lnTo>
                <a:lnTo>
                  <a:pt x="890" y="631"/>
                </a:lnTo>
                <a:lnTo>
                  <a:pt x="892" y="647"/>
                </a:lnTo>
                <a:lnTo>
                  <a:pt x="894" y="660"/>
                </a:lnTo>
                <a:lnTo>
                  <a:pt x="896" y="674"/>
                </a:lnTo>
                <a:lnTo>
                  <a:pt x="898" y="685"/>
                </a:lnTo>
                <a:lnTo>
                  <a:pt x="900" y="697"/>
                </a:lnTo>
                <a:lnTo>
                  <a:pt x="902" y="708"/>
                </a:lnTo>
                <a:lnTo>
                  <a:pt x="904" y="720"/>
                </a:lnTo>
                <a:lnTo>
                  <a:pt x="906" y="729"/>
                </a:lnTo>
                <a:lnTo>
                  <a:pt x="908" y="739"/>
                </a:lnTo>
                <a:lnTo>
                  <a:pt x="910" y="747"/>
                </a:lnTo>
                <a:lnTo>
                  <a:pt x="913" y="754"/>
                </a:lnTo>
                <a:lnTo>
                  <a:pt x="913" y="762"/>
                </a:lnTo>
                <a:lnTo>
                  <a:pt x="915" y="770"/>
                </a:lnTo>
                <a:lnTo>
                  <a:pt x="913" y="777"/>
                </a:lnTo>
                <a:lnTo>
                  <a:pt x="912" y="783"/>
                </a:lnTo>
                <a:lnTo>
                  <a:pt x="910" y="791"/>
                </a:lnTo>
                <a:lnTo>
                  <a:pt x="906" y="797"/>
                </a:lnTo>
                <a:lnTo>
                  <a:pt x="900" y="802"/>
                </a:lnTo>
                <a:lnTo>
                  <a:pt x="894" y="810"/>
                </a:lnTo>
                <a:lnTo>
                  <a:pt x="887" y="816"/>
                </a:lnTo>
                <a:lnTo>
                  <a:pt x="877" y="821"/>
                </a:lnTo>
                <a:lnTo>
                  <a:pt x="867" y="829"/>
                </a:lnTo>
                <a:lnTo>
                  <a:pt x="858" y="835"/>
                </a:lnTo>
                <a:lnTo>
                  <a:pt x="846" y="843"/>
                </a:lnTo>
                <a:lnTo>
                  <a:pt x="833" y="848"/>
                </a:lnTo>
                <a:lnTo>
                  <a:pt x="818" y="856"/>
                </a:lnTo>
                <a:lnTo>
                  <a:pt x="802" y="8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30"/>
          <p:cNvSpPr/>
          <p:nvPr/>
        </p:nvSpPr>
        <p:spPr>
          <a:xfrm>
            <a:off x="5996160" y="2954160"/>
            <a:ext cx="523800" cy="324000"/>
          </a:xfrm>
          <a:custGeom>
            <a:avLst/>
            <a:gdLst/>
            <a:ahLst/>
            <a:rect l="l" t="t" r="r" b="b"/>
            <a:pathLst>
              <a:path w="661" h="409">
                <a:moveTo>
                  <a:pt x="661" y="163"/>
                </a:moveTo>
                <a:lnTo>
                  <a:pt x="661" y="169"/>
                </a:lnTo>
                <a:lnTo>
                  <a:pt x="659" y="173"/>
                </a:lnTo>
                <a:lnTo>
                  <a:pt x="657" y="179"/>
                </a:lnTo>
                <a:lnTo>
                  <a:pt x="653" y="184"/>
                </a:lnTo>
                <a:lnTo>
                  <a:pt x="649" y="188"/>
                </a:lnTo>
                <a:lnTo>
                  <a:pt x="643" y="194"/>
                </a:lnTo>
                <a:lnTo>
                  <a:pt x="638" y="200"/>
                </a:lnTo>
                <a:lnTo>
                  <a:pt x="632" y="204"/>
                </a:lnTo>
                <a:lnTo>
                  <a:pt x="622" y="209"/>
                </a:lnTo>
                <a:lnTo>
                  <a:pt x="615" y="215"/>
                </a:lnTo>
                <a:lnTo>
                  <a:pt x="605" y="219"/>
                </a:lnTo>
                <a:lnTo>
                  <a:pt x="593" y="225"/>
                </a:lnTo>
                <a:lnTo>
                  <a:pt x="580" y="230"/>
                </a:lnTo>
                <a:lnTo>
                  <a:pt x="568" y="234"/>
                </a:lnTo>
                <a:lnTo>
                  <a:pt x="553" y="240"/>
                </a:lnTo>
                <a:lnTo>
                  <a:pt x="538" y="246"/>
                </a:lnTo>
                <a:lnTo>
                  <a:pt x="505" y="259"/>
                </a:lnTo>
                <a:lnTo>
                  <a:pt x="474" y="273"/>
                </a:lnTo>
                <a:lnTo>
                  <a:pt x="442" y="286"/>
                </a:lnTo>
                <a:lnTo>
                  <a:pt x="409" y="298"/>
                </a:lnTo>
                <a:lnTo>
                  <a:pt x="376" y="309"/>
                </a:lnTo>
                <a:lnTo>
                  <a:pt x="346" y="319"/>
                </a:lnTo>
                <a:lnTo>
                  <a:pt x="280" y="340"/>
                </a:lnTo>
                <a:lnTo>
                  <a:pt x="248" y="351"/>
                </a:lnTo>
                <a:lnTo>
                  <a:pt x="215" y="361"/>
                </a:lnTo>
                <a:lnTo>
                  <a:pt x="181" y="371"/>
                </a:lnTo>
                <a:lnTo>
                  <a:pt x="144" y="380"/>
                </a:lnTo>
                <a:lnTo>
                  <a:pt x="110" y="388"/>
                </a:lnTo>
                <a:lnTo>
                  <a:pt x="73" y="396"/>
                </a:lnTo>
                <a:lnTo>
                  <a:pt x="37" y="403"/>
                </a:lnTo>
                <a:lnTo>
                  <a:pt x="0" y="409"/>
                </a:lnTo>
                <a:lnTo>
                  <a:pt x="0" y="382"/>
                </a:lnTo>
                <a:lnTo>
                  <a:pt x="0" y="353"/>
                </a:lnTo>
                <a:lnTo>
                  <a:pt x="21" y="344"/>
                </a:lnTo>
                <a:lnTo>
                  <a:pt x="42" y="334"/>
                </a:lnTo>
                <a:lnTo>
                  <a:pt x="64" y="325"/>
                </a:lnTo>
                <a:lnTo>
                  <a:pt x="83" y="315"/>
                </a:lnTo>
                <a:lnTo>
                  <a:pt x="102" y="305"/>
                </a:lnTo>
                <a:lnTo>
                  <a:pt x="121" y="296"/>
                </a:lnTo>
                <a:lnTo>
                  <a:pt x="140" y="288"/>
                </a:lnTo>
                <a:lnTo>
                  <a:pt x="158" y="278"/>
                </a:lnTo>
                <a:lnTo>
                  <a:pt x="175" y="271"/>
                </a:lnTo>
                <a:lnTo>
                  <a:pt x="192" y="263"/>
                </a:lnTo>
                <a:lnTo>
                  <a:pt x="208" y="255"/>
                </a:lnTo>
                <a:lnTo>
                  <a:pt x="225" y="248"/>
                </a:lnTo>
                <a:lnTo>
                  <a:pt x="240" y="240"/>
                </a:lnTo>
                <a:lnTo>
                  <a:pt x="254" y="232"/>
                </a:lnTo>
                <a:lnTo>
                  <a:pt x="269" y="227"/>
                </a:lnTo>
                <a:lnTo>
                  <a:pt x="282" y="219"/>
                </a:lnTo>
                <a:lnTo>
                  <a:pt x="296" y="213"/>
                </a:lnTo>
                <a:lnTo>
                  <a:pt x="307" y="206"/>
                </a:lnTo>
                <a:lnTo>
                  <a:pt x="321" y="200"/>
                </a:lnTo>
                <a:lnTo>
                  <a:pt x="332" y="194"/>
                </a:lnTo>
                <a:lnTo>
                  <a:pt x="342" y="188"/>
                </a:lnTo>
                <a:lnTo>
                  <a:pt x="353" y="182"/>
                </a:lnTo>
                <a:lnTo>
                  <a:pt x="363" y="177"/>
                </a:lnTo>
                <a:lnTo>
                  <a:pt x="373" y="171"/>
                </a:lnTo>
                <a:lnTo>
                  <a:pt x="382" y="167"/>
                </a:lnTo>
                <a:lnTo>
                  <a:pt x="390" y="161"/>
                </a:lnTo>
                <a:lnTo>
                  <a:pt x="398" y="158"/>
                </a:lnTo>
                <a:lnTo>
                  <a:pt x="405" y="152"/>
                </a:lnTo>
                <a:lnTo>
                  <a:pt x="411" y="148"/>
                </a:lnTo>
                <a:lnTo>
                  <a:pt x="417" y="144"/>
                </a:lnTo>
                <a:lnTo>
                  <a:pt x="423" y="140"/>
                </a:lnTo>
                <a:lnTo>
                  <a:pt x="428" y="136"/>
                </a:lnTo>
                <a:lnTo>
                  <a:pt x="436" y="129"/>
                </a:lnTo>
                <a:lnTo>
                  <a:pt x="444" y="121"/>
                </a:lnTo>
                <a:lnTo>
                  <a:pt x="451" y="113"/>
                </a:lnTo>
                <a:lnTo>
                  <a:pt x="459" y="108"/>
                </a:lnTo>
                <a:lnTo>
                  <a:pt x="467" y="102"/>
                </a:lnTo>
                <a:lnTo>
                  <a:pt x="471" y="94"/>
                </a:lnTo>
                <a:lnTo>
                  <a:pt x="476" y="88"/>
                </a:lnTo>
                <a:lnTo>
                  <a:pt x="480" y="83"/>
                </a:lnTo>
                <a:lnTo>
                  <a:pt x="484" y="77"/>
                </a:lnTo>
                <a:lnTo>
                  <a:pt x="488" y="73"/>
                </a:lnTo>
                <a:lnTo>
                  <a:pt x="490" y="67"/>
                </a:lnTo>
                <a:lnTo>
                  <a:pt x="492" y="62"/>
                </a:lnTo>
                <a:lnTo>
                  <a:pt x="492" y="56"/>
                </a:lnTo>
                <a:lnTo>
                  <a:pt x="492" y="52"/>
                </a:lnTo>
                <a:lnTo>
                  <a:pt x="490" y="46"/>
                </a:lnTo>
                <a:lnTo>
                  <a:pt x="490" y="40"/>
                </a:lnTo>
                <a:lnTo>
                  <a:pt x="484" y="37"/>
                </a:lnTo>
                <a:lnTo>
                  <a:pt x="482" y="31"/>
                </a:lnTo>
                <a:lnTo>
                  <a:pt x="480" y="25"/>
                </a:lnTo>
                <a:lnTo>
                  <a:pt x="480" y="21"/>
                </a:lnTo>
                <a:lnTo>
                  <a:pt x="482" y="15"/>
                </a:lnTo>
                <a:lnTo>
                  <a:pt x="484" y="14"/>
                </a:lnTo>
                <a:lnTo>
                  <a:pt x="488" y="10"/>
                </a:lnTo>
                <a:lnTo>
                  <a:pt x="490" y="8"/>
                </a:lnTo>
                <a:lnTo>
                  <a:pt x="494" y="6"/>
                </a:lnTo>
                <a:lnTo>
                  <a:pt x="497" y="2"/>
                </a:lnTo>
                <a:lnTo>
                  <a:pt x="501" y="0"/>
                </a:lnTo>
                <a:lnTo>
                  <a:pt x="503" y="0"/>
                </a:lnTo>
                <a:lnTo>
                  <a:pt x="507" y="0"/>
                </a:lnTo>
                <a:lnTo>
                  <a:pt x="511" y="2"/>
                </a:lnTo>
                <a:lnTo>
                  <a:pt x="515" y="2"/>
                </a:lnTo>
                <a:lnTo>
                  <a:pt x="519" y="4"/>
                </a:lnTo>
                <a:lnTo>
                  <a:pt x="524" y="6"/>
                </a:lnTo>
                <a:lnTo>
                  <a:pt x="530" y="10"/>
                </a:lnTo>
                <a:lnTo>
                  <a:pt x="536" y="12"/>
                </a:lnTo>
                <a:lnTo>
                  <a:pt x="543" y="15"/>
                </a:lnTo>
                <a:lnTo>
                  <a:pt x="549" y="19"/>
                </a:lnTo>
                <a:lnTo>
                  <a:pt x="557" y="23"/>
                </a:lnTo>
                <a:lnTo>
                  <a:pt x="565" y="29"/>
                </a:lnTo>
                <a:lnTo>
                  <a:pt x="572" y="35"/>
                </a:lnTo>
                <a:lnTo>
                  <a:pt x="582" y="40"/>
                </a:lnTo>
                <a:lnTo>
                  <a:pt x="590" y="46"/>
                </a:lnTo>
                <a:lnTo>
                  <a:pt x="599" y="54"/>
                </a:lnTo>
                <a:lnTo>
                  <a:pt x="613" y="69"/>
                </a:lnTo>
                <a:lnTo>
                  <a:pt x="624" y="83"/>
                </a:lnTo>
                <a:lnTo>
                  <a:pt x="634" y="96"/>
                </a:lnTo>
                <a:lnTo>
                  <a:pt x="643" y="110"/>
                </a:lnTo>
                <a:lnTo>
                  <a:pt x="651" y="121"/>
                </a:lnTo>
                <a:lnTo>
                  <a:pt x="653" y="129"/>
                </a:lnTo>
                <a:lnTo>
                  <a:pt x="655" y="134"/>
                </a:lnTo>
                <a:lnTo>
                  <a:pt x="657" y="142"/>
                </a:lnTo>
                <a:lnTo>
                  <a:pt x="659" y="148"/>
                </a:lnTo>
                <a:lnTo>
                  <a:pt x="661" y="156"/>
                </a:lnTo>
                <a:lnTo>
                  <a:pt x="661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31"/>
          <p:cNvSpPr/>
          <p:nvPr/>
        </p:nvSpPr>
        <p:spPr>
          <a:xfrm>
            <a:off x="6675480" y="2963880"/>
            <a:ext cx="1008000" cy="227160"/>
          </a:xfrm>
          <a:custGeom>
            <a:avLst/>
            <a:gdLst/>
            <a:ahLst/>
            <a:rect l="l" t="t" r="r" b="b"/>
            <a:pathLst>
              <a:path w="1271" h="286">
                <a:moveTo>
                  <a:pt x="989" y="190"/>
                </a:moveTo>
                <a:lnTo>
                  <a:pt x="976" y="193"/>
                </a:lnTo>
                <a:lnTo>
                  <a:pt x="958" y="195"/>
                </a:lnTo>
                <a:lnTo>
                  <a:pt x="941" y="199"/>
                </a:lnTo>
                <a:lnTo>
                  <a:pt x="924" y="203"/>
                </a:lnTo>
                <a:lnTo>
                  <a:pt x="903" y="207"/>
                </a:lnTo>
                <a:lnTo>
                  <a:pt x="882" y="211"/>
                </a:lnTo>
                <a:lnTo>
                  <a:pt x="857" y="215"/>
                </a:lnTo>
                <a:lnTo>
                  <a:pt x="832" y="218"/>
                </a:lnTo>
                <a:lnTo>
                  <a:pt x="805" y="222"/>
                </a:lnTo>
                <a:lnTo>
                  <a:pt x="778" y="226"/>
                </a:lnTo>
                <a:lnTo>
                  <a:pt x="747" y="228"/>
                </a:lnTo>
                <a:lnTo>
                  <a:pt x="716" y="232"/>
                </a:lnTo>
                <a:lnTo>
                  <a:pt x="684" y="236"/>
                </a:lnTo>
                <a:lnTo>
                  <a:pt x="649" y="239"/>
                </a:lnTo>
                <a:lnTo>
                  <a:pt x="613" y="241"/>
                </a:lnTo>
                <a:lnTo>
                  <a:pt x="574" y="245"/>
                </a:lnTo>
                <a:lnTo>
                  <a:pt x="536" y="249"/>
                </a:lnTo>
                <a:lnTo>
                  <a:pt x="500" y="255"/>
                </a:lnTo>
                <a:lnTo>
                  <a:pt x="465" y="259"/>
                </a:lnTo>
                <a:lnTo>
                  <a:pt x="432" y="263"/>
                </a:lnTo>
                <a:lnTo>
                  <a:pt x="402" y="266"/>
                </a:lnTo>
                <a:lnTo>
                  <a:pt x="386" y="268"/>
                </a:lnTo>
                <a:lnTo>
                  <a:pt x="373" y="270"/>
                </a:lnTo>
                <a:lnTo>
                  <a:pt x="359" y="272"/>
                </a:lnTo>
                <a:lnTo>
                  <a:pt x="346" y="272"/>
                </a:lnTo>
                <a:lnTo>
                  <a:pt x="333" y="274"/>
                </a:lnTo>
                <a:lnTo>
                  <a:pt x="321" y="276"/>
                </a:lnTo>
                <a:lnTo>
                  <a:pt x="308" y="276"/>
                </a:lnTo>
                <a:lnTo>
                  <a:pt x="298" y="278"/>
                </a:lnTo>
                <a:lnTo>
                  <a:pt x="286" y="280"/>
                </a:lnTo>
                <a:lnTo>
                  <a:pt x="277" y="280"/>
                </a:lnTo>
                <a:lnTo>
                  <a:pt x="265" y="282"/>
                </a:lnTo>
                <a:lnTo>
                  <a:pt x="258" y="282"/>
                </a:lnTo>
                <a:lnTo>
                  <a:pt x="248" y="282"/>
                </a:lnTo>
                <a:lnTo>
                  <a:pt x="240" y="284"/>
                </a:lnTo>
                <a:lnTo>
                  <a:pt x="233" y="284"/>
                </a:lnTo>
                <a:lnTo>
                  <a:pt x="225" y="284"/>
                </a:lnTo>
                <a:lnTo>
                  <a:pt x="219" y="286"/>
                </a:lnTo>
                <a:lnTo>
                  <a:pt x="213" y="286"/>
                </a:lnTo>
                <a:lnTo>
                  <a:pt x="208" y="286"/>
                </a:lnTo>
                <a:lnTo>
                  <a:pt x="202" y="286"/>
                </a:lnTo>
                <a:lnTo>
                  <a:pt x="198" y="286"/>
                </a:lnTo>
                <a:lnTo>
                  <a:pt x="194" y="286"/>
                </a:lnTo>
                <a:lnTo>
                  <a:pt x="187" y="286"/>
                </a:lnTo>
                <a:lnTo>
                  <a:pt x="179" y="284"/>
                </a:lnTo>
                <a:lnTo>
                  <a:pt x="171" y="284"/>
                </a:lnTo>
                <a:lnTo>
                  <a:pt x="162" y="282"/>
                </a:lnTo>
                <a:lnTo>
                  <a:pt x="150" y="278"/>
                </a:lnTo>
                <a:lnTo>
                  <a:pt x="139" y="276"/>
                </a:lnTo>
                <a:lnTo>
                  <a:pt x="127" y="272"/>
                </a:lnTo>
                <a:lnTo>
                  <a:pt x="116" y="266"/>
                </a:lnTo>
                <a:lnTo>
                  <a:pt x="102" y="263"/>
                </a:lnTo>
                <a:lnTo>
                  <a:pt x="89" y="257"/>
                </a:lnTo>
                <a:lnTo>
                  <a:pt x="75" y="251"/>
                </a:lnTo>
                <a:lnTo>
                  <a:pt x="60" y="245"/>
                </a:lnTo>
                <a:lnTo>
                  <a:pt x="31" y="232"/>
                </a:lnTo>
                <a:lnTo>
                  <a:pt x="0" y="218"/>
                </a:lnTo>
                <a:lnTo>
                  <a:pt x="22" y="207"/>
                </a:lnTo>
                <a:lnTo>
                  <a:pt x="43" y="199"/>
                </a:lnTo>
                <a:lnTo>
                  <a:pt x="62" y="192"/>
                </a:lnTo>
                <a:lnTo>
                  <a:pt x="81" y="186"/>
                </a:lnTo>
                <a:lnTo>
                  <a:pt x="96" y="182"/>
                </a:lnTo>
                <a:lnTo>
                  <a:pt x="104" y="180"/>
                </a:lnTo>
                <a:lnTo>
                  <a:pt x="112" y="180"/>
                </a:lnTo>
                <a:lnTo>
                  <a:pt x="118" y="178"/>
                </a:lnTo>
                <a:lnTo>
                  <a:pt x="123" y="178"/>
                </a:lnTo>
                <a:lnTo>
                  <a:pt x="129" y="176"/>
                </a:lnTo>
                <a:lnTo>
                  <a:pt x="135" y="176"/>
                </a:lnTo>
                <a:lnTo>
                  <a:pt x="137" y="176"/>
                </a:lnTo>
                <a:lnTo>
                  <a:pt x="141" y="176"/>
                </a:lnTo>
                <a:lnTo>
                  <a:pt x="144" y="176"/>
                </a:lnTo>
                <a:lnTo>
                  <a:pt x="148" y="174"/>
                </a:lnTo>
                <a:lnTo>
                  <a:pt x="154" y="174"/>
                </a:lnTo>
                <a:lnTo>
                  <a:pt x="160" y="172"/>
                </a:lnTo>
                <a:lnTo>
                  <a:pt x="166" y="172"/>
                </a:lnTo>
                <a:lnTo>
                  <a:pt x="173" y="170"/>
                </a:lnTo>
                <a:lnTo>
                  <a:pt x="181" y="168"/>
                </a:lnTo>
                <a:lnTo>
                  <a:pt x="189" y="167"/>
                </a:lnTo>
                <a:lnTo>
                  <a:pt x="198" y="165"/>
                </a:lnTo>
                <a:lnTo>
                  <a:pt x="208" y="163"/>
                </a:lnTo>
                <a:lnTo>
                  <a:pt x="219" y="161"/>
                </a:lnTo>
                <a:lnTo>
                  <a:pt x="231" y="157"/>
                </a:lnTo>
                <a:lnTo>
                  <a:pt x="242" y="155"/>
                </a:lnTo>
                <a:lnTo>
                  <a:pt x="256" y="151"/>
                </a:lnTo>
                <a:lnTo>
                  <a:pt x="269" y="149"/>
                </a:lnTo>
                <a:lnTo>
                  <a:pt x="283" y="145"/>
                </a:lnTo>
                <a:lnTo>
                  <a:pt x="298" y="142"/>
                </a:lnTo>
                <a:lnTo>
                  <a:pt x="313" y="138"/>
                </a:lnTo>
                <a:lnTo>
                  <a:pt x="329" y="134"/>
                </a:lnTo>
                <a:lnTo>
                  <a:pt x="346" y="130"/>
                </a:lnTo>
                <a:lnTo>
                  <a:pt x="363" y="126"/>
                </a:lnTo>
                <a:lnTo>
                  <a:pt x="381" y="120"/>
                </a:lnTo>
                <a:lnTo>
                  <a:pt x="400" y="117"/>
                </a:lnTo>
                <a:lnTo>
                  <a:pt x="419" y="111"/>
                </a:lnTo>
                <a:lnTo>
                  <a:pt x="438" y="105"/>
                </a:lnTo>
                <a:lnTo>
                  <a:pt x="459" y="99"/>
                </a:lnTo>
                <a:lnTo>
                  <a:pt x="480" y="94"/>
                </a:lnTo>
                <a:lnTo>
                  <a:pt x="503" y="88"/>
                </a:lnTo>
                <a:lnTo>
                  <a:pt x="524" y="82"/>
                </a:lnTo>
                <a:lnTo>
                  <a:pt x="569" y="71"/>
                </a:lnTo>
                <a:lnTo>
                  <a:pt x="609" y="61"/>
                </a:lnTo>
                <a:lnTo>
                  <a:pt x="649" y="53"/>
                </a:lnTo>
                <a:lnTo>
                  <a:pt x="688" y="46"/>
                </a:lnTo>
                <a:lnTo>
                  <a:pt x="724" y="38"/>
                </a:lnTo>
                <a:lnTo>
                  <a:pt x="759" y="30"/>
                </a:lnTo>
                <a:lnTo>
                  <a:pt x="793" y="25"/>
                </a:lnTo>
                <a:lnTo>
                  <a:pt x="824" y="19"/>
                </a:lnTo>
                <a:lnTo>
                  <a:pt x="855" y="15"/>
                </a:lnTo>
                <a:lnTo>
                  <a:pt x="883" y="11"/>
                </a:lnTo>
                <a:lnTo>
                  <a:pt x="908" y="7"/>
                </a:lnTo>
                <a:lnTo>
                  <a:pt x="933" y="5"/>
                </a:lnTo>
                <a:lnTo>
                  <a:pt x="956" y="1"/>
                </a:lnTo>
                <a:lnTo>
                  <a:pt x="968" y="1"/>
                </a:lnTo>
                <a:lnTo>
                  <a:pt x="978" y="1"/>
                </a:lnTo>
                <a:lnTo>
                  <a:pt x="987" y="0"/>
                </a:lnTo>
                <a:lnTo>
                  <a:pt x="997" y="0"/>
                </a:lnTo>
                <a:lnTo>
                  <a:pt x="1006" y="0"/>
                </a:lnTo>
                <a:lnTo>
                  <a:pt x="1014" y="0"/>
                </a:lnTo>
                <a:lnTo>
                  <a:pt x="1029" y="0"/>
                </a:lnTo>
                <a:lnTo>
                  <a:pt x="1045" y="0"/>
                </a:lnTo>
                <a:lnTo>
                  <a:pt x="1060" y="1"/>
                </a:lnTo>
                <a:lnTo>
                  <a:pt x="1074" y="1"/>
                </a:lnTo>
                <a:lnTo>
                  <a:pt x="1087" y="3"/>
                </a:lnTo>
                <a:lnTo>
                  <a:pt x="1100" y="5"/>
                </a:lnTo>
                <a:lnTo>
                  <a:pt x="1125" y="7"/>
                </a:lnTo>
                <a:lnTo>
                  <a:pt x="1148" y="13"/>
                </a:lnTo>
                <a:lnTo>
                  <a:pt x="1170" y="17"/>
                </a:lnTo>
                <a:lnTo>
                  <a:pt x="1191" y="23"/>
                </a:lnTo>
                <a:lnTo>
                  <a:pt x="1210" y="26"/>
                </a:lnTo>
                <a:lnTo>
                  <a:pt x="1223" y="38"/>
                </a:lnTo>
                <a:lnTo>
                  <a:pt x="1235" y="48"/>
                </a:lnTo>
                <a:lnTo>
                  <a:pt x="1244" y="57"/>
                </a:lnTo>
                <a:lnTo>
                  <a:pt x="1254" y="69"/>
                </a:lnTo>
                <a:lnTo>
                  <a:pt x="1260" y="78"/>
                </a:lnTo>
                <a:lnTo>
                  <a:pt x="1264" y="82"/>
                </a:lnTo>
                <a:lnTo>
                  <a:pt x="1266" y="88"/>
                </a:lnTo>
                <a:lnTo>
                  <a:pt x="1267" y="94"/>
                </a:lnTo>
                <a:lnTo>
                  <a:pt x="1269" y="97"/>
                </a:lnTo>
                <a:lnTo>
                  <a:pt x="1269" y="103"/>
                </a:lnTo>
                <a:lnTo>
                  <a:pt x="1271" y="109"/>
                </a:lnTo>
                <a:lnTo>
                  <a:pt x="1269" y="113"/>
                </a:lnTo>
                <a:lnTo>
                  <a:pt x="1269" y="119"/>
                </a:lnTo>
                <a:lnTo>
                  <a:pt x="1267" y="122"/>
                </a:lnTo>
                <a:lnTo>
                  <a:pt x="1266" y="126"/>
                </a:lnTo>
                <a:lnTo>
                  <a:pt x="1264" y="130"/>
                </a:lnTo>
                <a:lnTo>
                  <a:pt x="1260" y="134"/>
                </a:lnTo>
                <a:lnTo>
                  <a:pt x="1256" y="136"/>
                </a:lnTo>
                <a:lnTo>
                  <a:pt x="1250" y="140"/>
                </a:lnTo>
                <a:lnTo>
                  <a:pt x="1244" y="142"/>
                </a:lnTo>
                <a:lnTo>
                  <a:pt x="1239" y="144"/>
                </a:lnTo>
                <a:lnTo>
                  <a:pt x="1231" y="145"/>
                </a:lnTo>
                <a:lnTo>
                  <a:pt x="1223" y="147"/>
                </a:lnTo>
                <a:lnTo>
                  <a:pt x="1216" y="147"/>
                </a:lnTo>
                <a:lnTo>
                  <a:pt x="1206" y="149"/>
                </a:lnTo>
                <a:lnTo>
                  <a:pt x="1196" y="149"/>
                </a:lnTo>
                <a:lnTo>
                  <a:pt x="1185" y="149"/>
                </a:lnTo>
                <a:lnTo>
                  <a:pt x="1139" y="159"/>
                </a:lnTo>
                <a:lnTo>
                  <a:pt x="1116" y="165"/>
                </a:lnTo>
                <a:lnTo>
                  <a:pt x="1091" y="170"/>
                </a:lnTo>
                <a:lnTo>
                  <a:pt x="1068" y="174"/>
                </a:lnTo>
                <a:lnTo>
                  <a:pt x="1043" y="180"/>
                </a:lnTo>
                <a:lnTo>
                  <a:pt x="1016" y="186"/>
                </a:lnTo>
                <a:lnTo>
                  <a:pt x="989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32"/>
          <p:cNvSpPr/>
          <p:nvPr/>
        </p:nvSpPr>
        <p:spPr>
          <a:xfrm>
            <a:off x="6935760" y="3141720"/>
            <a:ext cx="233280" cy="460440"/>
          </a:xfrm>
          <a:custGeom>
            <a:avLst/>
            <a:gdLst/>
            <a:ahLst/>
            <a:rect l="l" t="t" r="r" b="b"/>
            <a:pathLst>
              <a:path w="293" h="582">
                <a:moveTo>
                  <a:pt x="195" y="37"/>
                </a:moveTo>
                <a:lnTo>
                  <a:pt x="207" y="44"/>
                </a:lnTo>
                <a:lnTo>
                  <a:pt x="219" y="52"/>
                </a:lnTo>
                <a:lnTo>
                  <a:pt x="228" y="58"/>
                </a:lnTo>
                <a:lnTo>
                  <a:pt x="238" y="65"/>
                </a:lnTo>
                <a:lnTo>
                  <a:pt x="245" y="71"/>
                </a:lnTo>
                <a:lnTo>
                  <a:pt x="253" y="79"/>
                </a:lnTo>
                <a:lnTo>
                  <a:pt x="261" y="85"/>
                </a:lnTo>
                <a:lnTo>
                  <a:pt x="268" y="90"/>
                </a:lnTo>
                <a:lnTo>
                  <a:pt x="274" y="98"/>
                </a:lnTo>
                <a:lnTo>
                  <a:pt x="278" y="104"/>
                </a:lnTo>
                <a:lnTo>
                  <a:pt x="284" y="110"/>
                </a:lnTo>
                <a:lnTo>
                  <a:pt x="288" y="117"/>
                </a:lnTo>
                <a:lnTo>
                  <a:pt x="290" y="123"/>
                </a:lnTo>
                <a:lnTo>
                  <a:pt x="291" y="131"/>
                </a:lnTo>
                <a:lnTo>
                  <a:pt x="293" y="138"/>
                </a:lnTo>
                <a:lnTo>
                  <a:pt x="293" y="146"/>
                </a:lnTo>
                <a:lnTo>
                  <a:pt x="293" y="150"/>
                </a:lnTo>
                <a:lnTo>
                  <a:pt x="293" y="154"/>
                </a:lnTo>
                <a:lnTo>
                  <a:pt x="291" y="160"/>
                </a:lnTo>
                <a:lnTo>
                  <a:pt x="290" y="165"/>
                </a:lnTo>
                <a:lnTo>
                  <a:pt x="288" y="173"/>
                </a:lnTo>
                <a:lnTo>
                  <a:pt x="286" y="179"/>
                </a:lnTo>
                <a:lnTo>
                  <a:pt x="284" y="186"/>
                </a:lnTo>
                <a:lnTo>
                  <a:pt x="280" y="196"/>
                </a:lnTo>
                <a:lnTo>
                  <a:pt x="276" y="206"/>
                </a:lnTo>
                <a:lnTo>
                  <a:pt x="272" y="215"/>
                </a:lnTo>
                <a:lnTo>
                  <a:pt x="267" y="225"/>
                </a:lnTo>
                <a:lnTo>
                  <a:pt x="261" y="236"/>
                </a:lnTo>
                <a:lnTo>
                  <a:pt x="257" y="248"/>
                </a:lnTo>
                <a:lnTo>
                  <a:pt x="249" y="259"/>
                </a:lnTo>
                <a:lnTo>
                  <a:pt x="243" y="273"/>
                </a:lnTo>
                <a:lnTo>
                  <a:pt x="236" y="286"/>
                </a:lnTo>
                <a:lnTo>
                  <a:pt x="228" y="300"/>
                </a:lnTo>
                <a:lnTo>
                  <a:pt x="220" y="315"/>
                </a:lnTo>
                <a:lnTo>
                  <a:pt x="213" y="330"/>
                </a:lnTo>
                <a:lnTo>
                  <a:pt x="203" y="346"/>
                </a:lnTo>
                <a:lnTo>
                  <a:pt x="195" y="361"/>
                </a:lnTo>
                <a:lnTo>
                  <a:pt x="184" y="378"/>
                </a:lnTo>
                <a:lnTo>
                  <a:pt x="174" y="396"/>
                </a:lnTo>
                <a:lnTo>
                  <a:pt x="165" y="415"/>
                </a:lnTo>
                <a:lnTo>
                  <a:pt x="153" y="434"/>
                </a:lnTo>
                <a:lnTo>
                  <a:pt x="142" y="453"/>
                </a:lnTo>
                <a:lnTo>
                  <a:pt x="128" y="472"/>
                </a:lnTo>
                <a:lnTo>
                  <a:pt x="117" y="494"/>
                </a:lnTo>
                <a:lnTo>
                  <a:pt x="103" y="515"/>
                </a:lnTo>
                <a:lnTo>
                  <a:pt x="90" y="536"/>
                </a:lnTo>
                <a:lnTo>
                  <a:pt x="76" y="559"/>
                </a:lnTo>
                <a:lnTo>
                  <a:pt x="61" y="582"/>
                </a:lnTo>
                <a:lnTo>
                  <a:pt x="30" y="574"/>
                </a:lnTo>
                <a:lnTo>
                  <a:pt x="0" y="568"/>
                </a:lnTo>
                <a:lnTo>
                  <a:pt x="7" y="541"/>
                </a:lnTo>
                <a:lnTo>
                  <a:pt x="15" y="518"/>
                </a:lnTo>
                <a:lnTo>
                  <a:pt x="23" y="494"/>
                </a:lnTo>
                <a:lnTo>
                  <a:pt x="28" y="470"/>
                </a:lnTo>
                <a:lnTo>
                  <a:pt x="36" y="449"/>
                </a:lnTo>
                <a:lnTo>
                  <a:pt x="42" y="426"/>
                </a:lnTo>
                <a:lnTo>
                  <a:pt x="48" y="405"/>
                </a:lnTo>
                <a:lnTo>
                  <a:pt x="53" y="386"/>
                </a:lnTo>
                <a:lnTo>
                  <a:pt x="57" y="367"/>
                </a:lnTo>
                <a:lnTo>
                  <a:pt x="63" y="348"/>
                </a:lnTo>
                <a:lnTo>
                  <a:pt x="67" y="328"/>
                </a:lnTo>
                <a:lnTo>
                  <a:pt x="71" y="311"/>
                </a:lnTo>
                <a:lnTo>
                  <a:pt x="75" y="296"/>
                </a:lnTo>
                <a:lnTo>
                  <a:pt x="78" y="279"/>
                </a:lnTo>
                <a:lnTo>
                  <a:pt x="82" y="263"/>
                </a:lnTo>
                <a:lnTo>
                  <a:pt x="86" y="250"/>
                </a:lnTo>
                <a:lnTo>
                  <a:pt x="88" y="234"/>
                </a:lnTo>
                <a:lnTo>
                  <a:pt x="90" y="221"/>
                </a:lnTo>
                <a:lnTo>
                  <a:pt x="92" y="209"/>
                </a:lnTo>
                <a:lnTo>
                  <a:pt x="94" y="198"/>
                </a:lnTo>
                <a:lnTo>
                  <a:pt x="96" y="186"/>
                </a:lnTo>
                <a:lnTo>
                  <a:pt x="98" y="175"/>
                </a:lnTo>
                <a:lnTo>
                  <a:pt x="100" y="165"/>
                </a:lnTo>
                <a:lnTo>
                  <a:pt x="100" y="156"/>
                </a:lnTo>
                <a:lnTo>
                  <a:pt x="100" y="148"/>
                </a:lnTo>
                <a:lnTo>
                  <a:pt x="101" y="138"/>
                </a:lnTo>
                <a:lnTo>
                  <a:pt x="101" y="131"/>
                </a:lnTo>
                <a:lnTo>
                  <a:pt x="101" y="125"/>
                </a:lnTo>
                <a:lnTo>
                  <a:pt x="101" y="119"/>
                </a:lnTo>
                <a:lnTo>
                  <a:pt x="100" y="113"/>
                </a:lnTo>
                <a:lnTo>
                  <a:pt x="100" y="108"/>
                </a:lnTo>
                <a:lnTo>
                  <a:pt x="98" y="104"/>
                </a:lnTo>
                <a:lnTo>
                  <a:pt x="94" y="96"/>
                </a:lnTo>
                <a:lnTo>
                  <a:pt x="90" y="90"/>
                </a:lnTo>
                <a:lnTo>
                  <a:pt x="88" y="83"/>
                </a:lnTo>
                <a:lnTo>
                  <a:pt x="84" y="75"/>
                </a:lnTo>
                <a:lnTo>
                  <a:pt x="82" y="69"/>
                </a:lnTo>
                <a:lnTo>
                  <a:pt x="80" y="64"/>
                </a:lnTo>
                <a:lnTo>
                  <a:pt x="78" y="52"/>
                </a:lnTo>
                <a:lnTo>
                  <a:pt x="78" y="41"/>
                </a:lnTo>
                <a:lnTo>
                  <a:pt x="80" y="29"/>
                </a:lnTo>
                <a:lnTo>
                  <a:pt x="82" y="19"/>
                </a:lnTo>
                <a:lnTo>
                  <a:pt x="86" y="10"/>
                </a:lnTo>
                <a:lnTo>
                  <a:pt x="88" y="6"/>
                </a:lnTo>
                <a:lnTo>
                  <a:pt x="92" y="4"/>
                </a:lnTo>
                <a:lnTo>
                  <a:pt x="96" y="2"/>
                </a:lnTo>
                <a:lnTo>
                  <a:pt x="100" y="2"/>
                </a:lnTo>
                <a:lnTo>
                  <a:pt x="105" y="0"/>
                </a:lnTo>
                <a:lnTo>
                  <a:pt x="111" y="0"/>
                </a:lnTo>
                <a:lnTo>
                  <a:pt x="117" y="0"/>
                </a:lnTo>
                <a:lnTo>
                  <a:pt x="123" y="2"/>
                </a:lnTo>
                <a:lnTo>
                  <a:pt x="130" y="4"/>
                </a:lnTo>
                <a:lnTo>
                  <a:pt x="138" y="6"/>
                </a:lnTo>
                <a:lnTo>
                  <a:pt x="146" y="10"/>
                </a:lnTo>
                <a:lnTo>
                  <a:pt x="155" y="12"/>
                </a:lnTo>
                <a:lnTo>
                  <a:pt x="165" y="17"/>
                </a:lnTo>
                <a:lnTo>
                  <a:pt x="174" y="23"/>
                </a:lnTo>
                <a:lnTo>
                  <a:pt x="184" y="29"/>
                </a:lnTo>
                <a:lnTo>
                  <a:pt x="195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33"/>
          <p:cNvSpPr/>
          <p:nvPr/>
        </p:nvSpPr>
        <p:spPr>
          <a:xfrm>
            <a:off x="6689880" y="3573360"/>
            <a:ext cx="139680" cy="979560"/>
          </a:xfrm>
          <a:custGeom>
            <a:avLst/>
            <a:gdLst/>
            <a:ahLst/>
            <a:rect l="l" t="t" r="r" b="b"/>
            <a:pathLst>
              <a:path w="174" h="1235">
                <a:moveTo>
                  <a:pt x="17" y="117"/>
                </a:moveTo>
                <a:lnTo>
                  <a:pt x="11" y="102"/>
                </a:lnTo>
                <a:lnTo>
                  <a:pt x="7" y="87"/>
                </a:lnTo>
                <a:lnTo>
                  <a:pt x="3" y="73"/>
                </a:lnTo>
                <a:lnTo>
                  <a:pt x="2" y="58"/>
                </a:lnTo>
                <a:lnTo>
                  <a:pt x="0" y="44"/>
                </a:lnTo>
                <a:lnTo>
                  <a:pt x="0" y="31"/>
                </a:lnTo>
                <a:lnTo>
                  <a:pt x="0" y="25"/>
                </a:lnTo>
                <a:lnTo>
                  <a:pt x="0" y="20"/>
                </a:lnTo>
                <a:lnTo>
                  <a:pt x="2" y="14"/>
                </a:lnTo>
                <a:lnTo>
                  <a:pt x="3" y="8"/>
                </a:lnTo>
                <a:lnTo>
                  <a:pt x="7" y="6"/>
                </a:lnTo>
                <a:lnTo>
                  <a:pt x="11" y="4"/>
                </a:lnTo>
                <a:lnTo>
                  <a:pt x="15" y="2"/>
                </a:lnTo>
                <a:lnTo>
                  <a:pt x="21" y="2"/>
                </a:lnTo>
                <a:lnTo>
                  <a:pt x="26" y="0"/>
                </a:lnTo>
                <a:lnTo>
                  <a:pt x="34" y="0"/>
                </a:lnTo>
                <a:lnTo>
                  <a:pt x="44" y="0"/>
                </a:lnTo>
                <a:lnTo>
                  <a:pt x="53" y="2"/>
                </a:lnTo>
                <a:lnTo>
                  <a:pt x="63" y="4"/>
                </a:lnTo>
                <a:lnTo>
                  <a:pt x="76" y="6"/>
                </a:lnTo>
                <a:lnTo>
                  <a:pt x="90" y="8"/>
                </a:lnTo>
                <a:lnTo>
                  <a:pt x="103" y="12"/>
                </a:lnTo>
                <a:lnTo>
                  <a:pt x="119" y="18"/>
                </a:lnTo>
                <a:lnTo>
                  <a:pt x="136" y="21"/>
                </a:lnTo>
                <a:lnTo>
                  <a:pt x="155" y="29"/>
                </a:lnTo>
                <a:lnTo>
                  <a:pt x="174" y="37"/>
                </a:lnTo>
                <a:lnTo>
                  <a:pt x="174" y="94"/>
                </a:lnTo>
                <a:lnTo>
                  <a:pt x="174" y="150"/>
                </a:lnTo>
                <a:lnTo>
                  <a:pt x="174" y="206"/>
                </a:lnTo>
                <a:lnTo>
                  <a:pt x="174" y="258"/>
                </a:lnTo>
                <a:lnTo>
                  <a:pt x="174" y="309"/>
                </a:lnTo>
                <a:lnTo>
                  <a:pt x="174" y="359"/>
                </a:lnTo>
                <a:lnTo>
                  <a:pt x="174" y="407"/>
                </a:lnTo>
                <a:lnTo>
                  <a:pt x="174" y="455"/>
                </a:lnTo>
                <a:lnTo>
                  <a:pt x="174" y="499"/>
                </a:lnTo>
                <a:lnTo>
                  <a:pt x="174" y="544"/>
                </a:lnTo>
                <a:lnTo>
                  <a:pt x="174" y="586"/>
                </a:lnTo>
                <a:lnTo>
                  <a:pt x="174" y="626"/>
                </a:lnTo>
                <a:lnTo>
                  <a:pt x="174" y="664"/>
                </a:lnTo>
                <a:lnTo>
                  <a:pt x="174" y="701"/>
                </a:lnTo>
                <a:lnTo>
                  <a:pt x="174" y="737"/>
                </a:lnTo>
                <a:lnTo>
                  <a:pt x="172" y="772"/>
                </a:lnTo>
                <a:lnTo>
                  <a:pt x="172" y="803"/>
                </a:lnTo>
                <a:lnTo>
                  <a:pt x="172" y="835"/>
                </a:lnTo>
                <a:lnTo>
                  <a:pt x="172" y="864"/>
                </a:lnTo>
                <a:lnTo>
                  <a:pt x="172" y="891"/>
                </a:lnTo>
                <a:lnTo>
                  <a:pt x="172" y="918"/>
                </a:lnTo>
                <a:lnTo>
                  <a:pt x="170" y="941"/>
                </a:lnTo>
                <a:lnTo>
                  <a:pt x="170" y="964"/>
                </a:lnTo>
                <a:lnTo>
                  <a:pt x="170" y="985"/>
                </a:lnTo>
                <a:lnTo>
                  <a:pt x="169" y="1006"/>
                </a:lnTo>
                <a:lnTo>
                  <a:pt x="169" y="1023"/>
                </a:lnTo>
                <a:lnTo>
                  <a:pt x="169" y="1041"/>
                </a:lnTo>
                <a:lnTo>
                  <a:pt x="167" y="1054"/>
                </a:lnTo>
                <a:lnTo>
                  <a:pt x="167" y="1068"/>
                </a:lnTo>
                <a:lnTo>
                  <a:pt x="165" y="1079"/>
                </a:lnTo>
                <a:lnTo>
                  <a:pt x="165" y="1091"/>
                </a:lnTo>
                <a:lnTo>
                  <a:pt x="163" y="1098"/>
                </a:lnTo>
                <a:lnTo>
                  <a:pt x="161" y="1116"/>
                </a:lnTo>
                <a:lnTo>
                  <a:pt x="157" y="1131"/>
                </a:lnTo>
                <a:lnTo>
                  <a:pt x="155" y="1146"/>
                </a:lnTo>
                <a:lnTo>
                  <a:pt x="151" y="1160"/>
                </a:lnTo>
                <a:lnTo>
                  <a:pt x="149" y="1171"/>
                </a:lnTo>
                <a:lnTo>
                  <a:pt x="146" y="1183"/>
                </a:lnTo>
                <a:lnTo>
                  <a:pt x="142" y="1192"/>
                </a:lnTo>
                <a:lnTo>
                  <a:pt x="138" y="1202"/>
                </a:lnTo>
                <a:lnTo>
                  <a:pt x="134" y="1210"/>
                </a:lnTo>
                <a:lnTo>
                  <a:pt x="132" y="1215"/>
                </a:lnTo>
                <a:lnTo>
                  <a:pt x="128" y="1221"/>
                </a:lnTo>
                <a:lnTo>
                  <a:pt x="124" y="1227"/>
                </a:lnTo>
                <a:lnTo>
                  <a:pt x="122" y="1229"/>
                </a:lnTo>
                <a:lnTo>
                  <a:pt x="119" y="1233"/>
                </a:lnTo>
                <a:lnTo>
                  <a:pt x="117" y="1235"/>
                </a:lnTo>
                <a:lnTo>
                  <a:pt x="115" y="1235"/>
                </a:lnTo>
                <a:lnTo>
                  <a:pt x="111" y="1235"/>
                </a:lnTo>
                <a:lnTo>
                  <a:pt x="109" y="1233"/>
                </a:lnTo>
                <a:lnTo>
                  <a:pt x="105" y="1231"/>
                </a:lnTo>
                <a:lnTo>
                  <a:pt x="103" y="1227"/>
                </a:lnTo>
                <a:lnTo>
                  <a:pt x="99" y="1223"/>
                </a:lnTo>
                <a:lnTo>
                  <a:pt x="96" y="1217"/>
                </a:lnTo>
                <a:lnTo>
                  <a:pt x="92" y="1211"/>
                </a:lnTo>
                <a:lnTo>
                  <a:pt x="88" y="1206"/>
                </a:lnTo>
                <a:lnTo>
                  <a:pt x="84" y="1198"/>
                </a:lnTo>
                <a:lnTo>
                  <a:pt x="80" y="1190"/>
                </a:lnTo>
                <a:lnTo>
                  <a:pt x="74" y="1181"/>
                </a:lnTo>
                <a:lnTo>
                  <a:pt x="71" y="1171"/>
                </a:lnTo>
                <a:lnTo>
                  <a:pt x="67" y="1162"/>
                </a:lnTo>
                <a:lnTo>
                  <a:pt x="61" y="1150"/>
                </a:lnTo>
                <a:lnTo>
                  <a:pt x="57" y="1139"/>
                </a:lnTo>
                <a:lnTo>
                  <a:pt x="53" y="1125"/>
                </a:lnTo>
                <a:lnTo>
                  <a:pt x="44" y="1100"/>
                </a:lnTo>
                <a:lnTo>
                  <a:pt x="40" y="1089"/>
                </a:lnTo>
                <a:lnTo>
                  <a:pt x="36" y="1077"/>
                </a:lnTo>
                <a:lnTo>
                  <a:pt x="34" y="1066"/>
                </a:lnTo>
                <a:lnTo>
                  <a:pt x="30" y="1056"/>
                </a:lnTo>
                <a:lnTo>
                  <a:pt x="28" y="1046"/>
                </a:lnTo>
                <a:lnTo>
                  <a:pt x="25" y="1037"/>
                </a:lnTo>
                <a:lnTo>
                  <a:pt x="23" y="1027"/>
                </a:lnTo>
                <a:lnTo>
                  <a:pt x="21" y="1020"/>
                </a:lnTo>
                <a:lnTo>
                  <a:pt x="19" y="1014"/>
                </a:lnTo>
                <a:lnTo>
                  <a:pt x="19" y="1006"/>
                </a:lnTo>
                <a:lnTo>
                  <a:pt x="17" y="1000"/>
                </a:lnTo>
                <a:lnTo>
                  <a:pt x="17" y="997"/>
                </a:lnTo>
                <a:lnTo>
                  <a:pt x="17" y="993"/>
                </a:lnTo>
                <a:lnTo>
                  <a:pt x="17" y="989"/>
                </a:lnTo>
                <a:lnTo>
                  <a:pt x="17" y="987"/>
                </a:lnTo>
                <a:lnTo>
                  <a:pt x="17" y="981"/>
                </a:lnTo>
                <a:lnTo>
                  <a:pt x="17" y="975"/>
                </a:lnTo>
                <a:lnTo>
                  <a:pt x="19" y="966"/>
                </a:lnTo>
                <a:lnTo>
                  <a:pt x="19" y="958"/>
                </a:lnTo>
                <a:lnTo>
                  <a:pt x="21" y="947"/>
                </a:lnTo>
                <a:lnTo>
                  <a:pt x="23" y="935"/>
                </a:lnTo>
                <a:lnTo>
                  <a:pt x="25" y="922"/>
                </a:lnTo>
                <a:lnTo>
                  <a:pt x="25" y="906"/>
                </a:lnTo>
                <a:lnTo>
                  <a:pt x="26" y="891"/>
                </a:lnTo>
                <a:lnTo>
                  <a:pt x="30" y="874"/>
                </a:lnTo>
                <a:lnTo>
                  <a:pt x="32" y="854"/>
                </a:lnTo>
                <a:lnTo>
                  <a:pt x="34" y="835"/>
                </a:lnTo>
                <a:lnTo>
                  <a:pt x="36" y="814"/>
                </a:lnTo>
                <a:lnTo>
                  <a:pt x="38" y="793"/>
                </a:lnTo>
                <a:lnTo>
                  <a:pt x="40" y="772"/>
                </a:lnTo>
                <a:lnTo>
                  <a:pt x="44" y="726"/>
                </a:lnTo>
                <a:lnTo>
                  <a:pt x="48" y="680"/>
                </a:lnTo>
                <a:lnTo>
                  <a:pt x="50" y="632"/>
                </a:lnTo>
                <a:lnTo>
                  <a:pt x="51" y="586"/>
                </a:lnTo>
                <a:lnTo>
                  <a:pt x="51" y="538"/>
                </a:lnTo>
                <a:lnTo>
                  <a:pt x="53" y="490"/>
                </a:lnTo>
                <a:lnTo>
                  <a:pt x="53" y="440"/>
                </a:lnTo>
                <a:lnTo>
                  <a:pt x="53" y="390"/>
                </a:lnTo>
                <a:lnTo>
                  <a:pt x="51" y="365"/>
                </a:lnTo>
                <a:lnTo>
                  <a:pt x="48" y="340"/>
                </a:lnTo>
                <a:lnTo>
                  <a:pt x="46" y="317"/>
                </a:lnTo>
                <a:lnTo>
                  <a:pt x="44" y="296"/>
                </a:lnTo>
                <a:lnTo>
                  <a:pt x="42" y="275"/>
                </a:lnTo>
                <a:lnTo>
                  <a:pt x="40" y="256"/>
                </a:lnTo>
                <a:lnTo>
                  <a:pt x="36" y="236"/>
                </a:lnTo>
                <a:lnTo>
                  <a:pt x="34" y="217"/>
                </a:lnTo>
                <a:lnTo>
                  <a:pt x="32" y="202"/>
                </a:lnTo>
                <a:lnTo>
                  <a:pt x="30" y="187"/>
                </a:lnTo>
                <a:lnTo>
                  <a:pt x="26" y="171"/>
                </a:lnTo>
                <a:lnTo>
                  <a:pt x="25" y="158"/>
                </a:lnTo>
                <a:lnTo>
                  <a:pt x="23" y="146"/>
                </a:lnTo>
                <a:lnTo>
                  <a:pt x="21" y="135"/>
                </a:lnTo>
                <a:lnTo>
                  <a:pt x="19" y="125"/>
                </a:lnTo>
                <a:lnTo>
                  <a:pt x="17" y="1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34"/>
          <p:cNvSpPr/>
          <p:nvPr/>
        </p:nvSpPr>
        <p:spPr>
          <a:xfrm>
            <a:off x="6781680" y="3456000"/>
            <a:ext cx="804960" cy="1104840"/>
          </a:xfrm>
          <a:custGeom>
            <a:avLst/>
            <a:gdLst/>
            <a:ahLst/>
            <a:rect l="l" t="t" r="r" b="b"/>
            <a:pathLst>
              <a:path w="1013" h="1391">
                <a:moveTo>
                  <a:pt x="977" y="238"/>
                </a:moveTo>
                <a:lnTo>
                  <a:pt x="971" y="241"/>
                </a:lnTo>
                <a:lnTo>
                  <a:pt x="967" y="243"/>
                </a:lnTo>
                <a:lnTo>
                  <a:pt x="964" y="249"/>
                </a:lnTo>
                <a:lnTo>
                  <a:pt x="962" y="253"/>
                </a:lnTo>
                <a:lnTo>
                  <a:pt x="958" y="259"/>
                </a:lnTo>
                <a:lnTo>
                  <a:pt x="954" y="266"/>
                </a:lnTo>
                <a:lnTo>
                  <a:pt x="952" y="274"/>
                </a:lnTo>
                <a:lnTo>
                  <a:pt x="950" y="282"/>
                </a:lnTo>
                <a:lnTo>
                  <a:pt x="946" y="291"/>
                </a:lnTo>
                <a:lnTo>
                  <a:pt x="944" y="301"/>
                </a:lnTo>
                <a:lnTo>
                  <a:pt x="944" y="312"/>
                </a:lnTo>
                <a:lnTo>
                  <a:pt x="942" y="326"/>
                </a:lnTo>
                <a:lnTo>
                  <a:pt x="940" y="339"/>
                </a:lnTo>
                <a:lnTo>
                  <a:pt x="940" y="355"/>
                </a:lnTo>
                <a:lnTo>
                  <a:pt x="940" y="370"/>
                </a:lnTo>
                <a:lnTo>
                  <a:pt x="940" y="387"/>
                </a:lnTo>
                <a:lnTo>
                  <a:pt x="940" y="406"/>
                </a:lnTo>
                <a:lnTo>
                  <a:pt x="940" y="426"/>
                </a:lnTo>
                <a:lnTo>
                  <a:pt x="940" y="447"/>
                </a:lnTo>
                <a:lnTo>
                  <a:pt x="942" y="470"/>
                </a:lnTo>
                <a:lnTo>
                  <a:pt x="942" y="493"/>
                </a:lnTo>
                <a:lnTo>
                  <a:pt x="944" y="518"/>
                </a:lnTo>
                <a:lnTo>
                  <a:pt x="946" y="543"/>
                </a:lnTo>
                <a:lnTo>
                  <a:pt x="948" y="572"/>
                </a:lnTo>
                <a:lnTo>
                  <a:pt x="950" y="600"/>
                </a:lnTo>
                <a:lnTo>
                  <a:pt x="952" y="629"/>
                </a:lnTo>
                <a:lnTo>
                  <a:pt x="954" y="662"/>
                </a:lnTo>
                <a:lnTo>
                  <a:pt x="956" y="694"/>
                </a:lnTo>
                <a:lnTo>
                  <a:pt x="958" y="727"/>
                </a:lnTo>
                <a:lnTo>
                  <a:pt x="960" y="762"/>
                </a:lnTo>
                <a:lnTo>
                  <a:pt x="962" y="798"/>
                </a:lnTo>
                <a:lnTo>
                  <a:pt x="965" y="836"/>
                </a:lnTo>
                <a:lnTo>
                  <a:pt x="967" y="875"/>
                </a:lnTo>
                <a:lnTo>
                  <a:pt x="967" y="911"/>
                </a:lnTo>
                <a:lnTo>
                  <a:pt x="969" y="946"/>
                </a:lnTo>
                <a:lnTo>
                  <a:pt x="969" y="978"/>
                </a:lnTo>
                <a:lnTo>
                  <a:pt x="969" y="1011"/>
                </a:lnTo>
                <a:lnTo>
                  <a:pt x="969" y="1042"/>
                </a:lnTo>
                <a:lnTo>
                  <a:pt x="967" y="1071"/>
                </a:lnTo>
                <a:lnTo>
                  <a:pt x="967" y="1099"/>
                </a:lnTo>
                <a:lnTo>
                  <a:pt x="965" y="1124"/>
                </a:lnTo>
                <a:lnTo>
                  <a:pt x="964" y="1149"/>
                </a:lnTo>
                <a:lnTo>
                  <a:pt x="964" y="1172"/>
                </a:lnTo>
                <a:lnTo>
                  <a:pt x="962" y="1193"/>
                </a:lnTo>
                <a:lnTo>
                  <a:pt x="958" y="1213"/>
                </a:lnTo>
                <a:lnTo>
                  <a:pt x="956" y="1230"/>
                </a:lnTo>
                <a:lnTo>
                  <a:pt x="954" y="1245"/>
                </a:lnTo>
                <a:lnTo>
                  <a:pt x="952" y="1259"/>
                </a:lnTo>
                <a:lnTo>
                  <a:pt x="948" y="1272"/>
                </a:lnTo>
                <a:lnTo>
                  <a:pt x="942" y="1284"/>
                </a:lnTo>
                <a:lnTo>
                  <a:pt x="939" y="1293"/>
                </a:lnTo>
                <a:lnTo>
                  <a:pt x="935" y="1305"/>
                </a:lnTo>
                <a:lnTo>
                  <a:pt x="929" y="1314"/>
                </a:lnTo>
                <a:lnTo>
                  <a:pt x="925" y="1324"/>
                </a:lnTo>
                <a:lnTo>
                  <a:pt x="919" y="1332"/>
                </a:lnTo>
                <a:lnTo>
                  <a:pt x="916" y="1339"/>
                </a:lnTo>
                <a:lnTo>
                  <a:pt x="912" y="1347"/>
                </a:lnTo>
                <a:lnTo>
                  <a:pt x="906" y="1355"/>
                </a:lnTo>
                <a:lnTo>
                  <a:pt x="902" y="1360"/>
                </a:lnTo>
                <a:lnTo>
                  <a:pt x="896" y="1366"/>
                </a:lnTo>
                <a:lnTo>
                  <a:pt x="892" y="1370"/>
                </a:lnTo>
                <a:lnTo>
                  <a:pt x="889" y="1374"/>
                </a:lnTo>
                <a:lnTo>
                  <a:pt x="883" y="1378"/>
                </a:lnTo>
                <a:lnTo>
                  <a:pt x="879" y="1382"/>
                </a:lnTo>
                <a:lnTo>
                  <a:pt x="869" y="1385"/>
                </a:lnTo>
                <a:lnTo>
                  <a:pt x="862" y="1389"/>
                </a:lnTo>
                <a:lnTo>
                  <a:pt x="852" y="1389"/>
                </a:lnTo>
                <a:lnTo>
                  <a:pt x="848" y="1391"/>
                </a:lnTo>
                <a:lnTo>
                  <a:pt x="844" y="1389"/>
                </a:lnTo>
                <a:lnTo>
                  <a:pt x="841" y="1389"/>
                </a:lnTo>
                <a:lnTo>
                  <a:pt x="837" y="1387"/>
                </a:lnTo>
                <a:lnTo>
                  <a:pt x="833" y="1385"/>
                </a:lnTo>
                <a:lnTo>
                  <a:pt x="829" y="1383"/>
                </a:lnTo>
                <a:lnTo>
                  <a:pt x="825" y="1380"/>
                </a:lnTo>
                <a:lnTo>
                  <a:pt x="823" y="1376"/>
                </a:lnTo>
                <a:lnTo>
                  <a:pt x="820" y="1372"/>
                </a:lnTo>
                <a:lnTo>
                  <a:pt x="818" y="1368"/>
                </a:lnTo>
                <a:lnTo>
                  <a:pt x="816" y="1366"/>
                </a:lnTo>
                <a:lnTo>
                  <a:pt x="814" y="1362"/>
                </a:lnTo>
                <a:lnTo>
                  <a:pt x="812" y="1358"/>
                </a:lnTo>
                <a:lnTo>
                  <a:pt x="810" y="1355"/>
                </a:lnTo>
                <a:lnTo>
                  <a:pt x="808" y="1349"/>
                </a:lnTo>
                <a:lnTo>
                  <a:pt x="806" y="1341"/>
                </a:lnTo>
                <a:lnTo>
                  <a:pt x="804" y="1334"/>
                </a:lnTo>
                <a:lnTo>
                  <a:pt x="802" y="1324"/>
                </a:lnTo>
                <a:lnTo>
                  <a:pt x="800" y="1314"/>
                </a:lnTo>
                <a:lnTo>
                  <a:pt x="798" y="1303"/>
                </a:lnTo>
                <a:lnTo>
                  <a:pt x="796" y="1291"/>
                </a:lnTo>
                <a:lnTo>
                  <a:pt x="796" y="1278"/>
                </a:lnTo>
                <a:lnTo>
                  <a:pt x="795" y="1263"/>
                </a:lnTo>
                <a:lnTo>
                  <a:pt x="793" y="1247"/>
                </a:lnTo>
                <a:lnTo>
                  <a:pt x="791" y="1232"/>
                </a:lnTo>
                <a:lnTo>
                  <a:pt x="791" y="1215"/>
                </a:lnTo>
                <a:lnTo>
                  <a:pt x="789" y="1195"/>
                </a:lnTo>
                <a:lnTo>
                  <a:pt x="789" y="1176"/>
                </a:lnTo>
                <a:lnTo>
                  <a:pt x="787" y="1157"/>
                </a:lnTo>
                <a:lnTo>
                  <a:pt x="787" y="1134"/>
                </a:lnTo>
                <a:lnTo>
                  <a:pt x="785" y="1113"/>
                </a:lnTo>
                <a:lnTo>
                  <a:pt x="785" y="1088"/>
                </a:lnTo>
                <a:lnTo>
                  <a:pt x="785" y="1063"/>
                </a:lnTo>
                <a:lnTo>
                  <a:pt x="783" y="1038"/>
                </a:lnTo>
                <a:lnTo>
                  <a:pt x="783" y="1011"/>
                </a:lnTo>
                <a:lnTo>
                  <a:pt x="783" y="984"/>
                </a:lnTo>
                <a:lnTo>
                  <a:pt x="781" y="955"/>
                </a:lnTo>
                <a:lnTo>
                  <a:pt x="781" y="925"/>
                </a:lnTo>
                <a:lnTo>
                  <a:pt x="781" y="894"/>
                </a:lnTo>
                <a:lnTo>
                  <a:pt x="781" y="863"/>
                </a:lnTo>
                <a:lnTo>
                  <a:pt x="781" y="829"/>
                </a:lnTo>
                <a:lnTo>
                  <a:pt x="781" y="796"/>
                </a:lnTo>
                <a:lnTo>
                  <a:pt x="781" y="762"/>
                </a:lnTo>
                <a:lnTo>
                  <a:pt x="781" y="729"/>
                </a:lnTo>
                <a:lnTo>
                  <a:pt x="781" y="696"/>
                </a:lnTo>
                <a:lnTo>
                  <a:pt x="781" y="666"/>
                </a:lnTo>
                <a:lnTo>
                  <a:pt x="781" y="637"/>
                </a:lnTo>
                <a:lnTo>
                  <a:pt x="779" y="608"/>
                </a:lnTo>
                <a:lnTo>
                  <a:pt x="779" y="579"/>
                </a:lnTo>
                <a:lnTo>
                  <a:pt x="779" y="552"/>
                </a:lnTo>
                <a:lnTo>
                  <a:pt x="779" y="527"/>
                </a:lnTo>
                <a:lnTo>
                  <a:pt x="777" y="502"/>
                </a:lnTo>
                <a:lnTo>
                  <a:pt x="777" y="479"/>
                </a:lnTo>
                <a:lnTo>
                  <a:pt x="777" y="456"/>
                </a:lnTo>
                <a:lnTo>
                  <a:pt x="775" y="435"/>
                </a:lnTo>
                <a:lnTo>
                  <a:pt x="775" y="414"/>
                </a:lnTo>
                <a:lnTo>
                  <a:pt x="773" y="395"/>
                </a:lnTo>
                <a:lnTo>
                  <a:pt x="773" y="376"/>
                </a:lnTo>
                <a:lnTo>
                  <a:pt x="773" y="358"/>
                </a:lnTo>
                <a:lnTo>
                  <a:pt x="772" y="341"/>
                </a:lnTo>
                <a:lnTo>
                  <a:pt x="772" y="326"/>
                </a:lnTo>
                <a:lnTo>
                  <a:pt x="770" y="310"/>
                </a:lnTo>
                <a:lnTo>
                  <a:pt x="770" y="297"/>
                </a:lnTo>
                <a:lnTo>
                  <a:pt x="768" y="284"/>
                </a:lnTo>
                <a:lnTo>
                  <a:pt x="766" y="272"/>
                </a:lnTo>
                <a:lnTo>
                  <a:pt x="766" y="262"/>
                </a:lnTo>
                <a:lnTo>
                  <a:pt x="764" y="251"/>
                </a:lnTo>
                <a:lnTo>
                  <a:pt x="764" y="243"/>
                </a:lnTo>
                <a:lnTo>
                  <a:pt x="762" y="236"/>
                </a:lnTo>
                <a:lnTo>
                  <a:pt x="762" y="228"/>
                </a:lnTo>
                <a:lnTo>
                  <a:pt x="760" y="222"/>
                </a:lnTo>
                <a:lnTo>
                  <a:pt x="758" y="216"/>
                </a:lnTo>
                <a:lnTo>
                  <a:pt x="758" y="213"/>
                </a:lnTo>
                <a:lnTo>
                  <a:pt x="756" y="211"/>
                </a:lnTo>
                <a:lnTo>
                  <a:pt x="747" y="201"/>
                </a:lnTo>
                <a:lnTo>
                  <a:pt x="739" y="191"/>
                </a:lnTo>
                <a:lnTo>
                  <a:pt x="729" y="186"/>
                </a:lnTo>
                <a:lnTo>
                  <a:pt x="718" y="180"/>
                </a:lnTo>
                <a:lnTo>
                  <a:pt x="708" y="174"/>
                </a:lnTo>
                <a:lnTo>
                  <a:pt x="697" y="172"/>
                </a:lnTo>
                <a:lnTo>
                  <a:pt x="685" y="170"/>
                </a:lnTo>
                <a:lnTo>
                  <a:pt x="672" y="170"/>
                </a:lnTo>
                <a:lnTo>
                  <a:pt x="668" y="170"/>
                </a:lnTo>
                <a:lnTo>
                  <a:pt x="662" y="170"/>
                </a:lnTo>
                <a:lnTo>
                  <a:pt x="656" y="170"/>
                </a:lnTo>
                <a:lnTo>
                  <a:pt x="649" y="172"/>
                </a:lnTo>
                <a:lnTo>
                  <a:pt x="641" y="174"/>
                </a:lnTo>
                <a:lnTo>
                  <a:pt x="631" y="174"/>
                </a:lnTo>
                <a:lnTo>
                  <a:pt x="620" y="176"/>
                </a:lnTo>
                <a:lnTo>
                  <a:pt x="608" y="180"/>
                </a:lnTo>
                <a:lnTo>
                  <a:pt x="597" y="182"/>
                </a:lnTo>
                <a:lnTo>
                  <a:pt x="583" y="184"/>
                </a:lnTo>
                <a:lnTo>
                  <a:pt x="568" y="188"/>
                </a:lnTo>
                <a:lnTo>
                  <a:pt x="553" y="191"/>
                </a:lnTo>
                <a:lnTo>
                  <a:pt x="535" y="195"/>
                </a:lnTo>
                <a:lnTo>
                  <a:pt x="516" y="199"/>
                </a:lnTo>
                <a:lnTo>
                  <a:pt x="497" y="203"/>
                </a:lnTo>
                <a:lnTo>
                  <a:pt x="478" y="207"/>
                </a:lnTo>
                <a:lnTo>
                  <a:pt x="455" y="213"/>
                </a:lnTo>
                <a:lnTo>
                  <a:pt x="434" y="218"/>
                </a:lnTo>
                <a:lnTo>
                  <a:pt x="409" y="224"/>
                </a:lnTo>
                <a:lnTo>
                  <a:pt x="384" y="230"/>
                </a:lnTo>
                <a:lnTo>
                  <a:pt x="359" y="236"/>
                </a:lnTo>
                <a:lnTo>
                  <a:pt x="332" y="241"/>
                </a:lnTo>
                <a:lnTo>
                  <a:pt x="303" y="247"/>
                </a:lnTo>
                <a:lnTo>
                  <a:pt x="274" y="255"/>
                </a:lnTo>
                <a:lnTo>
                  <a:pt x="244" y="262"/>
                </a:lnTo>
                <a:lnTo>
                  <a:pt x="211" y="268"/>
                </a:lnTo>
                <a:lnTo>
                  <a:pt x="178" y="276"/>
                </a:lnTo>
                <a:lnTo>
                  <a:pt x="146" y="286"/>
                </a:lnTo>
                <a:lnTo>
                  <a:pt x="111" y="293"/>
                </a:lnTo>
                <a:lnTo>
                  <a:pt x="75" y="301"/>
                </a:lnTo>
                <a:lnTo>
                  <a:pt x="36" y="310"/>
                </a:lnTo>
                <a:lnTo>
                  <a:pt x="0" y="320"/>
                </a:lnTo>
                <a:lnTo>
                  <a:pt x="0" y="170"/>
                </a:lnTo>
                <a:lnTo>
                  <a:pt x="25" y="168"/>
                </a:lnTo>
                <a:lnTo>
                  <a:pt x="50" y="168"/>
                </a:lnTo>
                <a:lnTo>
                  <a:pt x="77" y="167"/>
                </a:lnTo>
                <a:lnTo>
                  <a:pt x="102" y="165"/>
                </a:lnTo>
                <a:lnTo>
                  <a:pt x="128" y="163"/>
                </a:lnTo>
                <a:lnTo>
                  <a:pt x="155" y="159"/>
                </a:lnTo>
                <a:lnTo>
                  <a:pt x="182" y="155"/>
                </a:lnTo>
                <a:lnTo>
                  <a:pt x="209" y="151"/>
                </a:lnTo>
                <a:lnTo>
                  <a:pt x="238" y="145"/>
                </a:lnTo>
                <a:lnTo>
                  <a:pt x="265" y="142"/>
                </a:lnTo>
                <a:lnTo>
                  <a:pt x="322" y="130"/>
                </a:lnTo>
                <a:lnTo>
                  <a:pt x="380" y="117"/>
                </a:lnTo>
                <a:lnTo>
                  <a:pt x="439" y="101"/>
                </a:lnTo>
                <a:lnTo>
                  <a:pt x="468" y="94"/>
                </a:lnTo>
                <a:lnTo>
                  <a:pt x="495" y="86"/>
                </a:lnTo>
                <a:lnTo>
                  <a:pt x="520" y="80"/>
                </a:lnTo>
                <a:lnTo>
                  <a:pt x="545" y="72"/>
                </a:lnTo>
                <a:lnTo>
                  <a:pt x="566" y="67"/>
                </a:lnTo>
                <a:lnTo>
                  <a:pt x="587" y="61"/>
                </a:lnTo>
                <a:lnTo>
                  <a:pt x="606" y="55"/>
                </a:lnTo>
                <a:lnTo>
                  <a:pt x="624" y="49"/>
                </a:lnTo>
                <a:lnTo>
                  <a:pt x="639" y="46"/>
                </a:lnTo>
                <a:lnTo>
                  <a:pt x="654" y="40"/>
                </a:lnTo>
                <a:lnTo>
                  <a:pt x="666" y="36"/>
                </a:lnTo>
                <a:lnTo>
                  <a:pt x="677" y="32"/>
                </a:lnTo>
                <a:lnTo>
                  <a:pt x="687" y="28"/>
                </a:lnTo>
                <a:lnTo>
                  <a:pt x="695" y="26"/>
                </a:lnTo>
                <a:lnTo>
                  <a:pt x="702" y="23"/>
                </a:lnTo>
                <a:lnTo>
                  <a:pt x="708" y="21"/>
                </a:lnTo>
                <a:lnTo>
                  <a:pt x="718" y="15"/>
                </a:lnTo>
                <a:lnTo>
                  <a:pt x="725" y="9"/>
                </a:lnTo>
                <a:lnTo>
                  <a:pt x="735" y="5"/>
                </a:lnTo>
                <a:lnTo>
                  <a:pt x="747" y="1"/>
                </a:lnTo>
                <a:lnTo>
                  <a:pt x="756" y="0"/>
                </a:lnTo>
                <a:lnTo>
                  <a:pt x="762" y="0"/>
                </a:lnTo>
                <a:lnTo>
                  <a:pt x="768" y="0"/>
                </a:lnTo>
                <a:lnTo>
                  <a:pt x="773" y="1"/>
                </a:lnTo>
                <a:lnTo>
                  <a:pt x="779" y="1"/>
                </a:lnTo>
                <a:lnTo>
                  <a:pt x="787" y="3"/>
                </a:lnTo>
                <a:lnTo>
                  <a:pt x="793" y="5"/>
                </a:lnTo>
                <a:lnTo>
                  <a:pt x="806" y="11"/>
                </a:lnTo>
                <a:lnTo>
                  <a:pt x="821" y="19"/>
                </a:lnTo>
                <a:lnTo>
                  <a:pt x="835" y="26"/>
                </a:lnTo>
                <a:lnTo>
                  <a:pt x="852" y="36"/>
                </a:lnTo>
                <a:lnTo>
                  <a:pt x="868" y="48"/>
                </a:lnTo>
                <a:lnTo>
                  <a:pt x="887" y="59"/>
                </a:lnTo>
                <a:lnTo>
                  <a:pt x="906" y="72"/>
                </a:lnTo>
                <a:lnTo>
                  <a:pt x="917" y="80"/>
                </a:lnTo>
                <a:lnTo>
                  <a:pt x="927" y="88"/>
                </a:lnTo>
                <a:lnTo>
                  <a:pt x="939" y="96"/>
                </a:lnTo>
                <a:lnTo>
                  <a:pt x="948" y="103"/>
                </a:lnTo>
                <a:lnTo>
                  <a:pt x="958" y="109"/>
                </a:lnTo>
                <a:lnTo>
                  <a:pt x="967" y="117"/>
                </a:lnTo>
                <a:lnTo>
                  <a:pt x="975" y="122"/>
                </a:lnTo>
                <a:lnTo>
                  <a:pt x="981" y="128"/>
                </a:lnTo>
                <a:lnTo>
                  <a:pt x="988" y="134"/>
                </a:lnTo>
                <a:lnTo>
                  <a:pt x="992" y="140"/>
                </a:lnTo>
                <a:lnTo>
                  <a:pt x="998" y="143"/>
                </a:lnTo>
                <a:lnTo>
                  <a:pt x="1002" y="149"/>
                </a:lnTo>
                <a:lnTo>
                  <a:pt x="1006" y="153"/>
                </a:lnTo>
                <a:lnTo>
                  <a:pt x="1008" y="157"/>
                </a:lnTo>
                <a:lnTo>
                  <a:pt x="1010" y="161"/>
                </a:lnTo>
                <a:lnTo>
                  <a:pt x="1011" y="163"/>
                </a:lnTo>
                <a:lnTo>
                  <a:pt x="1013" y="167"/>
                </a:lnTo>
                <a:lnTo>
                  <a:pt x="1013" y="170"/>
                </a:lnTo>
                <a:lnTo>
                  <a:pt x="1011" y="180"/>
                </a:lnTo>
                <a:lnTo>
                  <a:pt x="1011" y="190"/>
                </a:lnTo>
                <a:lnTo>
                  <a:pt x="1008" y="199"/>
                </a:lnTo>
                <a:lnTo>
                  <a:pt x="1004" y="209"/>
                </a:lnTo>
                <a:lnTo>
                  <a:pt x="998" y="216"/>
                </a:lnTo>
                <a:lnTo>
                  <a:pt x="992" y="224"/>
                </a:lnTo>
                <a:lnTo>
                  <a:pt x="985" y="232"/>
                </a:lnTo>
                <a:lnTo>
                  <a:pt x="977" y="2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35"/>
          <p:cNvSpPr/>
          <p:nvPr/>
        </p:nvSpPr>
        <p:spPr>
          <a:xfrm>
            <a:off x="6431040" y="3803760"/>
            <a:ext cx="766800" cy="1293840"/>
          </a:xfrm>
          <a:custGeom>
            <a:avLst/>
            <a:gdLst/>
            <a:ahLst/>
            <a:rect l="l" t="t" r="r" b="b"/>
            <a:pathLst>
              <a:path w="966" h="1630">
                <a:moveTo>
                  <a:pt x="526" y="1367"/>
                </a:moveTo>
                <a:lnTo>
                  <a:pt x="505" y="1384"/>
                </a:lnTo>
                <a:lnTo>
                  <a:pt x="486" y="1401"/>
                </a:lnTo>
                <a:lnTo>
                  <a:pt x="465" y="1417"/>
                </a:lnTo>
                <a:lnTo>
                  <a:pt x="444" y="1434"/>
                </a:lnTo>
                <a:lnTo>
                  <a:pt x="425" y="1449"/>
                </a:lnTo>
                <a:lnTo>
                  <a:pt x="403" y="1463"/>
                </a:lnTo>
                <a:lnTo>
                  <a:pt x="382" y="1476"/>
                </a:lnTo>
                <a:lnTo>
                  <a:pt x="361" y="1490"/>
                </a:lnTo>
                <a:lnTo>
                  <a:pt x="321" y="1516"/>
                </a:lnTo>
                <a:lnTo>
                  <a:pt x="279" y="1540"/>
                </a:lnTo>
                <a:lnTo>
                  <a:pt x="238" y="1563"/>
                </a:lnTo>
                <a:lnTo>
                  <a:pt x="196" y="1584"/>
                </a:lnTo>
                <a:lnTo>
                  <a:pt x="175" y="1591"/>
                </a:lnTo>
                <a:lnTo>
                  <a:pt x="154" y="1599"/>
                </a:lnTo>
                <a:lnTo>
                  <a:pt x="135" y="1605"/>
                </a:lnTo>
                <a:lnTo>
                  <a:pt x="115" y="1611"/>
                </a:lnTo>
                <a:lnTo>
                  <a:pt x="100" y="1614"/>
                </a:lnTo>
                <a:lnTo>
                  <a:pt x="85" y="1618"/>
                </a:lnTo>
                <a:lnTo>
                  <a:pt x="69" y="1622"/>
                </a:lnTo>
                <a:lnTo>
                  <a:pt x="58" y="1626"/>
                </a:lnTo>
                <a:lnTo>
                  <a:pt x="46" y="1628"/>
                </a:lnTo>
                <a:lnTo>
                  <a:pt x="35" y="1630"/>
                </a:lnTo>
                <a:lnTo>
                  <a:pt x="27" y="1630"/>
                </a:lnTo>
                <a:lnTo>
                  <a:pt x="19" y="1630"/>
                </a:lnTo>
                <a:lnTo>
                  <a:pt x="14" y="1630"/>
                </a:lnTo>
                <a:lnTo>
                  <a:pt x="8" y="1630"/>
                </a:lnTo>
                <a:lnTo>
                  <a:pt x="4" y="1628"/>
                </a:lnTo>
                <a:lnTo>
                  <a:pt x="0" y="1626"/>
                </a:lnTo>
                <a:lnTo>
                  <a:pt x="0" y="1622"/>
                </a:lnTo>
                <a:lnTo>
                  <a:pt x="0" y="1618"/>
                </a:lnTo>
                <a:lnTo>
                  <a:pt x="2" y="1612"/>
                </a:lnTo>
                <a:lnTo>
                  <a:pt x="6" y="1607"/>
                </a:lnTo>
                <a:lnTo>
                  <a:pt x="12" y="1601"/>
                </a:lnTo>
                <a:lnTo>
                  <a:pt x="18" y="1593"/>
                </a:lnTo>
                <a:lnTo>
                  <a:pt x="27" y="1586"/>
                </a:lnTo>
                <a:lnTo>
                  <a:pt x="39" y="1576"/>
                </a:lnTo>
                <a:lnTo>
                  <a:pt x="50" y="1566"/>
                </a:lnTo>
                <a:lnTo>
                  <a:pt x="64" y="1555"/>
                </a:lnTo>
                <a:lnTo>
                  <a:pt x="79" y="1543"/>
                </a:lnTo>
                <a:lnTo>
                  <a:pt x="98" y="1532"/>
                </a:lnTo>
                <a:lnTo>
                  <a:pt x="117" y="1518"/>
                </a:lnTo>
                <a:lnTo>
                  <a:pt x="137" y="1505"/>
                </a:lnTo>
                <a:lnTo>
                  <a:pt x="160" y="1490"/>
                </a:lnTo>
                <a:lnTo>
                  <a:pt x="185" y="1476"/>
                </a:lnTo>
                <a:lnTo>
                  <a:pt x="209" y="1459"/>
                </a:lnTo>
                <a:lnTo>
                  <a:pt x="233" y="1444"/>
                </a:lnTo>
                <a:lnTo>
                  <a:pt x="257" y="1428"/>
                </a:lnTo>
                <a:lnTo>
                  <a:pt x="281" y="1411"/>
                </a:lnTo>
                <a:lnTo>
                  <a:pt x="327" y="1376"/>
                </a:lnTo>
                <a:lnTo>
                  <a:pt x="369" y="1340"/>
                </a:lnTo>
                <a:lnTo>
                  <a:pt x="390" y="1323"/>
                </a:lnTo>
                <a:lnTo>
                  <a:pt x="411" y="1303"/>
                </a:lnTo>
                <a:lnTo>
                  <a:pt x="430" y="1282"/>
                </a:lnTo>
                <a:lnTo>
                  <a:pt x="451" y="1263"/>
                </a:lnTo>
                <a:lnTo>
                  <a:pt x="471" y="1242"/>
                </a:lnTo>
                <a:lnTo>
                  <a:pt x="490" y="1221"/>
                </a:lnTo>
                <a:lnTo>
                  <a:pt x="509" y="1198"/>
                </a:lnTo>
                <a:lnTo>
                  <a:pt x="526" y="1177"/>
                </a:lnTo>
                <a:lnTo>
                  <a:pt x="542" y="1152"/>
                </a:lnTo>
                <a:lnTo>
                  <a:pt x="557" y="1129"/>
                </a:lnTo>
                <a:lnTo>
                  <a:pt x="572" y="1106"/>
                </a:lnTo>
                <a:lnTo>
                  <a:pt x="586" y="1083"/>
                </a:lnTo>
                <a:lnTo>
                  <a:pt x="599" y="1060"/>
                </a:lnTo>
                <a:lnTo>
                  <a:pt x="613" y="1037"/>
                </a:lnTo>
                <a:lnTo>
                  <a:pt x="624" y="1014"/>
                </a:lnTo>
                <a:lnTo>
                  <a:pt x="636" y="991"/>
                </a:lnTo>
                <a:lnTo>
                  <a:pt x="647" y="969"/>
                </a:lnTo>
                <a:lnTo>
                  <a:pt x="659" y="946"/>
                </a:lnTo>
                <a:lnTo>
                  <a:pt x="668" y="923"/>
                </a:lnTo>
                <a:lnTo>
                  <a:pt x="678" y="900"/>
                </a:lnTo>
                <a:lnTo>
                  <a:pt x="688" y="877"/>
                </a:lnTo>
                <a:lnTo>
                  <a:pt x="695" y="854"/>
                </a:lnTo>
                <a:lnTo>
                  <a:pt x="703" y="831"/>
                </a:lnTo>
                <a:lnTo>
                  <a:pt x="711" y="808"/>
                </a:lnTo>
                <a:lnTo>
                  <a:pt x="716" y="785"/>
                </a:lnTo>
                <a:lnTo>
                  <a:pt x="722" y="760"/>
                </a:lnTo>
                <a:lnTo>
                  <a:pt x="728" y="737"/>
                </a:lnTo>
                <a:lnTo>
                  <a:pt x="736" y="710"/>
                </a:lnTo>
                <a:lnTo>
                  <a:pt x="739" y="685"/>
                </a:lnTo>
                <a:lnTo>
                  <a:pt x="745" y="659"/>
                </a:lnTo>
                <a:lnTo>
                  <a:pt x="751" y="632"/>
                </a:lnTo>
                <a:lnTo>
                  <a:pt x="755" y="603"/>
                </a:lnTo>
                <a:lnTo>
                  <a:pt x="760" y="576"/>
                </a:lnTo>
                <a:lnTo>
                  <a:pt x="764" y="547"/>
                </a:lnTo>
                <a:lnTo>
                  <a:pt x="768" y="516"/>
                </a:lnTo>
                <a:lnTo>
                  <a:pt x="772" y="486"/>
                </a:lnTo>
                <a:lnTo>
                  <a:pt x="776" y="455"/>
                </a:lnTo>
                <a:lnTo>
                  <a:pt x="778" y="424"/>
                </a:lnTo>
                <a:lnTo>
                  <a:pt x="782" y="392"/>
                </a:lnTo>
                <a:lnTo>
                  <a:pt x="784" y="359"/>
                </a:lnTo>
                <a:lnTo>
                  <a:pt x="785" y="328"/>
                </a:lnTo>
                <a:lnTo>
                  <a:pt x="787" y="302"/>
                </a:lnTo>
                <a:lnTo>
                  <a:pt x="787" y="275"/>
                </a:lnTo>
                <a:lnTo>
                  <a:pt x="787" y="250"/>
                </a:lnTo>
                <a:lnTo>
                  <a:pt x="787" y="225"/>
                </a:lnTo>
                <a:lnTo>
                  <a:pt x="787" y="204"/>
                </a:lnTo>
                <a:lnTo>
                  <a:pt x="785" y="183"/>
                </a:lnTo>
                <a:lnTo>
                  <a:pt x="784" y="163"/>
                </a:lnTo>
                <a:lnTo>
                  <a:pt x="782" y="146"/>
                </a:lnTo>
                <a:lnTo>
                  <a:pt x="780" y="129"/>
                </a:lnTo>
                <a:lnTo>
                  <a:pt x="778" y="113"/>
                </a:lnTo>
                <a:lnTo>
                  <a:pt x="774" y="100"/>
                </a:lnTo>
                <a:lnTo>
                  <a:pt x="770" y="88"/>
                </a:lnTo>
                <a:lnTo>
                  <a:pt x="766" y="77"/>
                </a:lnTo>
                <a:lnTo>
                  <a:pt x="762" y="67"/>
                </a:lnTo>
                <a:lnTo>
                  <a:pt x="759" y="60"/>
                </a:lnTo>
                <a:lnTo>
                  <a:pt x="755" y="54"/>
                </a:lnTo>
                <a:lnTo>
                  <a:pt x="751" y="50"/>
                </a:lnTo>
                <a:lnTo>
                  <a:pt x="747" y="44"/>
                </a:lnTo>
                <a:lnTo>
                  <a:pt x="745" y="40"/>
                </a:lnTo>
                <a:lnTo>
                  <a:pt x="743" y="37"/>
                </a:lnTo>
                <a:lnTo>
                  <a:pt x="741" y="33"/>
                </a:lnTo>
                <a:lnTo>
                  <a:pt x="741" y="31"/>
                </a:lnTo>
                <a:lnTo>
                  <a:pt x="741" y="27"/>
                </a:lnTo>
                <a:lnTo>
                  <a:pt x="741" y="23"/>
                </a:lnTo>
                <a:lnTo>
                  <a:pt x="741" y="21"/>
                </a:lnTo>
                <a:lnTo>
                  <a:pt x="743" y="17"/>
                </a:lnTo>
                <a:lnTo>
                  <a:pt x="745" y="16"/>
                </a:lnTo>
                <a:lnTo>
                  <a:pt x="747" y="12"/>
                </a:lnTo>
                <a:lnTo>
                  <a:pt x="751" y="10"/>
                </a:lnTo>
                <a:lnTo>
                  <a:pt x="755" y="8"/>
                </a:lnTo>
                <a:lnTo>
                  <a:pt x="759" y="4"/>
                </a:lnTo>
                <a:lnTo>
                  <a:pt x="760" y="2"/>
                </a:lnTo>
                <a:lnTo>
                  <a:pt x="764" y="0"/>
                </a:lnTo>
                <a:lnTo>
                  <a:pt x="768" y="0"/>
                </a:lnTo>
                <a:lnTo>
                  <a:pt x="772" y="0"/>
                </a:lnTo>
                <a:lnTo>
                  <a:pt x="778" y="0"/>
                </a:lnTo>
                <a:lnTo>
                  <a:pt x="784" y="0"/>
                </a:lnTo>
                <a:lnTo>
                  <a:pt x="789" y="0"/>
                </a:lnTo>
                <a:lnTo>
                  <a:pt x="795" y="2"/>
                </a:lnTo>
                <a:lnTo>
                  <a:pt x="803" y="4"/>
                </a:lnTo>
                <a:lnTo>
                  <a:pt x="810" y="8"/>
                </a:lnTo>
                <a:lnTo>
                  <a:pt x="818" y="10"/>
                </a:lnTo>
                <a:lnTo>
                  <a:pt x="828" y="14"/>
                </a:lnTo>
                <a:lnTo>
                  <a:pt x="837" y="17"/>
                </a:lnTo>
                <a:lnTo>
                  <a:pt x="847" y="21"/>
                </a:lnTo>
                <a:lnTo>
                  <a:pt x="856" y="27"/>
                </a:lnTo>
                <a:lnTo>
                  <a:pt x="868" y="33"/>
                </a:lnTo>
                <a:lnTo>
                  <a:pt x="879" y="37"/>
                </a:lnTo>
                <a:lnTo>
                  <a:pt x="889" y="42"/>
                </a:lnTo>
                <a:lnTo>
                  <a:pt x="899" y="48"/>
                </a:lnTo>
                <a:lnTo>
                  <a:pt x="908" y="52"/>
                </a:lnTo>
                <a:lnTo>
                  <a:pt x="916" y="58"/>
                </a:lnTo>
                <a:lnTo>
                  <a:pt x="924" y="62"/>
                </a:lnTo>
                <a:lnTo>
                  <a:pt x="929" y="67"/>
                </a:lnTo>
                <a:lnTo>
                  <a:pt x="935" y="71"/>
                </a:lnTo>
                <a:lnTo>
                  <a:pt x="941" y="75"/>
                </a:lnTo>
                <a:lnTo>
                  <a:pt x="947" y="81"/>
                </a:lnTo>
                <a:lnTo>
                  <a:pt x="951" y="85"/>
                </a:lnTo>
                <a:lnTo>
                  <a:pt x="954" y="88"/>
                </a:lnTo>
                <a:lnTo>
                  <a:pt x="962" y="94"/>
                </a:lnTo>
                <a:lnTo>
                  <a:pt x="966" y="100"/>
                </a:lnTo>
                <a:lnTo>
                  <a:pt x="966" y="106"/>
                </a:lnTo>
                <a:lnTo>
                  <a:pt x="966" y="111"/>
                </a:lnTo>
                <a:lnTo>
                  <a:pt x="966" y="119"/>
                </a:lnTo>
                <a:lnTo>
                  <a:pt x="966" y="129"/>
                </a:lnTo>
                <a:lnTo>
                  <a:pt x="966" y="136"/>
                </a:lnTo>
                <a:lnTo>
                  <a:pt x="966" y="148"/>
                </a:lnTo>
                <a:lnTo>
                  <a:pt x="966" y="158"/>
                </a:lnTo>
                <a:lnTo>
                  <a:pt x="964" y="169"/>
                </a:lnTo>
                <a:lnTo>
                  <a:pt x="964" y="183"/>
                </a:lnTo>
                <a:lnTo>
                  <a:pt x="964" y="196"/>
                </a:lnTo>
                <a:lnTo>
                  <a:pt x="962" y="209"/>
                </a:lnTo>
                <a:lnTo>
                  <a:pt x="960" y="225"/>
                </a:lnTo>
                <a:lnTo>
                  <a:pt x="960" y="240"/>
                </a:lnTo>
                <a:lnTo>
                  <a:pt x="958" y="255"/>
                </a:lnTo>
                <a:lnTo>
                  <a:pt x="956" y="273"/>
                </a:lnTo>
                <a:lnTo>
                  <a:pt x="954" y="290"/>
                </a:lnTo>
                <a:lnTo>
                  <a:pt x="952" y="309"/>
                </a:lnTo>
                <a:lnTo>
                  <a:pt x="949" y="328"/>
                </a:lnTo>
                <a:lnTo>
                  <a:pt x="947" y="348"/>
                </a:lnTo>
                <a:lnTo>
                  <a:pt x="945" y="367"/>
                </a:lnTo>
                <a:lnTo>
                  <a:pt x="943" y="388"/>
                </a:lnTo>
                <a:lnTo>
                  <a:pt x="939" y="409"/>
                </a:lnTo>
                <a:lnTo>
                  <a:pt x="937" y="432"/>
                </a:lnTo>
                <a:lnTo>
                  <a:pt x="933" y="453"/>
                </a:lnTo>
                <a:lnTo>
                  <a:pt x="931" y="478"/>
                </a:lnTo>
                <a:lnTo>
                  <a:pt x="927" y="501"/>
                </a:lnTo>
                <a:lnTo>
                  <a:pt x="926" y="526"/>
                </a:lnTo>
                <a:lnTo>
                  <a:pt x="922" y="551"/>
                </a:lnTo>
                <a:lnTo>
                  <a:pt x="918" y="576"/>
                </a:lnTo>
                <a:lnTo>
                  <a:pt x="914" y="603"/>
                </a:lnTo>
                <a:lnTo>
                  <a:pt x="910" y="630"/>
                </a:lnTo>
                <a:lnTo>
                  <a:pt x="906" y="659"/>
                </a:lnTo>
                <a:lnTo>
                  <a:pt x="895" y="714"/>
                </a:lnTo>
                <a:lnTo>
                  <a:pt x="885" y="768"/>
                </a:lnTo>
                <a:lnTo>
                  <a:pt x="872" y="820"/>
                </a:lnTo>
                <a:lnTo>
                  <a:pt x="858" y="872"/>
                </a:lnTo>
                <a:lnTo>
                  <a:pt x="851" y="895"/>
                </a:lnTo>
                <a:lnTo>
                  <a:pt x="841" y="920"/>
                </a:lnTo>
                <a:lnTo>
                  <a:pt x="833" y="943"/>
                </a:lnTo>
                <a:lnTo>
                  <a:pt x="824" y="966"/>
                </a:lnTo>
                <a:lnTo>
                  <a:pt x="814" y="989"/>
                </a:lnTo>
                <a:lnTo>
                  <a:pt x="805" y="1012"/>
                </a:lnTo>
                <a:lnTo>
                  <a:pt x="795" y="1033"/>
                </a:lnTo>
                <a:lnTo>
                  <a:pt x="784" y="1054"/>
                </a:lnTo>
                <a:lnTo>
                  <a:pt x="772" y="1075"/>
                </a:lnTo>
                <a:lnTo>
                  <a:pt x="759" y="1098"/>
                </a:lnTo>
                <a:lnTo>
                  <a:pt x="747" y="1119"/>
                </a:lnTo>
                <a:lnTo>
                  <a:pt x="734" y="1140"/>
                </a:lnTo>
                <a:lnTo>
                  <a:pt x="718" y="1161"/>
                </a:lnTo>
                <a:lnTo>
                  <a:pt x="705" y="1181"/>
                </a:lnTo>
                <a:lnTo>
                  <a:pt x="689" y="1200"/>
                </a:lnTo>
                <a:lnTo>
                  <a:pt x="674" y="1219"/>
                </a:lnTo>
                <a:lnTo>
                  <a:pt x="657" y="1238"/>
                </a:lnTo>
                <a:lnTo>
                  <a:pt x="640" y="1257"/>
                </a:lnTo>
                <a:lnTo>
                  <a:pt x="622" y="1277"/>
                </a:lnTo>
                <a:lnTo>
                  <a:pt x="605" y="1294"/>
                </a:lnTo>
                <a:lnTo>
                  <a:pt x="586" y="1313"/>
                </a:lnTo>
                <a:lnTo>
                  <a:pt x="567" y="1330"/>
                </a:lnTo>
                <a:lnTo>
                  <a:pt x="547" y="1348"/>
                </a:lnTo>
                <a:lnTo>
                  <a:pt x="526" y="13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36"/>
          <p:cNvSpPr/>
          <p:nvPr/>
        </p:nvSpPr>
        <p:spPr>
          <a:xfrm>
            <a:off x="7169040" y="4587840"/>
            <a:ext cx="462240" cy="538200"/>
          </a:xfrm>
          <a:custGeom>
            <a:avLst/>
            <a:gdLst/>
            <a:ahLst/>
            <a:rect l="l" t="t" r="r" b="b"/>
            <a:pathLst>
              <a:path w="582" h="677">
                <a:moveTo>
                  <a:pt x="576" y="595"/>
                </a:moveTo>
                <a:lnTo>
                  <a:pt x="572" y="604"/>
                </a:lnTo>
                <a:lnTo>
                  <a:pt x="571" y="614"/>
                </a:lnTo>
                <a:lnTo>
                  <a:pt x="567" y="623"/>
                </a:lnTo>
                <a:lnTo>
                  <a:pt x="565" y="631"/>
                </a:lnTo>
                <a:lnTo>
                  <a:pt x="561" y="639"/>
                </a:lnTo>
                <a:lnTo>
                  <a:pt x="557" y="645"/>
                </a:lnTo>
                <a:lnTo>
                  <a:pt x="555" y="650"/>
                </a:lnTo>
                <a:lnTo>
                  <a:pt x="551" y="656"/>
                </a:lnTo>
                <a:lnTo>
                  <a:pt x="548" y="662"/>
                </a:lnTo>
                <a:lnTo>
                  <a:pt x="544" y="666"/>
                </a:lnTo>
                <a:lnTo>
                  <a:pt x="540" y="670"/>
                </a:lnTo>
                <a:lnTo>
                  <a:pt x="538" y="671"/>
                </a:lnTo>
                <a:lnTo>
                  <a:pt x="534" y="673"/>
                </a:lnTo>
                <a:lnTo>
                  <a:pt x="530" y="675"/>
                </a:lnTo>
                <a:lnTo>
                  <a:pt x="528" y="677"/>
                </a:lnTo>
                <a:lnTo>
                  <a:pt x="526" y="677"/>
                </a:lnTo>
                <a:lnTo>
                  <a:pt x="523" y="677"/>
                </a:lnTo>
                <a:lnTo>
                  <a:pt x="521" y="675"/>
                </a:lnTo>
                <a:lnTo>
                  <a:pt x="517" y="673"/>
                </a:lnTo>
                <a:lnTo>
                  <a:pt x="513" y="671"/>
                </a:lnTo>
                <a:lnTo>
                  <a:pt x="509" y="670"/>
                </a:lnTo>
                <a:lnTo>
                  <a:pt x="505" y="666"/>
                </a:lnTo>
                <a:lnTo>
                  <a:pt x="500" y="662"/>
                </a:lnTo>
                <a:lnTo>
                  <a:pt x="494" y="656"/>
                </a:lnTo>
                <a:lnTo>
                  <a:pt x="488" y="652"/>
                </a:lnTo>
                <a:lnTo>
                  <a:pt x="482" y="646"/>
                </a:lnTo>
                <a:lnTo>
                  <a:pt x="475" y="639"/>
                </a:lnTo>
                <a:lnTo>
                  <a:pt x="469" y="631"/>
                </a:lnTo>
                <a:lnTo>
                  <a:pt x="461" y="623"/>
                </a:lnTo>
                <a:lnTo>
                  <a:pt x="452" y="616"/>
                </a:lnTo>
                <a:lnTo>
                  <a:pt x="444" y="606"/>
                </a:lnTo>
                <a:lnTo>
                  <a:pt x="436" y="597"/>
                </a:lnTo>
                <a:lnTo>
                  <a:pt x="427" y="587"/>
                </a:lnTo>
                <a:lnTo>
                  <a:pt x="417" y="577"/>
                </a:lnTo>
                <a:lnTo>
                  <a:pt x="407" y="566"/>
                </a:lnTo>
                <a:lnTo>
                  <a:pt x="396" y="552"/>
                </a:lnTo>
                <a:lnTo>
                  <a:pt x="386" y="541"/>
                </a:lnTo>
                <a:lnTo>
                  <a:pt x="375" y="527"/>
                </a:lnTo>
                <a:lnTo>
                  <a:pt x="363" y="514"/>
                </a:lnTo>
                <a:lnTo>
                  <a:pt x="352" y="499"/>
                </a:lnTo>
                <a:lnTo>
                  <a:pt x="340" y="485"/>
                </a:lnTo>
                <a:lnTo>
                  <a:pt x="327" y="470"/>
                </a:lnTo>
                <a:lnTo>
                  <a:pt x="315" y="453"/>
                </a:lnTo>
                <a:lnTo>
                  <a:pt x="302" y="435"/>
                </a:lnTo>
                <a:lnTo>
                  <a:pt x="288" y="420"/>
                </a:lnTo>
                <a:lnTo>
                  <a:pt x="273" y="401"/>
                </a:lnTo>
                <a:lnTo>
                  <a:pt x="260" y="384"/>
                </a:lnTo>
                <a:lnTo>
                  <a:pt x="246" y="364"/>
                </a:lnTo>
                <a:lnTo>
                  <a:pt x="231" y="345"/>
                </a:lnTo>
                <a:lnTo>
                  <a:pt x="217" y="326"/>
                </a:lnTo>
                <a:lnTo>
                  <a:pt x="202" y="309"/>
                </a:lnTo>
                <a:lnTo>
                  <a:pt x="190" y="291"/>
                </a:lnTo>
                <a:lnTo>
                  <a:pt x="177" y="274"/>
                </a:lnTo>
                <a:lnTo>
                  <a:pt x="164" y="257"/>
                </a:lnTo>
                <a:lnTo>
                  <a:pt x="152" y="242"/>
                </a:lnTo>
                <a:lnTo>
                  <a:pt x="141" y="226"/>
                </a:lnTo>
                <a:lnTo>
                  <a:pt x="129" y="211"/>
                </a:lnTo>
                <a:lnTo>
                  <a:pt x="119" y="195"/>
                </a:lnTo>
                <a:lnTo>
                  <a:pt x="108" y="182"/>
                </a:lnTo>
                <a:lnTo>
                  <a:pt x="98" y="169"/>
                </a:lnTo>
                <a:lnTo>
                  <a:pt x="89" y="155"/>
                </a:lnTo>
                <a:lnTo>
                  <a:pt x="81" y="144"/>
                </a:lnTo>
                <a:lnTo>
                  <a:pt x="71" y="130"/>
                </a:lnTo>
                <a:lnTo>
                  <a:pt x="64" y="121"/>
                </a:lnTo>
                <a:lnTo>
                  <a:pt x="56" y="109"/>
                </a:lnTo>
                <a:lnTo>
                  <a:pt x="50" y="99"/>
                </a:lnTo>
                <a:lnTo>
                  <a:pt x="43" y="88"/>
                </a:lnTo>
                <a:lnTo>
                  <a:pt x="37" y="80"/>
                </a:lnTo>
                <a:lnTo>
                  <a:pt x="31" y="71"/>
                </a:lnTo>
                <a:lnTo>
                  <a:pt x="25" y="63"/>
                </a:lnTo>
                <a:lnTo>
                  <a:pt x="22" y="55"/>
                </a:lnTo>
                <a:lnTo>
                  <a:pt x="18" y="48"/>
                </a:lnTo>
                <a:lnTo>
                  <a:pt x="14" y="42"/>
                </a:lnTo>
                <a:lnTo>
                  <a:pt x="10" y="34"/>
                </a:lnTo>
                <a:lnTo>
                  <a:pt x="8" y="28"/>
                </a:lnTo>
                <a:lnTo>
                  <a:pt x="4" y="25"/>
                </a:lnTo>
                <a:lnTo>
                  <a:pt x="2" y="21"/>
                </a:lnTo>
                <a:lnTo>
                  <a:pt x="2" y="17"/>
                </a:lnTo>
                <a:lnTo>
                  <a:pt x="0" y="13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4" y="3"/>
                </a:lnTo>
                <a:lnTo>
                  <a:pt x="8" y="2"/>
                </a:lnTo>
                <a:lnTo>
                  <a:pt x="12" y="2"/>
                </a:lnTo>
                <a:lnTo>
                  <a:pt x="18" y="0"/>
                </a:lnTo>
                <a:lnTo>
                  <a:pt x="23" y="0"/>
                </a:lnTo>
                <a:lnTo>
                  <a:pt x="29" y="0"/>
                </a:lnTo>
                <a:lnTo>
                  <a:pt x="37" y="0"/>
                </a:lnTo>
                <a:lnTo>
                  <a:pt x="46" y="0"/>
                </a:lnTo>
                <a:lnTo>
                  <a:pt x="56" y="2"/>
                </a:lnTo>
                <a:lnTo>
                  <a:pt x="68" y="2"/>
                </a:lnTo>
                <a:lnTo>
                  <a:pt x="79" y="3"/>
                </a:lnTo>
                <a:lnTo>
                  <a:pt x="93" y="5"/>
                </a:lnTo>
                <a:lnTo>
                  <a:pt x="108" y="7"/>
                </a:lnTo>
                <a:lnTo>
                  <a:pt x="123" y="9"/>
                </a:lnTo>
                <a:lnTo>
                  <a:pt x="137" y="15"/>
                </a:lnTo>
                <a:lnTo>
                  <a:pt x="150" y="21"/>
                </a:lnTo>
                <a:lnTo>
                  <a:pt x="166" y="28"/>
                </a:lnTo>
                <a:lnTo>
                  <a:pt x="181" y="36"/>
                </a:lnTo>
                <a:lnTo>
                  <a:pt x="194" y="44"/>
                </a:lnTo>
                <a:lnTo>
                  <a:pt x="210" y="51"/>
                </a:lnTo>
                <a:lnTo>
                  <a:pt x="225" y="59"/>
                </a:lnTo>
                <a:lnTo>
                  <a:pt x="240" y="69"/>
                </a:lnTo>
                <a:lnTo>
                  <a:pt x="256" y="78"/>
                </a:lnTo>
                <a:lnTo>
                  <a:pt x="273" y="90"/>
                </a:lnTo>
                <a:lnTo>
                  <a:pt x="304" y="111"/>
                </a:lnTo>
                <a:lnTo>
                  <a:pt x="336" y="134"/>
                </a:lnTo>
                <a:lnTo>
                  <a:pt x="367" y="159"/>
                </a:lnTo>
                <a:lnTo>
                  <a:pt x="382" y="172"/>
                </a:lnTo>
                <a:lnTo>
                  <a:pt x="398" y="186"/>
                </a:lnTo>
                <a:lnTo>
                  <a:pt x="413" y="199"/>
                </a:lnTo>
                <a:lnTo>
                  <a:pt x="427" y="213"/>
                </a:lnTo>
                <a:lnTo>
                  <a:pt x="440" y="226"/>
                </a:lnTo>
                <a:lnTo>
                  <a:pt x="453" y="242"/>
                </a:lnTo>
                <a:lnTo>
                  <a:pt x="465" y="255"/>
                </a:lnTo>
                <a:lnTo>
                  <a:pt x="477" y="270"/>
                </a:lnTo>
                <a:lnTo>
                  <a:pt x="488" y="286"/>
                </a:lnTo>
                <a:lnTo>
                  <a:pt x="500" y="299"/>
                </a:lnTo>
                <a:lnTo>
                  <a:pt x="509" y="314"/>
                </a:lnTo>
                <a:lnTo>
                  <a:pt x="519" y="330"/>
                </a:lnTo>
                <a:lnTo>
                  <a:pt x="528" y="345"/>
                </a:lnTo>
                <a:lnTo>
                  <a:pt x="536" y="361"/>
                </a:lnTo>
                <a:lnTo>
                  <a:pt x="544" y="376"/>
                </a:lnTo>
                <a:lnTo>
                  <a:pt x="551" y="391"/>
                </a:lnTo>
                <a:lnTo>
                  <a:pt x="557" y="407"/>
                </a:lnTo>
                <a:lnTo>
                  <a:pt x="563" y="420"/>
                </a:lnTo>
                <a:lnTo>
                  <a:pt x="567" y="435"/>
                </a:lnTo>
                <a:lnTo>
                  <a:pt x="572" y="449"/>
                </a:lnTo>
                <a:lnTo>
                  <a:pt x="574" y="464"/>
                </a:lnTo>
                <a:lnTo>
                  <a:pt x="578" y="478"/>
                </a:lnTo>
                <a:lnTo>
                  <a:pt x="580" y="491"/>
                </a:lnTo>
                <a:lnTo>
                  <a:pt x="582" y="503"/>
                </a:lnTo>
                <a:lnTo>
                  <a:pt x="582" y="516"/>
                </a:lnTo>
                <a:lnTo>
                  <a:pt x="582" y="527"/>
                </a:lnTo>
                <a:lnTo>
                  <a:pt x="582" y="541"/>
                </a:lnTo>
                <a:lnTo>
                  <a:pt x="582" y="552"/>
                </a:lnTo>
                <a:lnTo>
                  <a:pt x="580" y="574"/>
                </a:lnTo>
                <a:lnTo>
                  <a:pt x="576" y="5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37"/>
          <p:cNvSpPr/>
          <p:nvPr/>
        </p:nvSpPr>
        <p:spPr>
          <a:xfrm>
            <a:off x="6286680" y="4316400"/>
            <a:ext cx="272880" cy="314280"/>
          </a:xfrm>
          <a:custGeom>
            <a:avLst/>
            <a:gdLst/>
            <a:ahLst/>
            <a:rect l="l" t="t" r="r" b="b"/>
            <a:pathLst>
              <a:path w="344" h="397">
                <a:moveTo>
                  <a:pt x="0" y="27"/>
                </a:moveTo>
                <a:lnTo>
                  <a:pt x="0" y="25"/>
                </a:lnTo>
                <a:lnTo>
                  <a:pt x="0" y="21"/>
                </a:lnTo>
                <a:lnTo>
                  <a:pt x="2" y="19"/>
                </a:lnTo>
                <a:lnTo>
                  <a:pt x="4" y="17"/>
                </a:lnTo>
                <a:lnTo>
                  <a:pt x="8" y="15"/>
                </a:lnTo>
                <a:lnTo>
                  <a:pt x="9" y="12"/>
                </a:lnTo>
                <a:lnTo>
                  <a:pt x="13" y="10"/>
                </a:lnTo>
                <a:lnTo>
                  <a:pt x="17" y="8"/>
                </a:lnTo>
                <a:lnTo>
                  <a:pt x="23" y="6"/>
                </a:lnTo>
                <a:lnTo>
                  <a:pt x="29" y="4"/>
                </a:lnTo>
                <a:lnTo>
                  <a:pt x="34" y="4"/>
                </a:lnTo>
                <a:lnTo>
                  <a:pt x="40" y="2"/>
                </a:lnTo>
                <a:lnTo>
                  <a:pt x="48" y="0"/>
                </a:lnTo>
                <a:lnTo>
                  <a:pt x="56" y="0"/>
                </a:lnTo>
                <a:lnTo>
                  <a:pt x="63" y="0"/>
                </a:lnTo>
                <a:lnTo>
                  <a:pt x="73" y="0"/>
                </a:lnTo>
                <a:lnTo>
                  <a:pt x="82" y="0"/>
                </a:lnTo>
                <a:lnTo>
                  <a:pt x="92" y="0"/>
                </a:lnTo>
                <a:lnTo>
                  <a:pt x="102" y="2"/>
                </a:lnTo>
                <a:lnTo>
                  <a:pt x="111" y="4"/>
                </a:lnTo>
                <a:lnTo>
                  <a:pt x="123" y="8"/>
                </a:lnTo>
                <a:lnTo>
                  <a:pt x="132" y="12"/>
                </a:lnTo>
                <a:lnTo>
                  <a:pt x="144" y="15"/>
                </a:lnTo>
                <a:lnTo>
                  <a:pt x="155" y="21"/>
                </a:lnTo>
                <a:lnTo>
                  <a:pt x="167" y="27"/>
                </a:lnTo>
                <a:lnTo>
                  <a:pt x="178" y="35"/>
                </a:lnTo>
                <a:lnTo>
                  <a:pt x="192" y="42"/>
                </a:lnTo>
                <a:lnTo>
                  <a:pt x="203" y="52"/>
                </a:lnTo>
                <a:lnTo>
                  <a:pt x="217" y="62"/>
                </a:lnTo>
                <a:lnTo>
                  <a:pt x="230" y="71"/>
                </a:lnTo>
                <a:lnTo>
                  <a:pt x="244" y="83"/>
                </a:lnTo>
                <a:lnTo>
                  <a:pt x="257" y="96"/>
                </a:lnTo>
                <a:lnTo>
                  <a:pt x="267" y="108"/>
                </a:lnTo>
                <a:lnTo>
                  <a:pt x="278" y="121"/>
                </a:lnTo>
                <a:lnTo>
                  <a:pt x="288" y="133"/>
                </a:lnTo>
                <a:lnTo>
                  <a:pt x="297" y="144"/>
                </a:lnTo>
                <a:lnTo>
                  <a:pt x="305" y="156"/>
                </a:lnTo>
                <a:lnTo>
                  <a:pt x="313" y="167"/>
                </a:lnTo>
                <a:lnTo>
                  <a:pt x="320" y="179"/>
                </a:lnTo>
                <a:lnTo>
                  <a:pt x="326" y="190"/>
                </a:lnTo>
                <a:lnTo>
                  <a:pt x="332" y="202"/>
                </a:lnTo>
                <a:lnTo>
                  <a:pt x="336" y="213"/>
                </a:lnTo>
                <a:lnTo>
                  <a:pt x="340" y="225"/>
                </a:lnTo>
                <a:lnTo>
                  <a:pt x="342" y="236"/>
                </a:lnTo>
                <a:lnTo>
                  <a:pt x="344" y="248"/>
                </a:lnTo>
                <a:lnTo>
                  <a:pt x="344" y="261"/>
                </a:lnTo>
                <a:lnTo>
                  <a:pt x="344" y="273"/>
                </a:lnTo>
                <a:lnTo>
                  <a:pt x="342" y="286"/>
                </a:lnTo>
                <a:lnTo>
                  <a:pt x="340" y="298"/>
                </a:lnTo>
                <a:lnTo>
                  <a:pt x="338" y="309"/>
                </a:lnTo>
                <a:lnTo>
                  <a:pt x="334" y="321"/>
                </a:lnTo>
                <a:lnTo>
                  <a:pt x="332" y="332"/>
                </a:lnTo>
                <a:lnTo>
                  <a:pt x="330" y="342"/>
                </a:lnTo>
                <a:lnTo>
                  <a:pt x="328" y="349"/>
                </a:lnTo>
                <a:lnTo>
                  <a:pt x="326" y="359"/>
                </a:lnTo>
                <a:lnTo>
                  <a:pt x="324" y="365"/>
                </a:lnTo>
                <a:lnTo>
                  <a:pt x="320" y="372"/>
                </a:lnTo>
                <a:lnTo>
                  <a:pt x="319" y="378"/>
                </a:lnTo>
                <a:lnTo>
                  <a:pt x="317" y="384"/>
                </a:lnTo>
                <a:lnTo>
                  <a:pt x="315" y="388"/>
                </a:lnTo>
                <a:lnTo>
                  <a:pt x="313" y="390"/>
                </a:lnTo>
                <a:lnTo>
                  <a:pt x="309" y="394"/>
                </a:lnTo>
                <a:lnTo>
                  <a:pt x="307" y="394"/>
                </a:lnTo>
                <a:lnTo>
                  <a:pt x="305" y="395"/>
                </a:lnTo>
                <a:lnTo>
                  <a:pt x="299" y="395"/>
                </a:lnTo>
                <a:lnTo>
                  <a:pt x="294" y="397"/>
                </a:lnTo>
                <a:lnTo>
                  <a:pt x="288" y="395"/>
                </a:lnTo>
                <a:lnTo>
                  <a:pt x="280" y="392"/>
                </a:lnTo>
                <a:lnTo>
                  <a:pt x="272" y="388"/>
                </a:lnTo>
                <a:lnTo>
                  <a:pt x="263" y="382"/>
                </a:lnTo>
                <a:lnTo>
                  <a:pt x="253" y="374"/>
                </a:lnTo>
                <a:lnTo>
                  <a:pt x="242" y="365"/>
                </a:lnTo>
                <a:lnTo>
                  <a:pt x="230" y="353"/>
                </a:lnTo>
                <a:lnTo>
                  <a:pt x="219" y="340"/>
                </a:lnTo>
                <a:lnTo>
                  <a:pt x="205" y="326"/>
                </a:lnTo>
                <a:lnTo>
                  <a:pt x="192" y="311"/>
                </a:lnTo>
                <a:lnTo>
                  <a:pt x="178" y="294"/>
                </a:lnTo>
                <a:lnTo>
                  <a:pt x="165" y="275"/>
                </a:lnTo>
                <a:lnTo>
                  <a:pt x="150" y="253"/>
                </a:lnTo>
                <a:lnTo>
                  <a:pt x="134" y="230"/>
                </a:lnTo>
                <a:lnTo>
                  <a:pt x="119" y="209"/>
                </a:lnTo>
                <a:lnTo>
                  <a:pt x="104" y="188"/>
                </a:lnTo>
                <a:lnTo>
                  <a:pt x="90" y="167"/>
                </a:lnTo>
                <a:lnTo>
                  <a:pt x="77" y="150"/>
                </a:lnTo>
                <a:lnTo>
                  <a:pt x="65" y="133"/>
                </a:lnTo>
                <a:lnTo>
                  <a:pt x="54" y="115"/>
                </a:lnTo>
                <a:lnTo>
                  <a:pt x="44" y="102"/>
                </a:lnTo>
                <a:lnTo>
                  <a:pt x="34" y="88"/>
                </a:lnTo>
                <a:lnTo>
                  <a:pt x="27" y="75"/>
                </a:lnTo>
                <a:lnTo>
                  <a:pt x="19" y="65"/>
                </a:lnTo>
                <a:lnTo>
                  <a:pt x="13" y="56"/>
                </a:lnTo>
                <a:lnTo>
                  <a:pt x="9" y="48"/>
                </a:lnTo>
                <a:lnTo>
                  <a:pt x="4" y="40"/>
                </a:lnTo>
                <a:lnTo>
                  <a:pt x="2" y="35"/>
                </a:lnTo>
                <a:lnTo>
                  <a:pt x="0" y="31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38"/>
          <p:cNvSpPr/>
          <p:nvPr/>
        </p:nvSpPr>
        <p:spPr>
          <a:xfrm>
            <a:off x="5810400" y="3624120"/>
            <a:ext cx="720720" cy="266760"/>
          </a:xfrm>
          <a:custGeom>
            <a:avLst/>
            <a:gdLst/>
            <a:ahLst/>
            <a:rect l="l" t="t" r="r" b="b"/>
            <a:pathLst>
              <a:path w="908" h="336">
                <a:moveTo>
                  <a:pt x="904" y="190"/>
                </a:moveTo>
                <a:lnTo>
                  <a:pt x="902" y="195"/>
                </a:lnTo>
                <a:lnTo>
                  <a:pt x="898" y="199"/>
                </a:lnTo>
                <a:lnTo>
                  <a:pt x="895" y="203"/>
                </a:lnTo>
                <a:lnTo>
                  <a:pt x="891" y="207"/>
                </a:lnTo>
                <a:lnTo>
                  <a:pt x="885" y="211"/>
                </a:lnTo>
                <a:lnTo>
                  <a:pt x="879" y="215"/>
                </a:lnTo>
                <a:lnTo>
                  <a:pt x="871" y="218"/>
                </a:lnTo>
                <a:lnTo>
                  <a:pt x="864" y="222"/>
                </a:lnTo>
                <a:lnTo>
                  <a:pt x="856" y="226"/>
                </a:lnTo>
                <a:lnTo>
                  <a:pt x="847" y="228"/>
                </a:lnTo>
                <a:lnTo>
                  <a:pt x="837" y="232"/>
                </a:lnTo>
                <a:lnTo>
                  <a:pt x="825" y="234"/>
                </a:lnTo>
                <a:lnTo>
                  <a:pt x="812" y="236"/>
                </a:lnTo>
                <a:lnTo>
                  <a:pt x="800" y="240"/>
                </a:lnTo>
                <a:lnTo>
                  <a:pt x="785" y="242"/>
                </a:lnTo>
                <a:lnTo>
                  <a:pt x="770" y="245"/>
                </a:lnTo>
                <a:lnTo>
                  <a:pt x="752" y="247"/>
                </a:lnTo>
                <a:lnTo>
                  <a:pt x="735" y="251"/>
                </a:lnTo>
                <a:lnTo>
                  <a:pt x="716" y="253"/>
                </a:lnTo>
                <a:lnTo>
                  <a:pt x="695" y="257"/>
                </a:lnTo>
                <a:lnTo>
                  <a:pt x="672" y="261"/>
                </a:lnTo>
                <a:lnTo>
                  <a:pt x="647" y="265"/>
                </a:lnTo>
                <a:lnTo>
                  <a:pt x="622" y="268"/>
                </a:lnTo>
                <a:lnTo>
                  <a:pt x="595" y="274"/>
                </a:lnTo>
                <a:lnTo>
                  <a:pt x="568" y="278"/>
                </a:lnTo>
                <a:lnTo>
                  <a:pt x="537" y="282"/>
                </a:lnTo>
                <a:lnTo>
                  <a:pt x="507" y="288"/>
                </a:lnTo>
                <a:lnTo>
                  <a:pt x="474" y="291"/>
                </a:lnTo>
                <a:lnTo>
                  <a:pt x="440" y="297"/>
                </a:lnTo>
                <a:lnTo>
                  <a:pt x="405" y="303"/>
                </a:lnTo>
                <a:lnTo>
                  <a:pt x="368" y="307"/>
                </a:lnTo>
                <a:lnTo>
                  <a:pt x="330" y="313"/>
                </a:lnTo>
                <a:lnTo>
                  <a:pt x="309" y="314"/>
                </a:lnTo>
                <a:lnTo>
                  <a:pt x="290" y="318"/>
                </a:lnTo>
                <a:lnTo>
                  <a:pt x="271" y="320"/>
                </a:lnTo>
                <a:lnTo>
                  <a:pt x="251" y="322"/>
                </a:lnTo>
                <a:lnTo>
                  <a:pt x="234" y="324"/>
                </a:lnTo>
                <a:lnTo>
                  <a:pt x="217" y="326"/>
                </a:lnTo>
                <a:lnTo>
                  <a:pt x="201" y="326"/>
                </a:lnTo>
                <a:lnTo>
                  <a:pt x="184" y="328"/>
                </a:lnTo>
                <a:lnTo>
                  <a:pt x="171" y="330"/>
                </a:lnTo>
                <a:lnTo>
                  <a:pt x="155" y="330"/>
                </a:lnTo>
                <a:lnTo>
                  <a:pt x="142" y="332"/>
                </a:lnTo>
                <a:lnTo>
                  <a:pt x="129" y="332"/>
                </a:lnTo>
                <a:lnTo>
                  <a:pt x="115" y="334"/>
                </a:lnTo>
                <a:lnTo>
                  <a:pt x="104" y="334"/>
                </a:lnTo>
                <a:lnTo>
                  <a:pt x="92" y="334"/>
                </a:lnTo>
                <a:lnTo>
                  <a:pt x="82" y="334"/>
                </a:lnTo>
                <a:lnTo>
                  <a:pt x="73" y="336"/>
                </a:lnTo>
                <a:lnTo>
                  <a:pt x="63" y="336"/>
                </a:lnTo>
                <a:lnTo>
                  <a:pt x="54" y="336"/>
                </a:lnTo>
                <a:lnTo>
                  <a:pt x="46" y="336"/>
                </a:lnTo>
                <a:lnTo>
                  <a:pt x="38" y="336"/>
                </a:lnTo>
                <a:lnTo>
                  <a:pt x="33" y="334"/>
                </a:lnTo>
                <a:lnTo>
                  <a:pt x="25" y="334"/>
                </a:lnTo>
                <a:lnTo>
                  <a:pt x="21" y="334"/>
                </a:lnTo>
                <a:lnTo>
                  <a:pt x="15" y="334"/>
                </a:lnTo>
                <a:lnTo>
                  <a:pt x="11" y="332"/>
                </a:lnTo>
                <a:lnTo>
                  <a:pt x="8" y="332"/>
                </a:lnTo>
                <a:lnTo>
                  <a:pt x="4" y="330"/>
                </a:lnTo>
                <a:lnTo>
                  <a:pt x="2" y="330"/>
                </a:lnTo>
                <a:lnTo>
                  <a:pt x="0" y="328"/>
                </a:lnTo>
                <a:lnTo>
                  <a:pt x="0" y="326"/>
                </a:lnTo>
                <a:lnTo>
                  <a:pt x="0" y="324"/>
                </a:lnTo>
                <a:lnTo>
                  <a:pt x="2" y="322"/>
                </a:lnTo>
                <a:lnTo>
                  <a:pt x="4" y="320"/>
                </a:lnTo>
                <a:lnTo>
                  <a:pt x="6" y="318"/>
                </a:lnTo>
                <a:lnTo>
                  <a:pt x="10" y="316"/>
                </a:lnTo>
                <a:lnTo>
                  <a:pt x="11" y="314"/>
                </a:lnTo>
                <a:lnTo>
                  <a:pt x="15" y="311"/>
                </a:lnTo>
                <a:lnTo>
                  <a:pt x="21" y="309"/>
                </a:lnTo>
                <a:lnTo>
                  <a:pt x="25" y="307"/>
                </a:lnTo>
                <a:lnTo>
                  <a:pt x="31" y="303"/>
                </a:lnTo>
                <a:lnTo>
                  <a:pt x="36" y="301"/>
                </a:lnTo>
                <a:lnTo>
                  <a:pt x="42" y="297"/>
                </a:lnTo>
                <a:lnTo>
                  <a:pt x="50" y="295"/>
                </a:lnTo>
                <a:lnTo>
                  <a:pt x="57" y="291"/>
                </a:lnTo>
                <a:lnTo>
                  <a:pt x="65" y="290"/>
                </a:lnTo>
                <a:lnTo>
                  <a:pt x="75" y="286"/>
                </a:lnTo>
                <a:lnTo>
                  <a:pt x="82" y="282"/>
                </a:lnTo>
                <a:lnTo>
                  <a:pt x="92" y="280"/>
                </a:lnTo>
                <a:lnTo>
                  <a:pt x="104" y="276"/>
                </a:lnTo>
                <a:lnTo>
                  <a:pt x="113" y="272"/>
                </a:lnTo>
                <a:lnTo>
                  <a:pt x="125" y="268"/>
                </a:lnTo>
                <a:lnTo>
                  <a:pt x="136" y="265"/>
                </a:lnTo>
                <a:lnTo>
                  <a:pt x="150" y="261"/>
                </a:lnTo>
                <a:lnTo>
                  <a:pt x="163" y="257"/>
                </a:lnTo>
                <a:lnTo>
                  <a:pt x="177" y="253"/>
                </a:lnTo>
                <a:lnTo>
                  <a:pt x="190" y="249"/>
                </a:lnTo>
                <a:lnTo>
                  <a:pt x="205" y="245"/>
                </a:lnTo>
                <a:lnTo>
                  <a:pt x="219" y="242"/>
                </a:lnTo>
                <a:lnTo>
                  <a:pt x="236" y="238"/>
                </a:lnTo>
                <a:lnTo>
                  <a:pt x="251" y="234"/>
                </a:lnTo>
                <a:lnTo>
                  <a:pt x="269" y="230"/>
                </a:lnTo>
                <a:lnTo>
                  <a:pt x="299" y="222"/>
                </a:lnTo>
                <a:lnTo>
                  <a:pt x="330" y="215"/>
                </a:lnTo>
                <a:lnTo>
                  <a:pt x="359" y="207"/>
                </a:lnTo>
                <a:lnTo>
                  <a:pt x="388" y="199"/>
                </a:lnTo>
                <a:lnTo>
                  <a:pt x="415" y="194"/>
                </a:lnTo>
                <a:lnTo>
                  <a:pt x="440" y="186"/>
                </a:lnTo>
                <a:lnTo>
                  <a:pt x="464" y="178"/>
                </a:lnTo>
                <a:lnTo>
                  <a:pt x="488" y="170"/>
                </a:lnTo>
                <a:lnTo>
                  <a:pt x="509" y="165"/>
                </a:lnTo>
                <a:lnTo>
                  <a:pt x="530" y="157"/>
                </a:lnTo>
                <a:lnTo>
                  <a:pt x="549" y="151"/>
                </a:lnTo>
                <a:lnTo>
                  <a:pt x="566" y="144"/>
                </a:lnTo>
                <a:lnTo>
                  <a:pt x="582" y="138"/>
                </a:lnTo>
                <a:lnTo>
                  <a:pt x="597" y="132"/>
                </a:lnTo>
                <a:lnTo>
                  <a:pt x="610" y="126"/>
                </a:lnTo>
                <a:lnTo>
                  <a:pt x="624" y="123"/>
                </a:lnTo>
                <a:lnTo>
                  <a:pt x="633" y="119"/>
                </a:lnTo>
                <a:lnTo>
                  <a:pt x="645" y="115"/>
                </a:lnTo>
                <a:lnTo>
                  <a:pt x="655" y="113"/>
                </a:lnTo>
                <a:lnTo>
                  <a:pt x="664" y="109"/>
                </a:lnTo>
                <a:lnTo>
                  <a:pt x="674" y="105"/>
                </a:lnTo>
                <a:lnTo>
                  <a:pt x="681" y="99"/>
                </a:lnTo>
                <a:lnTo>
                  <a:pt x="689" y="96"/>
                </a:lnTo>
                <a:lnTo>
                  <a:pt x="697" y="92"/>
                </a:lnTo>
                <a:lnTo>
                  <a:pt x="703" y="86"/>
                </a:lnTo>
                <a:lnTo>
                  <a:pt x="708" y="80"/>
                </a:lnTo>
                <a:lnTo>
                  <a:pt x="714" y="75"/>
                </a:lnTo>
                <a:lnTo>
                  <a:pt x="720" y="69"/>
                </a:lnTo>
                <a:lnTo>
                  <a:pt x="724" y="61"/>
                </a:lnTo>
                <a:lnTo>
                  <a:pt x="727" y="55"/>
                </a:lnTo>
                <a:lnTo>
                  <a:pt x="729" y="48"/>
                </a:lnTo>
                <a:lnTo>
                  <a:pt x="733" y="40"/>
                </a:lnTo>
                <a:lnTo>
                  <a:pt x="733" y="30"/>
                </a:lnTo>
                <a:lnTo>
                  <a:pt x="735" y="23"/>
                </a:lnTo>
                <a:lnTo>
                  <a:pt x="737" y="15"/>
                </a:lnTo>
                <a:lnTo>
                  <a:pt x="743" y="9"/>
                </a:lnTo>
                <a:lnTo>
                  <a:pt x="747" y="5"/>
                </a:lnTo>
                <a:lnTo>
                  <a:pt x="754" y="2"/>
                </a:lnTo>
                <a:lnTo>
                  <a:pt x="762" y="0"/>
                </a:lnTo>
                <a:lnTo>
                  <a:pt x="770" y="0"/>
                </a:lnTo>
                <a:lnTo>
                  <a:pt x="772" y="2"/>
                </a:lnTo>
                <a:lnTo>
                  <a:pt x="775" y="4"/>
                </a:lnTo>
                <a:lnTo>
                  <a:pt x="779" y="7"/>
                </a:lnTo>
                <a:lnTo>
                  <a:pt x="783" y="9"/>
                </a:lnTo>
                <a:lnTo>
                  <a:pt x="793" y="17"/>
                </a:lnTo>
                <a:lnTo>
                  <a:pt x="802" y="23"/>
                </a:lnTo>
                <a:lnTo>
                  <a:pt x="816" y="32"/>
                </a:lnTo>
                <a:lnTo>
                  <a:pt x="822" y="36"/>
                </a:lnTo>
                <a:lnTo>
                  <a:pt x="827" y="42"/>
                </a:lnTo>
                <a:lnTo>
                  <a:pt x="835" y="48"/>
                </a:lnTo>
                <a:lnTo>
                  <a:pt x="841" y="53"/>
                </a:lnTo>
                <a:lnTo>
                  <a:pt x="848" y="59"/>
                </a:lnTo>
                <a:lnTo>
                  <a:pt x="856" y="67"/>
                </a:lnTo>
                <a:lnTo>
                  <a:pt x="868" y="82"/>
                </a:lnTo>
                <a:lnTo>
                  <a:pt x="879" y="98"/>
                </a:lnTo>
                <a:lnTo>
                  <a:pt x="885" y="105"/>
                </a:lnTo>
                <a:lnTo>
                  <a:pt x="891" y="113"/>
                </a:lnTo>
                <a:lnTo>
                  <a:pt x="895" y="121"/>
                </a:lnTo>
                <a:lnTo>
                  <a:pt x="898" y="128"/>
                </a:lnTo>
                <a:lnTo>
                  <a:pt x="900" y="136"/>
                </a:lnTo>
                <a:lnTo>
                  <a:pt x="904" y="144"/>
                </a:lnTo>
                <a:lnTo>
                  <a:pt x="906" y="151"/>
                </a:lnTo>
                <a:lnTo>
                  <a:pt x="906" y="159"/>
                </a:lnTo>
                <a:lnTo>
                  <a:pt x="908" y="167"/>
                </a:lnTo>
                <a:lnTo>
                  <a:pt x="906" y="174"/>
                </a:lnTo>
                <a:lnTo>
                  <a:pt x="906" y="182"/>
                </a:lnTo>
                <a:lnTo>
                  <a:pt x="904" y="1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39"/>
          <p:cNvSpPr/>
          <p:nvPr/>
        </p:nvSpPr>
        <p:spPr>
          <a:xfrm>
            <a:off x="6105600" y="3795840"/>
            <a:ext cx="152280" cy="1277640"/>
          </a:xfrm>
          <a:custGeom>
            <a:avLst/>
            <a:gdLst/>
            <a:ahLst/>
            <a:rect l="l" t="t" r="r" b="b"/>
            <a:pathLst>
              <a:path w="192" h="1610">
                <a:moveTo>
                  <a:pt x="192" y="13"/>
                </a:moveTo>
                <a:lnTo>
                  <a:pt x="187" y="80"/>
                </a:lnTo>
                <a:lnTo>
                  <a:pt x="183" y="145"/>
                </a:lnTo>
                <a:lnTo>
                  <a:pt x="179" y="211"/>
                </a:lnTo>
                <a:lnTo>
                  <a:pt x="175" y="274"/>
                </a:lnTo>
                <a:lnTo>
                  <a:pt x="173" y="337"/>
                </a:lnTo>
                <a:lnTo>
                  <a:pt x="169" y="399"/>
                </a:lnTo>
                <a:lnTo>
                  <a:pt x="167" y="462"/>
                </a:lnTo>
                <a:lnTo>
                  <a:pt x="164" y="522"/>
                </a:lnTo>
                <a:lnTo>
                  <a:pt x="162" y="583"/>
                </a:lnTo>
                <a:lnTo>
                  <a:pt x="160" y="643"/>
                </a:lnTo>
                <a:lnTo>
                  <a:pt x="158" y="700"/>
                </a:lnTo>
                <a:lnTo>
                  <a:pt x="158" y="758"/>
                </a:lnTo>
                <a:lnTo>
                  <a:pt x="156" y="815"/>
                </a:lnTo>
                <a:lnTo>
                  <a:pt x="156" y="871"/>
                </a:lnTo>
                <a:lnTo>
                  <a:pt x="156" y="927"/>
                </a:lnTo>
                <a:lnTo>
                  <a:pt x="156" y="980"/>
                </a:lnTo>
                <a:lnTo>
                  <a:pt x="156" y="1007"/>
                </a:lnTo>
                <a:lnTo>
                  <a:pt x="154" y="1032"/>
                </a:lnTo>
                <a:lnTo>
                  <a:pt x="154" y="1059"/>
                </a:lnTo>
                <a:lnTo>
                  <a:pt x="154" y="1084"/>
                </a:lnTo>
                <a:lnTo>
                  <a:pt x="154" y="1107"/>
                </a:lnTo>
                <a:lnTo>
                  <a:pt x="154" y="1130"/>
                </a:lnTo>
                <a:lnTo>
                  <a:pt x="154" y="1155"/>
                </a:lnTo>
                <a:lnTo>
                  <a:pt x="152" y="1176"/>
                </a:lnTo>
                <a:lnTo>
                  <a:pt x="152" y="1199"/>
                </a:lnTo>
                <a:lnTo>
                  <a:pt x="152" y="1220"/>
                </a:lnTo>
                <a:lnTo>
                  <a:pt x="152" y="1240"/>
                </a:lnTo>
                <a:lnTo>
                  <a:pt x="150" y="1261"/>
                </a:lnTo>
                <a:lnTo>
                  <a:pt x="150" y="1280"/>
                </a:lnTo>
                <a:lnTo>
                  <a:pt x="148" y="1299"/>
                </a:lnTo>
                <a:lnTo>
                  <a:pt x="148" y="1316"/>
                </a:lnTo>
                <a:lnTo>
                  <a:pt x="148" y="1334"/>
                </a:lnTo>
                <a:lnTo>
                  <a:pt x="146" y="1351"/>
                </a:lnTo>
                <a:lnTo>
                  <a:pt x="146" y="1368"/>
                </a:lnTo>
                <a:lnTo>
                  <a:pt x="144" y="1383"/>
                </a:lnTo>
                <a:lnTo>
                  <a:pt x="144" y="1399"/>
                </a:lnTo>
                <a:lnTo>
                  <a:pt x="142" y="1412"/>
                </a:lnTo>
                <a:lnTo>
                  <a:pt x="142" y="1426"/>
                </a:lnTo>
                <a:lnTo>
                  <a:pt x="141" y="1439"/>
                </a:lnTo>
                <a:lnTo>
                  <a:pt x="141" y="1451"/>
                </a:lnTo>
                <a:lnTo>
                  <a:pt x="139" y="1462"/>
                </a:lnTo>
                <a:lnTo>
                  <a:pt x="137" y="1474"/>
                </a:lnTo>
                <a:lnTo>
                  <a:pt x="137" y="1485"/>
                </a:lnTo>
                <a:lnTo>
                  <a:pt x="135" y="1493"/>
                </a:lnTo>
                <a:lnTo>
                  <a:pt x="135" y="1502"/>
                </a:lnTo>
                <a:lnTo>
                  <a:pt x="133" y="1510"/>
                </a:lnTo>
                <a:lnTo>
                  <a:pt x="133" y="1518"/>
                </a:lnTo>
                <a:lnTo>
                  <a:pt x="131" y="1525"/>
                </a:lnTo>
                <a:lnTo>
                  <a:pt x="127" y="1537"/>
                </a:lnTo>
                <a:lnTo>
                  <a:pt x="121" y="1549"/>
                </a:lnTo>
                <a:lnTo>
                  <a:pt x="118" y="1558"/>
                </a:lnTo>
                <a:lnTo>
                  <a:pt x="114" y="1568"/>
                </a:lnTo>
                <a:lnTo>
                  <a:pt x="108" y="1577"/>
                </a:lnTo>
                <a:lnTo>
                  <a:pt x="104" y="1585"/>
                </a:lnTo>
                <a:lnTo>
                  <a:pt x="100" y="1591"/>
                </a:lnTo>
                <a:lnTo>
                  <a:pt x="96" y="1597"/>
                </a:lnTo>
                <a:lnTo>
                  <a:pt x="93" y="1600"/>
                </a:lnTo>
                <a:lnTo>
                  <a:pt x="89" y="1604"/>
                </a:lnTo>
                <a:lnTo>
                  <a:pt x="85" y="1608"/>
                </a:lnTo>
                <a:lnTo>
                  <a:pt x="81" y="1610"/>
                </a:lnTo>
                <a:lnTo>
                  <a:pt x="77" y="1610"/>
                </a:lnTo>
                <a:lnTo>
                  <a:pt x="75" y="1610"/>
                </a:lnTo>
                <a:lnTo>
                  <a:pt x="71" y="1608"/>
                </a:lnTo>
                <a:lnTo>
                  <a:pt x="70" y="1606"/>
                </a:lnTo>
                <a:lnTo>
                  <a:pt x="60" y="1597"/>
                </a:lnTo>
                <a:lnTo>
                  <a:pt x="52" y="1583"/>
                </a:lnTo>
                <a:lnTo>
                  <a:pt x="43" y="1570"/>
                </a:lnTo>
                <a:lnTo>
                  <a:pt x="35" y="1554"/>
                </a:lnTo>
                <a:lnTo>
                  <a:pt x="31" y="1545"/>
                </a:lnTo>
                <a:lnTo>
                  <a:pt x="27" y="1537"/>
                </a:lnTo>
                <a:lnTo>
                  <a:pt x="23" y="1527"/>
                </a:lnTo>
                <a:lnTo>
                  <a:pt x="20" y="1516"/>
                </a:lnTo>
                <a:lnTo>
                  <a:pt x="16" y="1506"/>
                </a:lnTo>
                <a:lnTo>
                  <a:pt x="14" y="1495"/>
                </a:lnTo>
                <a:lnTo>
                  <a:pt x="12" y="1483"/>
                </a:lnTo>
                <a:lnTo>
                  <a:pt x="8" y="1472"/>
                </a:lnTo>
                <a:lnTo>
                  <a:pt x="8" y="1466"/>
                </a:lnTo>
                <a:lnTo>
                  <a:pt x="6" y="1460"/>
                </a:lnTo>
                <a:lnTo>
                  <a:pt x="6" y="1453"/>
                </a:lnTo>
                <a:lnTo>
                  <a:pt x="4" y="1447"/>
                </a:lnTo>
                <a:lnTo>
                  <a:pt x="4" y="1439"/>
                </a:lnTo>
                <a:lnTo>
                  <a:pt x="2" y="1431"/>
                </a:lnTo>
                <a:lnTo>
                  <a:pt x="2" y="1424"/>
                </a:lnTo>
                <a:lnTo>
                  <a:pt x="2" y="1414"/>
                </a:lnTo>
                <a:lnTo>
                  <a:pt x="2" y="1405"/>
                </a:lnTo>
                <a:lnTo>
                  <a:pt x="0" y="1395"/>
                </a:lnTo>
                <a:lnTo>
                  <a:pt x="0" y="1385"/>
                </a:lnTo>
                <a:lnTo>
                  <a:pt x="0" y="1374"/>
                </a:lnTo>
                <a:lnTo>
                  <a:pt x="0" y="1362"/>
                </a:lnTo>
                <a:lnTo>
                  <a:pt x="0" y="1351"/>
                </a:lnTo>
                <a:lnTo>
                  <a:pt x="0" y="1339"/>
                </a:lnTo>
                <a:lnTo>
                  <a:pt x="0" y="1326"/>
                </a:lnTo>
                <a:lnTo>
                  <a:pt x="2" y="1312"/>
                </a:lnTo>
                <a:lnTo>
                  <a:pt x="2" y="1299"/>
                </a:lnTo>
                <a:lnTo>
                  <a:pt x="2" y="1284"/>
                </a:lnTo>
                <a:lnTo>
                  <a:pt x="2" y="1270"/>
                </a:lnTo>
                <a:lnTo>
                  <a:pt x="4" y="1255"/>
                </a:lnTo>
                <a:lnTo>
                  <a:pt x="4" y="1238"/>
                </a:lnTo>
                <a:lnTo>
                  <a:pt x="6" y="1222"/>
                </a:lnTo>
                <a:lnTo>
                  <a:pt x="6" y="1205"/>
                </a:lnTo>
                <a:lnTo>
                  <a:pt x="8" y="1188"/>
                </a:lnTo>
                <a:lnTo>
                  <a:pt x="10" y="1168"/>
                </a:lnTo>
                <a:lnTo>
                  <a:pt x="12" y="1149"/>
                </a:lnTo>
                <a:lnTo>
                  <a:pt x="12" y="1130"/>
                </a:lnTo>
                <a:lnTo>
                  <a:pt x="14" y="1111"/>
                </a:lnTo>
                <a:lnTo>
                  <a:pt x="16" y="1092"/>
                </a:lnTo>
                <a:lnTo>
                  <a:pt x="18" y="1071"/>
                </a:lnTo>
                <a:lnTo>
                  <a:pt x="22" y="1049"/>
                </a:lnTo>
                <a:lnTo>
                  <a:pt x="25" y="1007"/>
                </a:lnTo>
                <a:lnTo>
                  <a:pt x="29" y="969"/>
                </a:lnTo>
                <a:lnTo>
                  <a:pt x="33" y="929"/>
                </a:lnTo>
                <a:lnTo>
                  <a:pt x="37" y="890"/>
                </a:lnTo>
                <a:lnTo>
                  <a:pt x="39" y="852"/>
                </a:lnTo>
                <a:lnTo>
                  <a:pt x="43" y="815"/>
                </a:lnTo>
                <a:lnTo>
                  <a:pt x="45" y="779"/>
                </a:lnTo>
                <a:lnTo>
                  <a:pt x="48" y="744"/>
                </a:lnTo>
                <a:lnTo>
                  <a:pt x="50" y="710"/>
                </a:lnTo>
                <a:lnTo>
                  <a:pt x="52" y="675"/>
                </a:lnTo>
                <a:lnTo>
                  <a:pt x="54" y="643"/>
                </a:lnTo>
                <a:lnTo>
                  <a:pt x="54" y="610"/>
                </a:lnTo>
                <a:lnTo>
                  <a:pt x="56" y="579"/>
                </a:lnTo>
                <a:lnTo>
                  <a:pt x="56" y="549"/>
                </a:lnTo>
                <a:lnTo>
                  <a:pt x="56" y="518"/>
                </a:lnTo>
                <a:lnTo>
                  <a:pt x="58" y="491"/>
                </a:lnTo>
                <a:lnTo>
                  <a:pt x="56" y="433"/>
                </a:lnTo>
                <a:lnTo>
                  <a:pt x="54" y="376"/>
                </a:lnTo>
                <a:lnTo>
                  <a:pt x="52" y="316"/>
                </a:lnTo>
                <a:lnTo>
                  <a:pt x="50" y="255"/>
                </a:lnTo>
                <a:lnTo>
                  <a:pt x="46" y="193"/>
                </a:lnTo>
                <a:lnTo>
                  <a:pt x="43" y="130"/>
                </a:lnTo>
                <a:lnTo>
                  <a:pt x="37" y="67"/>
                </a:lnTo>
                <a:lnTo>
                  <a:pt x="33" y="0"/>
                </a:lnTo>
                <a:lnTo>
                  <a:pt x="112" y="7"/>
                </a:lnTo>
                <a:lnTo>
                  <a:pt x="192" y="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40"/>
          <p:cNvSpPr/>
          <p:nvPr/>
        </p:nvSpPr>
        <p:spPr>
          <a:xfrm>
            <a:off x="5586480" y="4002120"/>
            <a:ext cx="1039680" cy="244440"/>
          </a:xfrm>
          <a:custGeom>
            <a:avLst/>
            <a:gdLst/>
            <a:ahLst/>
            <a:rect l="l" t="t" r="r" b="b"/>
            <a:pathLst>
              <a:path w="1309" h="309">
                <a:moveTo>
                  <a:pt x="0" y="176"/>
                </a:moveTo>
                <a:lnTo>
                  <a:pt x="13" y="176"/>
                </a:lnTo>
                <a:lnTo>
                  <a:pt x="27" y="176"/>
                </a:lnTo>
                <a:lnTo>
                  <a:pt x="40" y="176"/>
                </a:lnTo>
                <a:lnTo>
                  <a:pt x="55" y="176"/>
                </a:lnTo>
                <a:lnTo>
                  <a:pt x="69" y="174"/>
                </a:lnTo>
                <a:lnTo>
                  <a:pt x="84" y="174"/>
                </a:lnTo>
                <a:lnTo>
                  <a:pt x="101" y="172"/>
                </a:lnTo>
                <a:lnTo>
                  <a:pt x="117" y="172"/>
                </a:lnTo>
                <a:lnTo>
                  <a:pt x="134" y="171"/>
                </a:lnTo>
                <a:lnTo>
                  <a:pt x="151" y="169"/>
                </a:lnTo>
                <a:lnTo>
                  <a:pt x="169" y="167"/>
                </a:lnTo>
                <a:lnTo>
                  <a:pt x="188" y="165"/>
                </a:lnTo>
                <a:lnTo>
                  <a:pt x="207" y="163"/>
                </a:lnTo>
                <a:lnTo>
                  <a:pt x="226" y="161"/>
                </a:lnTo>
                <a:lnTo>
                  <a:pt x="245" y="157"/>
                </a:lnTo>
                <a:lnTo>
                  <a:pt x="267" y="155"/>
                </a:lnTo>
                <a:lnTo>
                  <a:pt x="288" y="151"/>
                </a:lnTo>
                <a:lnTo>
                  <a:pt x="309" y="149"/>
                </a:lnTo>
                <a:lnTo>
                  <a:pt x="330" y="146"/>
                </a:lnTo>
                <a:lnTo>
                  <a:pt x="353" y="142"/>
                </a:lnTo>
                <a:lnTo>
                  <a:pt x="376" y="138"/>
                </a:lnTo>
                <a:lnTo>
                  <a:pt x="399" y="134"/>
                </a:lnTo>
                <a:lnTo>
                  <a:pt x="424" y="130"/>
                </a:lnTo>
                <a:lnTo>
                  <a:pt x="447" y="126"/>
                </a:lnTo>
                <a:lnTo>
                  <a:pt x="472" y="121"/>
                </a:lnTo>
                <a:lnTo>
                  <a:pt x="499" y="117"/>
                </a:lnTo>
                <a:lnTo>
                  <a:pt x="524" y="111"/>
                </a:lnTo>
                <a:lnTo>
                  <a:pt x="551" y="105"/>
                </a:lnTo>
                <a:lnTo>
                  <a:pt x="578" y="99"/>
                </a:lnTo>
                <a:lnTo>
                  <a:pt x="604" y="94"/>
                </a:lnTo>
                <a:lnTo>
                  <a:pt x="631" y="88"/>
                </a:lnTo>
                <a:lnTo>
                  <a:pt x="660" y="82"/>
                </a:lnTo>
                <a:lnTo>
                  <a:pt x="689" y="76"/>
                </a:lnTo>
                <a:lnTo>
                  <a:pt x="716" y="71"/>
                </a:lnTo>
                <a:lnTo>
                  <a:pt x="743" y="67"/>
                </a:lnTo>
                <a:lnTo>
                  <a:pt x="768" y="61"/>
                </a:lnTo>
                <a:lnTo>
                  <a:pt x="793" y="57"/>
                </a:lnTo>
                <a:lnTo>
                  <a:pt x="818" y="53"/>
                </a:lnTo>
                <a:lnTo>
                  <a:pt x="841" y="50"/>
                </a:lnTo>
                <a:lnTo>
                  <a:pt x="862" y="46"/>
                </a:lnTo>
                <a:lnTo>
                  <a:pt x="883" y="42"/>
                </a:lnTo>
                <a:lnTo>
                  <a:pt x="904" y="38"/>
                </a:lnTo>
                <a:lnTo>
                  <a:pt x="923" y="34"/>
                </a:lnTo>
                <a:lnTo>
                  <a:pt x="942" y="30"/>
                </a:lnTo>
                <a:lnTo>
                  <a:pt x="961" y="28"/>
                </a:lnTo>
                <a:lnTo>
                  <a:pt x="979" y="25"/>
                </a:lnTo>
                <a:lnTo>
                  <a:pt x="994" y="23"/>
                </a:lnTo>
                <a:lnTo>
                  <a:pt x="1009" y="19"/>
                </a:lnTo>
                <a:lnTo>
                  <a:pt x="1025" y="17"/>
                </a:lnTo>
                <a:lnTo>
                  <a:pt x="1038" y="15"/>
                </a:lnTo>
                <a:lnTo>
                  <a:pt x="1052" y="13"/>
                </a:lnTo>
                <a:lnTo>
                  <a:pt x="1065" y="11"/>
                </a:lnTo>
                <a:lnTo>
                  <a:pt x="1077" y="9"/>
                </a:lnTo>
                <a:lnTo>
                  <a:pt x="1086" y="7"/>
                </a:lnTo>
                <a:lnTo>
                  <a:pt x="1096" y="5"/>
                </a:lnTo>
                <a:lnTo>
                  <a:pt x="1105" y="5"/>
                </a:lnTo>
                <a:lnTo>
                  <a:pt x="1113" y="4"/>
                </a:lnTo>
                <a:lnTo>
                  <a:pt x="1121" y="2"/>
                </a:lnTo>
                <a:lnTo>
                  <a:pt x="1129" y="2"/>
                </a:lnTo>
                <a:lnTo>
                  <a:pt x="1134" y="2"/>
                </a:lnTo>
                <a:lnTo>
                  <a:pt x="1138" y="0"/>
                </a:lnTo>
                <a:lnTo>
                  <a:pt x="1144" y="0"/>
                </a:lnTo>
                <a:lnTo>
                  <a:pt x="1146" y="0"/>
                </a:lnTo>
                <a:lnTo>
                  <a:pt x="1150" y="0"/>
                </a:lnTo>
                <a:lnTo>
                  <a:pt x="1152" y="0"/>
                </a:lnTo>
                <a:lnTo>
                  <a:pt x="1155" y="0"/>
                </a:lnTo>
                <a:lnTo>
                  <a:pt x="1159" y="2"/>
                </a:lnTo>
                <a:lnTo>
                  <a:pt x="1163" y="2"/>
                </a:lnTo>
                <a:lnTo>
                  <a:pt x="1167" y="4"/>
                </a:lnTo>
                <a:lnTo>
                  <a:pt x="1173" y="5"/>
                </a:lnTo>
                <a:lnTo>
                  <a:pt x="1184" y="7"/>
                </a:lnTo>
                <a:lnTo>
                  <a:pt x="1198" y="13"/>
                </a:lnTo>
                <a:lnTo>
                  <a:pt x="1213" y="17"/>
                </a:lnTo>
                <a:lnTo>
                  <a:pt x="1230" y="23"/>
                </a:lnTo>
                <a:lnTo>
                  <a:pt x="1248" y="27"/>
                </a:lnTo>
                <a:lnTo>
                  <a:pt x="1261" y="38"/>
                </a:lnTo>
                <a:lnTo>
                  <a:pt x="1272" y="48"/>
                </a:lnTo>
                <a:lnTo>
                  <a:pt x="1282" y="57"/>
                </a:lnTo>
                <a:lnTo>
                  <a:pt x="1292" y="67"/>
                </a:lnTo>
                <a:lnTo>
                  <a:pt x="1297" y="75"/>
                </a:lnTo>
                <a:lnTo>
                  <a:pt x="1301" y="78"/>
                </a:lnTo>
                <a:lnTo>
                  <a:pt x="1303" y="82"/>
                </a:lnTo>
                <a:lnTo>
                  <a:pt x="1305" y="86"/>
                </a:lnTo>
                <a:lnTo>
                  <a:pt x="1307" y="90"/>
                </a:lnTo>
                <a:lnTo>
                  <a:pt x="1307" y="92"/>
                </a:lnTo>
                <a:lnTo>
                  <a:pt x="1309" y="96"/>
                </a:lnTo>
                <a:lnTo>
                  <a:pt x="1307" y="99"/>
                </a:lnTo>
                <a:lnTo>
                  <a:pt x="1307" y="105"/>
                </a:lnTo>
                <a:lnTo>
                  <a:pt x="1305" y="109"/>
                </a:lnTo>
                <a:lnTo>
                  <a:pt x="1301" y="113"/>
                </a:lnTo>
                <a:lnTo>
                  <a:pt x="1297" y="117"/>
                </a:lnTo>
                <a:lnTo>
                  <a:pt x="1294" y="121"/>
                </a:lnTo>
                <a:lnTo>
                  <a:pt x="1288" y="123"/>
                </a:lnTo>
                <a:lnTo>
                  <a:pt x="1282" y="126"/>
                </a:lnTo>
                <a:lnTo>
                  <a:pt x="1276" y="128"/>
                </a:lnTo>
                <a:lnTo>
                  <a:pt x="1269" y="130"/>
                </a:lnTo>
                <a:lnTo>
                  <a:pt x="1261" y="132"/>
                </a:lnTo>
                <a:lnTo>
                  <a:pt x="1251" y="134"/>
                </a:lnTo>
                <a:lnTo>
                  <a:pt x="1242" y="134"/>
                </a:lnTo>
                <a:lnTo>
                  <a:pt x="1232" y="136"/>
                </a:lnTo>
                <a:lnTo>
                  <a:pt x="1223" y="136"/>
                </a:lnTo>
                <a:lnTo>
                  <a:pt x="1211" y="136"/>
                </a:lnTo>
                <a:lnTo>
                  <a:pt x="1205" y="136"/>
                </a:lnTo>
                <a:lnTo>
                  <a:pt x="1198" y="136"/>
                </a:lnTo>
                <a:lnTo>
                  <a:pt x="1192" y="136"/>
                </a:lnTo>
                <a:lnTo>
                  <a:pt x="1184" y="136"/>
                </a:lnTo>
                <a:lnTo>
                  <a:pt x="1177" y="138"/>
                </a:lnTo>
                <a:lnTo>
                  <a:pt x="1167" y="138"/>
                </a:lnTo>
                <a:lnTo>
                  <a:pt x="1157" y="138"/>
                </a:lnTo>
                <a:lnTo>
                  <a:pt x="1150" y="138"/>
                </a:lnTo>
                <a:lnTo>
                  <a:pt x="1138" y="140"/>
                </a:lnTo>
                <a:lnTo>
                  <a:pt x="1129" y="140"/>
                </a:lnTo>
                <a:lnTo>
                  <a:pt x="1105" y="142"/>
                </a:lnTo>
                <a:lnTo>
                  <a:pt x="1082" y="146"/>
                </a:lnTo>
                <a:lnTo>
                  <a:pt x="1056" y="147"/>
                </a:lnTo>
                <a:lnTo>
                  <a:pt x="1029" y="151"/>
                </a:lnTo>
                <a:lnTo>
                  <a:pt x="998" y="155"/>
                </a:lnTo>
                <a:lnTo>
                  <a:pt x="967" y="159"/>
                </a:lnTo>
                <a:lnTo>
                  <a:pt x="935" y="165"/>
                </a:lnTo>
                <a:lnTo>
                  <a:pt x="898" y="171"/>
                </a:lnTo>
                <a:lnTo>
                  <a:pt x="862" y="176"/>
                </a:lnTo>
                <a:lnTo>
                  <a:pt x="823" y="182"/>
                </a:lnTo>
                <a:lnTo>
                  <a:pt x="783" y="190"/>
                </a:lnTo>
                <a:lnTo>
                  <a:pt x="743" y="197"/>
                </a:lnTo>
                <a:lnTo>
                  <a:pt x="704" y="205"/>
                </a:lnTo>
                <a:lnTo>
                  <a:pt x="668" y="213"/>
                </a:lnTo>
                <a:lnTo>
                  <a:pt x="631" y="220"/>
                </a:lnTo>
                <a:lnTo>
                  <a:pt x="599" y="228"/>
                </a:lnTo>
                <a:lnTo>
                  <a:pt x="566" y="236"/>
                </a:lnTo>
                <a:lnTo>
                  <a:pt x="537" y="242"/>
                </a:lnTo>
                <a:lnTo>
                  <a:pt x="508" y="249"/>
                </a:lnTo>
                <a:lnTo>
                  <a:pt x="483" y="255"/>
                </a:lnTo>
                <a:lnTo>
                  <a:pt x="459" y="261"/>
                </a:lnTo>
                <a:lnTo>
                  <a:pt x="447" y="263"/>
                </a:lnTo>
                <a:lnTo>
                  <a:pt x="437" y="266"/>
                </a:lnTo>
                <a:lnTo>
                  <a:pt x="426" y="268"/>
                </a:lnTo>
                <a:lnTo>
                  <a:pt x="416" y="270"/>
                </a:lnTo>
                <a:lnTo>
                  <a:pt x="407" y="272"/>
                </a:lnTo>
                <a:lnTo>
                  <a:pt x="399" y="276"/>
                </a:lnTo>
                <a:lnTo>
                  <a:pt x="389" y="278"/>
                </a:lnTo>
                <a:lnTo>
                  <a:pt x="382" y="280"/>
                </a:lnTo>
                <a:lnTo>
                  <a:pt x="374" y="282"/>
                </a:lnTo>
                <a:lnTo>
                  <a:pt x="366" y="284"/>
                </a:lnTo>
                <a:lnTo>
                  <a:pt x="361" y="284"/>
                </a:lnTo>
                <a:lnTo>
                  <a:pt x="355" y="286"/>
                </a:lnTo>
                <a:lnTo>
                  <a:pt x="341" y="291"/>
                </a:lnTo>
                <a:lnTo>
                  <a:pt x="328" y="295"/>
                </a:lnTo>
                <a:lnTo>
                  <a:pt x="315" y="299"/>
                </a:lnTo>
                <a:lnTo>
                  <a:pt x="303" y="301"/>
                </a:lnTo>
                <a:lnTo>
                  <a:pt x="290" y="305"/>
                </a:lnTo>
                <a:lnTo>
                  <a:pt x="278" y="307"/>
                </a:lnTo>
                <a:lnTo>
                  <a:pt x="267" y="307"/>
                </a:lnTo>
                <a:lnTo>
                  <a:pt x="253" y="309"/>
                </a:lnTo>
                <a:lnTo>
                  <a:pt x="244" y="309"/>
                </a:lnTo>
                <a:lnTo>
                  <a:pt x="232" y="309"/>
                </a:lnTo>
                <a:lnTo>
                  <a:pt x="211" y="307"/>
                </a:lnTo>
                <a:lnTo>
                  <a:pt x="190" y="303"/>
                </a:lnTo>
                <a:lnTo>
                  <a:pt x="172" y="299"/>
                </a:lnTo>
                <a:lnTo>
                  <a:pt x="161" y="297"/>
                </a:lnTo>
                <a:lnTo>
                  <a:pt x="149" y="293"/>
                </a:lnTo>
                <a:lnTo>
                  <a:pt x="138" y="290"/>
                </a:lnTo>
                <a:lnTo>
                  <a:pt x="128" y="284"/>
                </a:lnTo>
                <a:lnTo>
                  <a:pt x="117" y="278"/>
                </a:lnTo>
                <a:lnTo>
                  <a:pt x="107" y="272"/>
                </a:lnTo>
                <a:lnTo>
                  <a:pt x="96" y="266"/>
                </a:lnTo>
                <a:lnTo>
                  <a:pt x="86" y="259"/>
                </a:lnTo>
                <a:lnTo>
                  <a:pt x="76" y="251"/>
                </a:lnTo>
                <a:lnTo>
                  <a:pt x="65" y="242"/>
                </a:lnTo>
                <a:lnTo>
                  <a:pt x="55" y="232"/>
                </a:lnTo>
                <a:lnTo>
                  <a:pt x="44" y="222"/>
                </a:lnTo>
                <a:lnTo>
                  <a:pt x="34" y="213"/>
                </a:lnTo>
                <a:lnTo>
                  <a:pt x="23" y="201"/>
                </a:lnTo>
                <a:lnTo>
                  <a:pt x="11" y="190"/>
                </a:lnTo>
                <a:lnTo>
                  <a:pt x="0" y="17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1"/>
          <p:cNvSpPr/>
          <p:nvPr/>
        </p:nvSpPr>
        <p:spPr>
          <a:xfrm>
            <a:off x="5614920" y="4089240"/>
            <a:ext cx="587520" cy="716040"/>
          </a:xfrm>
          <a:custGeom>
            <a:avLst/>
            <a:gdLst/>
            <a:ahLst/>
            <a:rect l="l" t="t" r="r" b="b"/>
            <a:pathLst>
              <a:path w="741" h="902">
                <a:moveTo>
                  <a:pt x="198" y="802"/>
                </a:moveTo>
                <a:lnTo>
                  <a:pt x="177" y="818"/>
                </a:lnTo>
                <a:lnTo>
                  <a:pt x="156" y="831"/>
                </a:lnTo>
                <a:lnTo>
                  <a:pt x="137" y="845"/>
                </a:lnTo>
                <a:lnTo>
                  <a:pt x="119" y="854"/>
                </a:lnTo>
                <a:lnTo>
                  <a:pt x="102" y="864"/>
                </a:lnTo>
                <a:lnTo>
                  <a:pt x="87" y="873"/>
                </a:lnTo>
                <a:lnTo>
                  <a:pt x="73" y="881"/>
                </a:lnTo>
                <a:lnTo>
                  <a:pt x="60" y="887"/>
                </a:lnTo>
                <a:lnTo>
                  <a:pt x="48" y="893"/>
                </a:lnTo>
                <a:lnTo>
                  <a:pt x="39" y="896"/>
                </a:lnTo>
                <a:lnTo>
                  <a:pt x="29" y="898"/>
                </a:lnTo>
                <a:lnTo>
                  <a:pt x="21" y="900"/>
                </a:lnTo>
                <a:lnTo>
                  <a:pt x="16" y="902"/>
                </a:lnTo>
                <a:lnTo>
                  <a:pt x="10" y="902"/>
                </a:lnTo>
                <a:lnTo>
                  <a:pt x="6" y="900"/>
                </a:lnTo>
                <a:lnTo>
                  <a:pt x="4" y="898"/>
                </a:lnTo>
                <a:lnTo>
                  <a:pt x="2" y="895"/>
                </a:lnTo>
                <a:lnTo>
                  <a:pt x="0" y="891"/>
                </a:lnTo>
                <a:lnTo>
                  <a:pt x="2" y="887"/>
                </a:lnTo>
                <a:lnTo>
                  <a:pt x="4" y="881"/>
                </a:lnTo>
                <a:lnTo>
                  <a:pt x="8" y="873"/>
                </a:lnTo>
                <a:lnTo>
                  <a:pt x="12" y="866"/>
                </a:lnTo>
                <a:lnTo>
                  <a:pt x="18" y="858"/>
                </a:lnTo>
                <a:lnTo>
                  <a:pt x="25" y="848"/>
                </a:lnTo>
                <a:lnTo>
                  <a:pt x="33" y="837"/>
                </a:lnTo>
                <a:lnTo>
                  <a:pt x="44" y="825"/>
                </a:lnTo>
                <a:lnTo>
                  <a:pt x="56" y="812"/>
                </a:lnTo>
                <a:lnTo>
                  <a:pt x="69" y="799"/>
                </a:lnTo>
                <a:lnTo>
                  <a:pt x="83" y="785"/>
                </a:lnTo>
                <a:lnTo>
                  <a:pt x="100" y="770"/>
                </a:lnTo>
                <a:lnTo>
                  <a:pt x="117" y="752"/>
                </a:lnTo>
                <a:lnTo>
                  <a:pt x="138" y="735"/>
                </a:lnTo>
                <a:lnTo>
                  <a:pt x="179" y="699"/>
                </a:lnTo>
                <a:lnTo>
                  <a:pt x="217" y="662"/>
                </a:lnTo>
                <a:lnTo>
                  <a:pt x="256" y="626"/>
                </a:lnTo>
                <a:lnTo>
                  <a:pt x="294" y="589"/>
                </a:lnTo>
                <a:lnTo>
                  <a:pt x="330" y="553"/>
                </a:lnTo>
                <a:lnTo>
                  <a:pt x="365" y="514"/>
                </a:lnTo>
                <a:lnTo>
                  <a:pt x="398" y="476"/>
                </a:lnTo>
                <a:lnTo>
                  <a:pt x="430" y="436"/>
                </a:lnTo>
                <a:lnTo>
                  <a:pt x="448" y="417"/>
                </a:lnTo>
                <a:lnTo>
                  <a:pt x="463" y="397"/>
                </a:lnTo>
                <a:lnTo>
                  <a:pt x="480" y="376"/>
                </a:lnTo>
                <a:lnTo>
                  <a:pt x="497" y="353"/>
                </a:lnTo>
                <a:lnTo>
                  <a:pt x="515" y="330"/>
                </a:lnTo>
                <a:lnTo>
                  <a:pt x="532" y="305"/>
                </a:lnTo>
                <a:lnTo>
                  <a:pt x="551" y="280"/>
                </a:lnTo>
                <a:lnTo>
                  <a:pt x="569" y="253"/>
                </a:lnTo>
                <a:lnTo>
                  <a:pt x="588" y="225"/>
                </a:lnTo>
                <a:lnTo>
                  <a:pt x="607" y="196"/>
                </a:lnTo>
                <a:lnTo>
                  <a:pt x="626" y="167"/>
                </a:lnTo>
                <a:lnTo>
                  <a:pt x="645" y="134"/>
                </a:lnTo>
                <a:lnTo>
                  <a:pt x="664" y="102"/>
                </a:lnTo>
                <a:lnTo>
                  <a:pt x="684" y="69"/>
                </a:lnTo>
                <a:lnTo>
                  <a:pt x="705" y="35"/>
                </a:lnTo>
                <a:lnTo>
                  <a:pt x="724" y="0"/>
                </a:lnTo>
                <a:lnTo>
                  <a:pt x="724" y="10"/>
                </a:lnTo>
                <a:lnTo>
                  <a:pt x="724" y="23"/>
                </a:lnTo>
                <a:lnTo>
                  <a:pt x="726" y="37"/>
                </a:lnTo>
                <a:lnTo>
                  <a:pt x="726" y="52"/>
                </a:lnTo>
                <a:lnTo>
                  <a:pt x="726" y="62"/>
                </a:lnTo>
                <a:lnTo>
                  <a:pt x="728" y="69"/>
                </a:lnTo>
                <a:lnTo>
                  <a:pt x="728" y="79"/>
                </a:lnTo>
                <a:lnTo>
                  <a:pt x="730" y="90"/>
                </a:lnTo>
                <a:lnTo>
                  <a:pt x="732" y="100"/>
                </a:lnTo>
                <a:lnTo>
                  <a:pt x="732" y="111"/>
                </a:lnTo>
                <a:lnTo>
                  <a:pt x="734" y="123"/>
                </a:lnTo>
                <a:lnTo>
                  <a:pt x="737" y="136"/>
                </a:lnTo>
                <a:lnTo>
                  <a:pt x="739" y="148"/>
                </a:lnTo>
                <a:lnTo>
                  <a:pt x="739" y="159"/>
                </a:lnTo>
                <a:lnTo>
                  <a:pt x="741" y="171"/>
                </a:lnTo>
                <a:lnTo>
                  <a:pt x="741" y="182"/>
                </a:lnTo>
                <a:lnTo>
                  <a:pt x="741" y="192"/>
                </a:lnTo>
                <a:lnTo>
                  <a:pt x="741" y="202"/>
                </a:lnTo>
                <a:lnTo>
                  <a:pt x="741" y="211"/>
                </a:lnTo>
                <a:lnTo>
                  <a:pt x="739" y="219"/>
                </a:lnTo>
                <a:lnTo>
                  <a:pt x="737" y="234"/>
                </a:lnTo>
                <a:lnTo>
                  <a:pt x="734" y="250"/>
                </a:lnTo>
                <a:lnTo>
                  <a:pt x="730" y="261"/>
                </a:lnTo>
                <a:lnTo>
                  <a:pt x="724" y="273"/>
                </a:lnTo>
                <a:lnTo>
                  <a:pt x="720" y="280"/>
                </a:lnTo>
                <a:lnTo>
                  <a:pt x="714" y="288"/>
                </a:lnTo>
                <a:lnTo>
                  <a:pt x="707" y="298"/>
                </a:lnTo>
                <a:lnTo>
                  <a:pt x="699" y="309"/>
                </a:lnTo>
                <a:lnTo>
                  <a:pt x="691" y="319"/>
                </a:lnTo>
                <a:lnTo>
                  <a:pt x="682" y="330"/>
                </a:lnTo>
                <a:lnTo>
                  <a:pt x="670" y="344"/>
                </a:lnTo>
                <a:lnTo>
                  <a:pt x="661" y="357"/>
                </a:lnTo>
                <a:lnTo>
                  <a:pt x="647" y="371"/>
                </a:lnTo>
                <a:lnTo>
                  <a:pt x="636" y="388"/>
                </a:lnTo>
                <a:lnTo>
                  <a:pt x="622" y="403"/>
                </a:lnTo>
                <a:lnTo>
                  <a:pt x="607" y="420"/>
                </a:lnTo>
                <a:lnTo>
                  <a:pt x="592" y="440"/>
                </a:lnTo>
                <a:lnTo>
                  <a:pt x="576" y="461"/>
                </a:lnTo>
                <a:lnTo>
                  <a:pt x="559" y="482"/>
                </a:lnTo>
                <a:lnTo>
                  <a:pt x="542" y="503"/>
                </a:lnTo>
                <a:lnTo>
                  <a:pt x="522" y="526"/>
                </a:lnTo>
                <a:lnTo>
                  <a:pt x="503" y="549"/>
                </a:lnTo>
                <a:lnTo>
                  <a:pt x="486" y="570"/>
                </a:lnTo>
                <a:lnTo>
                  <a:pt x="465" y="591"/>
                </a:lnTo>
                <a:lnTo>
                  <a:pt x="446" y="610"/>
                </a:lnTo>
                <a:lnTo>
                  <a:pt x="425" y="632"/>
                </a:lnTo>
                <a:lnTo>
                  <a:pt x="405" y="651"/>
                </a:lnTo>
                <a:lnTo>
                  <a:pt x="384" y="668"/>
                </a:lnTo>
                <a:lnTo>
                  <a:pt x="340" y="705"/>
                </a:lnTo>
                <a:lnTo>
                  <a:pt x="294" y="739"/>
                </a:lnTo>
                <a:lnTo>
                  <a:pt x="271" y="754"/>
                </a:lnTo>
                <a:lnTo>
                  <a:pt x="248" y="772"/>
                </a:lnTo>
                <a:lnTo>
                  <a:pt x="223" y="787"/>
                </a:lnTo>
                <a:lnTo>
                  <a:pt x="198" y="8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组合 8"/>
          <p:cNvGrpSpPr/>
          <p:nvPr/>
        </p:nvGrpSpPr>
        <p:grpSpPr>
          <a:xfrm>
            <a:off x="1211400" y="3975120"/>
            <a:ext cx="2840040" cy="1571760"/>
            <a:chOff x="1211400" y="3975120"/>
            <a:chExt cx="2840040" cy="1571760"/>
          </a:xfrm>
        </p:grpSpPr>
        <p:pic>
          <p:nvPicPr>
            <p:cNvPr id="147" name="图示 4" descr=""/>
            <p:cNvPicPr/>
            <p:nvPr/>
          </p:nvPicPr>
          <p:blipFill>
            <a:blip r:embed="rId1"/>
            <a:stretch/>
          </p:blipFill>
          <p:spPr>
            <a:xfrm>
              <a:off x="121140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2"/>
            <p:cNvSpPr/>
            <p:nvPr/>
          </p:nvSpPr>
          <p:spPr>
            <a:xfrm>
              <a:off x="125604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亻”和“刂”的上部平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矩形 3"/>
          <p:cNvSpPr/>
          <p:nvPr/>
        </p:nvSpPr>
        <p:spPr>
          <a:xfrm>
            <a:off x="239220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5583240" y="2735280"/>
            <a:ext cx="816120" cy="1216080"/>
          </a:xfrm>
          <a:custGeom>
            <a:avLst/>
            <a:gdLst/>
            <a:ahLst/>
            <a:rect l="l" t="t" r="r" b="b"/>
            <a:pathLst>
              <a:path w="1029" h="1532">
                <a:moveTo>
                  <a:pt x="589" y="971"/>
                </a:moveTo>
                <a:lnTo>
                  <a:pt x="566" y="1000"/>
                </a:lnTo>
                <a:lnTo>
                  <a:pt x="543" y="1031"/>
                </a:lnTo>
                <a:lnTo>
                  <a:pt x="520" y="1059"/>
                </a:lnTo>
                <a:lnTo>
                  <a:pt x="497" y="1088"/>
                </a:lnTo>
                <a:lnTo>
                  <a:pt x="474" y="1115"/>
                </a:lnTo>
                <a:lnTo>
                  <a:pt x="451" y="1142"/>
                </a:lnTo>
                <a:lnTo>
                  <a:pt x="426" y="1169"/>
                </a:lnTo>
                <a:lnTo>
                  <a:pt x="403" y="1194"/>
                </a:lnTo>
                <a:lnTo>
                  <a:pt x="380" y="1219"/>
                </a:lnTo>
                <a:lnTo>
                  <a:pt x="355" y="1244"/>
                </a:lnTo>
                <a:lnTo>
                  <a:pt x="332" y="1267"/>
                </a:lnTo>
                <a:lnTo>
                  <a:pt x="307" y="1292"/>
                </a:lnTo>
                <a:lnTo>
                  <a:pt x="284" y="1313"/>
                </a:lnTo>
                <a:lnTo>
                  <a:pt x="259" y="1336"/>
                </a:lnTo>
                <a:lnTo>
                  <a:pt x="234" y="1357"/>
                </a:lnTo>
                <a:lnTo>
                  <a:pt x="209" y="1378"/>
                </a:lnTo>
                <a:lnTo>
                  <a:pt x="198" y="1390"/>
                </a:lnTo>
                <a:lnTo>
                  <a:pt x="186" y="1401"/>
                </a:lnTo>
                <a:lnTo>
                  <a:pt x="175" y="1411"/>
                </a:lnTo>
                <a:lnTo>
                  <a:pt x="163" y="1420"/>
                </a:lnTo>
                <a:lnTo>
                  <a:pt x="142" y="1440"/>
                </a:lnTo>
                <a:lnTo>
                  <a:pt x="123" y="1457"/>
                </a:lnTo>
                <a:lnTo>
                  <a:pt x="106" y="1470"/>
                </a:lnTo>
                <a:lnTo>
                  <a:pt x="88" y="1484"/>
                </a:lnTo>
                <a:lnTo>
                  <a:pt x="73" y="1495"/>
                </a:lnTo>
                <a:lnTo>
                  <a:pt x="59" y="1505"/>
                </a:lnTo>
                <a:lnTo>
                  <a:pt x="48" y="1512"/>
                </a:lnTo>
                <a:lnTo>
                  <a:pt x="38" y="1520"/>
                </a:lnTo>
                <a:lnTo>
                  <a:pt x="29" y="1526"/>
                </a:lnTo>
                <a:lnTo>
                  <a:pt x="21" y="1528"/>
                </a:lnTo>
                <a:lnTo>
                  <a:pt x="13" y="1530"/>
                </a:lnTo>
                <a:lnTo>
                  <a:pt x="10" y="1532"/>
                </a:lnTo>
                <a:lnTo>
                  <a:pt x="4" y="1532"/>
                </a:lnTo>
                <a:lnTo>
                  <a:pt x="2" y="1530"/>
                </a:lnTo>
                <a:lnTo>
                  <a:pt x="2" y="1528"/>
                </a:lnTo>
                <a:lnTo>
                  <a:pt x="0" y="1526"/>
                </a:lnTo>
                <a:lnTo>
                  <a:pt x="0" y="1522"/>
                </a:lnTo>
                <a:lnTo>
                  <a:pt x="2" y="1520"/>
                </a:lnTo>
                <a:lnTo>
                  <a:pt x="2" y="1516"/>
                </a:lnTo>
                <a:lnTo>
                  <a:pt x="4" y="1512"/>
                </a:lnTo>
                <a:lnTo>
                  <a:pt x="6" y="1509"/>
                </a:lnTo>
                <a:lnTo>
                  <a:pt x="8" y="1503"/>
                </a:lnTo>
                <a:lnTo>
                  <a:pt x="15" y="1493"/>
                </a:lnTo>
                <a:lnTo>
                  <a:pt x="23" y="1480"/>
                </a:lnTo>
                <a:lnTo>
                  <a:pt x="33" y="1464"/>
                </a:lnTo>
                <a:lnTo>
                  <a:pt x="46" y="1449"/>
                </a:lnTo>
                <a:lnTo>
                  <a:pt x="59" y="1432"/>
                </a:lnTo>
                <a:lnTo>
                  <a:pt x="73" y="1411"/>
                </a:lnTo>
                <a:lnTo>
                  <a:pt x="90" y="1390"/>
                </a:lnTo>
                <a:lnTo>
                  <a:pt x="109" y="1367"/>
                </a:lnTo>
                <a:lnTo>
                  <a:pt x="129" y="1342"/>
                </a:lnTo>
                <a:lnTo>
                  <a:pt x="150" y="1315"/>
                </a:lnTo>
                <a:lnTo>
                  <a:pt x="173" y="1286"/>
                </a:lnTo>
                <a:lnTo>
                  <a:pt x="198" y="1257"/>
                </a:lnTo>
                <a:lnTo>
                  <a:pt x="246" y="1194"/>
                </a:lnTo>
                <a:lnTo>
                  <a:pt x="294" y="1131"/>
                </a:lnTo>
                <a:lnTo>
                  <a:pt x="340" y="1065"/>
                </a:lnTo>
                <a:lnTo>
                  <a:pt x="384" y="1000"/>
                </a:lnTo>
                <a:lnTo>
                  <a:pt x="428" y="933"/>
                </a:lnTo>
                <a:lnTo>
                  <a:pt x="470" y="866"/>
                </a:lnTo>
                <a:lnTo>
                  <a:pt x="511" y="797"/>
                </a:lnTo>
                <a:lnTo>
                  <a:pt x="553" y="726"/>
                </a:lnTo>
                <a:lnTo>
                  <a:pt x="572" y="691"/>
                </a:lnTo>
                <a:lnTo>
                  <a:pt x="591" y="660"/>
                </a:lnTo>
                <a:lnTo>
                  <a:pt x="609" y="628"/>
                </a:lnTo>
                <a:lnTo>
                  <a:pt x="628" y="597"/>
                </a:lnTo>
                <a:lnTo>
                  <a:pt x="643" y="566"/>
                </a:lnTo>
                <a:lnTo>
                  <a:pt x="660" y="537"/>
                </a:lnTo>
                <a:lnTo>
                  <a:pt x="674" y="509"/>
                </a:lnTo>
                <a:lnTo>
                  <a:pt x="689" y="482"/>
                </a:lnTo>
                <a:lnTo>
                  <a:pt x="703" y="455"/>
                </a:lnTo>
                <a:lnTo>
                  <a:pt x="714" y="428"/>
                </a:lnTo>
                <a:lnTo>
                  <a:pt x="726" y="403"/>
                </a:lnTo>
                <a:lnTo>
                  <a:pt x="737" y="378"/>
                </a:lnTo>
                <a:lnTo>
                  <a:pt x="747" y="355"/>
                </a:lnTo>
                <a:lnTo>
                  <a:pt x="756" y="332"/>
                </a:lnTo>
                <a:lnTo>
                  <a:pt x="764" y="309"/>
                </a:lnTo>
                <a:lnTo>
                  <a:pt x="772" y="290"/>
                </a:lnTo>
                <a:lnTo>
                  <a:pt x="777" y="269"/>
                </a:lnTo>
                <a:lnTo>
                  <a:pt x="783" y="250"/>
                </a:lnTo>
                <a:lnTo>
                  <a:pt x="789" y="232"/>
                </a:lnTo>
                <a:lnTo>
                  <a:pt x="793" y="215"/>
                </a:lnTo>
                <a:lnTo>
                  <a:pt x="797" y="198"/>
                </a:lnTo>
                <a:lnTo>
                  <a:pt x="799" y="182"/>
                </a:lnTo>
                <a:lnTo>
                  <a:pt x="801" y="169"/>
                </a:lnTo>
                <a:lnTo>
                  <a:pt x="802" y="155"/>
                </a:lnTo>
                <a:lnTo>
                  <a:pt x="802" y="142"/>
                </a:lnTo>
                <a:lnTo>
                  <a:pt x="802" y="129"/>
                </a:lnTo>
                <a:lnTo>
                  <a:pt x="802" y="117"/>
                </a:lnTo>
                <a:lnTo>
                  <a:pt x="802" y="107"/>
                </a:lnTo>
                <a:lnTo>
                  <a:pt x="801" y="98"/>
                </a:lnTo>
                <a:lnTo>
                  <a:pt x="801" y="88"/>
                </a:lnTo>
                <a:lnTo>
                  <a:pt x="799" y="79"/>
                </a:lnTo>
                <a:lnTo>
                  <a:pt x="797" y="71"/>
                </a:lnTo>
                <a:lnTo>
                  <a:pt x="791" y="63"/>
                </a:lnTo>
                <a:lnTo>
                  <a:pt x="789" y="58"/>
                </a:lnTo>
                <a:lnTo>
                  <a:pt x="785" y="52"/>
                </a:lnTo>
                <a:lnTo>
                  <a:pt x="785" y="46"/>
                </a:lnTo>
                <a:lnTo>
                  <a:pt x="783" y="40"/>
                </a:lnTo>
                <a:lnTo>
                  <a:pt x="783" y="36"/>
                </a:lnTo>
                <a:lnTo>
                  <a:pt x="783" y="31"/>
                </a:lnTo>
                <a:lnTo>
                  <a:pt x="785" y="27"/>
                </a:lnTo>
                <a:lnTo>
                  <a:pt x="787" y="23"/>
                </a:lnTo>
                <a:lnTo>
                  <a:pt x="791" y="21"/>
                </a:lnTo>
                <a:lnTo>
                  <a:pt x="795" y="17"/>
                </a:lnTo>
                <a:lnTo>
                  <a:pt x="799" y="13"/>
                </a:lnTo>
                <a:lnTo>
                  <a:pt x="802" y="12"/>
                </a:lnTo>
                <a:lnTo>
                  <a:pt x="808" y="8"/>
                </a:lnTo>
                <a:lnTo>
                  <a:pt x="814" y="6"/>
                </a:lnTo>
                <a:lnTo>
                  <a:pt x="822" y="4"/>
                </a:lnTo>
                <a:lnTo>
                  <a:pt x="827" y="0"/>
                </a:lnTo>
                <a:lnTo>
                  <a:pt x="835" y="0"/>
                </a:lnTo>
                <a:lnTo>
                  <a:pt x="841" y="0"/>
                </a:lnTo>
                <a:lnTo>
                  <a:pt x="849" y="0"/>
                </a:lnTo>
                <a:lnTo>
                  <a:pt x="856" y="2"/>
                </a:lnTo>
                <a:lnTo>
                  <a:pt x="864" y="4"/>
                </a:lnTo>
                <a:lnTo>
                  <a:pt x="872" y="8"/>
                </a:lnTo>
                <a:lnTo>
                  <a:pt x="879" y="12"/>
                </a:lnTo>
                <a:lnTo>
                  <a:pt x="887" y="15"/>
                </a:lnTo>
                <a:lnTo>
                  <a:pt x="897" y="21"/>
                </a:lnTo>
                <a:lnTo>
                  <a:pt x="904" y="29"/>
                </a:lnTo>
                <a:lnTo>
                  <a:pt x="914" y="35"/>
                </a:lnTo>
                <a:lnTo>
                  <a:pt x="923" y="44"/>
                </a:lnTo>
                <a:lnTo>
                  <a:pt x="933" y="52"/>
                </a:lnTo>
                <a:lnTo>
                  <a:pt x="944" y="61"/>
                </a:lnTo>
                <a:lnTo>
                  <a:pt x="956" y="71"/>
                </a:lnTo>
                <a:lnTo>
                  <a:pt x="964" y="81"/>
                </a:lnTo>
                <a:lnTo>
                  <a:pt x="971" y="92"/>
                </a:lnTo>
                <a:lnTo>
                  <a:pt x="979" y="100"/>
                </a:lnTo>
                <a:lnTo>
                  <a:pt x="987" y="109"/>
                </a:lnTo>
                <a:lnTo>
                  <a:pt x="992" y="119"/>
                </a:lnTo>
                <a:lnTo>
                  <a:pt x="1000" y="127"/>
                </a:lnTo>
                <a:lnTo>
                  <a:pt x="1004" y="136"/>
                </a:lnTo>
                <a:lnTo>
                  <a:pt x="1010" y="144"/>
                </a:lnTo>
                <a:lnTo>
                  <a:pt x="1014" y="152"/>
                </a:lnTo>
                <a:lnTo>
                  <a:pt x="1017" y="157"/>
                </a:lnTo>
                <a:lnTo>
                  <a:pt x="1021" y="165"/>
                </a:lnTo>
                <a:lnTo>
                  <a:pt x="1023" y="171"/>
                </a:lnTo>
                <a:lnTo>
                  <a:pt x="1025" y="177"/>
                </a:lnTo>
                <a:lnTo>
                  <a:pt x="1027" y="182"/>
                </a:lnTo>
                <a:lnTo>
                  <a:pt x="1027" y="188"/>
                </a:lnTo>
                <a:lnTo>
                  <a:pt x="1029" y="194"/>
                </a:lnTo>
                <a:lnTo>
                  <a:pt x="1027" y="200"/>
                </a:lnTo>
                <a:lnTo>
                  <a:pt x="1027" y="207"/>
                </a:lnTo>
                <a:lnTo>
                  <a:pt x="1023" y="217"/>
                </a:lnTo>
                <a:lnTo>
                  <a:pt x="1021" y="226"/>
                </a:lnTo>
                <a:lnTo>
                  <a:pt x="1017" y="238"/>
                </a:lnTo>
                <a:lnTo>
                  <a:pt x="1012" y="251"/>
                </a:lnTo>
                <a:lnTo>
                  <a:pt x="1006" y="267"/>
                </a:lnTo>
                <a:lnTo>
                  <a:pt x="998" y="284"/>
                </a:lnTo>
                <a:lnTo>
                  <a:pt x="991" y="301"/>
                </a:lnTo>
                <a:lnTo>
                  <a:pt x="981" y="321"/>
                </a:lnTo>
                <a:lnTo>
                  <a:pt x="971" y="342"/>
                </a:lnTo>
                <a:lnTo>
                  <a:pt x="962" y="365"/>
                </a:lnTo>
                <a:lnTo>
                  <a:pt x="948" y="388"/>
                </a:lnTo>
                <a:lnTo>
                  <a:pt x="935" y="413"/>
                </a:lnTo>
                <a:lnTo>
                  <a:pt x="921" y="440"/>
                </a:lnTo>
                <a:lnTo>
                  <a:pt x="906" y="466"/>
                </a:lnTo>
                <a:lnTo>
                  <a:pt x="891" y="497"/>
                </a:lnTo>
                <a:lnTo>
                  <a:pt x="873" y="528"/>
                </a:lnTo>
                <a:lnTo>
                  <a:pt x="856" y="559"/>
                </a:lnTo>
                <a:lnTo>
                  <a:pt x="837" y="589"/>
                </a:lnTo>
                <a:lnTo>
                  <a:pt x="820" y="620"/>
                </a:lnTo>
                <a:lnTo>
                  <a:pt x="801" y="651"/>
                </a:lnTo>
                <a:lnTo>
                  <a:pt x="781" y="681"/>
                </a:lnTo>
                <a:lnTo>
                  <a:pt x="760" y="712"/>
                </a:lnTo>
                <a:lnTo>
                  <a:pt x="720" y="775"/>
                </a:lnTo>
                <a:lnTo>
                  <a:pt x="678" y="839"/>
                </a:lnTo>
                <a:lnTo>
                  <a:pt x="634" y="904"/>
                </a:lnTo>
                <a:lnTo>
                  <a:pt x="589" y="971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6008760" y="3409920"/>
            <a:ext cx="164880" cy="1469880"/>
          </a:xfrm>
          <a:custGeom>
            <a:avLst/>
            <a:gdLst/>
            <a:ahLst/>
            <a:rect l="l" t="t" r="r" b="b"/>
            <a:pathLst>
              <a:path w="209" h="1853">
                <a:moveTo>
                  <a:pt x="17" y="0"/>
                </a:moveTo>
                <a:lnTo>
                  <a:pt x="36" y="10"/>
                </a:lnTo>
                <a:lnTo>
                  <a:pt x="55" y="20"/>
                </a:lnTo>
                <a:lnTo>
                  <a:pt x="73" y="29"/>
                </a:lnTo>
                <a:lnTo>
                  <a:pt x="90" y="39"/>
                </a:lnTo>
                <a:lnTo>
                  <a:pt x="105" y="48"/>
                </a:lnTo>
                <a:lnTo>
                  <a:pt x="119" y="56"/>
                </a:lnTo>
                <a:lnTo>
                  <a:pt x="132" y="64"/>
                </a:lnTo>
                <a:lnTo>
                  <a:pt x="144" y="73"/>
                </a:lnTo>
                <a:lnTo>
                  <a:pt x="155" y="81"/>
                </a:lnTo>
                <a:lnTo>
                  <a:pt x="165" y="89"/>
                </a:lnTo>
                <a:lnTo>
                  <a:pt x="172" y="96"/>
                </a:lnTo>
                <a:lnTo>
                  <a:pt x="180" y="104"/>
                </a:lnTo>
                <a:lnTo>
                  <a:pt x="188" y="112"/>
                </a:lnTo>
                <a:lnTo>
                  <a:pt x="192" y="119"/>
                </a:lnTo>
                <a:lnTo>
                  <a:pt x="197" y="127"/>
                </a:lnTo>
                <a:lnTo>
                  <a:pt x="199" y="137"/>
                </a:lnTo>
                <a:lnTo>
                  <a:pt x="201" y="140"/>
                </a:lnTo>
                <a:lnTo>
                  <a:pt x="201" y="144"/>
                </a:lnTo>
                <a:lnTo>
                  <a:pt x="203" y="150"/>
                </a:lnTo>
                <a:lnTo>
                  <a:pt x="203" y="156"/>
                </a:lnTo>
                <a:lnTo>
                  <a:pt x="203" y="164"/>
                </a:lnTo>
                <a:lnTo>
                  <a:pt x="205" y="171"/>
                </a:lnTo>
                <a:lnTo>
                  <a:pt x="205" y="179"/>
                </a:lnTo>
                <a:lnTo>
                  <a:pt x="205" y="187"/>
                </a:lnTo>
                <a:lnTo>
                  <a:pt x="207" y="196"/>
                </a:lnTo>
                <a:lnTo>
                  <a:pt x="207" y="208"/>
                </a:lnTo>
                <a:lnTo>
                  <a:pt x="207" y="217"/>
                </a:lnTo>
                <a:lnTo>
                  <a:pt x="207" y="229"/>
                </a:lnTo>
                <a:lnTo>
                  <a:pt x="207" y="242"/>
                </a:lnTo>
                <a:lnTo>
                  <a:pt x="207" y="254"/>
                </a:lnTo>
                <a:lnTo>
                  <a:pt x="209" y="267"/>
                </a:lnTo>
                <a:lnTo>
                  <a:pt x="209" y="283"/>
                </a:lnTo>
                <a:lnTo>
                  <a:pt x="209" y="298"/>
                </a:lnTo>
                <a:lnTo>
                  <a:pt x="207" y="313"/>
                </a:lnTo>
                <a:lnTo>
                  <a:pt x="207" y="331"/>
                </a:lnTo>
                <a:lnTo>
                  <a:pt x="207" y="348"/>
                </a:lnTo>
                <a:lnTo>
                  <a:pt x="207" y="365"/>
                </a:lnTo>
                <a:lnTo>
                  <a:pt x="207" y="384"/>
                </a:lnTo>
                <a:lnTo>
                  <a:pt x="207" y="403"/>
                </a:lnTo>
                <a:lnTo>
                  <a:pt x="205" y="423"/>
                </a:lnTo>
                <a:lnTo>
                  <a:pt x="205" y="444"/>
                </a:lnTo>
                <a:lnTo>
                  <a:pt x="205" y="467"/>
                </a:lnTo>
                <a:lnTo>
                  <a:pt x="203" y="488"/>
                </a:lnTo>
                <a:lnTo>
                  <a:pt x="203" y="511"/>
                </a:lnTo>
                <a:lnTo>
                  <a:pt x="203" y="536"/>
                </a:lnTo>
                <a:lnTo>
                  <a:pt x="201" y="561"/>
                </a:lnTo>
                <a:lnTo>
                  <a:pt x="201" y="586"/>
                </a:lnTo>
                <a:lnTo>
                  <a:pt x="199" y="613"/>
                </a:lnTo>
                <a:lnTo>
                  <a:pt x="195" y="720"/>
                </a:lnTo>
                <a:lnTo>
                  <a:pt x="190" y="826"/>
                </a:lnTo>
                <a:lnTo>
                  <a:pt x="186" y="933"/>
                </a:lnTo>
                <a:lnTo>
                  <a:pt x="180" y="1039"/>
                </a:lnTo>
                <a:lnTo>
                  <a:pt x="176" y="1142"/>
                </a:lnTo>
                <a:lnTo>
                  <a:pt x="172" y="1244"/>
                </a:lnTo>
                <a:lnTo>
                  <a:pt x="169" y="1294"/>
                </a:lnTo>
                <a:lnTo>
                  <a:pt x="167" y="1344"/>
                </a:lnTo>
                <a:lnTo>
                  <a:pt x="165" y="1394"/>
                </a:lnTo>
                <a:lnTo>
                  <a:pt x="163" y="1444"/>
                </a:lnTo>
                <a:lnTo>
                  <a:pt x="161" y="1467"/>
                </a:lnTo>
                <a:lnTo>
                  <a:pt x="161" y="1490"/>
                </a:lnTo>
                <a:lnTo>
                  <a:pt x="159" y="1513"/>
                </a:lnTo>
                <a:lnTo>
                  <a:pt x="159" y="1534"/>
                </a:lnTo>
                <a:lnTo>
                  <a:pt x="157" y="1555"/>
                </a:lnTo>
                <a:lnTo>
                  <a:pt x="155" y="1576"/>
                </a:lnTo>
                <a:lnTo>
                  <a:pt x="155" y="1595"/>
                </a:lnTo>
                <a:lnTo>
                  <a:pt x="153" y="1615"/>
                </a:lnTo>
                <a:lnTo>
                  <a:pt x="153" y="1632"/>
                </a:lnTo>
                <a:lnTo>
                  <a:pt x="151" y="1649"/>
                </a:lnTo>
                <a:lnTo>
                  <a:pt x="149" y="1666"/>
                </a:lnTo>
                <a:lnTo>
                  <a:pt x="149" y="1682"/>
                </a:lnTo>
                <a:lnTo>
                  <a:pt x="147" y="1697"/>
                </a:lnTo>
                <a:lnTo>
                  <a:pt x="145" y="1712"/>
                </a:lnTo>
                <a:lnTo>
                  <a:pt x="145" y="1726"/>
                </a:lnTo>
                <a:lnTo>
                  <a:pt x="144" y="1739"/>
                </a:lnTo>
                <a:lnTo>
                  <a:pt x="144" y="1751"/>
                </a:lnTo>
                <a:lnTo>
                  <a:pt x="142" y="1762"/>
                </a:lnTo>
                <a:lnTo>
                  <a:pt x="140" y="1774"/>
                </a:lnTo>
                <a:lnTo>
                  <a:pt x="140" y="1783"/>
                </a:lnTo>
                <a:lnTo>
                  <a:pt x="138" y="1793"/>
                </a:lnTo>
                <a:lnTo>
                  <a:pt x="138" y="1803"/>
                </a:lnTo>
                <a:lnTo>
                  <a:pt x="136" y="1810"/>
                </a:lnTo>
                <a:lnTo>
                  <a:pt x="134" y="1818"/>
                </a:lnTo>
                <a:lnTo>
                  <a:pt x="134" y="1826"/>
                </a:lnTo>
                <a:lnTo>
                  <a:pt x="132" y="1831"/>
                </a:lnTo>
                <a:lnTo>
                  <a:pt x="132" y="1835"/>
                </a:lnTo>
                <a:lnTo>
                  <a:pt x="130" y="1841"/>
                </a:lnTo>
                <a:lnTo>
                  <a:pt x="128" y="1845"/>
                </a:lnTo>
                <a:lnTo>
                  <a:pt x="128" y="1847"/>
                </a:lnTo>
                <a:lnTo>
                  <a:pt x="126" y="1851"/>
                </a:lnTo>
                <a:lnTo>
                  <a:pt x="126" y="1853"/>
                </a:lnTo>
                <a:lnTo>
                  <a:pt x="121" y="1851"/>
                </a:lnTo>
                <a:lnTo>
                  <a:pt x="117" y="1849"/>
                </a:lnTo>
                <a:lnTo>
                  <a:pt x="111" y="1847"/>
                </a:lnTo>
                <a:lnTo>
                  <a:pt x="107" y="1843"/>
                </a:lnTo>
                <a:lnTo>
                  <a:pt x="101" y="1839"/>
                </a:lnTo>
                <a:lnTo>
                  <a:pt x="98" y="1833"/>
                </a:lnTo>
                <a:lnTo>
                  <a:pt x="92" y="1826"/>
                </a:lnTo>
                <a:lnTo>
                  <a:pt x="88" y="1818"/>
                </a:lnTo>
                <a:lnTo>
                  <a:pt x="82" y="1808"/>
                </a:lnTo>
                <a:lnTo>
                  <a:pt x="76" y="1797"/>
                </a:lnTo>
                <a:lnTo>
                  <a:pt x="71" y="1785"/>
                </a:lnTo>
                <a:lnTo>
                  <a:pt x="65" y="1772"/>
                </a:lnTo>
                <a:lnTo>
                  <a:pt x="59" y="1757"/>
                </a:lnTo>
                <a:lnTo>
                  <a:pt x="53" y="1739"/>
                </a:lnTo>
                <a:lnTo>
                  <a:pt x="48" y="1722"/>
                </a:lnTo>
                <a:lnTo>
                  <a:pt x="40" y="1703"/>
                </a:lnTo>
                <a:lnTo>
                  <a:pt x="34" y="1684"/>
                </a:lnTo>
                <a:lnTo>
                  <a:pt x="28" y="1666"/>
                </a:lnTo>
                <a:lnTo>
                  <a:pt x="23" y="1649"/>
                </a:lnTo>
                <a:lnTo>
                  <a:pt x="17" y="1632"/>
                </a:lnTo>
                <a:lnTo>
                  <a:pt x="13" y="1615"/>
                </a:lnTo>
                <a:lnTo>
                  <a:pt x="9" y="1599"/>
                </a:lnTo>
                <a:lnTo>
                  <a:pt x="7" y="1582"/>
                </a:lnTo>
                <a:lnTo>
                  <a:pt x="3" y="1565"/>
                </a:lnTo>
                <a:lnTo>
                  <a:pt x="2" y="1549"/>
                </a:lnTo>
                <a:lnTo>
                  <a:pt x="2" y="1532"/>
                </a:lnTo>
                <a:lnTo>
                  <a:pt x="0" y="1515"/>
                </a:lnTo>
                <a:lnTo>
                  <a:pt x="0" y="1499"/>
                </a:lnTo>
                <a:lnTo>
                  <a:pt x="0" y="1482"/>
                </a:lnTo>
                <a:lnTo>
                  <a:pt x="0" y="1465"/>
                </a:lnTo>
                <a:lnTo>
                  <a:pt x="2" y="1448"/>
                </a:lnTo>
                <a:lnTo>
                  <a:pt x="3" y="1430"/>
                </a:lnTo>
                <a:lnTo>
                  <a:pt x="5" y="1411"/>
                </a:lnTo>
                <a:lnTo>
                  <a:pt x="7" y="1392"/>
                </a:lnTo>
                <a:lnTo>
                  <a:pt x="9" y="1371"/>
                </a:lnTo>
                <a:lnTo>
                  <a:pt x="13" y="1348"/>
                </a:lnTo>
                <a:lnTo>
                  <a:pt x="15" y="1323"/>
                </a:lnTo>
                <a:lnTo>
                  <a:pt x="17" y="1298"/>
                </a:lnTo>
                <a:lnTo>
                  <a:pt x="19" y="1271"/>
                </a:lnTo>
                <a:lnTo>
                  <a:pt x="23" y="1244"/>
                </a:lnTo>
                <a:lnTo>
                  <a:pt x="25" y="1213"/>
                </a:lnTo>
                <a:lnTo>
                  <a:pt x="26" y="1183"/>
                </a:lnTo>
                <a:lnTo>
                  <a:pt x="28" y="1150"/>
                </a:lnTo>
                <a:lnTo>
                  <a:pt x="30" y="1117"/>
                </a:lnTo>
                <a:lnTo>
                  <a:pt x="34" y="1081"/>
                </a:lnTo>
                <a:lnTo>
                  <a:pt x="36" y="1045"/>
                </a:lnTo>
                <a:lnTo>
                  <a:pt x="38" y="1006"/>
                </a:lnTo>
                <a:lnTo>
                  <a:pt x="40" y="966"/>
                </a:lnTo>
                <a:lnTo>
                  <a:pt x="42" y="926"/>
                </a:lnTo>
                <a:lnTo>
                  <a:pt x="44" y="887"/>
                </a:lnTo>
                <a:lnTo>
                  <a:pt x="46" y="849"/>
                </a:lnTo>
                <a:lnTo>
                  <a:pt x="48" y="812"/>
                </a:lnTo>
                <a:lnTo>
                  <a:pt x="48" y="778"/>
                </a:lnTo>
                <a:lnTo>
                  <a:pt x="50" y="743"/>
                </a:lnTo>
                <a:lnTo>
                  <a:pt x="50" y="711"/>
                </a:lnTo>
                <a:lnTo>
                  <a:pt x="51" y="678"/>
                </a:lnTo>
                <a:lnTo>
                  <a:pt x="51" y="647"/>
                </a:lnTo>
                <a:lnTo>
                  <a:pt x="51" y="618"/>
                </a:lnTo>
                <a:lnTo>
                  <a:pt x="51" y="590"/>
                </a:lnTo>
                <a:lnTo>
                  <a:pt x="51" y="563"/>
                </a:lnTo>
                <a:lnTo>
                  <a:pt x="51" y="536"/>
                </a:lnTo>
                <a:lnTo>
                  <a:pt x="53" y="511"/>
                </a:lnTo>
                <a:lnTo>
                  <a:pt x="53" y="486"/>
                </a:lnTo>
                <a:lnTo>
                  <a:pt x="53" y="463"/>
                </a:lnTo>
                <a:lnTo>
                  <a:pt x="51" y="440"/>
                </a:lnTo>
                <a:lnTo>
                  <a:pt x="51" y="415"/>
                </a:lnTo>
                <a:lnTo>
                  <a:pt x="51" y="390"/>
                </a:lnTo>
                <a:lnTo>
                  <a:pt x="50" y="365"/>
                </a:lnTo>
                <a:lnTo>
                  <a:pt x="50" y="340"/>
                </a:lnTo>
                <a:lnTo>
                  <a:pt x="48" y="313"/>
                </a:lnTo>
                <a:lnTo>
                  <a:pt x="46" y="284"/>
                </a:lnTo>
                <a:lnTo>
                  <a:pt x="44" y="258"/>
                </a:lnTo>
                <a:lnTo>
                  <a:pt x="40" y="227"/>
                </a:lnTo>
                <a:lnTo>
                  <a:pt x="38" y="198"/>
                </a:lnTo>
                <a:lnTo>
                  <a:pt x="34" y="167"/>
                </a:lnTo>
                <a:lnTo>
                  <a:pt x="32" y="135"/>
                </a:lnTo>
                <a:lnTo>
                  <a:pt x="28" y="102"/>
                </a:lnTo>
                <a:lnTo>
                  <a:pt x="25" y="69"/>
                </a:lnTo>
                <a:lnTo>
                  <a:pt x="21" y="35"/>
                </a:lnTo>
                <a:lnTo>
                  <a:pt x="17" y="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6399360" y="3063960"/>
            <a:ext cx="722160" cy="198360"/>
          </a:xfrm>
          <a:custGeom>
            <a:avLst/>
            <a:gdLst/>
            <a:ahLst/>
            <a:rect l="l" t="t" r="r" b="b"/>
            <a:pathLst>
              <a:path w="908" h="249">
                <a:moveTo>
                  <a:pt x="330" y="230"/>
                </a:moveTo>
                <a:lnTo>
                  <a:pt x="309" y="232"/>
                </a:lnTo>
                <a:lnTo>
                  <a:pt x="290" y="236"/>
                </a:lnTo>
                <a:lnTo>
                  <a:pt x="271" y="238"/>
                </a:lnTo>
                <a:lnTo>
                  <a:pt x="253" y="240"/>
                </a:lnTo>
                <a:lnTo>
                  <a:pt x="238" y="242"/>
                </a:lnTo>
                <a:lnTo>
                  <a:pt x="223" y="245"/>
                </a:lnTo>
                <a:lnTo>
                  <a:pt x="207" y="245"/>
                </a:lnTo>
                <a:lnTo>
                  <a:pt x="194" y="247"/>
                </a:lnTo>
                <a:lnTo>
                  <a:pt x="180" y="249"/>
                </a:lnTo>
                <a:lnTo>
                  <a:pt x="169" y="249"/>
                </a:lnTo>
                <a:lnTo>
                  <a:pt x="159" y="249"/>
                </a:lnTo>
                <a:lnTo>
                  <a:pt x="150" y="249"/>
                </a:lnTo>
                <a:lnTo>
                  <a:pt x="140" y="249"/>
                </a:lnTo>
                <a:lnTo>
                  <a:pt x="132" y="249"/>
                </a:lnTo>
                <a:lnTo>
                  <a:pt x="127" y="247"/>
                </a:lnTo>
                <a:lnTo>
                  <a:pt x="123" y="245"/>
                </a:lnTo>
                <a:lnTo>
                  <a:pt x="115" y="243"/>
                </a:lnTo>
                <a:lnTo>
                  <a:pt x="107" y="243"/>
                </a:lnTo>
                <a:lnTo>
                  <a:pt x="102" y="242"/>
                </a:lnTo>
                <a:lnTo>
                  <a:pt x="94" y="240"/>
                </a:lnTo>
                <a:lnTo>
                  <a:pt x="86" y="238"/>
                </a:lnTo>
                <a:lnTo>
                  <a:pt x="81" y="234"/>
                </a:lnTo>
                <a:lnTo>
                  <a:pt x="73" y="230"/>
                </a:lnTo>
                <a:lnTo>
                  <a:pt x="65" y="226"/>
                </a:lnTo>
                <a:lnTo>
                  <a:pt x="58" y="220"/>
                </a:lnTo>
                <a:lnTo>
                  <a:pt x="50" y="217"/>
                </a:lnTo>
                <a:lnTo>
                  <a:pt x="35" y="205"/>
                </a:lnTo>
                <a:lnTo>
                  <a:pt x="17" y="192"/>
                </a:lnTo>
                <a:lnTo>
                  <a:pt x="0" y="176"/>
                </a:lnTo>
                <a:lnTo>
                  <a:pt x="11" y="170"/>
                </a:lnTo>
                <a:lnTo>
                  <a:pt x="25" y="165"/>
                </a:lnTo>
                <a:lnTo>
                  <a:pt x="40" y="159"/>
                </a:lnTo>
                <a:lnTo>
                  <a:pt x="56" y="153"/>
                </a:lnTo>
                <a:lnTo>
                  <a:pt x="73" y="147"/>
                </a:lnTo>
                <a:lnTo>
                  <a:pt x="92" y="140"/>
                </a:lnTo>
                <a:lnTo>
                  <a:pt x="113" y="134"/>
                </a:lnTo>
                <a:lnTo>
                  <a:pt x="134" y="126"/>
                </a:lnTo>
                <a:lnTo>
                  <a:pt x="155" y="121"/>
                </a:lnTo>
                <a:lnTo>
                  <a:pt x="180" y="113"/>
                </a:lnTo>
                <a:lnTo>
                  <a:pt x="205" y="105"/>
                </a:lnTo>
                <a:lnTo>
                  <a:pt x="230" y="98"/>
                </a:lnTo>
                <a:lnTo>
                  <a:pt x="257" y="90"/>
                </a:lnTo>
                <a:lnTo>
                  <a:pt x="284" y="82"/>
                </a:lnTo>
                <a:lnTo>
                  <a:pt x="313" y="75"/>
                </a:lnTo>
                <a:lnTo>
                  <a:pt x="342" y="67"/>
                </a:lnTo>
                <a:lnTo>
                  <a:pt x="370" y="59"/>
                </a:lnTo>
                <a:lnTo>
                  <a:pt x="399" y="51"/>
                </a:lnTo>
                <a:lnTo>
                  <a:pt x="428" y="46"/>
                </a:lnTo>
                <a:lnTo>
                  <a:pt x="455" y="38"/>
                </a:lnTo>
                <a:lnTo>
                  <a:pt x="482" y="32"/>
                </a:lnTo>
                <a:lnTo>
                  <a:pt x="509" y="27"/>
                </a:lnTo>
                <a:lnTo>
                  <a:pt x="534" y="23"/>
                </a:lnTo>
                <a:lnTo>
                  <a:pt x="559" y="17"/>
                </a:lnTo>
                <a:lnTo>
                  <a:pt x="582" y="13"/>
                </a:lnTo>
                <a:lnTo>
                  <a:pt x="605" y="9"/>
                </a:lnTo>
                <a:lnTo>
                  <a:pt x="626" y="5"/>
                </a:lnTo>
                <a:lnTo>
                  <a:pt x="647" y="3"/>
                </a:lnTo>
                <a:lnTo>
                  <a:pt x="668" y="2"/>
                </a:lnTo>
                <a:lnTo>
                  <a:pt x="685" y="0"/>
                </a:lnTo>
                <a:lnTo>
                  <a:pt x="705" y="0"/>
                </a:lnTo>
                <a:lnTo>
                  <a:pt x="722" y="0"/>
                </a:lnTo>
                <a:lnTo>
                  <a:pt x="737" y="0"/>
                </a:lnTo>
                <a:lnTo>
                  <a:pt x="751" y="0"/>
                </a:lnTo>
                <a:lnTo>
                  <a:pt x="766" y="0"/>
                </a:lnTo>
                <a:lnTo>
                  <a:pt x="777" y="2"/>
                </a:lnTo>
                <a:lnTo>
                  <a:pt x="791" y="2"/>
                </a:lnTo>
                <a:lnTo>
                  <a:pt x="802" y="3"/>
                </a:lnTo>
                <a:lnTo>
                  <a:pt x="814" y="5"/>
                </a:lnTo>
                <a:lnTo>
                  <a:pt x="824" y="7"/>
                </a:lnTo>
                <a:lnTo>
                  <a:pt x="833" y="9"/>
                </a:lnTo>
                <a:lnTo>
                  <a:pt x="841" y="11"/>
                </a:lnTo>
                <a:lnTo>
                  <a:pt x="848" y="13"/>
                </a:lnTo>
                <a:lnTo>
                  <a:pt x="856" y="15"/>
                </a:lnTo>
                <a:lnTo>
                  <a:pt x="864" y="19"/>
                </a:lnTo>
                <a:lnTo>
                  <a:pt x="870" y="21"/>
                </a:lnTo>
                <a:lnTo>
                  <a:pt x="875" y="23"/>
                </a:lnTo>
                <a:lnTo>
                  <a:pt x="879" y="27"/>
                </a:lnTo>
                <a:lnTo>
                  <a:pt x="887" y="36"/>
                </a:lnTo>
                <a:lnTo>
                  <a:pt x="895" y="46"/>
                </a:lnTo>
                <a:lnTo>
                  <a:pt x="900" y="55"/>
                </a:lnTo>
                <a:lnTo>
                  <a:pt x="904" y="65"/>
                </a:lnTo>
                <a:lnTo>
                  <a:pt x="908" y="75"/>
                </a:lnTo>
                <a:lnTo>
                  <a:pt x="908" y="78"/>
                </a:lnTo>
                <a:lnTo>
                  <a:pt x="908" y="82"/>
                </a:lnTo>
                <a:lnTo>
                  <a:pt x="908" y="84"/>
                </a:lnTo>
                <a:lnTo>
                  <a:pt x="908" y="88"/>
                </a:lnTo>
                <a:lnTo>
                  <a:pt x="906" y="92"/>
                </a:lnTo>
                <a:lnTo>
                  <a:pt x="904" y="94"/>
                </a:lnTo>
                <a:lnTo>
                  <a:pt x="902" y="96"/>
                </a:lnTo>
                <a:lnTo>
                  <a:pt x="898" y="99"/>
                </a:lnTo>
                <a:lnTo>
                  <a:pt x="893" y="103"/>
                </a:lnTo>
                <a:lnTo>
                  <a:pt x="889" y="107"/>
                </a:lnTo>
                <a:lnTo>
                  <a:pt x="881" y="111"/>
                </a:lnTo>
                <a:lnTo>
                  <a:pt x="875" y="113"/>
                </a:lnTo>
                <a:lnTo>
                  <a:pt x="868" y="117"/>
                </a:lnTo>
                <a:lnTo>
                  <a:pt x="858" y="121"/>
                </a:lnTo>
                <a:lnTo>
                  <a:pt x="848" y="124"/>
                </a:lnTo>
                <a:lnTo>
                  <a:pt x="839" y="128"/>
                </a:lnTo>
                <a:lnTo>
                  <a:pt x="827" y="132"/>
                </a:lnTo>
                <a:lnTo>
                  <a:pt x="814" y="136"/>
                </a:lnTo>
                <a:lnTo>
                  <a:pt x="802" y="140"/>
                </a:lnTo>
                <a:lnTo>
                  <a:pt x="787" y="144"/>
                </a:lnTo>
                <a:lnTo>
                  <a:pt x="774" y="146"/>
                </a:lnTo>
                <a:lnTo>
                  <a:pt x="758" y="149"/>
                </a:lnTo>
                <a:lnTo>
                  <a:pt x="726" y="153"/>
                </a:lnTo>
                <a:lnTo>
                  <a:pt x="695" y="159"/>
                </a:lnTo>
                <a:lnTo>
                  <a:pt x="681" y="161"/>
                </a:lnTo>
                <a:lnTo>
                  <a:pt x="668" y="163"/>
                </a:lnTo>
                <a:lnTo>
                  <a:pt x="655" y="167"/>
                </a:lnTo>
                <a:lnTo>
                  <a:pt x="641" y="169"/>
                </a:lnTo>
                <a:lnTo>
                  <a:pt x="630" y="170"/>
                </a:lnTo>
                <a:lnTo>
                  <a:pt x="616" y="170"/>
                </a:lnTo>
                <a:lnTo>
                  <a:pt x="607" y="172"/>
                </a:lnTo>
                <a:lnTo>
                  <a:pt x="595" y="174"/>
                </a:lnTo>
                <a:lnTo>
                  <a:pt x="585" y="174"/>
                </a:lnTo>
                <a:lnTo>
                  <a:pt x="578" y="176"/>
                </a:lnTo>
                <a:lnTo>
                  <a:pt x="568" y="176"/>
                </a:lnTo>
                <a:lnTo>
                  <a:pt x="562" y="176"/>
                </a:lnTo>
                <a:lnTo>
                  <a:pt x="555" y="178"/>
                </a:lnTo>
                <a:lnTo>
                  <a:pt x="545" y="182"/>
                </a:lnTo>
                <a:lnTo>
                  <a:pt x="536" y="184"/>
                </a:lnTo>
                <a:lnTo>
                  <a:pt x="526" y="186"/>
                </a:lnTo>
                <a:lnTo>
                  <a:pt x="514" y="190"/>
                </a:lnTo>
                <a:lnTo>
                  <a:pt x="501" y="192"/>
                </a:lnTo>
                <a:lnTo>
                  <a:pt x="488" y="195"/>
                </a:lnTo>
                <a:lnTo>
                  <a:pt x="472" y="197"/>
                </a:lnTo>
                <a:lnTo>
                  <a:pt x="457" y="201"/>
                </a:lnTo>
                <a:lnTo>
                  <a:pt x="442" y="205"/>
                </a:lnTo>
                <a:lnTo>
                  <a:pt x="424" y="209"/>
                </a:lnTo>
                <a:lnTo>
                  <a:pt x="407" y="213"/>
                </a:lnTo>
                <a:lnTo>
                  <a:pt x="388" y="217"/>
                </a:lnTo>
                <a:lnTo>
                  <a:pt x="369" y="220"/>
                </a:lnTo>
                <a:lnTo>
                  <a:pt x="349" y="224"/>
                </a:lnTo>
                <a:lnTo>
                  <a:pt x="330" y="23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6243480" y="3192480"/>
            <a:ext cx="544680" cy="857160"/>
          </a:xfrm>
          <a:custGeom>
            <a:avLst/>
            <a:gdLst/>
            <a:ahLst/>
            <a:rect l="l" t="t" r="r" b="b"/>
            <a:pathLst>
              <a:path w="688" h="1079">
                <a:moveTo>
                  <a:pt x="2" y="1075"/>
                </a:moveTo>
                <a:lnTo>
                  <a:pt x="0" y="1071"/>
                </a:lnTo>
                <a:lnTo>
                  <a:pt x="0" y="1067"/>
                </a:lnTo>
                <a:lnTo>
                  <a:pt x="2" y="1061"/>
                </a:lnTo>
                <a:lnTo>
                  <a:pt x="4" y="1054"/>
                </a:lnTo>
                <a:lnTo>
                  <a:pt x="8" y="1046"/>
                </a:lnTo>
                <a:lnTo>
                  <a:pt x="14" y="1036"/>
                </a:lnTo>
                <a:lnTo>
                  <a:pt x="19" y="1027"/>
                </a:lnTo>
                <a:lnTo>
                  <a:pt x="27" y="1013"/>
                </a:lnTo>
                <a:lnTo>
                  <a:pt x="35" y="1000"/>
                </a:lnTo>
                <a:lnTo>
                  <a:pt x="44" y="986"/>
                </a:lnTo>
                <a:lnTo>
                  <a:pt x="56" y="969"/>
                </a:lnTo>
                <a:lnTo>
                  <a:pt x="67" y="952"/>
                </a:lnTo>
                <a:lnTo>
                  <a:pt x="81" y="935"/>
                </a:lnTo>
                <a:lnTo>
                  <a:pt x="94" y="913"/>
                </a:lnTo>
                <a:lnTo>
                  <a:pt x="108" y="892"/>
                </a:lnTo>
                <a:lnTo>
                  <a:pt x="125" y="871"/>
                </a:lnTo>
                <a:lnTo>
                  <a:pt x="140" y="850"/>
                </a:lnTo>
                <a:lnTo>
                  <a:pt x="156" y="829"/>
                </a:lnTo>
                <a:lnTo>
                  <a:pt x="171" y="806"/>
                </a:lnTo>
                <a:lnTo>
                  <a:pt x="188" y="783"/>
                </a:lnTo>
                <a:lnTo>
                  <a:pt x="204" y="760"/>
                </a:lnTo>
                <a:lnTo>
                  <a:pt x="221" y="735"/>
                </a:lnTo>
                <a:lnTo>
                  <a:pt x="236" y="710"/>
                </a:lnTo>
                <a:lnTo>
                  <a:pt x="252" y="685"/>
                </a:lnTo>
                <a:lnTo>
                  <a:pt x="269" y="658"/>
                </a:lnTo>
                <a:lnTo>
                  <a:pt x="284" y="631"/>
                </a:lnTo>
                <a:lnTo>
                  <a:pt x="302" y="603"/>
                </a:lnTo>
                <a:lnTo>
                  <a:pt x="317" y="574"/>
                </a:lnTo>
                <a:lnTo>
                  <a:pt x="332" y="545"/>
                </a:lnTo>
                <a:lnTo>
                  <a:pt x="350" y="514"/>
                </a:lnTo>
                <a:lnTo>
                  <a:pt x="365" y="482"/>
                </a:lnTo>
                <a:lnTo>
                  <a:pt x="380" y="449"/>
                </a:lnTo>
                <a:lnTo>
                  <a:pt x="394" y="418"/>
                </a:lnTo>
                <a:lnTo>
                  <a:pt x="405" y="388"/>
                </a:lnTo>
                <a:lnTo>
                  <a:pt x="417" y="359"/>
                </a:lnTo>
                <a:lnTo>
                  <a:pt x="428" y="328"/>
                </a:lnTo>
                <a:lnTo>
                  <a:pt x="438" y="299"/>
                </a:lnTo>
                <a:lnTo>
                  <a:pt x="448" y="270"/>
                </a:lnTo>
                <a:lnTo>
                  <a:pt x="457" y="242"/>
                </a:lnTo>
                <a:lnTo>
                  <a:pt x="465" y="213"/>
                </a:lnTo>
                <a:lnTo>
                  <a:pt x="471" y="186"/>
                </a:lnTo>
                <a:lnTo>
                  <a:pt x="478" y="157"/>
                </a:lnTo>
                <a:lnTo>
                  <a:pt x="484" y="130"/>
                </a:lnTo>
                <a:lnTo>
                  <a:pt x="490" y="103"/>
                </a:lnTo>
                <a:lnTo>
                  <a:pt x="494" y="77"/>
                </a:lnTo>
                <a:lnTo>
                  <a:pt x="497" y="50"/>
                </a:lnTo>
                <a:lnTo>
                  <a:pt x="501" y="25"/>
                </a:lnTo>
                <a:lnTo>
                  <a:pt x="503" y="0"/>
                </a:lnTo>
                <a:lnTo>
                  <a:pt x="524" y="17"/>
                </a:lnTo>
                <a:lnTo>
                  <a:pt x="545" y="32"/>
                </a:lnTo>
                <a:lnTo>
                  <a:pt x="565" y="50"/>
                </a:lnTo>
                <a:lnTo>
                  <a:pt x="584" y="63"/>
                </a:lnTo>
                <a:lnTo>
                  <a:pt x="599" y="77"/>
                </a:lnTo>
                <a:lnTo>
                  <a:pt x="615" y="90"/>
                </a:lnTo>
                <a:lnTo>
                  <a:pt x="628" y="102"/>
                </a:lnTo>
                <a:lnTo>
                  <a:pt x="640" y="111"/>
                </a:lnTo>
                <a:lnTo>
                  <a:pt x="651" y="121"/>
                </a:lnTo>
                <a:lnTo>
                  <a:pt x="661" y="130"/>
                </a:lnTo>
                <a:lnTo>
                  <a:pt x="668" y="138"/>
                </a:lnTo>
                <a:lnTo>
                  <a:pt x="674" y="146"/>
                </a:lnTo>
                <a:lnTo>
                  <a:pt x="680" y="151"/>
                </a:lnTo>
                <a:lnTo>
                  <a:pt x="684" y="155"/>
                </a:lnTo>
                <a:lnTo>
                  <a:pt x="686" y="159"/>
                </a:lnTo>
                <a:lnTo>
                  <a:pt x="688" y="163"/>
                </a:lnTo>
                <a:lnTo>
                  <a:pt x="686" y="169"/>
                </a:lnTo>
                <a:lnTo>
                  <a:pt x="686" y="174"/>
                </a:lnTo>
                <a:lnTo>
                  <a:pt x="684" y="180"/>
                </a:lnTo>
                <a:lnTo>
                  <a:pt x="682" y="188"/>
                </a:lnTo>
                <a:lnTo>
                  <a:pt x="680" y="196"/>
                </a:lnTo>
                <a:lnTo>
                  <a:pt x="676" y="205"/>
                </a:lnTo>
                <a:lnTo>
                  <a:pt x="674" y="215"/>
                </a:lnTo>
                <a:lnTo>
                  <a:pt x="670" y="224"/>
                </a:lnTo>
                <a:lnTo>
                  <a:pt x="664" y="234"/>
                </a:lnTo>
                <a:lnTo>
                  <a:pt x="661" y="245"/>
                </a:lnTo>
                <a:lnTo>
                  <a:pt x="655" y="257"/>
                </a:lnTo>
                <a:lnTo>
                  <a:pt x="651" y="270"/>
                </a:lnTo>
                <a:lnTo>
                  <a:pt x="645" y="284"/>
                </a:lnTo>
                <a:lnTo>
                  <a:pt x="638" y="297"/>
                </a:lnTo>
                <a:lnTo>
                  <a:pt x="632" y="311"/>
                </a:lnTo>
                <a:lnTo>
                  <a:pt x="626" y="326"/>
                </a:lnTo>
                <a:lnTo>
                  <a:pt x="616" y="341"/>
                </a:lnTo>
                <a:lnTo>
                  <a:pt x="607" y="359"/>
                </a:lnTo>
                <a:lnTo>
                  <a:pt x="597" y="376"/>
                </a:lnTo>
                <a:lnTo>
                  <a:pt x="586" y="393"/>
                </a:lnTo>
                <a:lnTo>
                  <a:pt x="576" y="411"/>
                </a:lnTo>
                <a:lnTo>
                  <a:pt x="565" y="430"/>
                </a:lnTo>
                <a:lnTo>
                  <a:pt x="553" y="449"/>
                </a:lnTo>
                <a:lnTo>
                  <a:pt x="542" y="470"/>
                </a:lnTo>
                <a:lnTo>
                  <a:pt x="528" y="489"/>
                </a:lnTo>
                <a:lnTo>
                  <a:pt x="517" y="510"/>
                </a:lnTo>
                <a:lnTo>
                  <a:pt x="503" y="533"/>
                </a:lnTo>
                <a:lnTo>
                  <a:pt x="490" y="556"/>
                </a:lnTo>
                <a:lnTo>
                  <a:pt x="474" y="579"/>
                </a:lnTo>
                <a:lnTo>
                  <a:pt x="461" y="603"/>
                </a:lnTo>
                <a:lnTo>
                  <a:pt x="446" y="627"/>
                </a:lnTo>
                <a:lnTo>
                  <a:pt x="430" y="652"/>
                </a:lnTo>
                <a:lnTo>
                  <a:pt x="413" y="677"/>
                </a:lnTo>
                <a:lnTo>
                  <a:pt x="398" y="702"/>
                </a:lnTo>
                <a:lnTo>
                  <a:pt x="382" y="727"/>
                </a:lnTo>
                <a:lnTo>
                  <a:pt x="365" y="750"/>
                </a:lnTo>
                <a:lnTo>
                  <a:pt x="350" y="771"/>
                </a:lnTo>
                <a:lnTo>
                  <a:pt x="332" y="794"/>
                </a:lnTo>
                <a:lnTo>
                  <a:pt x="317" y="816"/>
                </a:lnTo>
                <a:lnTo>
                  <a:pt x="300" y="835"/>
                </a:lnTo>
                <a:lnTo>
                  <a:pt x="282" y="854"/>
                </a:lnTo>
                <a:lnTo>
                  <a:pt x="265" y="873"/>
                </a:lnTo>
                <a:lnTo>
                  <a:pt x="250" y="890"/>
                </a:lnTo>
                <a:lnTo>
                  <a:pt x="233" y="908"/>
                </a:lnTo>
                <a:lnTo>
                  <a:pt x="213" y="923"/>
                </a:lnTo>
                <a:lnTo>
                  <a:pt x="196" y="938"/>
                </a:lnTo>
                <a:lnTo>
                  <a:pt x="179" y="954"/>
                </a:lnTo>
                <a:lnTo>
                  <a:pt x="161" y="967"/>
                </a:lnTo>
                <a:lnTo>
                  <a:pt x="142" y="981"/>
                </a:lnTo>
                <a:lnTo>
                  <a:pt x="127" y="996"/>
                </a:lnTo>
                <a:lnTo>
                  <a:pt x="112" y="1007"/>
                </a:lnTo>
                <a:lnTo>
                  <a:pt x="96" y="1021"/>
                </a:lnTo>
                <a:lnTo>
                  <a:pt x="83" y="1031"/>
                </a:lnTo>
                <a:lnTo>
                  <a:pt x="71" y="1040"/>
                </a:lnTo>
                <a:lnTo>
                  <a:pt x="60" y="1050"/>
                </a:lnTo>
                <a:lnTo>
                  <a:pt x="50" y="1057"/>
                </a:lnTo>
                <a:lnTo>
                  <a:pt x="41" y="1063"/>
                </a:lnTo>
                <a:lnTo>
                  <a:pt x="31" y="1069"/>
                </a:lnTo>
                <a:lnTo>
                  <a:pt x="25" y="1073"/>
                </a:lnTo>
                <a:lnTo>
                  <a:pt x="18" y="1075"/>
                </a:lnTo>
                <a:lnTo>
                  <a:pt x="14" y="1077"/>
                </a:lnTo>
                <a:lnTo>
                  <a:pt x="8" y="1079"/>
                </a:lnTo>
                <a:lnTo>
                  <a:pt x="4" y="1077"/>
                </a:lnTo>
                <a:lnTo>
                  <a:pt x="2" y="1075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6211800" y="3581280"/>
            <a:ext cx="790560" cy="1168560"/>
          </a:xfrm>
          <a:custGeom>
            <a:avLst/>
            <a:gdLst/>
            <a:ahLst/>
            <a:rect l="l" t="t" r="r" b="b"/>
            <a:pathLst>
              <a:path w="994" h="1472">
                <a:moveTo>
                  <a:pt x="432" y="83"/>
                </a:moveTo>
                <a:lnTo>
                  <a:pt x="455" y="83"/>
                </a:lnTo>
                <a:lnTo>
                  <a:pt x="480" y="81"/>
                </a:lnTo>
                <a:lnTo>
                  <a:pt x="505" y="81"/>
                </a:lnTo>
                <a:lnTo>
                  <a:pt x="530" y="81"/>
                </a:lnTo>
                <a:lnTo>
                  <a:pt x="557" y="79"/>
                </a:lnTo>
                <a:lnTo>
                  <a:pt x="583" y="77"/>
                </a:lnTo>
                <a:lnTo>
                  <a:pt x="612" y="73"/>
                </a:lnTo>
                <a:lnTo>
                  <a:pt x="639" y="69"/>
                </a:lnTo>
                <a:lnTo>
                  <a:pt x="662" y="64"/>
                </a:lnTo>
                <a:lnTo>
                  <a:pt x="681" y="58"/>
                </a:lnTo>
                <a:lnTo>
                  <a:pt x="702" y="54"/>
                </a:lnTo>
                <a:lnTo>
                  <a:pt x="720" y="48"/>
                </a:lnTo>
                <a:lnTo>
                  <a:pt x="735" y="42"/>
                </a:lnTo>
                <a:lnTo>
                  <a:pt x="743" y="41"/>
                </a:lnTo>
                <a:lnTo>
                  <a:pt x="750" y="39"/>
                </a:lnTo>
                <a:lnTo>
                  <a:pt x="756" y="35"/>
                </a:lnTo>
                <a:lnTo>
                  <a:pt x="764" y="33"/>
                </a:lnTo>
                <a:lnTo>
                  <a:pt x="768" y="31"/>
                </a:lnTo>
                <a:lnTo>
                  <a:pt x="773" y="29"/>
                </a:lnTo>
                <a:lnTo>
                  <a:pt x="779" y="23"/>
                </a:lnTo>
                <a:lnTo>
                  <a:pt x="785" y="18"/>
                </a:lnTo>
                <a:lnTo>
                  <a:pt x="791" y="14"/>
                </a:lnTo>
                <a:lnTo>
                  <a:pt x="798" y="8"/>
                </a:lnTo>
                <a:lnTo>
                  <a:pt x="804" y="6"/>
                </a:lnTo>
                <a:lnTo>
                  <a:pt x="812" y="2"/>
                </a:lnTo>
                <a:lnTo>
                  <a:pt x="818" y="0"/>
                </a:lnTo>
                <a:lnTo>
                  <a:pt x="823" y="0"/>
                </a:lnTo>
                <a:lnTo>
                  <a:pt x="825" y="0"/>
                </a:lnTo>
                <a:lnTo>
                  <a:pt x="827" y="2"/>
                </a:lnTo>
                <a:lnTo>
                  <a:pt x="831" y="4"/>
                </a:lnTo>
                <a:lnTo>
                  <a:pt x="835" y="6"/>
                </a:lnTo>
                <a:lnTo>
                  <a:pt x="841" y="8"/>
                </a:lnTo>
                <a:lnTo>
                  <a:pt x="846" y="12"/>
                </a:lnTo>
                <a:lnTo>
                  <a:pt x="850" y="16"/>
                </a:lnTo>
                <a:lnTo>
                  <a:pt x="858" y="21"/>
                </a:lnTo>
                <a:lnTo>
                  <a:pt x="864" y="25"/>
                </a:lnTo>
                <a:lnTo>
                  <a:pt x="871" y="33"/>
                </a:lnTo>
                <a:lnTo>
                  <a:pt x="877" y="39"/>
                </a:lnTo>
                <a:lnTo>
                  <a:pt x="885" y="46"/>
                </a:lnTo>
                <a:lnTo>
                  <a:pt x="894" y="54"/>
                </a:lnTo>
                <a:lnTo>
                  <a:pt x="902" y="64"/>
                </a:lnTo>
                <a:lnTo>
                  <a:pt x="910" y="71"/>
                </a:lnTo>
                <a:lnTo>
                  <a:pt x="919" y="83"/>
                </a:lnTo>
                <a:lnTo>
                  <a:pt x="929" y="92"/>
                </a:lnTo>
                <a:lnTo>
                  <a:pt x="937" y="102"/>
                </a:lnTo>
                <a:lnTo>
                  <a:pt x="944" y="112"/>
                </a:lnTo>
                <a:lnTo>
                  <a:pt x="952" y="121"/>
                </a:lnTo>
                <a:lnTo>
                  <a:pt x="958" y="129"/>
                </a:lnTo>
                <a:lnTo>
                  <a:pt x="964" y="137"/>
                </a:lnTo>
                <a:lnTo>
                  <a:pt x="969" y="144"/>
                </a:lnTo>
                <a:lnTo>
                  <a:pt x="975" y="152"/>
                </a:lnTo>
                <a:lnTo>
                  <a:pt x="979" y="160"/>
                </a:lnTo>
                <a:lnTo>
                  <a:pt x="983" y="165"/>
                </a:lnTo>
                <a:lnTo>
                  <a:pt x="987" y="171"/>
                </a:lnTo>
                <a:lnTo>
                  <a:pt x="989" y="177"/>
                </a:lnTo>
                <a:lnTo>
                  <a:pt x="990" y="181"/>
                </a:lnTo>
                <a:lnTo>
                  <a:pt x="992" y="185"/>
                </a:lnTo>
                <a:lnTo>
                  <a:pt x="992" y="188"/>
                </a:lnTo>
                <a:lnTo>
                  <a:pt x="994" y="192"/>
                </a:lnTo>
                <a:lnTo>
                  <a:pt x="992" y="200"/>
                </a:lnTo>
                <a:lnTo>
                  <a:pt x="990" y="209"/>
                </a:lnTo>
                <a:lnTo>
                  <a:pt x="989" y="217"/>
                </a:lnTo>
                <a:lnTo>
                  <a:pt x="985" y="223"/>
                </a:lnTo>
                <a:lnTo>
                  <a:pt x="979" y="229"/>
                </a:lnTo>
                <a:lnTo>
                  <a:pt x="973" y="234"/>
                </a:lnTo>
                <a:lnTo>
                  <a:pt x="965" y="240"/>
                </a:lnTo>
                <a:lnTo>
                  <a:pt x="958" y="246"/>
                </a:lnTo>
                <a:lnTo>
                  <a:pt x="952" y="250"/>
                </a:lnTo>
                <a:lnTo>
                  <a:pt x="946" y="254"/>
                </a:lnTo>
                <a:lnTo>
                  <a:pt x="942" y="259"/>
                </a:lnTo>
                <a:lnTo>
                  <a:pt x="937" y="267"/>
                </a:lnTo>
                <a:lnTo>
                  <a:pt x="931" y="275"/>
                </a:lnTo>
                <a:lnTo>
                  <a:pt x="925" y="284"/>
                </a:lnTo>
                <a:lnTo>
                  <a:pt x="917" y="294"/>
                </a:lnTo>
                <a:lnTo>
                  <a:pt x="912" y="307"/>
                </a:lnTo>
                <a:lnTo>
                  <a:pt x="906" y="321"/>
                </a:lnTo>
                <a:lnTo>
                  <a:pt x="898" y="334"/>
                </a:lnTo>
                <a:lnTo>
                  <a:pt x="893" y="350"/>
                </a:lnTo>
                <a:lnTo>
                  <a:pt x="885" y="367"/>
                </a:lnTo>
                <a:lnTo>
                  <a:pt x="879" y="386"/>
                </a:lnTo>
                <a:lnTo>
                  <a:pt x="871" y="405"/>
                </a:lnTo>
                <a:lnTo>
                  <a:pt x="866" y="426"/>
                </a:lnTo>
                <a:lnTo>
                  <a:pt x="860" y="449"/>
                </a:lnTo>
                <a:lnTo>
                  <a:pt x="852" y="474"/>
                </a:lnTo>
                <a:lnTo>
                  <a:pt x="843" y="501"/>
                </a:lnTo>
                <a:lnTo>
                  <a:pt x="833" y="528"/>
                </a:lnTo>
                <a:lnTo>
                  <a:pt x="821" y="557"/>
                </a:lnTo>
                <a:lnTo>
                  <a:pt x="810" y="584"/>
                </a:lnTo>
                <a:lnTo>
                  <a:pt x="797" y="613"/>
                </a:lnTo>
                <a:lnTo>
                  <a:pt x="783" y="643"/>
                </a:lnTo>
                <a:lnTo>
                  <a:pt x="768" y="672"/>
                </a:lnTo>
                <a:lnTo>
                  <a:pt x="752" y="703"/>
                </a:lnTo>
                <a:lnTo>
                  <a:pt x="735" y="733"/>
                </a:lnTo>
                <a:lnTo>
                  <a:pt x="718" y="764"/>
                </a:lnTo>
                <a:lnTo>
                  <a:pt x="699" y="795"/>
                </a:lnTo>
                <a:lnTo>
                  <a:pt x="679" y="828"/>
                </a:lnTo>
                <a:lnTo>
                  <a:pt x="658" y="860"/>
                </a:lnTo>
                <a:lnTo>
                  <a:pt x="637" y="893"/>
                </a:lnTo>
                <a:lnTo>
                  <a:pt x="614" y="927"/>
                </a:lnTo>
                <a:lnTo>
                  <a:pt x="591" y="960"/>
                </a:lnTo>
                <a:lnTo>
                  <a:pt x="568" y="993"/>
                </a:lnTo>
                <a:lnTo>
                  <a:pt x="547" y="1023"/>
                </a:lnTo>
                <a:lnTo>
                  <a:pt x="524" y="1054"/>
                </a:lnTo>
                <a:lnTo>
                  <a:pt x="501" y="1085"/>
                </a:lnTo>
                <a:lnTo>
                  <a:pt x="476" y="1114"/>
                </a:lnTo>
                <a:lnTo>
                  <a:pt x="453" y="1140"/>
                </a:lnTo>
                <a:lnTo>
                  <a:pt x="430" y="1167"/>
                </a:lnTo>
                <a:lnTo>
                  <a:pt x="407" y="1194"/>
                </a:lnTo>
                <a:lnTo>
                  <a:pt x="382" y="1219"/>
                </a:lnTo>
                <a:lnTo>
                  <a:pt x="359" y="1244"/>
                </a:lnTo>
                <a:lnTo>
                  <a:pt x="334" y="1267"/>
                </a:lnTo>
                <a:lnTo>
                  <a:pt x="309" y="1288"/>
                </a:lnTo>
                <a:lnTo>
                  <a:pt x="284" y="1309"/>
                </a:lnTo>
                <a:lnTo>
                  <a:pt x="261" y="1330"/>
                </a:lnTo>
                <a:lnTo>
                  <a:pt x="236" y="1350"/>
                </a:lnTo>
                <a:lnTo>
                  <a:pt x="211" y="1367"/>
                </a:lnTo>
                <a:lnTo>
                  <a:pt x="188" y="1382"/>
                </a:lnTo>
                <a:lnTo>
                  <a:pt x="165" y="1398"/>
                </a:lnTo>
                <a:lnTo>
                  <a:pt x="144" y="1411"/>
                </a:lnTo>
                <a:lnTo>
                  <a:pt x="125" y="1423"/>
                </a:lnTo>
                <a:lnTo>
                  <a:pt x="105" y="1434"/>
                </a:lnTo>
                <a:lnTo>
                  <a:pt x="90" y="1444"/>
                </a:lnTo>
                <a:lnTo>
                  <a:pt x="73" y="1451"/>
                </a:lnTo>
                <a:lnTo>
                  <a:pt x="59" y="1457"/>
                </a:lnTo>
                <a:lnTo>
                  <a:pt x="46" y="1463"/>
                </a:lnTo>
                <a:lnTo>
                  <a:pt x="34" y="1469"/>
                </a:lnTo>
                <a:lnTo>
                  <a:pt x="25" y="1471"/>
                </a:lnTo>
                <a:lnTo>
                  <a:pt x="17" y="1472"/>
                </a:lnTo>
                <a:lnTo>
                  <a:pt x="11" y="1472"/>
                </a:lnTo>
                <a:lnTo>
                  <a:pt x="6" y="1472"/>
                </a:lnTo>
                <a:lnTo>
                  <a:pt x="4" y="1471"/>
                </a:lnTo>
                <a:lnTo>
                  <a:pt x="2" y="1467"/>
                </a:lnTo>
                <a:lnTo>
                  <a:pt x="0" y="1463"/>
                </a:lnTo>
                <a:lnTo>
                  <a:pt x="2" y="1459"/>
                </a:lnTo>
                <a:lnTo>
                  <a:pt x="4" y="1453"/>
                </a:lnTo>
                <a:lnTo>
                  <a:pt x="8" y="1446"/>
                </a:lnTo>
                <a:lnTo>
                  <a:pt x="11" y="1438"/>
                </a:lnTo>
                <a:lnTo>
                  <a:pt x="17" y="1430"/>
                </a:lnTo>
                <a:lnTo>
                  <a:pt x="25" y="1421"/>
                </a:lnTo>
                <a:lnTo>
                  <a:pt x="34" y="1409"/>
                </a:lnTo>
                <a:lnTo>
                  <a:pt x="44" y="1398"/>
                </a:lnTo>
                <a:lnTo>
                  <a:pt x="56" y="1384"/>
                </a:lnTo>
                <a:lnTo>
                  <a:pt x="69" y="1371"/>
                </a:lnTo>
                <a:lnTo>
                  <a:pt x="84" y="1357"/>
                </a:lnTo>
                <a:lnTo>
                  <a:pt x="100" y="1342"/>
                </a:lnTo>
                <a:lnTo>
                  <a:pt x="119" y="1325"/>
                </a:lnTo>
                <a:lnTo>
                  <a:pt x="138" y="1307"/>
                </a:lnTo>
                <a:lnTo>
                  <a:pt x="155" y="1288"/>
                </a:lnTo>
                <a:lnTo>
                  <a:pt x="175" y="1269"/>
                </a:lnTo>
                <a:lnTo>
                  <a:pt x="194" y="1250"/>
                </a:lnTo>
                <a:lnTo>
                  <a:pt x="213" y="1229"/>
                </a:lnTo>
                <a:lnTo>
                  <a:pt x="232" y="1206"/>
                </a:lnTo>
                <a:lnTo>
                  <a:pt x="251" y="1183"/>
                </a:lnTo>
                <a:lnTo>
                  <a:pt x="272" y="1160"/>
                </a:lnTo>
                <a:lnTo>
                  <a:pt x="292" y="1135"/>
                </a:lnTo>
                <a:lnTo>
                  <a:pt x="313" y="1108"/>
                </a:lnTo>
                <a:lnTo>
                  <a:pt x="332" y="1081"/>
                </a:lnTo>
                <a:lnTo>
                  <a:pt x="353" y="1054"/>
                </a:lnTo>
                <a:lnTo>
                  <a:pt x="374" y="1025"/>
                </a:lnTo>
                <a:lnTo>
                  <a:pt x="393" y="995"/>
                </a:lnTo>
                <a:lnTo>
                  <a:pt x="415" y="964"/>
                </a:lnTo>
                <a:lnTo>
                  <a:pt x="434" y="933"/>
                </a:lnTo>
                <a:lnTo>
                  <a:pt x="455" y="900"/>
                </a:lnTo>
                <a:lnTo>
                  <a:pt x="476" y="868"/>
                </a:lnTo>
                <a:lnTo>
                  <a:pt x="495" y="839"/>
                </a:lnTo>
                <a:lnTo>
                  <a:pt x="514" y="808"/>
                </a:lnTo>
                <a:lnTo>
                  <a:pt x="532" y="778"/>
                </a:lnTo>
                <a:lnTo>
                  <a:pt x="551" y="749"/>
                </a:lnTo>
                <a:lnTo>
                  <a:pt x="568" y="720"/>
                </a:lnTo>
                <a:lnTo>
                  <a:pt x="583" y="691"/>
                </a:lnTo>
                <a:lnTo>
                  <a:pt x="601" y="662"/>
                </a:lnTo>
                <a:lnTo>
                  <a:pt x="616" y="634"/>
                </a:lnTo>
                <a:lnTo>
                  <a:pt x="630" y="605"/>
                </a:lnTo>
                <a:lnTo>
                  <a:pt x="643" y="576"/>
                </a:lnTo>
                <a:lnTo>
                  <a:pt x="656" y="549"/>
                </a:lnTo>
                <a:lnTo>
                  <a:pt x="668" y="520"/>
                </a:lnTo>
                <a:lnTo>
                  <a:pt x="679" y="492"/>
                </a:lnTo>
                <a:lnTo>
                  <a:pt x="691" y="465"/>
                </a:lnTo>
                <a:lnTo>
                  <a:pt x="701" y="436"/>
                </a:lnTo>
                <a:lnTo>
                  <a:pt x="706" y="409"/>
                </a:lnTo>
                <a:lnTo>
                  <a:pt x="712" y="382"/>
                </a:lnTo>
                <a:lnTo>
                  <a:pt x="718" y="359"/>
                </a:lnTo>
                <a:lnTo>
                  <a:pt x="722" y="336"/>
                </a:lnTo>
                <a:lnTo>
                  <a:pt x="727" y="315"/>
                </a:lnTo>
                <a:lnTo>
                  <a:pt x="731" y="296"/>
                </a:lnTo>
                <a:lnTo>
                  <a:pt x="733" y="279"/>
                </a:lnTo>
                <a:lnTo>
                  <a:pt x="737" y="263"/>
                </a:lnTo>
                <a:lnTo>
                  <a:pt x="739" y="248"/>
                </a:lnTo>
                <a:lnTo>
                  <a:pt x="739" y="234"/>
                </a:lnTo>
                <a:lnTo>
                  <a:pt x="741" y="223"/>
                </a:lnTo>
                <a:lnTo>
                  <a:pt x="741" y="213"/>
                </a:lnTo>
                <a:lnTo>
                  <a:pt x="741" y="206"/>
                </a:lnTo>
                <a:lnTo>
                  <a:pt x="741" y="200"/>
                </a:lnTo>
                <a:lnTo>
                  <a:pt x="739" y="194"/>
                </a:lnTo>
                <a:lnTo>
                  <a:pt x="737" y="192"/>
                </a:lnTo>
                <a:lnTo>
                  <a:pt x="727" y="186"/>
                </a:lnTo>
                <a:lnTo>
                  <a:pt x="716" y="181"/>
                </a:lnTo>
                <a:lnTo>
                  <a:pt x="702" y="177"/>
                </a:lnTo>
                <a:lnTo>
                  <a:pt x="689" y="173"/>
                </a:lnTo>
                <a:lnTo>
                  <a:pt x="674" y="171"/>
                </a:lnTo>
                <a:lnTo>
                  <a:pt x="664" y="171"/>
                </a:lnTo>
                <a:lnTo>
                  <a:pt x="656" y="171"/>
                </a:lnTo>
                <a:lnTo>
                  <a:pt x="647" y="173"/>
                </a:lnTo>
                <a:lnTo>
                  <a:pt x="635" y="173"/>
                </a:lnTo>
                <a:lnTo>
                  <a:pt x="626" y="175"/>
                </a:lnTo>
                <a:lnTo>
                  <a:pt x="614" y="179"/>
                </a:lnTo>
                <a:lnTo>
                  <a:pt x="591" y="183"/>
                </a:lnTo>
                <a:lnTo>
                  <a:pt x="568" y="186"/>
                </a:lnTo>
                <a:lnTo>
                  <a:pt x="545" y="188"/>
                </a:lnTo>
                <a:lnTo>
                  <a:pt x="522" y="190"/>
                </a:lnTo>
                <a:lnTo>
                  <a:pt x="499" y="190"/>
                </a:lnTo>
                <a:lnTo>
                  <a:pt x="478" y="190"/>
                </a:lnTo>
                <a:lnTo>
                  <a:pt x="432" y="192"/>
                </a:lnTo>
                <a:lnTo>
                  <a:pt x="432" y="83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7139160" y="3394080"/>
            <a:ext cx="149040" cy="912960"/>
          </a:xfrm>
          <a:custGeom>
            <a:avLst/>
            <a:gdLst/>
            <a:ahLst/>
            <a:rect l="l" t="t" r="r" b="b"/>
            <a:pathLst>
              <a:path w="188" h="1150">
                <a:moveTo>
                  <a:pt x="10" y="100"/>
                </a:moveTo>
                <a:lnTo>
                  <a:pt x="6" y="85"/>
                </a:lnTo>
                <a:lnTo>
                  <a:pt x="2" y="69"/>
                </a:lnTo>
                <a:lnTo>
                  <a:pt x="0" y="56"/>
                </a:lnTo>
                <a:lnTo>
                  <a:pt x="0" y="42"/>
                </a:lnTo>
                <a:lnTo>
                  <a:pt x="0" y="31"/>
                </a:lnTo>
                <a:lnTo>
                  <a:pt x="2" y="25"/>
                </a:lnTo>
                <a:lnTo>
                  <a:pt x="2" y="19"/>
                </a:lnTo>
                <a:lnTo>
                  <a:pt x="4" y="16"/>
                </a:lnTo>
                <a:lnTo>
                  <a:pt x="6" y="12"/>
                </a:lnTo>
                <a:lnTo>
                  <a:pt x="8" y="8"/>
                </a:lnTo>
                <a:lnTo>
                  <a:pt x="10" y="6"/>
                </a:lnTo>
                <a:lnTo>
                  <a:pt x="12" y="2"/>
                </a:lnTo>
                <a:lnTo>
                  <a:pt x="15" y="2"/>
                </a:lnTo>
                <a:lnTo>
                  <a:pt x="17" y="0"/>
                </a:lnTo>
                <a:lnTo>
                  <a:pt x="21" y="0"/>
                </a:lnTo>
                <a:lnTo>
                  <a:pt x="29" y="0"/>
                </a:lnTo>
                <a:lnTo>
                  <a:pt x="37" y="2"/>
                </a:lnTo>
                <a:lnTo>
                  <a:pt x="46" y="4"/>
                </a:lnTo>
                <a:lnTo>
                  <a:pt x="58" y="8"/>
                </a:lnTo>
                <a:lnTo>
                  <a:pt x="69" y="14"/>
                </a:lnTo>
                <a:lnTo>
                  <a:pt x="83" y="19"/>
                </a:lnTo>
                <a:lnTo>
                  <a:pt x="96" y="25"/>
                </a:lnTo>
                <a:lnTo>
                  <a:pt x="108" y="31"/>
                </a:lnTo>
                <a:lnTo>
                  <a:pt x="119" y="40"/>
                </a:lnTo>
                <a:lnTo>
                  <a:pt x="131" y="50"/>
                </a:lnTo>
                <a:lnTo>
                  <a:pt x="140" y="60"/>
                </a:lnTo>
                <a:lnTo>
                  <a:pt x="150" y="71"/>
                </a:lnTo>
                <a:lnTo>
                  <a:pt x="159" y="85"/>
                </a:lnTo>
                <a:lnTo>
                  <a:pt x="169" y="100"/>
                </a:lnTo>
                <a:lnTo>
                  <a:pt x="173" y="108"/>
                </a:lnTo>
                <a:lnTo>
                  <a:pt x="177" y="117"/>
                </a:lnTo>
                <a:lnTo>
                  <a:pt x="181" y="127"/>
                </a:lnTo>
                <a:lnTo>
                  <a:pt x="182" y="136"/>
                </a:lnTo>
                <a:lnTo>
                  <a:pt x="184" y="146"/>
                </a:lnTo>
                <a:lnTo>
                  <a:pt x="186" y="158"/>
                </a:lnTo>
                <a:lnTo>
                  <a:pt x="188" y="169"/>
                </a:lnTo>
                <a:lnTo>
                  <a:pt x="188" y="183"/>
                </a:lnTo>
                <a:lnTo>
                  <a:pt x="188" y="196"/>
                </a:lnTo>
                <a:lnTo>
                  <a:pt x="188" y="209"/>
                </a:lnTo>
                <a:lnTo>
                  <a:pt x="188" y="223"/>
                </a:lnTo>
                <a:lnTo>
                  <a:pt x="188" y="238"/>
                </a:lnTo>
                <a:lnTo>
                  <a:pt x="186" y="254"/>
                </a:lnTo>
                <a:lnTo>
                  <a:pt x="184" y="271"/>
                </a:lnTo>
                <a:lnTo>
                  <a:pt x="182" y="286"/>
                </a:lnTo>
                <a:lnTo>
                  <a:pt x="181" y="305"/>
                </a:lnTo>
                <a:lnTo>
                  <a:pt x="177" y="346"/>
                </a:lnTo>
                <a:lnTo>
                  <a:pt x="173" y="390"/>
                </a:lnTo>
                <a:lnTo>
                  <a:pt x="169" y="434"/>
                </a:lnTo>
                <a:lnTo>
                  <a:pt x="165" y="480"/>
                </a:lnTo>
                <a:lnTo>
                  <a:pt x="165" y="503"/>
                </a:lnTo>
                <a:lnTo>
                  <a:pt x="163" y="528"/>
                </a:lnTo>
                <a:lnTo>
                  <a:pt x="163" y="553"/>
                </a:lnTo>
                <a:lnTo>
                  <a:pt x="163" y="578"/>
                </a:lnTo>
                <a:lnTo>
                  <a:pt x="163" y="605"/>
                </a:lnTo>
                <a:lnTo>
                  <a:pt x="165" y="630"/>
                </a:lnTo>
                <a:lnTo>
                  <a:pt x="167" y="659"/>
                </a:lnTo>
                <a:lnTo>
                  <a:pt x="169" y="685"/>
                </a:lnTo>
                <a:lnTo>
                  <a:pt x="171" y="712"/>
                </a:lnTo>
                <a:lnTo>
                  <a:pt x="171" y="739"/>
                </a:lnTo>
                <a:lnTo>
                  <a:pt x="173" y="766"/>
                </a:lnTo>
                <a:lnTo>
                  <a:pt x="173" y="791"/>
                </a:lnTo>
                <a:lnTo>
                  <a:pt x="173" y="814"/>
                </a:lnTo>
                <a:lnTo>
                  <a:pt x="173" y="837"/>
                </a:lnTo>
                <a:lnTo>
                  <a:pt x="173" y="860"/>
                </a:lnTo>
                <a:lnTo>
                  <a:pt x="171" y="881"/>
                </a:lnTo>
                <a:lnTo>
                  <a:pt x="171" y="902"/>
                </a:lnTo>
                <a:lnTo>
                  <a:pt x="169" y="921"/>
                </a:lnTo>
                <a:lnTo>
                  <a:pt x="167" y="941"/>
                </a:lnTo>
                <a:lnTo>
                  <a:pt x="165" y="960"/>
                </a:lnTo>
                <a:lnTo>
                  <a:pt x="163" y="977"/>
                </a:lnTo>
                <a:lnTo>
                  <a:pt x="161" y="994"/>
                </a:lnTo>
                <a:lnTo>
                  <a:pt x="159" y="1010"/>
                </a:lnTo>
                <a:lnTo>
                  <a:pt x="157" y="1027"/>
                </a:lnTo>
                <a:lnTo>
                  <a:pt x="154" y="1040"/>
                </a:lnTo>
                <a:lnTo>
                  <a:pt x="152" y="1054"/>
                </a:lnTo>
                <a:lnTo>
                  <a:pt x="148" y="1067"/>
                </a:lnTo>
                <a:lnTo>
                  <a:pt x="146" y="1079"/>
                </a:lnTo>
                <a:lnTo>
                  <a:pt x="142" y="1090"/>
                </a:lnTo>
                <a:lnTo>
                  <a:pt x="138" y="1100"/>
                </a:lnTo>
                <a:lnTo>
                  <a:pt x="134" y="1110"/>
                </a:lnTo>
                <a:lnTo>
                  <a:pt x="133" y="1117"/>
                </a:lnTo>
                <a:lnTo>
                  <a:pt x="129" y="1125"/>
                </a:lnTo>
                <a:lnTo>
                  <a:pt x="125" y="1131"/>
                </a:lnTo>
                <a:lnTo>
                  <a:pt x="121" y="1136"/>
                </a:lnTo>
                <a:lnTo>
                  <a:pt x="119" y="1140"/>
                </a:lnTo>
                <a:lnTo>
                  <a:pt x="115" y="1144"/>
                </a:lnTo>
                <a:lnTo>
                  <a:pt x="113" y="1148"/>
                </a:lnTo>
                <a:lnTo>
                  <a:pt x="109" y="1148"/>
                </a:lnTo>
                <a:lnTo>
                  <a:pt x="108" y="1150"/>
                </a:lnTo>
                <a:lnTo>
                  <a:pt x="106" y="1148"/>
                </a:lnTo>
                <a:lnTo>
                  <a:pt x="102" y="1148"/>
                </a:lnTo>
                <a:lnTo>
                  <a:pt x="100" y="1146"/>
                </a:lnTo>
                <a:lnTo>
                  <a:pt x="96" y="1144"/>
                </a:lnTo>
                <a:lnTo>
                  <a:pt x="92" y="1140"/>
                </a:lnTo>
                <a:lnTo>
                  <a:pt x="90" y="1136"/>
                </a:lnTo>
                <a:lnTo>
                  <a:pt x="86" y="1133"/>
                </a:lnTo>
                <a:lnTo>
                  <a:pt x="83" y="1129"/>
                </a:lnTo>
                <a:lnTo>
                  <a:pt x="79" y="1123"/>
                </a:lnTo>
                <a:lnTo>
                  <a:pt x="77" y="1117"/>
                </a:lnTo>
                <a:lnTo>
                  <a:pt x="73" y="1110"/>
                </a:lnTo>
                <a:lnTo>
                  <a:pt x="69" y="1102"/>
                </a:lnTo>
                <a:lnTo>
                  <a:pt x="67" y="1094"/>
                </a:lnTo>
                <a:lnTo>
                  <a:pt x="63" y="1087"/>
                </a:lnTo>
                <a:lnTo>
                  <a:pt x="61" y="1077"/>
                </a:lnTo>
                <a:lnTo>
                  <a:pt x="60" y="1067"/>
                </a:lnTo>
                <a:lnTo>
                  <a:pt x="54" y="1048"/>
                </a:lnTo>
                <a:lnTo>
                  <a:pt x="50" y="1029"/>
                </a:lnTo>
                <a:lnTo>
                  <a:pt x="44" y="1012"/>
                </a:lnTo>
                <a:lnTo>
                  <a:pt x="40" y="996"/>
                </a:lnTo>
                <a:lnTo>
                  <a:pt x="35" y="981"/>
                </a:lnTo>
                <a:lnTo>
                  <a:pt x="31" y="968"/>
                </a:lnTo>
                <a:lnTo>
                  <a:pt x="27" y="956"/>
                </a:lnTo>
                <a:lnTo>
                  <a:pt x="23" y="945"/>
                </a:lnTo>
                <a:lnTo>
                  <a:pt x="19" y="939"/>
                </a:lnTo>
                <a:lnTo>
                  <a:pt x="19" y="931"/>
                </a:lnTo>
                <a:lnTo>
                  <a:pt x="17" y="923"/>
                </a:lnTo>
                <a:lnTo>
                  <a:pt x="17" y="914"/>
                </a:lnTo>
                <a:lnTo>
                  <a:pt x="17" y="904"/>
                </a:lnTo>
                <a:lnTo>
                  <a:pt x="17" y="891"/>
                </a:lnTo>
                <a:lnTo>
                  <a:pt x="17" y="879"/>
                </a:lnTo>
                <a:lnTo>
                  <a:pt x="19" y="864"/>
                </a:lnTo>
                <a:lnTo>
                  <a:pt x="19" y="849"/>
                </a:lnTo>
                <a:lnTo>
                  <a:pt x="21" y="833"/>
                </a:lnTo>
                <a:lnTo>
                  <a:pt x="23" y="816"/>
                </a:lnTo>
                <a:lnTo>
                  <a:pt x="25" y="797"/>
                </a:lnTo>
                <a:lnTo>
                  <a:pt x="27" y="778"/>
                </a:lnTo>
                <a:lnTo>
                  <a:pt x="29" y="756"/>
                </a:lnTo>
                <a:lnTo>
                  <a:pt x="31" y="735"/>
                </a:lnTo>
                <a:lnTo>
                  <a:pt x="35" y="714"/>
                </a:lnTo>
                <a:lnTo>
                  <a:pt x="42" y="622"/>
                </a:lnTo>
                <a:lnTo>
                  <a:pt x="46" y="576"/>
                </a:lnTo>
                <a:lnTo>
                  <a:pt x="50" y="530"/>
                </a:lnTo>
                <a:lnTo>
                  <a:pt x="54" y="484"/>
                </a:lnTo>
                <a:lnTo>
                  <a:pt x="56" y="438"/>
                </a:lnTo>
                <a:lnTo>
                  <a:pt x="58" y="392"/>
                </a:lnTo>
                <a:lnTo>
                  <a:pt x="60" y="346"/>
                </a:lnTo>
                <a:lnTo>
                  <a:pt x="56" y="323"/>
                </a:lnTo>
                <a:lnTo>
                  <a:pt x="54" y="302"/>
                </a:lnTo>
                <a:lnTo>
                  <a:pt x="52" y="280"/>
                </a:lnTo>
                <a:lnTo>
                  <a:pt x="50" y="261"/>
                </a:lnTo>
                <a:lnTo>
                  <a:pt x="46" y="242"/>
                </a:lnTo>
                <a:lnTo>
                  <a:pt x="44" y="225"/>
                </a:lnTo>
                <a:lnTo>
                  <a:pt x="40" y="207"/>
                </a:lnTo>
                <a:lnTo>
                  <a:pt x="38" y="192"/>
                </a:lnTo>
                <a:lnTo>
                  <a:pt x="35" y="177"/>
                </a:lnTo>
                <a:lnTo>
                  <a:pt x="33" y="163"/>
                </a:lnTo>
                <a:lnTo>
                  <a:pt x="29" y="150"/>
                </a:lnTo>
                <a:lnTo>
                  <a:pt x="25" y="138"/>
                </a:lnTo>
                <a:lnTo>
                  <a:pt x="21" y="127"/>
                </a:lnTo>
                <a:lnTo>
                  <a:pt x="17" y="117"/>
                </a:lnTo>
                <a:lnTo>
                  <a:pt x="13" y="108"/>
                </a:lnTo>
                <a:lnTo>
                  <a:pt x="10" y="10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7246800" y="2749680"/>
            <a:ext cx="405000" cy="2292120"/>
          </a:xfrm>
          <a:custGeom>
            <a:avLst/>
            <a:gdLst/>
            <a:ahLst/>
            <a:rect l="l" t="t" r="r" b="b"/>
            <a:pathLst>
              <a:path w="509" h="2887">
                <a:moveTo>
                  <a:pt x="363" y="2805"/>
                </a:moveTo>
                <a:lnTo>
                  <a:pt x="354" y="2814"/>
                </a:lnTo>
                <a:lnTo>
                  <a:pt x="344" y="2824"/>
                </a:lnTo>
                <a:lnTo>
                  <a:pt x="336" y="2833"/>
                </a:lnTo>
                <a:lnTo>
                  <a:pt x="329" y="2841"/>
                </a:lnTo>
                <a:lnTo>
                  <a:pt x="321" y="2849"/>
                </a:lnTo>
                <a:lnTo>
                  <a:pt x="313" y="2854"/>
                </a:lnTo>
                <a:lnTo>
                  <a:pt x="306" y="2862"/>
                </a:lnTo>
                <a:lnTo>
                  <a:pt x="298" y="2866"/>
                </a:lnTo>
                <a:lnTo>
                  <a:pt x="292" y="2872"/>
                </a:lnTo>
                <a:lnTo>
                  <a:pt x="284" y="2876"/>
                </a:lnTo>
                <a:lnTo>
                  <a:pt x="279" y="2879"/>
                </a:lnTo>
                <a:lnTo>
                  <a:pt x="273" y="2881"/>
                </a:lnTo>
                <a:lnTo>
                  <a:pt x="267" y="2885"/>
                </a:lnTo>
                <a:lnTo>
                  <a:pt x="263" y="2885"/>
                </a:lnTo>
                <a:lnTo>
                  <a:pt x="258" y="2887"/>
                </a:lnTo>
                <a:lnTo>
                  <a:pt x="254" y="2887"/>
                </a:lnTo>
                <a:lnTo>
                  <a:pt x="248" y="2883"/>
                </a:lnTo>
                <a:lnTo>
                  <a:pt x="244" y="2881"/>
                </a:lnTo>
                <a:lnTo>
                  <a:pt x="240" y="2876"/>
                </a:lnTo>
                <a:lnTo>
                  <a:pt x="236" y="2872"/>
                </a:lnTo>
                <a:lnTo>
                  <a:pt x="235" y="2866"/>
                </a:lnTo>
                <a:lnTo>
                  <a:pt x="231" y="2860"/>
                </a:lnTo>
                <a:lnTo>
                  <a:pt x="229" y="2852"/>
                </a:lnTo>
                <a:lnTo>
                  <a:pt x="227" y="2847"/>
                </a:lnTo>
                <a:lnTo>
                  <a:pt x="225" y="2837"/>
                </a:lnTo>
                <a:lnTo>
                  <a:pt x="225" y="2829"/>
                </a:lnTo>
                <a:lnTo>
                  <a:pt x="223" y="2820"/>
                </a:lnTo>
                <a:lnTo>
                  <a:pt x="223" y="2810"/>
                </a:lnTo>
                <a:lnTo>
                  <a:pt x="223" y="2799"/>
                </a:lnTo>
                <a:lnTo>
                  <a:pt x="225" y="2789"/>
                </a:lnTo>
                <a:lnTo>
                  <a:pt x="227" y="2778"/>
                </a:lnTo>
                <a:lnTo>
                  <a:pt x="229" y="2764"/>
                </a:lnTo>
                <a:lnTo>
                  <a:pt x="227" y="2751"/>
                </a:lnTo>
                <a:lnTo>
                  <a:pt x="227" y="2737"/>
                </a:lnTo>
                <a:lnTo>
                  <a:pt x="223" y="2724"/>
                </a:lnTo>
                <a:lnTo>
                  <a:pt x="221" y="2710"/>
                </a:lnTo>
                <a:lnTo>
                  <a:pt x="217" y="2697"/>
                </a:lnTo>
                <a:lnTo>
                  <a:pt x="212" y="2682"/>
                </a:lnTo>
                <a:lnTo>
                  <a:pt x="206" y="2668"/>
                </a:lnTo>
                <a:lnTo>
                  <a:pt x="198" y="2653"/>
                </a:lnTo>
                <a:lnTo>
                  <a:pt x="190" y="2638"/>
                </a:lnTo>
                <a:lnTo>
                  <a:pt x="181" y="2620"/>
                </a:lnTo>
                <a:lnTo>
                  <a:pt x="171" y="2605"/>
                </a:lnTo>
                <a:lnTo>
                  <a:pt x="162" y="2588"/>
                </a:lnTo>
                <a:lnTo>
                  <a:pt x="148" y="2572"/>
                </a:lnTo>
                <a:lnTo>
                  <a:pt x="135" y="2555"/>
                </a:lnTo>
                <a:lnTo>
                  <a:pt x="121" y="2536"/>
                </a:lnTo>
                <a:lnTo>
                  <a:pt x="106" y="2519"/>
                </a:lnTo>
                <a:lnTo>
                  <a:pt x="91" y="2503"/>
                </a:lnTo>
                <a:lnTo>
                  <a:pt x="77" y="2490"/>
                </a:lnTo>
                <a:lnTo>
                  <a:pt x="64" y="2476"/>
                </a:lnTo>
                <a:lnTo>
                  <a:pt x="52" y="2465"/>
                </a:lnTo>
                <a:lnTo>
                  <a:pt x="41" y="2453"/>
                </a:lnTo>
                <a:lnTo>
                  <a:pt x="31" y="2444"/>
                </a:lnTo>
                <a:lnTo>
                  <a:pt x="23" y="2434"/>
                </a:lnTo>
                <a:lnTo>
                  <a:pt x="16" y="2424"/>
                </a:lnTo>
                <a:lnTo>
                  <a:pt x="10" y="2417"/>
                </a:lnTo>
                <a:lnTo>
                  <a:pt x="6" y="2411"/>
                </a:lnTo>
                <a:lnTo>
                  <a:pt x="2" y="2403"/>
                </a:lnTo>
                <a:lnTo>
                  <a:pt x="2" y="2398"/>
                </a:lnTo>
                <a:lnTo>
                  <a:pt x="0" y="2394"/>
                </a:lnTo>
                <a:lnTo>
                  <a:pt x="2" y="2390"/>
                </a:lnTo>
                <a:lnTo>
                  <a:pt x="4" y="2386"/>
                </a:lnTo>
                <a:lnTo>
                  <a:pt x="8" y="2384"/>
                </a:lnTo>
                <a:lnTo>
                  <a:pt x="10" y="2380"/>
                </a:lnTo>
                <a:lnTo>
                  <a:pt x="14" y="2378"/>
                </a:lnTo>
                <a:lnTo>
                  <a:pt x="20" y="2378"/>
                </a:lnTo>
                <a:lnTo>
                  <a:pt x="23" y="2378"/>
                </a:lnTo>
                <a:lnTo>
                  <a:pt x="29" y="2378"/>
                </a:lnTo>
                <a:lnTo>
                  <a:pt x="37" y="2378"/>
                </a:lnTo>
                <a:lnTo>
                  <a:pt x="43" y="2378"/>
                </a:lnTo>
                <a:lnTo>
                  <a:pt x="50" y="2380"/>
                </a:lnTo>
                <a:lnTo>
                  <a:pt x="60" y="2382"/>
                </a:lnTo>
                <a:lnTo>
                  <a:pt x="68" y="2386"/>
                </a:lnTo>
                <a:lnTo>
                  <a:pt x="77" y="2388"/>
                </a:lnTo>
                <a:lnTo>
                  <a:pt x="87" y="2392"/>
                </a:lnTo>
                <a:lnTo>
                  <a:pt x="108" y="2400"/>
                </a:lnTo>
                <a:lnTo>
                  <a:pt x="131" y="2411"/>
                </a:lnTo>
                <a:lnTo>
                  <a:pt x="140" y="2417"/>
                </a:lnTo>
                <a:lnTo>
                  <a:pt x="152" y="2424"/>
                </a:lnTo>
                <a:lnTo>
                  <a:pt x="164" y="2428"/>
                </a:lnTo>
                <a:lnTo>
                  <a:pt x="173" y="2434"/>
                </a:lnTo>
                <a:lnTo>
                  <a:pt x="183" y="2438"/>
                </a:lnTo>
                <a:lnTo>
                  <a:pt x="194" y="2440"/>
                </a:lnTo>
                <a:lnTo>
                  <a:pt x="204" y="2442"/>
                </a:lnTo>
                <a:lnTo>
                  <a:pt x="212" y="2444"/>
                </a:lnTo>
                <a:lnTo>
                  <a:pt x="221" y="2444"/>
                </a:lnTo>
                <a:lnTo>
                  <a:pt x="231" y="2442"/>
                </a:lnTo>
                <a:lnTo>
                  <a:pt x="238" y="2442"/>
                </a:lnTo>
                <a:lnTo>
                  <a:pt x="246" y="2440"/>
                </a:lnTo>
                <a:lnTo>
                  <a:pt x="256" y="2436"/>
                </a:lnTo>
                <a:lnTo>
                  <a:pt x="263" y="2432"/>
                </a:lnTo>
                <a:lnTo>
                  <a:pt x="269" y="2428"/>
                </a:lnTo>
                <a:lnTo>
                  <a:pt x="277" y="2424"/>
                </a:lnTo>
                <a:lnTo>
                  <a:pt x="279" y="2423"/>
                </a:lnTo>
                <a:lnTo>
                  <a:pt x="281" y="2421"/>
                </a:lnTo>
                <a:lnTo>
                  <a:pt x="283" y="2419"/>
                </a:lnTo>
                <a:lnTo>
                  <a:pt x="283" y="2417"/>
                </a:lnTo>
                <a:lnTo>
                  <a:pt x="284" y="2413"/>
                </a:lnTo>
                <a:lnTo>
                  <a:pt x="286" y="2411"/>
                </a:lnTo>
                <a:lnTo>
                  <a:pt x="288" y="2405"/>
                </a:lnTo>
                <a:lnTo>
                  <a:pt x="290" y="2401"/>
                </a:lnTo>
                <a:lnTo>
                  <a:pt x="290" y="2396"/>
                </a:lnTo>
                <a:lnTo>
                  <a:pt x="292" y="2390"/>
                </a:lnTo>
                <a:lnTo>
                  <a:pt x="294" y="2384"/>
                </a:lnTo>
                <a:lnTo>
                  <a:pt x="294" y="2376"/>
                </a:lnTo>
                <a:lnTo>
                  <a:pt x="296" y="2371"/>
                </a:lnTo>
                <a:lnTo>
                  <a:pt x="298" y="2361"/>
                </a:lnTo>
                <a:lnTo>
                  <a:pt x="298" y="2353"/>
                </a:lnTo>
                <a:lnTo>
                  <a:pt x="300" y="2344"/>
                </a:lnTo>
                <a:lnTo>
                  <a:pt x="302" y="2334"/>
                </a:lnTo>
                <a:lnTo>
                  <a:pt x="302" y="2325"/>
                </a:lnTo>
                <a:lnTo>
                  <a:pt x="304" y="2315"/>
                </a:lnTo>
                <a:lnTo>
                  <a:pt x="304" y="2304"/>
                </a:lnTo>
                <a:lnTo>
                  <a:pt x="306" y="2292"/>
                </a:lnTo>
                <a:lnTo>
                  <a:pt x="306" y="2279"/>
                </a:lnTo>
                <a:lnTo>
                  <a:pt x="308" y="2267"/>
                </a:lnTo>
                <a:lnTo>
                  <a:pt x="308" y="2254"/>
                </a:lnTo>
                <a:lnTo>
                  <a:pt x="309" y="2240"/>
                </a:lnTo>
                <a:lnTo>
                  <a:pt x="309" y="2225"/>
                </a:lnTo>
                <a:lnTo>
                  <a:pt x="311" y="2209"/>
                </a:lnTo>
                <a:lnTo>
                  <a:pt x="311" y="2194"/>
                </a:lnTo>
                <a:lnTo>
                  <a:pt x="313" y="2179"/>
                </a:lnTo>
                <a:lnTo>
                  <a:pt x="313" y="2162"/>
                </a:lnTo>
                <a:lnTo>
                  <a:pt x="315" y="2144"/>
                </a:lnTo>
                <a:lnTo>
                  <a:pt x="315" y="2127"/>
                </a:lnTo>
                <a:lnTo>
                  <a:pt x="315" y="2110"/>
                </a:lnTo>
                <a:lnTo>
                  <a:pt x="317" y="2090"/>
                </a:lnTo>
                <a:lnTo>
                  <a:pt x="317" y="2071"/>
                </a:lnTo>
                <a:lnTo>
                  <a:pt x="317" y="2052"/>
                </a:lnTo>
                <a:lnTo>
                  <a:pt x="319" y="2031"/>
                </a:lnTo>
                <a:lnTo>
                  <a:pt x="319" y="2010"/>
                </a:lnTo>
                <a:lnTo>
                  <a:pt x="319" y="1989"/>
                </a:lnTo>
                <a:lnTo>
                  <a:pt x="319" y="1968"/>
                </a:lnTo>
                <a:lnTo>
                  <a:pt x="321" y="1945"/>
                </a:lnTo>
                <a:lnTo>
                  <a:pt x="321" y="1922"/>
                </a:lnTo>
                <a:lnTo>
                  <a:pt x="321" y="1899"/>
                </a:lnTo>
                <a:lnTo>
                  <a:pt x="321" y="1874"/>
                </a:lnTo>
                <a:lnTo>
                  <a:pt x="323" y="1849"/>
                </a:lnTo>
                <a:lnTo>
                  <a:pt x="323" y="1824"/>
                </a:lnTo>
                <a:lnTo>
                  <a:pt x="323" y="1799"/>
                </a:lnTo>
                <a:lnTo>
                  <a:pt x="323" y="1772"/>
                </a:lnTo>
                <a:lnTo>
                  <a:pt x="323" y="1745"/>
                </a:lnTo>
                <a:lnTo>
                  <a:pt x="325" y="1718"/>
                </a:lnTo>
                <a:lnTo>
                  <a:pt x="325" y="1691"/>
                </a:lnTo>
                <a:lnTo>
                  <a:pt x="325" y="1662"/>
                </a:lnTo>
                <a:lnTo>
                  <a:pt x="325" y="1634"/>
                </a:lnTo>
                <a:lnTo>
                  <a:pt x="325" y="1603"/>
                </a:lnTo>
                <a:lnTo>
                  <a:pt x="325" y="1574"/>
                </a:lnTo>
                <a:lnTo>
                  <a:pt x="325" y="1543"/>
                </a:lnTo>
                <a:lnTo>
                  <a:pt x="325" y="1513"/>
                </a:lnTo>
                <a:lnTo>
                  <a:pt x="325" y="1480"/>
                </a:lnTo>
                <a:lnTo>
                  <a:pt x="325" y="1447"/>
                </a:lnTo>
                <a:lnTo>
                  <a:pt x="325" y="1415"/>
                </a:lnTo>
                <a:lnTo>
                  <a:pt x="325" y="1382"/>
                </a:lnTo>
                <a:lnTo>
                  <a:pt x="327" y="1348"/>
                </a:lnTo>
                <a:lnTo>
                  <a:pt x="327" y="1315"/>
                </a:lnTo>
                <a:lnTo>
                  <a:pt x="327" y="1279"/>
                </a:lnTo>
                <a:lnTo>
                  <a:pt x="327" y="1244"/>
                </a:lnTo>
                <a:lnTo>
                  <a:pt x="325" y="1211"/>
                </a:lnTo>
                <a:lnTo>
                  <a:pt x="325" y="1177"/>
                </a:lnTo>
                <a:lnTo>
                  <a:pt x="325" y="1144"/>
                </a:lnTo>
                <a:lnTo>
                  <a:pt x="325" y="1112"/>
                </a:lnTo>
                <a:lnTo>
                  <a:pt x="325" y="1079"/>
                </a:lnTo>
                <a:lnTo>
                  <a:pt x="325" y="1046"/>
                </a:lnTo>
                <a:lnTo>
                  <a:pt x="325" y="1016"/>
                </a:lnTo>
                <a:lnTo>
                  <a:pt x="325" y="985"/>
                </a:lnTo>
                <a:lnTo>
                  <a:pt x="325" y="956"/>
                </a:lnTo>
                <a:lnTo>
                  <a:pt x="323" y="925"/>
                </a:lnTo>
                <a:lnTo>
                  <a:pt x="323" y="897"/>
                </a:lnTo>
                <a:lnTo>
                  <a:pt x="323" y="868"/>
                </a:lnTo>
                <a:lnTo>
                  <a:pt x="323" y="841"/>
                </a:lnTo>
                <a:lnTo>
                  <a:pt x="321" y="814"/>
                </a:lnTo>
                <a:lnTo>
                  <a:pt x="321" y="787"/>
                </a:lnTo>
                <a:lnTo>
                  <a:pt x="321" y="760"/>
                </a:lnTo>
                <a:lnTo>
                  <a:pt x="321" y="735"/>
                </a:lnTo>
                <a:lnTo>
                  <a:pt x="319" y="709"/>
                </a:lnTo>
                <a:lnTo>
                  <a:pt x="319" y="685"/>
                </a:lnTo>
                <a:lnTo>
                  <a:pt x="319" y="661"/>
                </a:lnTo>
                <a:lnTo>
                  <a:pt x="317" y="638"/>
                </a:lnTo>
                <a:lnTo>
                  <a:pt x="317" y="614"/>
                </a:lnTo>
                <a:lnTo>
                  <a:pt x="315" y="591"/>
                </a:lnTo>
                <a:lnTo>
                  <a:pt x="315" y="568"/>
                </a:lnTo>
                <a:lnTo>
                  <a:pt x="315" y="547"/>
                </a:lnTo>
                <a:lnTo>
                  <a:pt x="313" y="526"/>
                </a:lnTo>
                <a:lnTo>
                  <a:pt x="313" y="505"/>
                </a:lnTo>
                <a:lnTo>
                  <a:pt x="311" y="486"/>
                </a:lnTo>
                <a:lnTo>
                  <a:pt x="311" y="467"/>
                </a:lnTo>
                <a:lnTo>
                  <a:pt x="309" y="447"/>
                </a:lnTo>
                <a:lnTo>
                  <a:pt x="309" y="428"/>
                </a:lnTo>
                <a:lnTo>
                  <a:pt x="308" y="411"/>
                </a:lnTo>
                <a:lnTo>
                  <a:pt x="308" y="394"/>
                </a:lnTo>
                <a:lnTo>
                  <a:pt x="306" y="376"/>
                </a:lnTo>
                <a:lnTo>
                  <a:pt x="304" y="361"/>
                </a:lnTo>
                <a:lnTo>
                  <a:pt x="304" y="344"/>
                </a:lnTo>
                <a:lnTo>
                  <a:pt x="302" y="328"/>
                </a:lnTo>
                <a:lnTo>
                  <a:pt x="302" y="315"/>
                </a:lnTo>
                <a:lnTo>
                  <a:pt x="300" y="300"/>
                </a:lnTo>
                <a:lnTo>
                  <a:pt x="298" y="286"/>
                </a:lnTo>
                <a:lnTo>
                  <a:pt x="298" y="273"/>
                </a:lnTo>
                <a:lnTo>
                  <a:pt x="296" y="259"/>
                </a:lnTo>
                <a:lnTo>
                  <a:pt x="294" y="248"/>
                </a:lnTo>
                <a:lnTo>
                  <a:pt x="294" y="236"/>
                </a:lnTo>
                <a:lnTo>
                  <a:pt x="292" y="225"/>
                </a:lnTo>
                <a:lnTo>
                  <a:pt x="290" y="213"/>
                </a:lnTo>
                <a:lnTo>
                  <a:pt x="288" y="204"/>
                </a:lnTo>
                <a:lnTo>
                  <a:pt x="288" y="194"/>
                </a:lnTo>
                <a:lnTo>
                  <a:pt x="286" y="185"/>
                </a:lnTo>
                <a:lnTo>
                  <a:pt x="284" y="177"/>
                </a:lnTo>
                <a:lnTo>
                  <a:pt x="283" y="167"/>
                </a:lnTo>
                <a:lnTo>
                  <a:pt x="283" y="160"/>
                </a:lnTo>
                <a:lnTo>
                  <a:pt x="281" y="154"/>
                </a:lnTo>
                <a:lnTo>
                  <a:pt x="279" y="146"/>
                </a:lnTo>
                <a:lnTo>
                  <a:pt x="277" y="140"/>
                </a:lnTo>
                <a:lnTo>
                  <a:pt x="275" y="135"/>
                </a:lnTo>
                <a:lnTo>
                  <a:pt x="275" y="129"/>
                </a:lnTo>
                <a:lnTo>
                  <a:pt x="273" y="125"/>
                </a:lnTo>
                <a:lnTo>
                  <a:pt x="271" y="119"/>
                </a:lnTo>
                <a:lnTo>
                  <a:pt x="269" y="117"/>
                </a:lnTo>
                <a:lnTo>
                  <a:pt x="267" y="114"/>
                </a:lnTo>
                <a:lnTo>
                  <a:pt x="265" y="112"/>
                </a:lnTo>
                <a:lnTo>
                  <a:pt x="263" y="108"/>
                </a:lnTo>
                <a:lnTo>
                  <a:pt x="256" y="104"/>
                </a:lnTo>
                <a:lnTo>
                  <a:pt x="248" y="98"/>
                </a:lnTo>
                <a:lnTo>
                  <a:pt x="240" y="94"/>
                </a:lnTo>
                <a:lnTo>
                  <a:pt x="233" y="89"/>
                </a:lnTo>
                <a:lnTo>
                  <a:pt x="227" y="83"/>
                </a:lnTo>
                <a:lnTo>
                  <a:pt x="221" y="79"/>
                </a:lnTo>
                <a:lnTo>
                  <a:pt x="215" y="73"/>
                </a:lnTo>
                <a:lnTo>
                  <a:pt x="212" y="67"/>
                </a:lnTo>
                <a:lnTo>
                  <a:pt x="208" y="64"/>
                </a:lnTo>
                <a:lnTo>
                  <a:pt x="206" y="58"/>
                </a:lnTo>
                <a:lnTo>
                  <a:pt x="202" y="52"/>
                </a:lnTo>
                <a:lnTo>
                  <a:pt x="202" y="48"/>
                </a:lnTo>
                <a:lnTo>
                  <a:pt x="200" y="42"/>
                </a:lnTo>
                <a:lnTo>
                  <a:pt x="200" y="37"/>
                </a:lnTo>
                <a:lnTo>
                  <a:pt x="202" y="33"/>
                </a:lnTo>
                <a:lnTo>
                  <a:pt x="204" y="27"/>
                </a:lnTo>
                <a:lnTo>
                  <a:pt x="210" y="21"/>
                </a:lnTo>
                <a:lnTo>
                  <a:pt x="215" y="18"/>
                </a:lnTo>
                <a:lnTo>
                  <a:pt x="223" y="14"/>
                </a:lnTo>
                <a:lnTo>
                  <a:pt x="231" y="8"/>
                </a:lnTo>
                <a:lnTo>
                  <a:pt x="240" y="6"/>
                </a:lnTo>
                <a:lnTo>
                  <a:pt x="252" y="2"/>
                </a:lnTo>
                <a:lnTo>
                  <a:pt x="263" y="0"/>
                </a:lnTo>
                <a:lnTo>
                  <a:pt x="277" y="0"/>
                </a:lnTo>
                <a:lnTo>
                  <a:pt x="290" y="6"/>
                </a:lnTo>
                <a:lnTo>
                  <a:pt x="306" y="10"/>
                </a:lnTo>
                <a:lnTo>
                  <a:pt x="323" y="18"/>
                </a:lnTo>
                <a:lnTo>
                  <a:pt x="340" y="23"/>
                </a:lnTo>
                <a:lnTo>
                  <a:pt x="359" y="33"/>
                </a:lnTo>
                <a:lnTo>
                  <a:pt x="369" y="37"/>
                </a:lnTo>
                <a:lnTo>
                  <a:pt x="380" y="42"/>
                </a:lnTo>
                <a:lnTo>
                  <a:pt x="390" y="48"/>
                </a:lnTo>
                <a:lnTo>
                  <a:pt x="402" y="54"/>
                </a:lnTo>
                <a:lnTo>
                  <a:pt x="413" y="62"/>
                </a:lnTo>
                <a:lnTo>
                  <a:pt x="425" y="69"/>
                </a:lnTo>
                <a:lnTo>
                  <a:pt x="434" y="77"/>
                </a:lnTo>
                <a:lnTo>
                  <a:pt x="444" y="85"/>
                </a:lnTo>
                <a:lnTo>
                  <a:pt x="453" y="92"/>
                </a:lnTo>
                <a:lnTo>
                  <a:pt x="463" y="98"/>
                </a:lnTo>
                <a:lnTo>
                  <a:pt x="471" y="106"/>
                </a:lnTo>
                <a:lnTo>
                  <a:pt x="476" y="114"/>
                </a:lnTo>
                <a:lnTo>
                  <a:pt x="484" y="121"/>
                </a:lnTo>
                <a:lnTo>
                  <a:pt x="490" y="129"/>
                </a:lnTo>
                <a:lnTo>
                  <a:pt x="494" y="135"/>
                </a:lnTo>
                <a:lnTo>
                  <a:pt x="498" y="142"/>
                </a:lnTo>
                <a:lnTo>
                  <a:pt x="501" y="148"/>
                </a:lnTo>
                <a:lnTo>
                  <a:pt x="503" y="154"/>
                </a:lnTo>
                <a:lnTo>
                  <a:pt x="507" y="160"/>
                </a:lnTo>
                <a:lnTo>
                  <a:pt x="507" y="165"/>
                </a:lnTo>
                <a:lnTo>
                  <a:pt x="509" y="171"/>
                </a:lnTo>
                <a:lnTo>
                  <a:pt x="509" y="177"/>
                </a:lnTo>
                <a:lnTo>
                  <a:pt x="505" y="186"/>
                </a:lnTo>
                <a:lnTo>
                  <a:pt x="501" y="198"/>
                </a:lnTo>
                <a:lnTo>
                  <a:pt x="499" y="209"/>
                </a:lnTo>
                <a:lnTo>
                  <a:pt x="498" y="219"/>
                </a:lnTo>
                <a:lnTo>
                  <a:pt x="494" y="231"/>
                </a:lnTo>
                <a:lnTo>
                  <a:pt x="492" y="244"/>
                </a:lnTo>
                <a:lnTo>
                  <a:pt x="488" y="257"/>
                </a:lnTo>
                <a:lnTo>
                  <a:pt x="484" y="273"/>
                </a:lnTo>
                <a:lnTo>
                  <a:pt x="482" y="277"/>
                </a:lnTo>
                <a:lnTo>
                  <a:pt x="482" y="282"/>
                </a:lnTo>
                <a:lnTo>
                  <a:pt x="480" y="288"/>
                </a:lnTo>
                <a:lnTo>
                  <a:pt x="480" y="296"/>
                </a:lnTo>
                <a:lnTo>
                  <a:pt x="480" y="305"/>
                </a:lnTo>
                <a:lnTo>
                  <a:pt x="478" y="315"/>
                </a:lnTo>
                <a:lnTo>
                  <a:pt x="478" y="327"/>
                </a:lnTo>
                <a:lnTo>
                  <a:pt x="478" y="338"/>
                </a:lnTo>
                <a:lnTo>
                  <a:pt x="476" y="352"/>
                </a:lnTo>
                <a:lnTo>
                  <a:pt x="476" y="365"/>
                </a:lnTo>
                <a:lnTo>
                  <a:pt x="476" y="382"/>
                </a:lnTo>
                <a:lnTo>
                  <a:pt x="475" y="398"/>
                </a:lnTo>
                <a:lnTo>
                  <a:pt x="475" y="415"/>
                </a:lnTo>
                <a:lnTo>
                  <a:pt x="475" y="434"/>
                </a:lnTo>
                <a:lnTo>
                  <a:pt x="475" y="453"/>
                </a:lnTo>
                <a:lnTo>
                  <a:pt x="475" y="474"/>
                </a:lnTo>
                <a:lnTo>
                  <a:pt x="475" y="497"/>
                </a:lnTo>
                <a:lnTo>
                  <a:pt x="475" y="520"/>
                </a:lnTo>
                <a:lnTo>
                  <a:pt x="473" y="543"/>
                </a:lnTo>
                <a:lnTo>
                  <a:pt x="473" y="568"/>
                </a:lnTo>
                <a:lnTo>
                  <a:pt x="473" y="595"/>
                </a:lnTo>
                <a:lnTo>
                  <a:pt x="473" y="622"/>
                </a:lnTo>
                <a:lnTo>
                  <a:pt x="473" y="651"/>
                </a:lnTo>
                <a:lnTo>
                  <a:pt x="473" y="680"/>
                </a:lnTo>
                <a:lnTo>
                  <a:pt x="473" y="710"/>
                </a:lnTo>
                <a:lnTo>
                  <a:pt x="473" y="743"/>
                </a:lnTo>
                <a:lnTo>
                  <a:pt x="473" y="774"/>
                </a:lnTo>
                <a:lnTo>
                  <a:pt x="473" y="808"/>
                </a:lnTo>
                <a:lnTo>
                  <a:pt x="473" y="843"/>
                </a:lnTo>
                <a:lnTo>
                  <a:pt x="473" y="879"/>
                </a:lnTo>
                <a:lnTo>
                  <a:pt x="473" y="916"/>
                </a:lnTo>
                <a:lnTo>
                  <a:pt x="473" y="954"/>
                </a:lnTo>
                <a:lnTo>
                  <a:pt x="473" y="1029"/>
                </a:lnTo>
                <a:lnTo>
                  <a:pt x="473" y="1102"/>
                </a:lnTo>
                <a:lnTo>
                  <a:pt x="473" y="1175"/>
                </a:lnTo>
                <a:lnTo>
                  <a:pt x="473" y="1244"/>
                </a:lnTo>
                <a:lnTo>
                  <a:pt x="473" y="1311"/>
                </a:lnTo>
                <a:lnTo>
                  <a:pt x="473" y="1378"/>
                </a:lnTo>
                <a:lnTo>
                  <a:pt x="475" y="1442"/>
                </a:lnTo>
                <a:lnTo>
                  <a:pt x="475" y="1505"/>
                </a:lnTo>
                <a:lnTo>
                  <a:pt x="475" y="1565"/>
                </a:lnTo>
                <a:lnTo>
                  <a:pt x="475" y="1622"/>
                </a:lnTo>
                <a:lnTo>
                  <a:pt x="476" y="1651"/>
                </a:lnTo>
                <a:lnTo>
                  <a:pt x="476" y="1680"/>
                </a:lnTo>
                <a:lnTo>
                  <a:pt x="476" y="1707"/>
                </a:lnTo>
                <a:lnTo>
                  <a:pt x="478" y="1733"/>
                </a:lnTo>
                <a:lnTo>
                  <a:pt x="478" y="1760"/>
                </a:lnTo>
                <a:lnTo>
                  <a:pt x="478" y="1787"/>
                </a:lnTo>
                <a:lnTo>
                  <a:pt x="480" y="1812"/>
                </a:lnTo>
                <a:lnTo>
                  <a:pt x="480" y="1837"/>
                </a:lnTo>
                <a:lnTo>
                  <a:pt x="480" y="1862"/>
                </a:lnTo>
                <a:lnTo>
                  <a:pt x="482" y="1887"/>
                </a:lnTo>
                <a:lnTo>
                  <a:pt x="482" y="1910"/>
                </a:lnTo>
                <a:lnTo>
                  <a:pt x="484" y="1933"/>
                </a:lnTo>
                <a:lnTo>
                  <a:pt x="486" y="1981"/>
                </a:lnTo>
                <a:lnTo>
                  <a:pt x="488" y="2027"/>
                </a:lnTo>
                <a:lnTo>
                  <a:pt x="488" y="2071"/>
                </a:lnTo>
                <a:lnTo>
                  <a:pt x="490" y="2115"/>
                </a:lnTo>
                <a:lnTo>
                  <a:pt x="490" y="2156"/>
                </a:lnTo>
                <a:lnTo>
                  <a:pt x="490" y="2196"/>
                </a:lnTo>
                <a:lnTo>
                  <a:pt x="488" y="2234"/>
                </a:lnTo>
                <a:lnTo>
                  <a:pt x="488" y="2273"/>
                </a:lnTo>
                <a:lnTo>
                  <a:pt x="486" y="2307"/>
                </a:lnTo>
                <a:lnTo>
                  <a:pt x="484" y="2342"/>
                </a:lnTo>
                <a:lnTo>
                  <a:pt x="482" y="2375"/>
                </a:lnTo>
                <a:lnTo>
                  <a:pt x="480" y="2407"/>
                </a:lnTo>
                <a:lnTo>
                  <a:pt x="478" y="2436"/>
                </a:lnTo>
                <a:lnTo>
                  <a:pt x="476" y="2465"/>
                </a:lnTo>
                <a:lnTo>
                  <a:pt x="475" y="2492"/>
                </a:lnTo>
                <a:lnTo>
                  <a:pt x="473" y="2519"/>
                </a:lnTo>
                <a:lnTo>
                  <a:pt x="471" y="2543"/>
                </a:lnTo>
                <a:lnTo>
                  <a:pt x="467" y="2568"/>
                </a:lnTo>
                <a:lnTo>
                  <a:pt x="463" y="2591"/>
                </a:lnTo>
                <a:lnTo>
                  <a:pt x="459" y="2613"/>
                </a:lnTo>
                <a:lnTo>
                  <a:pt x="453" y="2634"/>
                </a:lnTo>
                <a:lnTo>
                  <a:pt x="448" y="2655"/>
                </a:lnTo>
                <a:lnTo>
                  <a:pt x="442" y="2674"/>
                </a:lnTo>
                <a:lnTo>
                  <a:pt x="436" y="2691"/>
                </a:lnTo>
                <a:lnTo>
                  <a:pt x="428" y="2710"/>
                </a:lnTo>
                <a:lnTo>
                  <a:pt x="421" y="2726"/>
                </a:lnTo>
                <a:lnTo>
                  <a:pt x="413" y="2741"/>
                </a:lnTo>
                <a:lnTo>
                  <a:pt x="403" y="2757"/>
                </a:lnTo>
                <a:lnTo>
                  <a:pt x="394" y="2770"/>
                </a:lnTo>
                <a:lnTo>
                  <a:pt x="384" y="2781"/>
                </a:lnTo>
                <a:lnTo>
                  <a:pt x="373" y="2793"/>
                </a:lnTo>
                <a:lnTo>
                  <a:pt x="363" y="2805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6370560" y="3927600"/>
            <a:ext cx="233280" cy="239760"/>
          </a:xfrm>
          <a:custGeom>
            <a:avLst/>
            <a:gdLst/>
            <a:ahLst/>
            <a:rect l="l" t="t" r="r" b="b"/>
            <a:pathLst>
              <a:path w="294" h="301">
                <a:moveTo>
                  <a:pt x="0" y="0"/>
                </a:moveTo>
                <a:lnTo>
                  <a:pt x="20" y="0"/>
                </a:lnTo>
                <a:lnTo>
                  <a:pt x="39" y="0"/>
                </a:lnTo>
                <a:lnTo>
                  <a:pt x="58" y="2"/>
                </a:lnTo>
                <a:lnTo>
                  <a:pt x="75" y="2"/>
                </a:lnTo>
                <a:lnTo>
                  <a:pt x="93" y="4"/>
                </a:lnTo>
                <a:lnTo>
                  <a:pt x="108" y="6"/>
                </a:lnTo>
                <a:lnTo>
                  <a:pt x="125" y="10"/>
                </a:lnTo>
                <a:lnTo>
                  <a:pt x="139" y="11"/>
                </a:lnTo>
                <a:lnTo>
                  <a:pt x="152" y="15"/>
                </a:lnTo>
                <a:lnTo>
                  <a:pt x="166" y="19"/>
                </a:lnTo>
                <a:lnTo>
                  <a:pt x="179" y="23"/>
                </a:lnTo>
                <a:lnTo>
                  <a:pt x="191" y="29"/>
                </a:lnTo>
                <a:lnTo>
                  <a:pt x="202" y="35"/>
                </a:lnTo>
                <a:lnTo>
                  <a:pt x="214" y="40"/>
                </a:lnTo>
                <a:lnTo>
                  <a:pt x="223" y="48"/>
                </a:lnTo>
                <a:lnTo>
                  <a:pt x="233" y="56"/>
                </a:lnTo>
                <a:lnTo>
                  <a:pt x="244" y="71"/>
                </a:lnTo>
                <a:lnTo>
                  <a:pt x="258" y="86"/>
                </a:lnTo>
                <a:lnTo>
                  <a:pt x="267" y="102"/>
                </a:lnTo>
                <a:lnTo>
                  <a:pt x="277" y="117"/>
                </a:lnTo>
                <a:lnTo>
                  <a:pt x="283" y="134"/>
                </a:lnTo>
                <a:lnTo>
                  <a:pt x="287" y="144"/>
                </a:lnTo>
                <a:lnTo>
                  <a:pt x="288" y="152"/>
                </a:lnTo>
                <a:lnTo>
                  <a:pt x="290" y="161"/>
                </a:lnTo>
                <a:lnTo>
                  <a:pt x="292" y="171"/>
                </a:lnTo>
                <a:lnTo>
                  <a:pt x="292" y="180"/>
                </a:lnTo>
                <a:lnTo>
                  <a:pt x="294" y="192"/>
                </a:lnTo>
                <a:lnTo>
                  <a:pt x="294" y="203"/>
                </a:lnTo>
                <a:lnTo>
                  <a:pt x="294" y="215"/>
                </a:lnTo>
                <a:lnTo>
                  <a:pt x="292" y="225"/>
                </a:lnTo>
                <a:lnTo>
                  <a:pt x="292" y="234"/>
                </a:lnTo>
                <a:lnTo>
                  <a:pt x="292" y="244"/>
                </a:lnTo>
                <a:lnTo>
                  <a:pt x="292" y="251"/>
                </a:lnTo>
                <a:lnTo>
                  <a:pt x="292" y="259"/>
                </a:lnTo>
                <a:lnTo>
                  <a:pt x="292" y="265"/>
                </a:lnTo>
                <a:lnTo>
                  <a:pt x="290" y="273"/>
                </a:lnTo>
                <a:lnTo>
                  <a:pt x="290" y="276"/>
                </a:lnTo>
                <a:lnTo>
                  <a:pt x="288" y="282"/>
                </a:lnTo>
                <a:lnTo>
                  <a:pt x="288" y="286"/>
                </a:lnTo>
                <a:lnTo>
                  <a:pt x="285" y="294"/>
                </a:lnTo>
                <a:lnTo>
                  <a:pt x="281" y="299"/>
                </a:lnTo>
                <a:lnTo>
                  <a:pt x="279" y="301"/>
                </a:lnTo>
                <a:lnTo>
                  <a:pt x="277" y="301"/>
                </a:lnTo>
                <a:lnTo>
                  <a:pt x="275" y="301"/>
                </a:lnTo>
                <a:lnTo>
                  <a:pt x="271" y="299"/>
                </a:lnTo>
                <a:lnTo>
                  <a:pt x="269" y="297"/>
                </a:lnTo>
                <a:lnTo>
                  <a:pt x="265" y="296"/>
                </a:lnTo>
                <a:lnTo>
                  <a:pt x="260" y="294"/>
                </a:lnTo>
                <a:lnTo>
                  <a:pt x="256" y="290"/>
                </a:lnTo>
                <a:lnTo>
                  <a:pt x="250" y="286"/>
                </a:lnTo>
                <a:lnTo>
                  <a:pt x="244" y="280"/>
                </a:lnTo>
                <a:lnTo>
                  <a:pt x="239" y="274"/>
                </a:lnTo>
                <a:lnTo>
                  <a:pt x="231" y="269"/>
                </a:lnTo>
                <a:lnTo>
                  <a:pt x="223" y="263"/>
                </a:lnTo>
                <a:lnTo>
                  <a:pt x="216" y="255"/>
                </a:lnTo>
                <a:lnTo>
                  <a:pt x="208" y="246"/>
                </a:lnTo>
                <a:lnTo>
                  <a:pt x="198" y="238"/>
                </a:lnTo>
                <a:lnTo>
                  <a:pt x="191" y="228"/>
                </a:lnTo>
                <a:lnTo>
                  <a:pt x="181" y="217"/>
                </a:lnTo>
                <a:lnTo>
                  <a:pt x="169" y="207"/>
                </a:lnTo>
                <a:lnTo>
                  <a:pt x="160" y="196"/>
                </a:lnTo>
                <a:lnTo>
                  <a:pt x="148" y="182"/>
                </a:lnTo>
                <a:lnTo>
                  <a:pt x="137" y="169"/>
                </a:lnTo>
                <a:lnTo>
                  <a:pt x="125" y="155"/>
                </a:lnTo>
                <a:lnTo>
                  <a:pt x="114" y="142"/>
                </a:lnTo>
                <a:lnTo>
                  <a:pt x="100" y="127"/>
                </a:lnTo>
                <a:lnTo>
                  <a:pt x="87" y="111"/>
                </a:lnTo>
                <a:lnTo>
                  <a:pt x="73" y="94"/>
                </a:lnTo>
                <a:lnTo>
                  <a:pt x="60" y="77"/>
                </a:lnTo>
                <a:lnTo>
                  <a:pt x="45" y="59"/>
                </a:lnTo>
                <a:lnTo>
                  <a:pt x="31" y="40"/>
                </a:lnTo>
                <a:lnTo>
                  <a:pt x="16" y="21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4T02:35:34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